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C80-ED0A-417D-A729-E3FA4444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CDC-F714-4697-ADC7-86500EA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31E-F490-4AE9-B297-93BB48B9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63B-3020-4B8E-845D-D31C25CA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2A78D-78C1-4B64-8F1E-549A4203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9A765-FDB1-4A70-8F34-16C2A3C1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A4992-B63E-435B-B854-A5641CCA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D4072-C348-4402-911C-24C1B1F9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18A9-722D-4E1D-A82C-A1E802D6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922E-BE6B-4071-836E-695C81C3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CD09D-C24F-4F93-8E6A-67AE3C2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F15-FE57-4578-ABF7-B1E95A54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8CB94-86F6-44F7-90ED-0045EAC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BF30-7024-4CA7-9151-BCD37CA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50B6C-DDEC-4AE4-B8B5-CCBB1DE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13D06-F3D6-4DAB-A8B2-C54D0B4F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C6D8B-AD4A-4B60-9D04-472F9B53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E76-2995-4B63-83F7-F960CE4A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9DA-4FDF-46E0-A955-4246888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E69-9C98-4BC6-9B93-118129A8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C50-6DD5-40EF-96FD-3E1E0AD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0F4-F155-452F-83BC-462B7DA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374-9180-4B10-BFC2-3EA05F3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2C6-E4C8-45A9-B977-C3F3E983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3543-1FA8-4106-8FBB-DCAF59086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555-920C-48A3-B3BA-783783C35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1583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57120" y="192888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ультаты адаптации обучающих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спитанников с умере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мственной отсталост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редством  реализации коррекционных технологий школьного компон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бного пл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 на примере предмета  «игра, игрокоррекция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ь: Р.Р. Вали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0" y="1628640"/>
            <a:ext cx="8791560" cy="4918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ровень   сформированности  игровых умений обучающихся, воспитанников первого класса. Динамика -9 бал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ценка эмоционального состояния первоклассника  по отношению к игровой дея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905120"/>
          <a:ext cx="8229600" cy="4694040"/>
        </p:xfrm>
        <a:graphic>
          <a:graphicData uri="http://schemas.openxmlformats.org/drawingml/2006/table">
            <a:tbl>
              <a:tblPr/>
              <a:tblGrid>
                <a:gridCol w="3871800"/>
                <a:gridCol w="890640"/>
                <a:gridCol w="34671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фамилия.  имя  обучаю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заводила в играх, выдумывает новые варианты и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принимает участие в играх по собственной инициати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М Ленар, Я Артё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присматривается к игре с любопытств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Ж Лиля, ДРая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интереса к играм нет, но участвует в игр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 Н, К 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интереса к играм нет, безуспешны попытки вовлечь в иг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М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гра, игрокоррекция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PICT0160"/>
          <p:cNvPicPr/>
          <p:nvPr/>
        </p:nvPicPr>
        <p:blipFill>
          <a:blip r:embed="rId1"/>
          <a:stretch/>
        </p:blipFill>
        <p:spPr>
          <a:xfrm>
            <a:off x="755640" y="112536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IMG_1708"/>
          <p:cNvPicPr/>
          <p:nvPr/>
        </p:nvPicPr>
        <p:blipFill>
          <a:blip r:embed="rId2"/>
          <a:stretch/>
        </p:blipFill>
        <p:spPr>
          <a:xfrm>
            <a:off x="5508720" y="1125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G_1717"/>
          <p:cNvPicPr/>
          <p:nvPr/>
        </p:nvPicPr>
        <p:blipFill>
          <a:blip r:embed="rId3"/>
          <a:stretch/>
        </p:blipFill>
        <p:spPr>
          <a:xfrm>
            <a:off x="684360" y="3914640"/>
            <a:ext cx="3311280" cy="24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IMG_1728"/>
          <p:cNvPicPr/>
          <p:nvPr/>
        </p:nvPicPr>
        <p:blipFill>
          <a:blip r:embed="rId4"/>
          <a:stretch/>
        </p:blipFill>
        <p:spPr>
          <a:xfrm>
            <a:off x="5219640" y="389556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витие зрительно-пространственной координ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9" descr="PICT0139"/>
          <p:cNvPicPr/>
          <p:nvPr/>
        </p:nvPicPr>
        <p:blipFill>
          <a:blip r:embed="rId1"/>
          <a:srcRect l="13063" t="0" r="13063" b="0"/>
          <a:stretch/>
        </p:blipFill>
        <p:spPr>
          <a:xfrm>
            <a:off x="684360" y="1413000"/>
            <a:ext cx="2647800" cy="26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PICT0140"/>
          <p:cNvPicPr/>
          <p:nvPr/>
        </p:nvPicPr>
        <p:blipFill>
          <a:blip r:embed="rId2"/>
          <a:srcRect l="14949" t="0" r="5205" b="0"/>
          <a:stretch/>
        </p:blipFill>
        <p:spPr>
          <a:xfrm>
            <a:off x="5292720" y="1413000"/>
            <a:ext cx="276084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ICT0157"/>
          <p:cNvPicPr/>
          <p:nvPr/>
        </p:nvPicPr>
        <p:blipFill>
          <a:blip r:embed="rId3"/>
          <a:stretch/>
        </p:blipFill>
        <p:spPr>
          <a:xfrm>
            <a:off x="2484360" y="3933720"/>
            <a:ext cx="3600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Учимся игр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IMG_1710"/>
          <p:cNvPicPr/>
          <p:nvPr/>
        </p:nvPicPr>
        <p:blipFill>
          <a:blip r:embed="rId1"/>
          <a:stretch/>
        </p:blipFill>
        <p:spPr>
          <a:xfrm>
            <a:off x="900000" y="105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1730"/>
          <p:cNvPicPr/>
          <p:nvPr/>
        </p:nvPicPr>
        <p:blipFill>
          <a:blip r:embed="rId2"/>
          <a:stretch/>
        </p:blipFill>
        <p:spPr>
          <a:xfrm>
            <a:off x="5219640" y="1413000"/>
            <a:ext cx="3386160" cy="451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G_1709"/>
          <p:cNvPicPr/>
          <p:nvPr/>
        </p:nvPicPr>
        <p:blipFill>
          <a:blip r:embed="rId3"/>
          <a:stretch/>
        </p:blipFill>
        <p:spPr>
          <a:xfrm>
            <a:off x="900000" y="393372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апт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ающихся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спитанников первого класса к школьной жизни способствуют коррекционные занятия по предмету « Игра,игрокоррекция». Через игровую деятельность воспитывается школьная мотив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364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даптационного периода обуч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вышения уровня психологической и функциональ-ной готовности детей с нарушением интеллекта   к школьному обу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.Формировать общеучебные умения и навыки через воспитание интереса к обу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. Формировать навыки самообслуживания через осознание необходим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. Коррекция и развитие слухового, зрительного, тактильного  восприятия посредством знакомства с предметами и явлениями окружающего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4437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чи предмета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«Игра, игрокоррек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Развивать у детей интерес к различным видам иг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Поддерживать бодрое и радостное настроение, побуждать к активной деятельности, развивать самостоятельность в выборе игры, в осуществлении задуманн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Помогать детям объединяться в маленькие группы (по 2-3 человека) на основе личных симпатий, воспитывать доброжелательное отношение друг к дру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Помогать робким, застенчивым детям включаться в общую иг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Приучать к соблюдению в процессе игры элементарных правил поведения (не отнимать игрушки, не толкать друг друга, не мешать сверстнику, не ломать постройк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В процессе игр с игрушками, природными и строительными материалами развивать у детей интерес к окружающему, наблюдательность, умение распознавать свойства предметов и природных матери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В процессе игры развивать речь, обогащать словарный зап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новные требования к знаниям и умениям обучающих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учающиеся должны уме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ть с игруш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играть в различные иг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грать в паре, в групп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риентироваться в окружающем мире и адекватно воспринимать е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реагировать на обращение окружающих, воспринимать услышанную реч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одражать (интонация; движение, мими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соблюдать очередность в разговоре, в иг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именять навыки общения, приобретённые в игре, в повседневной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учающиеся должны зн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значение игрушки, как в неё игр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значение дидактической игры, как в неё играть (2 иг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наизусть пальчиковые игры (2 игр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правила организации подвижной игры (1-2 игр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00000" y="1557360"/>
          <a:ext cx="7345440" cy="4560840"/>
        </p:xfrm>
        <a:graphic>
          <a:graphicData uri="http://schemas.openxmlformats.org/drawingml/2006/table">
            <a:tbl>
              <a:tblPr/>
              <a:tblGrid>
                <a:gridCol w="833400"/>
                <a:gridCol w="4027680"/>
                <a:gridCol w="248436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гкая игруш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для кук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а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 иг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-игра «Теремок» (развиваем моторик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ая книга Е. Косинова «Гимнастика для пальчиков» (развиваем моторику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4360" y="189000"/>
          <a:ext cx="7704000" cy="8636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-методический комплек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следование состояния игровой деятельности обучающихся, воспитанников подготовительного класса на начало 2009-2010 уч.г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 умеет играть,  - не умеет игр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636480"/>
                <a:gridCol w="1413000"/>
                <a:gridCol w="1123920"/>
                <a:gridCol w="698400"/>
                <a:gridCol w="774720"/>
                <a:gridCol w="768600"/>
                <a:gridCol w="704520"/>
                <a:gridCol w="636840"/>
                <a:gridCol w="836640"/>
                <a:gridCol w="636480"/>
              </a:tblGrid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-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-мет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с конструкто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-но-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-во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следование состояния игровой деятельности первоклассников   на начало 2010-2011 уч.  года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умеет играть,  - не умеет игр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1197000"/>
          <a:ext cx="8351640" cy="3970440"/>
        </p:xfrm>
        <a:graphic>
          <a:graphicData uri="http://schemas.openxmlformats.org/drawingml/2006/table">
            <a:tbl>
              <a:tblPr/>
              <a:tblGrid>
                <a:gridCol w="646200"/>
                <a:gridCol w="1433520"/>
                <a:gridCol w="1141200"/>
                <a:gridCol w="708120"/>
                <a:gridCol w="785880"/>
                <a:gridCol w="780840"/>
                <a:gridCol w="714600"/>
                <a:gridCol w="645840"/>
                <a:gridCol w="849600"/>
                <a:gridCol w="6458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е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льчико-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-мет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с конструктор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-но-ролевая иг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-во бал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8360" y="2565360"/>
          <a:ext cx="8229600" cy="3168720"/>
        </p:xfrm>
        <a:graphic>
          <a:graphicData uri="http://schemas.openxmlformats.org/drawingml/2006/table">
            <a:tbl>
              <a:tblPr/>
              <a:tblGrid>
                <a:gridCol w="2735280"/>
                <a:gridCol w="2751120"/>
                <a:gridCol w="2743200"/>
              </a:tblGrid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игрокоррекция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статочном уров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игрокоррекция» на уровне ниже достато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т программный материал по предмету «Игра, игрокоррекция» на низком уров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Лил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Ленар,Д Р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джат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ёш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1371600"/>
                          <a:tab algn="l" pos="72388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Макси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8"/>
          <p:cNvSpPr/>
          <p:nvPr/>
        </p:nvSpPr>
        <p:spPr>
          <a:xfrm>
            <a:off x="395280" y="770040"/>
            <a:ext cx="842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жидаемый результа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учающийся, воспитанник со сформированным, по своим возможностям, уровнем игровой деятельности и усвоением практически значимых правил детск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55640" y="836640"/>
          <a:ext cx="7993080" cy="4672080"/>
        </p:xfrm>
        <a:graphic>
          <a:graphicData uri="http://schemas.openxmlformats.org/drawingml/2006/table">
            <a:tbl>
              <a:tblPr/>
              <a:tblGrid>
                <a:gridCol w="495360"/>
                <a:gridCol w="2485800"/>
                <a:gridCol w="2486160"/>
                <a:gridCol w="252576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-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79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ый результат обу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2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ла учится., кукла собирает портфель, воспроизведение движений животных, прокатывание машины рукой по ковр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8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я отдельных игрушек и обобщающие слова (игрушки, животные, транспорт, мебель, посуда, одежда, школьные принадлежности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8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ы, отражающие действия с игрушк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у детей сформированных действий с игрушками (по подражанию, по образцу), понимание детьми названий используемых игрушек и словесного обозначения выполняемых действий, наличие адекватных эмоциональных реакций на игрушки и выполняемые с ними действ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ИЖ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умениями: передвигаться с помощью учителя или самостоятельно в соответствии с ролью; имитировать движения персонажей совместно с учителем, по подражанию и образцу; брать на себя роль и вести ее до конца, выполнять простейшие сигналы по ходу проведения подвижных и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ролевого общения в соответствии с сюжетом игры с помощью речевых и неречевых средств (мимика, жесты), овладение детьми навыками общения друг с другом по поводу организации и проведения игры при участии взросл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ое поведение и эмоциональные реакции в соответствии с сюжетом подвижной игры, овладение действиями по сигналу игры, выполнение передвижений в соответствии с сюжет­ном подвижной игр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39:22Z</dcterms:created>
  <dc:creator>1</dc:creator>
  <dc:description/>
  <dc:language>en-US</dc:language>
  <cp:lastModifiedBy>Admin</cp:lastModifiedBy>
  <dcterms:modified xsi:type="dcterms:W3CDTF">2019-11-27T16:25:10Z</dcterms:modified>
  <cp:revision>98</cp:revision>
  <dc:subject/>
  <dc:title>Взаимодействие семьи и школы по реализации задач индивидуального образовательного маршрута в оздоровительном аспекте.</dc:title>
</cp:coreProperties>
</file>