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87C-AF83-4B14-A3FB-0B5A5FA5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7EB-A720-474F-8348-01EC5B69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4ED-590C-4EDD-A5D5-798C5B44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F99-65FF-4B37-B310-C6BC64EA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4F6BE-C34F-4E6F-B153-F4824003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7F2BD-F99F-4432-80E7-B67AEC11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95A8A-9854-4183-9C40-449D0941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B67A9-07FA-41F0-A91D-68106108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FAA71-0428-4807-82F7-FD34D098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48406-13EC-4C46-8856-24B465C8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1D7F0-901A-4ADD-AE50-191293E1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9A3-2B3D-4FCA-9429-574D4562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6C618-2183-4A5D-BF25-E808E75A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1D59C-2DF0-4DEA-A60A-38A792E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F4BB6-0148-44F9-8CD6-4EC14480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6ACB0-6A05-41D2-9F3F-825C93A8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A3083-369D-49C9-8AA1-8D1935D6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75F-563E-4040-B0DA-936DEA04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AD4-9632-4774-9088-DAA9E3C9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803-24D9-4B99-BFD8-7365CC94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F2C-A0E4-48D8-94A3-0BEC8CE3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F56-4E58-478C-A955-F81E13FF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0DD-63C0-47B3-9313-FAF56045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71A-4E47-474B-8F93-0DD941B3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0665-DFAB-493A-A782-76DF27064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3EFE-84B8-4B7A-BA5A-31DD151C83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1583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57120" y="192888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ультаты адаптации обучающих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спитанников с умерен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мственной отсталость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редством  реализации коррекционных технологий школьного компон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бного пл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 на примере предмета  «игра, игрокоррекция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итель: Р.Р. Вали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0" y="1628640"/>
            <a:ext cx="8791560" cy="4918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ровень   сформированности  игровых умений обучающихся, воспитанников первого класса. Динамика -9 балл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ценка эмоционального состояния первоклассника  по отношению к игровой дея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905120"/>
          <a:ext cx="8229600" cy="4694040"/>
        </p:xfrm>
        <a:graphic>
          <a:graphicData uri="http://schemas.openxmlformats.org/drawingml/2006/table">
            <a:tbl>
              <a:tblPr/>
              <a:tblGrid>
                <a:gridCol w="3871800"/>
                <a:gridCol w="890640"/>
                <a:gridCol w="34671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фамилия.  имя  обучающего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заводила в играх, выдумывает новые варианты и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+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принимает участие в играх по собственной инициати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+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М Ленар, Я Артё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присматривается к игре с любопытств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+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Ж Лиля, ДРая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интереса к играм нет, но участвует в игр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 Н, К 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интереса к играм нет, безуспешны попытки вовлечь в игр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М 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гра, игрокоррекция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9" descr="PICT0160"/>
          <p:cNvPicPr/>
          <p:nvPr/>
        </p:nvPicPr>
        <p:blipFill>
          <a:blip r:embed="rId1"/>
          <a:stretch/>
        </p:blipFill>
        <p:spPr>
          <a:xfrm>
            <a:off x="755640" y="1125360"/>
            <a:ext cx="2951280" cy="221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IMG_1708"/>
          <p:cNvPicPr/>
          <p:nvPr/>
        </p:nvPicPr>
        <p:blipFill>
          <a:blip r:embed="rId2"/>
          <a:stretch/>
        </p:blipFill>
        <p:spPr>
          <a:xfrm>
            <a:off x="5508720" y="112536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IMG_1717"/>
          <p:cNvPicPr/>
          <p:nvPr/>
        </p:nvPicPr>
        <p:blipFill>
          <a:blip r:embed="rId3"/>
          <a:stretch/>
        </p:blipFill>
        <p:spPr>
          <a:xfrm>
            <a:off x="684360" y="3914640"/>
            <a:ext cx="3311280" cy="248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IMG_1728"/>
          <p:cNvPicPr/>
          <p:nvPr/>
        </p:nvPicPr>
        <p:blipFill>
          <a:blip r:embed="rId4"/>
          <a:stretch/>
        </p:blipFill>
        <p:spPr>
          <a:xfrm>
            <a:off x="5219640" y="389556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азвитие зрительно-пространственной координ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9" descr="PICT0139"/>
          <p:cNvPicPr/>
          <p:nvPr/>
        </p:nvPicPr>
        <p:blipFill>
          <a:blip r:embed="rId1"/>
          <a:srcRect l="13063" t="0" r="13063" b="0"/>
          <a:stretch/>
        </p:blipFill>
        <p:spPr>
          <a:xfrm>
            <a:off x="684360" y="1413000"/>
            <a:ext cx="2647800" cy="26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PICT0140"/>
          <p:cNvPicPr/>
          <p:nvPr/>
        </p:nvPicPr>
        <p:blipFill>
          <a:blip r:embed="rId2"/>
          <a:srcRect l="14949" t="0" r="5205" b="0"/>
          <a:stretch/>
        </p:blipFill>
        <p:spPr>
          <a:xfrm>
            <a:off x="5292720" y="1413000"/>
            <a:ext cx="276084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PICT0157"/>
          <p:cNvPicPr/>
          <p:nvPr/>
        </p:nvPicPr>
        <p:blipFill>
          <a:blip r:embed="rId3"/>
          <a:stretch/>
        </p:blipFill>
        <p:spPr>
          <a:xfrm>
            <a:off x="2484360" y="3933720"/>
            <a:ext cx="36003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Учимся игр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IMG_1710"/>
          <p:cNvPicPr/>
          <p:nvPr/>
        </p:nvPicPr>
        <p:blipFill>
          <a:blip r:embed="rId1"/>
          <a:stretch/>
        </p:blipFill>
        <p:spPr>
          <a:xfrm>
            <a:off x="900000" y="105264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MG_1730"/>
          <p:cNvPicPr/>
          <p:nvPr/>
        </p:nvPicPr>
        <p:blipFill>
          <a:blip r:embed="rId2"/>
          <a:stretch/>
        </p:blipFill>
        <p:spPr>
          <a:xfrm>
            <a:off x="5219640" y="1413000"/>
            <a:ext cx="3386160" cy="451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MG_1709"/>
          <p:cNvPicPr/>
          <p:nvPr/>
        </p:nvPicPr>
        <p:blipFill>
          <a:blip r:embed="rId3"/>
          <a:stretch/>
        </p:blipFill>
        <p:spPr>
          <a:xfrm>
            <a:off x="900000" y="3933720"/>
            <a:ext cx="302436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дапт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ающихся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оспитанников первого класса к школьной жизни способствуют коррекционные занятия по предмету « Игра,игрокоррекция». Через игровую деятельность воспитывается школьная мотив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364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даптационного периода обуч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вышения уровня психологической и функциональ-ной готовности детей с нарушением интеллекта   к школьному обуч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.Формировать общеучебные умения и навыки через воспитание интереса к обуч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. Формировать навыки самообслуживания через осознание необходим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Коррекция и развитие слухового, зрительного, тактильного  восприятия посредством знакомства с предметами и явлениями окружающего ми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4437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чи предмета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«Игра, игрокоррекц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Развивать у детей интерес к различным видам иг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Поддерживать бодрое и радостное настроение, побуждать к активной деятельности, развивать самостоятельность в выборе игры, в осуществлении задуманн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Помогать детям объединяться в маленькие группы (по 2-3 человека) на основе личных симпатий, воспитывать доброжелательное отношение друг к друг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Помогать робким, застенчивым детям включаться в общую игр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Приучать к соблюдению в процессе игры элементарных правил поведения (не отнимать игрушки, не толкать друг друга, не мешать сверстнику, не ломать постройк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В процессе игр с игрушками, природными и строительными материалами развивать у детей интерес к окружающему, наблюдательность, умение распознавать свойства предметов и природных материал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В процессе игры развивать речь, обогащать словарный запа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1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новные требования к знаниям и умениям обучающих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учающиеся должны уме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ать с игрушк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играть в различные игр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грать в паре, в групп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риентироваться в окружающем мире и адекватно воспринимать ег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реагировать на обращение окружающих, воспринимать услышанную реч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одражать (интонация; движение, мимик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соблюдать очередность в разговоре, в иг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рименять навыки общения, приобретённые в игре, в повседневной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учающиеся должны зна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значение игрушки, как в неё игра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значение дидактической игры, как в неё играть (2 игр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изусть пальчиковые игры (2 игр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равила организации подвижной игры (1-2 игр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900000" y="1557360"/>
          <a:ext cx="7345440" cy="4560840"/>
        </p:xfrm>
        <a:graphic>
          <a:graphicData uri="http://schemas.openxmlformats.org/drawingml/2006/table">
            <a:tbl>
              <a:tblPr/>
              <a:tblGrid>
                <a:gridCol w="833400"/>
                <a:gridCol w="4027680"/>
                <a:gridCol w="2484360"/>
              </a:tblGrid>
              <a:tr h="35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ая игруш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и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уда для кук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за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е игр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-игра «Теремок» (развиваем моторику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люстрированная книга Е. Косинова «Гимнастика для пальчиков» (развиваем моторику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84360" y="189000"/>
          <a:ext cx="7704000" cy="86364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о-методический комплек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следование состояния игровой деятельности обучающихся, воспитанников подготовительного класса на начало 2009-2010 уч.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 умеет играть,  - не умеет игр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636480"/>
                <a:gridCol w="1413000"/>
                <a:gridCol w="1123920"/>
                <a:gridCol w="698400"/>
                <a:gridCol w="774720"/>
                <a:gridCol w="768600"/>
                <a:gridCol w="704520"/>
                <a:gridCol w="636840"/>
                <a:gridCol w="836640"/>
                <a:gridCol w="636480"/>
              </a:tblGrid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е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-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-метн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с конструктор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дактическ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е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южет-но-роле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-во бал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следование состояния игровой деятельности первоклассников   на начало 2010-2011 уч.  года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 умеет играть,  - не умеет игр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1197000"/>
          <a:ext cx="8351640" cy="3970440"/>
        </p:xfrm>
        <a:graphic>
          <a:graphicData uri="http://schemas.openxmlformats.org/drawingml/2006/table">
            <a:tbl>
              <a:tblPr/>
              <a:tblGrid>
                <a:gridCol w="646200"/>
                <a:gridCol w="1433520"/>
                <a:gridCol w="1141200"/>
                <a:gridCol w="708120"/>
                <a:gridCol w="785880"/>
                <a:gridCol w="780840"/>
                <a:gridCol w="714600"/>
                <a:gridCol w="645840"/>
                <a:gridCol w="849600"/>
                <a:gridCol w="6458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е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-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-метн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с конструктор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дактическ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е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южет-но-роле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-во бал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 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 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 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68360" y="2565360"/>
          <a:ext cx="8229600" cy="3168720"/>
        </p:xfrm>
        <a:graphic>
          <a:graphicData uri="http://schemas.openxmlformats.org/drawingml/2006/table">
            <a:tbl>
              <a:tblPr/>
              <a:tblGrid>
                <a:gridCol w="2735280"/>
                <a:gridCol w="2751120"/>
                <a:gridCol w="2743200"/>
              </a:tblGrid>
              <a:tr h="175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ят программный материал по предмету «Игра,игрокоррекция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статочном уров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ят программный материал по предмету «Игра,игрокоррекция» на уровне ниже достаточ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ят программный материал по предмету «Игра, игрокоррекция» на низком уров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 Лил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Ленар,Д Р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джат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ёш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Макси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48"/>
          <p:cNvSpPr/>
          <p:nvPr/>
        </p:nvSpPr>
        <p:spPr>
          <a:xfrm>
            <a:off x="395280" y="770040"/>
            <a:ext cx="8424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жидаемый результат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учающийся, воспитанник со сформированным, по своим возможностям, уровнем игровой деятельности и усвоением практически значимых правил детской иг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55640" y="836640"/>
          <a:ext cx="7993080" cy="4672080"/>
        </p:xfrm>
        <a:graphic>
          <a:graphicData uri="http://schemas.openxmlformats.org/drawingml/2006/table">
            <a:tbl>
              <a:tblPr/>
              <a:tblGrid>
                <a:gridCol w="495360"/>
                <a:gridCol w="2485800"/>
                <a:gridCol w="2486160"/>
                <a:gridCol w="2525760"/>
              </a:tblGrid>
              <a:tr h="52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-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7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7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7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агаемый результат обу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А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ла учится., кукла собирает портфель, воспроизведение движений животных, прокатывание машины рукой по ковр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8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я отдельных игрушек и обобщающие слова (игрушки, животные, транспорт, мебель, посуда, одежда, школьные принадлежности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8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ы, отражающие действия с игрушк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у детей сформированных действий с игрушками (по подражанию, по образцу), понимание детьми названий используемых игрушек и словесного обозначения выполняемых действий, наличие адекватных эмоциональных реакций на игрушки и выполняемые с ними действ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А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е умениями: передвигаться с помощью учителя или самостоятельно в соответствии с ролью; имитировать движения персонажей совместно с учителем, по подражанию и образцу; брать на себя роль и вести ее до конца, выполнять простейшие сигналы по ходу проведения подвижных иг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ролевого общения в соответствии с сюжетом игры с помощью речевых и неречевых средств (мимика, жесты), овладение детьми навыками общения друг с другом по поводу организации и проведения игры при участии взросл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ое поведение и эмоциональные реакции в соответствии с сюжетом подвижной игры, овладение действиями по сигналу игры, выполнение передвижений в соответствии с сюжет­ном подвижной игр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4:39:22Z</dcterms:created>
  <dc:creator>1</dc:creator>
  <dc:description/>
  <dc:language>en-US</dc:language>
  <cp:lastModifiedBy>Admin</cp:lastModifiedBy>
  <dcterms:modified xsi:type="dcterms:W3CDTF">2019-11-27T16:25:10Z</dcterms:modified>
  <cp:revision>98</cp:revision>
  <dc:subject/>
  <dc:title>Взаимодействие семьи и школы по реализации задач индивидуального образовательного маршрута в оздоровительном аспекте.</dc:title>
</cp:coreProperties>
</file>