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A84A-4162-41D7-AB64-0549F668F7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A5BC-F26E-47EA-805B-5EC1190CF27B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wer Bridge — the card of London, its history is closely connected with the Tower which was nearby. Tower Bridge is obliged by the emergence to the parliament dec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5222-9BF5-4178-93EF-B9BEB9FB13B0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ckingham Palace - the official London residence of British monarchs and attraction of Lond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A2E8-9852-4CAE-9B91-868F6EC713B2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D279-1F1E-4A84-8FC1-D36DEEE8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7C0F-7D20-40D1-8EC9-B020BC4B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AE5F-A014-48F7-B037-B49C1EFE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30AD-DE20-43F2-8189-83CED4F0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AD3A-9EAD-4909-8E00-89D1D5A1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FF99-BB64-4DD5-9B02-CD1CFF5D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391-89E1-49B6-8BEA-72A69273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5236-F6BB-4769-B1E5-3D359CCA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7C24-1DCB-4848-84CB-79F23A63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86B6-DD69-48AC-B8AA-4852D671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21C7-BBB2-4E8C-B665-52B0B3EC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FFC6-59C1-4DB8-B672-69BC4C95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B3E4-537A-48CA-AF6A-34D465C77BA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2724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ГСО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РАЗОВАТЕЛЬНЫЕ ОБЛА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TextBox 6"/>
          <p:cNvGrpSpPr/>
          <p:nvPr/>
        </p:nvGrpSpPr>
        <p:grpSpPr>
          <a:xfrm>
            <a:off x="1000080" y="1633680"/>
            <a:ext cx="6716880" cy="749160"/>
            <a:chOff x="1000080" y="1633680"/>
            <a:chExt cx="6716880" cy="749160"/>
          </a:xfrm>
        </p:grpSpPr>
        <p:pic>
          <p:nvPicPr>
            <p:cNvPr id="50" name="TextBox 6" descr=""/>
            <p:cNvPicPr/>
            <p:nvPr/>
          </p:nvPicPr>
          <p:blipFill>
            <a:blip r:embed="rId1"/>
            <a:stretch/>
          </p:blipFill>
          <p:spPr>
            <a:xfrm>
              <a:off x="1000080" y="1633680"/>
              <a:ext cx="67168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071720" y="1714680"/>
              <a:ext cx="657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ОЦИАЛЬНО - КОММУНИКАТИВН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" name="TextBox 7"/>
          <p:cNvGrpSpPr/>
          <p:nvPr/>
        </p:nvGrpSpPr>
        <p:grpSpPr>
          <a:xfrm>
            <a:off x="1000080" y="2419200"/>
            <a:ext cx="6716880" cy="750960"/>
            <a:chOff x="1000080" y="2419200"/>
            <a:chExt cx="6716880" cy="750960"/>
          </a:xfrm>
        </p:grpSpPr>
        <p:pic>
          <p:nvPicPr>
            <p:cNvPr id="53" name="TextBox 7" descr=""/>
            <p:cNvPicPr/>
            <p:nvPr/>
          </p:nvPicPr>
          <p:blipFill>
            <a:blip r:embed="rId2"/>
            <a:stretch/>
          </p:blipFill>
          <p:spPr>
            <a:xfrm>
              <a:off x="1000080" y="2419200"/>
              <a:ext cx="671688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071720" y="2500200"/>
              <a:ext cx="657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ОЗНАВАТЕЛЬНОЕ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ЗВИТ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" name="TextBox 8"/>
          <p:cNvGrpSpPr/>
          <p:nvPr/>
        </p:nvGrpSpPr>
        <p:grpSpPr>
          <a:xfrm>
            <a:off x="1000080" y="3206880"/>
            <a:ext cx="6791400" cy="749160"/>
            <a:chOff x="1000080" y="3206880"/>
            <a:chExt cx="6791400" cy="749160"/>
          </a:xfrm>
        </p:grpSpPr>
        <p:pic>
          <p:nvPicPr>
            <p:cNvPr id="56" name="TextBox 8" descr=""/>
            <p:cNvPicPr/>
            <p:nvPr/>
          </p:nvPicPr>
          <p:blipFill>
            <a:blip r:embed="rId3"/>
            <a:stretch/>
          </p:blipFill>
          <p:spPr>
            <a:xfrm>
              <a:off x="1000080" y="3206880"/>
              <a:ext cx="67914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071720" y="3286080"/>
              <a:ext cx="664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ЕЧЕВОЕ РАЗВИТ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TextBox 9"/>
          <p:cNvGrpSpPr/>
          <p:nvPr/>
        </p:nvGrpSpPr>
        <p:grpSpPr>
          <a:xfrm>
            <a:off x="1000080" y="3919680"/>
            <a:ext cx="6791400" cy="1116000"/>
            <a:chOff x="1000080" y="3919680"/>
            <a:chExt cx="6791400" cy="1116000"/>
          </a:xfrm>
        </p:grpSpPr>
        <p:pic>
          <p:nvPicPr>
            <p:cNvPr id="59" name="TextBox 9" descr=""/>
            <p:cNvPicPr/>
            <p:nvPr/>
          </p:nvPicPr>
          <p:blipFill>
            <a:blip r:embed="rId4"/>
            <a:stretch/>
          </p:blipFill>
          <p:spPr>
            <a:xfrm>
              <a:off x="1000080" y="3919680"/>
              <a:ext cx="67914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071720" y="4000680"/>
              <a:ext cx="6643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ХУДОЖЕСТВЕННО ЭСТЕТИЧЕСКОЕ РАЗВИТ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" name="TextBox 10"/>
          <p:cNvGrpSpPr/>
          <p:nvPr/>
        </p:nvGrpSpPr>
        <p:grpSpPr>
          <a:xfrm>
            <a:off x="1000080" y="5059440"/>
            <a:ext cx="6791400" cy="755640"/>
            <a:chOff x="1000080" y="5059440"/>
            <a:chExt cx="6791400" cy="755640"/>
          </a:xfrm>
        </p:grpSpPr>
        <p:pic>
          <p:nvPicPr>
            <p:cNvPr id="62" name="TextBox 10" descr=""/>
            <p:cNvPicPr/>
            <p:nvPr/>
          </p:nvPicPr>
          <p:blipFill>
            <a:blip r:embed="rId5"/>
            <a:stretch/>
          </p:blipFill>
          <p:spPr>
            <a:xfrm>
              <a:off x="1000080" y="5059440"/>
              <a:ext cx="67914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071720" y="5143680"/>
              <a:ext cx="664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ФИЗИЧЕСКОЕ РАЗВИТ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357200" y="356760"/>
            <a:ext cx="650088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ЧЕВОЕ     РАЗВИТ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TextBox 3"/>
          <p:cNvGrpSpPr/>
          <p:nvPr/>
        </p:nvGrpSpPr>
        <p:grpSpPr>
          <a:xfrm>
            <a:off x="566640" y="1170000"/>
            <a:ext cx="8077320" cy="5505480"/>
            <a:chOff x="566640" y="1170000"/>
            <a:chExt cx="8077320" cy="5505480"/>
          </a:xfrm>
        </p:grpSpPr>
        <p:pic>
          <p:nvPicPr>
            <p:cNvPr id="66" name="TextBox 3" descr=""/>
            <p:cNvPicPr/>
            <p:nvPr/>
          </p:nvPicPr>
          <p:blipFill>
            <a:blip r:embed="rId1"/>
            <a:stretch/>
          </p:blipFill>
          <p:spPr>
            <a:xfrm>
              <a:off x="566640" y="1170000"/>
              <a:ext cx="8077320" cy="550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42960" y="1225440"/>
              <a:ext cx="7929720" cy="53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ладение речью как средством общения и культуры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богащение активного словар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Развитие связной, грамматически правильной диалогической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 монологической реч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Развитие речевого творчества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Развитие звуковой и интонационной культуры речи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фонематического слуха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Знакомство с книжной культурой, детской литературой,  понима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на слух текстов различных жанров детской литературы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Формирование звуковой аналитико – синтетической активности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как предпосылки обучения грамоте</a:t>
              </a:r>
              <a:br>
                <a:rPr sz="1800"/>
              </a:b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" name="Стрелка вправо 4"/>
          <p:cNvSpPr/>
          <p:nvPr/>
        </p:nvSpPr>
        <p:spPr>
          <a:xfrm>
            <a:off x="928800" y="1643040"/>
            <a:ext cx="428400" cy="21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Стрелка вправо 6"/>
          <p:cNvSpPr/>
          <p:nvPr/>
        </p:nvSpPr>
        <p:spPr>
          <a:xfrm>
            <a:off x="928800" y="2214720"/>
            <a:ext cx="428400" cy="21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Стрелка вправо 7"/>
          <p:cNvSpPr/>
          <p:nvPr/>
        </p:nvSpPr>
        <p:spPr>
          <a:xfrm>
            <a:off x="928800" y="2714760"/>
            <a:ext cx="428400" cy="21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Стрелка вправо 8"/>
          <p:cNvSpPr/>
          <p:nvPr/>
        </p:nvSpPr>
        <p:spPr>
          <a:xfrm>
            <a:off x="928800" y="3571920"/>
            <a:ext cx="428400" cy="21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Стрелка вправо 10"/>
          <p:cNvSpPr/>
          <p:nvPr/>
        </p:nvSpPr>
        <p:spPr>
          <a:xfrm>
            <a:off x="928800" y="4071960"/>
            <a:ext cx="428400" cy="21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Стрелка вправо 11"/>
          <p:cNvSpPr/>
          <p:nvPr/>
        </p:nvSpPr>
        <p:spPr>
          <a:xfrm>
            <a:off x="928800" y="4857840"/>
            <a:ext cx="428400" cy="21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Стрелка вправо 12"/>
          <p:cNvSpPr/>
          <p:nvPr/>
        </p:nvSpPr>
        <p:spPr>
          <a:xfrm>
            <a:off x="928800" y="5715000"/>
            <a:ext cx="428400" cy="21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Заголовок 1"/>
          <p:cNvSpPr/>
          <p:nvPr/>
        </p:nvSpPr>
        <p:spPr>
          <a:xfrm>
            <a:off x="1357200" y="428760"/>
            <a:ext cx="7000920" cy="1285920"/>
          </a:xfrm>
          <a:prstGeom prst="rect">
            <a:avLst/>
          </a:prstGeom>
          <a:solidFill>
            <a:srgbClr val="4f81bd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РТИКУЛЯЦИОННАЯ ГИМНАСТ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TextBox 4"/>
          <p:cNvGrpSpPr/>
          <p:nvPr/>
        </p:nvGrpSpPr>
        <p:grpSpPr>
          <a:xfrm>
            <a:off x="2610000" y="5151600"/>
            <a:ext cx="6351480" cy="1352520"/>
            <a:chOff x="2610000" y="5151600"/>
            <a:chExt cx="6351480" cy="1352520"/>
          </a:xfrm>
        </p:grpSpPr>
        <p:pic>
          <p:nvPicPr>
            <p:cNvPr id="77" name="TextBox 4" descr=""/>
            <p:cNvPicPr/>
            <p:nvPr/>
          </p:nvPicPr>
          <p:blipFill>
            <a:blip r:embed="rId1"/>
            <a:stretch/>
          </p:blipFill>
          <p:spPr>
            <a:xfrm>
              <a:off x="2610000" y="5151600"/>
              <a:ext cx="635148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714760" y="5214960"/>
              <a:ext cx="6143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ртикуляционная гимнастика является основой формирования речевых звуков и коррекции нарушений звукопроизнош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" name="Прямоугольник 7"/>
          <p:cNvGrpSpPr/>
          <p:nvPr/>
        </p:nvGrpSpPr>
        <p:grpSpPr>
          <a:xfrm>
            <a:off x="396720" y="1865160"/>
            <a:ext cx="6351840" cy="3067200"/>
            <a:chOff x="396720" y="1865160"/>
            <a:chExt cx="6351840" cy="3067200"/>
          </a:xfrm>
        </p:grpSpPr>
        <p:pic>
          <p:nvPicPr>
            <p:cNvPr id="80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396720" y="1865160"/>
              <a:ext cx="6351840" cy="30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500040" y="1928880"/>
              <a:ext cx="61437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Звуки речи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образуются в результате сложного комплекса движений артикуляционных органов. Выработка той или иной кинемы открывает возможность освоения тех речевых звуков, которые не могли быть произнесены из-за ее отсутствия. Мы правильно произносим различные звуки, как изолированно, так и в речевом потоке, благодаря силе, хорошей подвижности и дифференцированной работе органов артикуляционного аппарата. Таким образом, произношение звуков речи -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это сложный двигательный навык.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Ь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РТИКУЛЯЦИОННОЙ ГИМНАСТИКИ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TextBox 6"/>
          <p:cNvGrpSpPr/>
          <p:nvPr/>
        </p:nvGrpSpPr>
        <p:grpSpPr>
          <a:xfrm>
            <a:off x="2895480" y="3932280"/>
            <a:ext cx="5992920" cy="1974960"/>
            <a:chOff x="2895480" y="3932280"/>
            <a:chExt cx="5992920" cy="1974960"/>
          </a:xfrm>
        </p:grpSpPr>
        <p:pic>
          <p:nvPicPr>
            <p:cNvPr id="84" name="TextBox 6" descr=""/>
            <p:cNvPicPr/>
            <p:nvPr/>
          </p:nvPicPr>
          <p:blipFill>
            <a:blip r:embed="rId1"/>
            <a:stretch/>
          </p:blipFill>
          <p:spPr>
            <a:xfrm>
              <a:off x="2895480" y="3932280"/>
              <a:ext cx="5992920" cy="19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000240" y="4000680"/>
              <a:ext cx="5786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етям двух, трех, четырех лет артикуляционная гимнастика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оможет быстрее «поставить» правильное звукопроизношение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ети пяти, шести лет и далее смогут при помощи артикуляционной гимнастики во многом преодолеть уже сложившиеся нарушения произношения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TextBox 7"/>
          <p:cNvGrpSpPr/>
          <p:nvPr/>
        </p:nvGrpSpPr>
        <p:grpSpPr>
          <a:xfrm>
            <a:off x="469800" y="1590840"/>
            <a:ext cx="6248520" cy="1895400"/>
            <a:chOff x="469800" y="1590840"/>
            <a:chExt cx="6248520" cy="1895400"/>
          </a:xfrm>
        </p:grpSpPr>
        <p:pic>
          <p:nvPicPr>
            <p:cNvPr id="87" name="TextBox 7" descr=""/>
            <p:cNvPicPr/>
            <p:nvPr/>
          </p:nvPicPr>
          <p:blipFill>
            <a:blip r:embed="rId2"/>
            <a:stretch/>
          </p:blipFill>
          <p:spPr>
            <a:xfrm>
              <a:off x="469800" y="1590840"/>
              <a:ext cx="624852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71680" y="1643040"/>
              <a:ext cx="60721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Улучшения подвижности органов артикуляции;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• Увеличения объема и силы движений;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• Выработки навыков использования точных позиций губ и языка для правильного произнесения того или иного звук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143280"/>
            <a:ext cx="82152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КОМЕНДАЦИИ    ПО    ПРОВЕДЕНИЮ </a:t>
            </a:r>
            <a:br>
              <a:rPr sz="24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ТИКУЛЯЦИОННОЙ       ГИМНАСТИ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5786280" y="128592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TextBox 7"/>
          <p:cNvGrpSpPr/>
          <p:nvPr/>
        </p:nvGrpSpPr>
        <p:grpSpPr>
          <a:xfrm>
            <a:off x="334800" y="1079640"/>
            <a:ext cx="6840720" cy="871560"/>
            <a:chOff x="334800" y="1079640"/>
            <a:chExt cx="6840720" cy="871560"/>
          </a:xfrm>
        </p:grpSpPr>
        <p:pic>
          <p:nvPicPr>
            <p:cNvPr id="92" name="TextBox 7" descr=""/>
            <p:cNvPicPr/>
            <p:nvPr/>
          </p:nvPicPr>
          <p:blipFill>
            <a:blip r:embed="rId1"/>
            <a:stretch/>
          </p:blipFill>
          <p:spPr>
            <a:xfrm>
              <a:off x="334800" y="1079640"/>
              <a:ext cx="68407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28760" y="1143000"/>
              <a:ext cx="664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роводить артикуляционную гимнастику нужно ежедневно. Лучше выполнять упражнения 3-4 раза в день по 3-5 минут.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TextBox 10"/>
          <p:cNvGrpSpPr/>
          <p:nvPr/>
        </p:nvGrpSpPr>
        <p:grpSpPr>
          <a:xfrm>
            <a:off x="328680" y="1895400"/>
            <a:ext cx="7566120" cy="1067040"/>
            <a:chOff x="328680" y="1895400"/>
            <a:chExt cx="7566120" cy="1067040"/>
          </a:xfrm>
        </p:grpSpPr>
        <p:pic>
          <p:nvPicPr>
            <p:cNvPr id="95" name="TextBox 10" descr=""/>
            <p:cNvPicPr/>
            <p:nvPr/>
          </p:nvPicPr>
          <p:blipFill>
            <a:blip r:embed="rId2"/>
            <a:stretch/>
          </p:blipFill>
          <p:spPr>
            <a:xfrm>
              <a:off x="328680" y="1895400"/>
              <a:ext cx="756612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785880" y="1928880"/>
              <a:ext cx="700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На первых занятиях упражнение повторяется 2-3 раза в связи с повышенной истощаемостью упражняемой мышцы, в дальнейшем каждое упражнение выполняется до 10-15 раз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TextBox 11"/>
          <p:cNvGrpSpPr/>
          <p:nvPr/>
        </p:nvGrpSpPr>
        <p:grpSpPr>
          <a:xfrm>
            <a:off x="1547640" y="3932280"/>
            <a:ext cx="7199640" cy="1152360"/>
            <a:chOff x="1547640" y="3932280"/>
            <a:chExt cx="7199640" cy="1152360"/>
          </a:xfrm>
        </p:grpSpPr>
        <p:pic>
          <p:nvPicPr>
            <p:cNvPr id="98" name="TextBox 11" descr=""/>
            <p:cNvPicPr/>
            <p:nvPr/>
          </p:nvPicPr>
          <p:blipFill>
            <a:blip r:embed="rId3"/>
            <a:stretch/>
          </p:blipFill>
          <p:spPr>
            <a:xfrm>
              <a:off x="1547640" y="3932280"/>
              <a:ext cx="719964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643040" y="4000680"/>
              <a:ext cx="700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ртикуляционную гимнастику выполняют сидя, так как в таком положении у ребенка прямая спина, тело не напряжено, руки и ноги находятся в спокойном положении. 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TextBox 14"/>
          <p:cNvGrpSpPr/>
          <p:nvPr/>
        </p:nvGrpSpPr>
        <p:grpSpPr>
          <a:xfrm>
            <a:off x="1109520" y="2932200"/>
            <a:ext cx="7180560" cy="1152360"/>
            <a:chOff x="1109520" y="2932200"/>
            <a:chExt cx="7180560" cy="1152360"/>
          </a:xfrm>
        </p:grpSpPr>
        <p:pic>
          <p:nvPicPr>
            <p:cNvPr id="101" name="TextBox 14" descr=""/>
            <p:cNvPicPr/>
            <p:nvPr/>
          </p:nvPicPr>
          <p:blipFill>
            <a:blip r:embed="rId4"/>
            <a:stretch/>
          </p:blipFill>
          <p:spPr>
            <a:xfrm>
              <a:off x="1109520" y="2932200"/>
              <a:ext cx="71805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214280" y="3000240"/>
              <a:ext cx="700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ри отборе упражнений для артикуляционной гимнастики надо соблюдать определенную последовательность, идти от простых упражнений к более сложным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TextBox 15"/>
          <p:cNvGrpSpPr/>
          <p:nvPr/>
        </p:nvGrpSpPr>
        <p:grpSpPr>
          <a:xfrm>
            <a:off x="1835280" y="5005440"/>
            <a:ext cx="7192800" cy="1700280"/>
            <a:chOff x="1835280" y="5005440"/>
            <a:chExt cx="7192800" cy="1700280"/>
          </a:xfrm>
        </p:grpSpPr>
        <p:pic>
          <p:nvPicPr>
            <p:cNvPr id="104" name="TextBox 15" descr=""/>
            <p:cNvPicPr/>
            <p:nvPr/>
          </p:nvPicPr>
          <p:blipFill>
            <a:blip r:embed="rId5"/>
            <a:stretch/>
          </p:blipFill>
          <p:spPr>
            <a:xfrm>
              <a:off x="1835280" y="5005440"/>
              <a:ext cx="719280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928880" y="5072040"/>
              <a:ext cx="70009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 комплексе должны присутствовать 2-3 упр. статических и 2-3 упр. динамических. Начинают гимнастику со статических упражнений, они выполняются по 10-15 секунд (удержание артикуляционной позы в одном положении), далее переходят к динамическим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5"/>
          <p:cNvSpPr/>
          <p:nvPr/>
        </p:nvSpPr>
        <p:spPr>
          <a:xfrm>
            <a:off x="285840" y="1857240"/>
            <a:ext cx="8358120" cy="3660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572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зрослый рассказывает о предстоящем упражнении, используя игровые прием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зрослый показывает выполнение упражнени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ражнение делает ребенок, а взрослый контролирует выполн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у ребенка не получается какое-то движение, необходимо помогает ему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   Подходить к выполнению упражнений творчески, используя игровые приемы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ГАНИЗАЦИЯ ПРОВЕДЕНИЯ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РТИКУЛЯЦИОННОЙ ГИМНАС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Ы ПРОВЕДЕНИЯ АРТИКУЛЯЦИОННОЙ ГИМНАСТ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TextBox 4"/>
          <p:cNvGrpSpPr/>
          <p:nvPr/>
        </p:nvGrpSpPr>
        <p:grpSpPr>
          <a:xfrm>
            <a:off x="895320" y="1743120"/>
            <a:ext cx="7529400" cy="4376520"/>
            <a:chOff x="895320" y="1743120"/>
            <a:chExt cx="7529400" cy="4376520"/>
          </a:xfrm>
        </p:grpSpPr>
        <p:pic>
          <p:nvPicPr>
            <p:cNvPr id="110" name="TextBox 4" descr=""/>
            <p:cNvPicPr/>
            <p:nvPr/>
          </p:nvPicPr>
          <p:blipFill>
            <a:blip r:embed="rId1"/>
            <a:stretch/>
          </p:blipFill>
          <p:spPr>
            <a:xfrm>
              <a:off x="895320" y="1743120"/>
              <a:ext cx="7529400" cy="43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000080" y="1785960"/>
              <a:ext cx="7358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- «Театр пальчиков и Язычка» (или сопряженная гимнастика)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-  Встречи с героями «Весёлых полянок»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-  Использование дидактических куко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-  Артикуляционный комплекс с трафаретами «Весёлых Язычков»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-  Адаптированные сказки с движениям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-  Сочинение историй из жизни Язычка с использованием картинок-образов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-  Выполнение артикуляционных упражнений с  применением  «волшебных  палочек — помогалочек»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-  Нетрадиционные упражнения с бусиной, драже и ложкой для совершенствования артикуляционной моторик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-  Кубики – знаки упражнени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-  Артикуляционная гимнастика под музык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TextBox 5"/>
          <p:cNvGrpSpPr/>
          <p:nvPr/>
        </p:nvGrpSpPr>
        <p:grpSpPr>
          <a:xfrm>
            <a:off x="781200" y="1365120"/>
            <a:ext cx="7661160" cy="2109960"/>
            <a:chOff x="781200" y="1365120"/>
            <a:chExt cx="7661160" cy="2109960"/>
          </a:xfrm>
        </p:grpSpPr>
        <p:pic>
          <p:nvPicPr>
            <p:cNvPr id="113" name="TextBox 5" descr=""/>
            <p:cNvPicPr/>
            <p:nvPr/>
          </p:nvPicPr>
          <p:blipFill>
            <a:blip r:embed="rId1"/>
            <a:stretch/>
          </p:blipFill>
          <p:spPr>
            <a:xfrm>
              <a:off x="781200" y="1365120"/>
              <a:ext cx="766116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57160" y="1428840"/>
              <a:ext cx="75009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СПАСИБО ЗА ВНИМАНИЕ!</a:t>
              </a:r>
              <a:br>
                <a:rPr sz="4000"/>
              </a:b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TextBox 2"/>
          <p:cNvSpPr/>
          <p:nvPr/>
        </p:nvSpPr>
        <p:spPr>
          <a:xfrm>
            <a:off x="5000760" y="4500720"/>
            <a:ext cx="37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езентацию подготови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читель – логопе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дамова М.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8:30:42Z</dcterms:created>
  <dc:creator>User</dc:creator>
  <dc:description/>
  <dc:language>en-US</dc:language>
  <cp:lastModifiedBy>Евгения Рыжикова</cp:lastModifiedBy>
  <dcterms:modified xsi:type="dcterms:W3CDTF">2019-11-28T13:34:57Z</dcterms:modified>
  <cp:revision>196</cp:revision>
  <dc:subject/>
  <dc:title>Слайд 1</dc:title>
</cp:coreProperties>
</file>