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655F-CB8C-4047-8EA8-58FDE59BF4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ED41-1F5A-4E01-985D-1D4CCDE53DBC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wer Bridge — the card of London, its history is closely connected with the Tower which was nearby. Tower Bridge is obliged by the emergence to the parliament dec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279F-6D33-4F03-A3F5-C8B2918A20C0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ckingham Palace - the official London residence of British monarchs and attraction of Lon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2EAE-0201-4867-8CC1-22BA56C70876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CED-D455-403C-A40A-972A4603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A77-A670-4D32-BE16-8CEC20D5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5CC-5D2D-4647-90D4-C2736E73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081-8FF9-4334-822B-A8614ECA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DEF-CB6C-4F0A-B30C-0121CDEE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162-51EA-471D-BA82-B2455FA2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3FC-2DEF-4C12-8C4F-B96F57FA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E30-7983-4CEC-8690-70244D9C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E0E-5040-45B1-AD5B-288E5CD4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711-1A60-4760-AB56-E80A7C38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BFE-38CD-467C-B450-A5FA6965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020-E6C3-447C-9AA0-C691D5A3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AC72-F9B1-49F7-A63F-98084CC32C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2724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ГСО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ОВАТЕЛЬНЫЕ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TextBox 6"/>
          <p:cNvGrpSpPr/>
          <p:nvPr/>
        </p:nvGrpSpPr>
        <p:grpSpPr>
          <a:xfrm>
            <a:off x="1000080" y="1633680"/>
            <a:ext cx="6716880" cy="749160"/>
            <a:chOff x="1000080" y="1633680"/>
            <a:chExt cx="6716880" cy="749160"/>
          </a:xfrm>
        </p:grpSpPr>
        <p:pic>
          <p:nvPicPr>
            <p:cNvPr id="50" name="TextBox 6" descr=""/>
            <p:cNvPicPr/>
            <p:nvPr/>
          </p:nvPicPr>
          <p:blipFill>
            <a:blip r:embed="rId1"/>
            <a:stretch/>
          </p:blipFill>
          <p:spPr>
            <a:xfrm>
              <a:off x="1000080" y="1633680"/>
              <a:ext cx="67168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71720" y="171468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ЦИАЛЬНО - КОММУНИКАТИВ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TextBox 7"/>
          <p:cNvGrpSpPr/>
          <p:nvPr/>
        </p:nvGrpSpPr>
        <p:grpSpPr>
          <a:xfrm>
            <a:off x="1000080" y="2419200"/>
            <a:ext cx="6716880" cy="750960"/>
            <a:chOff x="1000080" y="2419200"/>
            <a:chExt cx="6716880" cy="750960"/>
          </a:xfrm>
        </p:grpSpPr>
        <p:pic>
          <p:nvPicPr>
            <p:cNvPr id="53" name="TextBox 7" descr=""/>
            <p:cNvPicPr/>
            <p:nvPr/>
          </p:nvPicPr>
          <p:blipFill>
            <a:blip r:embed="rId2"/>
            <a:stretch/>
          </p:blipFill>
          <p:spPr>
            <a:xfrm>
              <a:off x="1000080" y="2419200"/>
              <a:ext cx="67168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071720" y="250020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ЗНАВАТЕЛЬНОЕ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TextBox 8"/>
          <p:cNvGrpSpPr/>
          <p:nvPr/>
        </p:nvGrpSpPr>
        <p:grpSpPr>
          <a:xfrm>
            <a:off x="1000080" y="3206880"/>
            <a:ext cx="6791400" cy="749160"/>
            <a:chOff x="1000080" y="3206880"/>
            <a:chExt cx="6791400" cy="749160"/>
          </a:xfrm>
        </p:grpSpPr>
        <p:pic>
          <p:nvPicPr>
            <p:cNvPr id="56" name="TextBox 8" descr=""/>
            <p:cNvPicPr/>
            <p:nvPr/>
          </p:nvPicPr>
          <p:blipFill>
            <a:blip r:embed="rId3"/>
            <a:stretch/>
          </p:blipFill>
          <p:spPr>
            <a:xfrm>
              <a:off x="1000080" y="3206880"/>
              <a:ext cx="67914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71720" y="3286080"/>
              <a:ext cx="66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ЕЧЕВОЕ РАЗВИ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TextBox 9"/>
          <p:cNvGrpSpPr/>
          <p:nvPr/>
        </p:nvGrpSpPr>
        <p:grpSpPr>
          <a:xfrm>
            <a:off x="1000080" y="3919680"/>
            <a:ext cx="6791400" cy="1116000"/>
            <a:chOff x="1000080" y="3919680"/>
            <a:chExt cx="6791400" cy="1116000"/>
          </a:xfrm>
        </p:grpSpPr>
        <p:pic>
          <p:nvPicPr>
            <p:cNvPr id="59" name="TextBox 9" descr=""/>
            <p:cNvPicPr/>
            <p:nvPr/>
          </p:nvPicPr>
          <p:blipFill>
            <a:blip r:embed="rId4"/>
            <a:stretch/>
          </p:blipFill>
          <p:spPr>
            <a:xfrm>
              <a:off x="1000080" y="3919680"/>
              <a:ext cx="6791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071720" y="4000680"/>
              <a:ext cx="664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ХУДОЖЕСТВЕННО ЭСТЕТИЧЕСКОЕ РАЗВИ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TextBox 10"/>
          <p:cNvGrpSpPr/>
          <p:nvPr/>
        </p:nvGrpSpPr>
        <p:grpSpPr>
          <a:xfrm>
            <a:off x="1000080" y="5059440"/>
            <a:ext cx="6791400" cy="755640"/>
            <a:chOff x="1000080" y="5059440"/>
            <a:chExt cx="6791400" cy="755640"/>
          </a:xfrm>
        </p:grpSpPr>
        <p:pic>
          <p:nvPicPr>
            <p:cNvPr id="62" name="TextBox 10" descr=""/>
            <p:cNvPicPr/>
            <p:nvPr/>
          </p:nvPicPr>
          <p:blipFill>
            <a:blip r:embed="rId5"/>
            <a:stretch/>
          </p:blipFill>
          <p:spPr>
            <a:xfrm>
              <a:off x="1000080" y="5059440"/>
              <a:ext cx="6791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071720" y="5143680"/>
              <a:ext cx="66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ФИЗИЧЕСКОЕ РАЗВИ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57200" y="356760"/>
            <a:ext cx="65008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ЧЕВОЕ     РАЗВИТ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TextBox 3"/>
          <p:cNvGrpSpPr/>
          <p:nvPr/>
        </p:nvGrpSpPr>
        <p:grpSpPr>
          <a:xfrm>
            <a:off x="566640" y="1170000"/>
            <a:ext cx="8077320" cy="5505480"/>
            <a:chOff x="566640" y="1170000"/>
            <a:chExt cx="8077320" cy="5505480"/>
          </a:xfrm>
        </p:grpSpPr>
        <p:pic>
          <p:nvPicPr>
            <p:cNvPr id="66" name="TextBox 3" descr=""/>
            <p:cNvPicPr/>
            <p:nvPr/>
          </p:nvPicPr>
          <p:blipFill>
            <a:blip r:embed="rId1"/>
            <a:stretch/>
          </p:blipFill>
          <p:spPr>
            <a:xfrm>
              <a:off x="566640" y="1170000"/>
              <a:ext cx="8077320" cy="55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42960" y="1225440"/>
              <a:ext cx="7929720" cy="53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ладение речью как средством общения и культур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богащение активного словар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звитие связной, грамматически правильной диалогическо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 монологической реч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звитие речевого творчеств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звитие звуковой и интонационной культуры речи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фонематического слух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накомство с книжной культурой, детской литературой,  поним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а слух текстов различных жанров детской литератур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Формирование звуковой аналитико – синтетической активност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ак предпосылки обучения грамоте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Стрелка вправо 4"/>
          <p:cNvSpPr/>
          <p:nvPr/>
        </p:nvSpPr>
        <p:spPr>
          <a:xfrm>
            <a:off x="928800" y="164304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Стрелка вправо 6"/>
          <p:cNvSpPr/>
          <p:nvPr/>
        </p:nvSpPr>
        <p:spPr>
          <a:xfrm>
            <a:off x="928800" y="221472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Стрелка вправо 7"/>
          <p:cNvSpPr/>
          <p:nvPr/>
        </p:nvSpPr>
        <p:spPr>
          <a:xfrm>
            <a:off x="928800" y="271476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Стрелка вправо 8"/>
          <p:cNvSpPr/>
          <p:nvPr/>
        </p:nvSpPr>
        <p:spPr>
          <a:xfrm>
            <a:off x="928800" y="357192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Стрелка вправо 10"/>
          <p:cNvSpPr/>
          <p:nvPr/>
        </p:nvSpPr>
        <p:spPr>
          <a:xfrm>
            <a:off x="928800" y="407196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Стрелка вправо 11"/>
          <p:cNvSpPr/>
          <p:nvPr/>
        </p:nvSpPr>
        <p:spPr>
          <a:xfrm>
            <a:off x="928800" y="485784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Стрелка вправо 12"/>
          <p:cNvSpPr/>
          <p:nvPr/>
        </p:nvSpPr>
        <p:spPr>
          <a:xfrm>
            <a:off x="928800" y="571500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1357200" y="428760"/>
            <a:ext cx="7000920" cy="1285920"/>
          </a:xfrm>
          <a:prstGeom prst="rect">
            <a:avLst/>
          </a:prstGeom>
          <a:solidFill>
            <a:srgbClr val="4f81bd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ТИКУЛЯЦИОННАЯ ГИМНАС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TextBox 4"/>
          <p:cNvGrpSpPr/>
          <p:nvPr/>
        </p:nvGrpSpPr>
        <p:grpSpPr>
          <a:xfrm>
            <a:off x="2610000" y="5151600"/>
            <a:ext cx="6351480" cy="1352520"/>
            <a:chOff x="2610000" y="5151600"/>
            <a:chExt cx="6351480" cy="1352520"/>
          </a:xfrm>
        </p:grpSpPr>
        <p:pic>
          <p:nvPicPr>
            <p:cNvPr id="77" name="TextBox 4" descr=""/>
            <p:cNvPicPr/>
            <p:nvPr/>
          </p:nvPicPr>
          <p:blipFill>
            <a:blip r:embed="rId1"/>
            <a:stretch/>
          </p:blipFill>
          <p:spPr>
            <a:xfrm>
              <a:off x="2610000" y="5151600"/>
              <a:ext cx="635148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714760" y="5214960"/>
              <a:ext cx="614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ртикуляционная гимнастика является основой формирования речевых звуков и коррекции нарушений звукопроизнош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Прямоугольник 7"/>
          <p:cNvGrpSpPr/>
          <p:nvPr/>
        </p:nvGrpSpPr>
        <p:grpSpPr>
          <a:xfrm>
            <a:off x="396720" y="1865160"/>
            <a:ext cx="6351840" cy="3067200"/>
            <a:chOff x="396720" y="1865160"/>
            <a:chExt cx="6351840" cy="3067200"/>
          </a:xfrm>
        </p:grpSpPr>
        <p:pic>
          <p:nvPicPr>
            <p:cNvPr id="8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96720" y="1865160"/>
              <a:ext cx="63518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00040" y="1928880"/>
              <a:ext cx="61437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Звуки речи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образуются в результате сложного комплекса движений артикуляционных органов. Выработка той или иной кинемы открывает возможность освоения тех речевых звуков, которые не могли быть произнесены из-за ее отсутствия. Мы правильно произносим различные звуки, как изолированно, так и в речевом потоке, благодаря силе, хорошей подвижности и дифференцированной работе органов артикуляционного аппарата. Таким образом, произношение звуков речи -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это сложный двигательный навык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ТИКУЛЯЦИОННОЙ ГИМНАСТИКИ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TextBox 6"/>
          <p:cNvGrpSpPr/>
          <p:nvPr/>
        </p:nvGrpSpPr>
        <p:grpSpPr>
          <a:xfrm>
            <a:off x="2895480" y="3932280"/>
            <a:ext cx="5992920" cy="1974960"/>
            <a:chOff x="2895480" y="3932280"/>
            <a:chExt cx="5992920" cy="1974960"/>
          </a:xfrm>
        </p:grpSpPr>
        <p:pic>
          <p:nvPicPr>
            <p:cNvPr id="84" name="TextBox 6" descr=""/>
            <p:cNvPicPr/>
            <p:nvPr/>
          </p:nvPicPr>
          <p:blipFill>
            <a:blip r:embed="rId1"/>
            <a:stretch/>
          </p:blipFill>
          <p:spPr>
            <a:xfrm>
              <a:off x="2895480" y="3932280"/>
              <a:ext cx="599292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000240" y="4000680"/>
              <a:ext cx="5786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етям двух, трех, четырех лет артикуляционная гимнастика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может быстрее «поставить» правильное звукопроизношение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ети пяти, шести лет и далее смогут при помощи артикуляционной гимнастики во многом преодолеть уже сложившиеся нарушения произношения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TextBox 7"/>
          <p:cNvGrpSpPr/>
          <p:nvPr/>
        </p:nvGrpSpPr>
        <p:grpSpPr>
          <a:xfrm>
            <a:off x="469800" y="1590840"/>
            <a:ext cx="6248520" cy="1895400"/>
            <a:chOff x="469800" y="1590840"/>
            <a:chExt cx="6248520" cy="1895400"/>
          </a:xfrm>
        </p:grpSpPr>
        <p:pic>
          <p:nvPicPr>
            <p:cNvPr id="87" name="TextBox 7" descr=""/>
            <p:cNvPicPr/>
            <p:nvPr/>
          </p:nvPicPr>
          <p:blipFill>
            <a:blip r:embed="rId2"/>
            <a:stretch/>
          </p:blipFill>
          <p:spPr>
            <a:xfrm>
              <a:off x="469800" y="1590840"/>
              <a:ext cx="62485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71680" y="1643040"/>
              <a:ext cx="6072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лучшения подвижности органов артикуляции;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• Увеличения объема и силы движений;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• Выработки навыков использования точных позиций губ и языка для правильного произнесения того или иного зву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3280"/>
            <a:ext cx="82152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МЕНДАЦИИ    ПО    ПРОВЕДЕНИЮ </a:t>
            </a:r>
            <a:br>
              <a:rPr sz="24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ТИКУЛЯЦИОННОЙ       ГИМНАСТ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5786280" y="12859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TextBox 7"/>
          <p:cNvGrpSpPr/>
          <p:nvPr/>
        </p:nvGrpSpPr>
        <p:grpSpPr>
          <a:xfrm>
            <a:off x="334800" y="1079640"/>
            <a:ext cx="6840720" cy="871560"/>
            <a:chOff x="334800" y="1079640"/>
            <a:chExt cx="6840720" cy="871560"/>
          </a:xfrm>
        </p:grpSpPr>
        <p:pic>
          <p:nvPicPr>
            <p:cNvPr id="92" name="TextBox 7" descr=""/>
            <p:cNvPicPr/>
            <p:nvPr/>
          </p:nvPicPr>
          <p:blipFill>
            <a:blip r:embed="rId1"/>
            <a:stretch/>
          </p:blipFill>
          <p:spPr>
            <a:xfrm>
              <a:off x="334800" y="1079640"/>
              <a:ext cx="68407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28760" y="1143000"/>
              <a:ext cx="664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оводить артикуляционную гимнастику нужно ежедневно. Лучше выполнять упражнения 3-4 раза в день по 3-5 минут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TextBox 10"/>
          <p:cNvGrpSpPr/>
          <p:nvPr/>
        </p:nvGrpSpPr>
        <p:grpSpPr>
          <a:xfrm>
            <a:off x="328680" y="1895400"/>
            <a:ext cx="7566120" cy="1067040"/>
            <a:chOff x="328680" y="1895400"/>
            <a:chExt cx="7566120" cy="1067040"/>
          </a:xfrm>
        </p:grpSpPr>
        <p:pic>
          <p:nvPicPr>
            <p:cNvPr id="95" name="TextBox 10" descr=""/>
            <p:cNvPicPr/>
            <p:nvPr/>
          </p:nvPicPr>
          <p:blipFill>
            <a:blip r:embed="rId2"/>
            <a:stretch/>
          </p:blipFill>
          <p:spPr>
            <a:xfrm>
              <a:off x="328680" y="1895400"/>
              <a:ext cx="75661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85880" y="1928880"/>
              <a:ext cx="700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а первых занятиях упражнение повторяется 2-3 раза в связи с повышенной истощаемостью упражняемой мышцы, в дальнейшем каждое упражнение выполняется до 10-15 раз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TextBox 11"/>
          <p:cNvGrpSpPr/>
          <p:nvPr/>
        </p:nvGrpSpPr>
        <p:grpSpPr>
          <a:xfrm>
            <a:off x="1547640" y="3932280"/>
            <a:ext cx="7199640" cy="1152360"/>
            <a:chOff x="1547640" y="3932280"/>
            <a:chExt cx="7199640" cy="1152360"/>
          </a:xfrm>
        </p:grpSpPr>
        <p:pic>
          <p:nvPicPr>
            <p:cNvPr id="98" name="TextBox 11" descr=""/>
            <p:cNvPicPr/>
            <p:nvPr/>
          </p:nvPicPr>
          <p:blipFill>
            <a:blip r:embed="rId3"/>
            <a:stretch/>
          </p:blipFill>
          <p:spPr>
            <a:xfrm>
              <a:off x="1547640" y="3932280"/>
              <a:ext cx="7199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643040" y="4000680"/>
              <a:ext cx="700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ртикуляционную гимнастику выполняют сидя, так как в таком положении у ребенка прямая спина, тело не напряжено, руки и ноги находятся в спокойном положении. 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TextBox 14"/>
          <p:cNvGrpSpPr/>
          <p:nvPr/>
        </p:nvGrpSpPr>
        <p:grpSpPr>
          <a:xfrm>
            <a:off x="1109520" y="2932200"/>
            <a:ext cx="7180560" cy="1152360"/>
            <a:chOff x="1109520" y="2932200"/>
            <a:chExt cx="7180560" cy="1152360"/>
          </a:xfrm>
        </p:grpSpPr>
        <p:pic>
          <p:nvPicPr>
            <p:cNvPr id="101" name="TextBox 14" descr=""/>
            <p:cNvPicPr/>
            <p:nvPr/>
          </p:nvPicPr>
          <p:blipFill>
            <a:blip r:embed="rId4"/>
            <a:stretch/>
          </p:blipFill>
          <p:spPr>
            <a:xfrm>
              <a:off x="1109520" y="2932200"/>
              <a:ext cx="7180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214280" y="3000240"/>
              <a:ext cx="700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и отборе упражнений для артикуляционной гимнастики надо соблюдать определенную последовательность, идти от простых упражнений к более сложным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TextBox 15"/>
          <p:cNvGrpSpPr/>
          <p:nvPr/>
        </p:nvGrpSpPr>
        <p:grpSpPr>
          <a:xfrm>
            <a:off x="1835280" y="5005440"/>
            <a:ext cx="7192800" cy="1700280"/>
            <a:chOff x="1835280" y="5005440"/>
            <a:chExt cx="7192800" cy="1700280"/>
          </a:xfrm>
        </p:grpSpPr>
        <p:pic>
          <p:nvPicPr>
            <p:cNvPr id="104" name="TextBox 15" descr=""/>
            <p:cNvPicPr/>
            <p:nvPr/>
          </p:nvPicPr>
          <p:blipFill>
            <a:blip r:embed="rId5"/>
            <a:stretch/>
          </p:blipFill>
          <p:spPr>
            <a:xfrm>
              <a:off x="1835280" y="5005440"/>
              <a:ext cx="719280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928880" y="5072040"/>
              <a:ext cx="7000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 комплексе должны присутствовать 2-3 упр. статических и 2-3 упр. динамических. Начинают гимнастику со статических упражнений, они выполняются по 10-15 секунд (удержание артикуляционной позы в одном положении), далее переходят к динамическим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5"/>
          <p:cNvSpPr/>
          <p:nvPr/>
        </p:nvSpPr>
        <p:spPr>
          <a:xfrm>
            <a:off x="285840" y="1857240"/>
            <a:ext cx="8358120" cy="366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рослый рассказывает о предстоящем упражнении, используя игровые прие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рослый показывает выполнение упражне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жнение делает ребенок, а взрослый контролирует выполн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у ребенка не получается какое-то движение, необходимо помогает ем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   Подходить к выполнению упражнений творчески, используя игровые приемы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ПРОВЕДЕ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ТИКУЛЯЦИОННОЙ ГИМНАС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Ы ПРОВЕДЕНИЯ АРТИКУЛЯЦИОННОЙ ГИМНАС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TextBox 4"/>
          <p:cNvGrpSpPr/>
          <p:nvPr/>
        </p:nvGrpSpPr>
        <p:grpSpPr>
          <a:xfrm>
            <a:off x="895320" y="1743120"/>
            <a:ext cx="7529400" cy="4376520"/>
            <a:chOff x="895320" y="1743120"/>
            <a:chExt cx="7529400" cy="4376520"/>
          </a:xfrm>
        </p:grpSpPr>
        <p:pic>
          <p:nvPicPr>
            <p:cNvPr id="110" name="TextBox 4" descr=""/>
            <p:cNvPicPr/>
            <p:nvPr/>
          </p:nvPicPr>
          <p:blipFill>
            <a:blip r:embed="rId1"/>
            <a:stretch/>
          </p:blipFill>
          <p:spPr>
            <a:xfrm>
              <a:off x="895320" y="1743120"/>
              <a:ext cx="7529400" cy="43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000080" y="1785960"/>
              <a:ext cx="7358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«Театр пальчиков и Язычка» (или сопряженная гимнастика)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Встречи с героями «Весёлых полянок»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Использование дидактических куко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Артикуляционный комплекс с трафаретами «Весёлых Язычков»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Адаптированные сказки с движения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Сочинение историй из жизни Язычка с использованием картинок-образов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Выполнение артикуляционных упражнений с  применением  «волшебных  палочек — помогалочек»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Нетрадиционные упражнения с бусиной, драже и ложкой для совершенствования артикуляционной мотори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Кубики – знаки упражнен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Артикуляционная гимнастика под музык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TextBox 5"/>
          <p:cNvGrpSpPr/>
          <p:nvPr/>
        </p:nvGrpSpPr>
        <p:grpSpPr>
          <a:xfrm>
            <a:off x="781200" y="1365120"/>
            <a:ext cx="7661160" cy="2109960"/>
            <a:chOff x="781200" y="1365120"/>
            <a:chExt cx="7661160" cy="2109960"/>
          </a:xfrm>
        </p:grpSpPr>
        <p:pic>
          <p:nvPicPr>
            <p:cNvPr id="113" name="TextBox 5" descr=""/>
            <p:cNvPicPr/>
            <p:nvPr/>
          </p:nvPicPr>
          <p:blipFill>
            <a:blip r:embed="rId1"/>
            <a:stretch/>
          </p:blipFill>
          <p:spPr>
            <a:xfrm>
              <a:off x="781200" y="1365120"/>
              <a:ext cx="766116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57160" y="1428840"/>
              <a:ext cx="75009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СПАСИБО ЗА ВНИМАНИЕ!</a:t>
              </a:r>
              <a:br>
                <a:rPr sz="4000"/>
              </a:b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2"/>
          <p:cNvSpPr/>
          <p:nvPr/>
        </p:nvSpPr>
        <p:spPr>
          <a:xfrm>
            <a:off x="5000760" y="450072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езентацию подготов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– логопе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дамова М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8:30:42Z</dcterms:created>
  <dc:creator>User</dc:creator>
  <dc:description/>
  <dc:language>en-US</dc:language>
  <cp:lastModifiedBy>Евгения Рыжикова</cp:lastModifiedBy>
  <dcterms:modified xsi:type="dcterms:W3CDTF">2019-11-28T13:34:57Z</dcterms:modified>
  <cp:revision>196</cp:revision>
  <dc:subject/>
  <dc:title>Слайд 1</dc:title>
</cp:coreProperties>
</file>