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759200"/>
            <a:ext cx="764352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31428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31428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7592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7592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7592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26316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759200"/>
            <a:ext cx="764352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26316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971280" indent="-19404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360080" indent="-1940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1748520" indent="-19404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1748520" indent="-19404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1748520" indent="-19404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1;&#1091;&#1088;&#1103;&#1090;&#1099;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s://ru.wikipedia.org/wiki/&#1041;&#1091;&#1088;&#1103;&#1090;&#1099;" TargetMode="External"/><Relationship Id="rId4" Type="http://schemas.openxmlformats.org/officeDocument/2006/relationships/image" Target="../media/image16.png"/><Relationship Id="rId5" Type="http://schemas.openxmlformats.org/officeDocument/2006/relationships/hyperlink" Target="https://ru.wikipedia.org/wiki/&#1041;&#1091;&#1088;&#1103;&#1090;&#1099;" TargetMode="External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-181440" y="3499920"/>
            <a:ext cx="5040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1" name="Picture 8" descr="герб бурятии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0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" name="Picture 4" descr="р12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259488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2" name="Picture 4" descr="р16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5" name="Picture 5" descr="р1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5" descr="р2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1" name="Picture 5" descr="р3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2639520"/>
            <a:ext cx="698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Picture 6" descr="10px-Arrow_Blue_Right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06000" y="3154320"/>
            <a:ext cx="95400" cy="95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10px-Arrow_Blue_Right_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49880" y="3429000"/>
            <a:ext cx="95040" cy="95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10px-Arrow_Blue_Right_00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1000" y="3703680"/>
            <a:ext cx="95400" cy="95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улигершин"/>
          <p:cNvPicPr/>
          <p:nvPr/>
        </p:nvPicPr>
        <p:blipFill>
          <a:blip r:embed="rId7"/>
          <a:stretch/>
        </p:blipFill>
        <p:spPr>
          <a:xfrm>
            <a:off x="395280" y="404640"/>
            <a:ext cx="8412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0" name="Picture 7" descr="р4"/>
          <p:cNvPicPr/>
          <p:nvPr/>
        </p:nvPicPr>
        <p:blipFill>
          <a:blip r:embed="rId1"/>
          <a:stretch/>
        </p:blipFill>
        <p:spPr>
          <a:xfrm>
            <a:off x="250920" y="620640"/>
            <a:ext cx="8642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3068640"/>
            <a:ext cx="8424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2" name="Picture 5" descr="01f10416-244c-4a1f-9366-ada8b0dea065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5" name="Picture 5" descr="орк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8" name="Picture 5" descr="р5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" name="Picture 4" descr="р2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259488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1" name="Picture 4" descr="орк1"/>
          <p:cNvPicPr/>
          <p:nvPr/>
        </p:nvPicPr>
        <p:blipFill>
          <a:blip r:embed="rId1"/>
          <a:stretch/>
        </p:blipFill>
        <p:spPr>
          <a:xfrm>
            <a:off x="324000" y="476280"/>
            <a:ext cx="8820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51280" y="2420640"/>
            <a:ext cx="316836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Смычковый струнный инструмент – хур.</a:t>
            </a:r>
            <a:br>
              <a:rPr sz="2000"/>
            </a:b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В оркестре бурятских народных инструментов хур является ведущим инструментом. Разновидностью хура является хучир,</a:t>
            </a: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508360" y="-360"/>
            <a:ext cx="3095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4" name="Picture 5" descr="хур"/>
          <p:cNvPicPr/>
          <p:nvPr/>
        </p:nvPicPr>
        <p:blipFill>
          <a:blip r:embed="rId1"/>
          <a:srcRect l="-3539" t="-2360" r="-3539" b="-2360"/>
          <a:stretch/>
        </p:blipFill>
        <p:spPr>
          <a:xfrm>
            <a:off x="0" y="-243000"/>
            <a:ext cx="54356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р7"/>
          <p:cNvPicPr/>
          <p:nvPr/>
        </p:nvPicPr>
        <p:blipFill>
          <a:blip r:embed="rId1"/>
          <a:stretch/>
        </p:blipFill>
        <p:spPr>
          <a:xfrm>
            <a:off x="250920" y="333360"/>
            <a:ext cx="4321080" cy="540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инстхур"/>
          <p:cNvPicPr/>
          <p:nvPr/>
        </p:nvPicPr>
        <p:blipFill>
          <a:blip r:embed="rId2"/>
          <a:stretch/>
        </p:blipFill>
        <p:spPr>
          <a:xfrm>
            <a:off x="4788000" y="549360"/>
            <a:ext cx="38941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56000" y="2349360"/>
            <a:ext cx="4392720" cy="41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Чанза (шанза)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- трехструнный щипковый инструмент, имеющий своеобразный, дребезжащий тембр. В Бурятию пришел из Монголии. Одна струна - мелодическая</a:t>
            </a:r>
            <a:r>
              <a:rPr b="0" lang="ru-RU" sz="3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жильная, остальные - бурдонирующие, стальные.</a:t>
            </a:r>
            <a:r>
              <a:rPr b="0" lang="ru-RU" sz="3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8" name="Picture 6" descr="c8331ce7-9d24-4cae-a859-0df27f3e367e"/>
          <p:cNvPicPr/>
          <p:nvPr/>
        </p:nvPicPr>
        <p:blipFill>
          <a:blip r:embed="rId1"/>
          <a:stretch/>
        </p:blipFill>
        <p:spPr>
          <a:xfrm>
            <a:off x="0" y="0"/>
            <a:ext cx="428472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61c296e5-7f31-45b8-a840-d113189dad5a"/>
          <p:cNvPicPr/>
          <p:nvPr/>
        </p:nvPicPr>
        <p:blipFill>
          <a:blip r:embed="rId1"/>
          <a:stretch/>
        </p:blipFill>
        <p:spPr>
          <a:xfrm>
            <a:off x="324000" y="260280"/>
            <a:ext cx="6840360" cy="33130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324000" y="364500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68360" y="393372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Иочин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- струнный щипковый инструмент, напоминающий гусли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Этот инструмент под различными названиями и с определенными конструкторскими отличиям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И  известен у многих народов, как Востока, так и Запада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Он имеет деревянный трапециевидный корпус, на котором натянуты струны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Звук извлекается посредством удара о струны палочками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(деревянными, тростниковыми, бамбуковыми) с утолщением на концах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4365360"/>
            <a:ext cx="66978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50920" y="836640"/>
            <a:ext cx="4465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       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142920" y="4786200"/>
            <a:ext cx="856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5" name="Picture 8" descr="829342b6-dfc0-491a-aace-afd622deb09f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4005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807840" y="5319720"/>
            <a:ext cx="800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Бишхур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- деревянный духовой инструмент типа гобоя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24000" y="404280"/>
            <a:ext cx="5616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79280" y="0"/>
            <a:ext cx="507708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0" y="26028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0" name="Picture 7" descr="0bcd245d-e3b2-45f8-8e7d-21bf45f02043"/>
          <p:cNvPicPr/>
          <p:nvPr/>
        </p:nvPicPr>
        <p:blipFill>
          <a:blip r:embed="rId1"/>
          <a:stretch/>
        </p:blipFill>
        <p:spPr>
          <a:xfrm>
            <a:off x="324000" y="404640"/>
            <a:ext cx="8389800" cy="3934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808200" y="5157720"/>
            <a:ext cx="801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Сур - деревянный духовой инструмент типа продольной флейты, напоминающий по тембру лимбу, но звучащий несколько мягче. Имеет сигарообразную форму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179280" y="0"/>
            <a:ext cx="507708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4" name="Picture 7" descr="d30d5ad7-627c-4b2b-9ff4-1a365c045f8e"/>
          <p:cNvPicPr/>
          <p:nvPr/>
        </p:nvPicPr>
        <p:blipFill>
          <a:blip r:embed="rId1"/>
          <a:stretch/>
        </p:blipFill>
        <p:spPr>
          <a:xfrm>
            <a:off x="5256360" y="333360"/>
            <a:ext cx="3636720" cy="3819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d30d5ad7-627c-4b2b-9ff4-1a365c045f8e"/>
          <p:cNvPicPr/>
          <p:nvPr/>
        </p:nvPicPr>
        <p:blipFill>
          <a:blip r:embed="rId2"/>
          <a:stretch/>
        </p:blipFill>
        <p:spPr>
          <a:xfrm>
            <a:off x="324000" y="260280"/>
            <a:ext cx="3558960" cy="38926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9"/>
          <p:cNvSpPr/>
          <p:nvPr/>
        </p:nvSpPr>
        <p:spPr>
          <a:xfrm>
            <a:off x="447840" y="4797360"/>
            <a:ext cx="844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Своеобразен инструмент 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дамара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- барабан, обтянутый с одной стороны кожей,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по которой при встряхивании инструмента ударяют кожаные шарики,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прикрепленные на веревочках к корпусу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9" name="Picture 4" descr="slide_14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58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1143360" y="41428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35120" y="5013360"/>
            <a:ext cx="815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4d4d4d"/>
                </a:solidFill>
                <a:latin typeface="Arial"/>
              </a:rPr>
              <a:t>Анатолий Андреевич Андреев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вошел в историю национальной музыкальной культуры Бурятии как автор талантливых музыкальных произведений различных жанров, как автор музыки Государственного Гимна Республики Бурятия, как педагог и музыкальный организатор.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2" name="Picture 7" descr="ндр"/>
          <p:cNvPicPr/>
          <p:nvPr/>
        </p:nvPicPr>
        <p:blipFill>
          <a:blip r:embed="rId1"/>
          <a:stretch/>
        </p:blipFill>
        <p:spPr>
          <a:xfrm>
            <a:off x="4284720" y="260280"/>
            <a:ext cx="4859280" cy="49690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376200" y="2944800"/>
            <a:ext cx="369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Заслуженный деятель искусств России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Заслуженный деятель искусств Бурятии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7" name="Picture 4" descr="жилище"/>
          <p:cNvPicPr/>
          <p:nvPr/>
        </p:nvPicPr>
        <p:blipFill>
          <a:blip r:embed="rId1"/>
          <a:stretch/>
        </p:blipFill>
        <p:spPr>
          <a:xfrm>
            <a:off x="0" y="260280"/>
            <a:ext cx="8893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7280" y="26316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3300"/>
                </a:solidFill>
                <a:uFillTx/>
                <a:latin typeface="Arial"/>
              </a:rPr>
              <a:t>52a55ea909bd9e2d90726a0fff75e561.JPG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3300"/>
                </a:solidFill>
                <a:uFillTx/>
                <a:latin typeface="Arial"/>
              </a:rPr>
              <a:t>52a55ea909bd9e2d90726a0fff75e561.JPG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6" name="Picture 6" descr="016"/>
          <p:cNvPicPr/>
          <p:nvPr/>
        </p:nvPicPr>
        <p:blipFill>
          <a:blip r:embed="rId1"/>
          <a:stretch/>
        </p:blipFill>
        <p:spPr>
          <a:xfrm>
            <a:off x="539640" y="142920"/>
            <a:ext cx="9144000" cy="6715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52a55ea909bd9e2d90726a0fff75e561"/>
          <p:cNvPicPr/>
          <p:nvPr/>
        </p:nvPicPr>
        <p:blipFill>
          <a:blip r:embed="rId2"/>
          <a:stretch/>
        </p:blipFill>
        <p:spPr>
          <a:xfrm>
            <a:off x="324000" y="260280"/>
            <a:ext cx="4392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655344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d4d4d"/>
                </a:solidFill>
                <a:latin typeface="Arial"/>
              </a:rPr>
              <a:t>              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0" name="Picture 4" descr="костю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3" name="Picture 4" descr="р6"/>
          <p:cNvPicPr/>
          <p:nvPr/>
        </p:nvPicPr>
        <p:blipFill>
          <a:blip r:embed="rId1"/>
          <a:stretch/>
        </p:blipFill>
        <p:spPr>
          <a:xfrm>
            <a:off x="324000" y="476280"/>
            <a:ext cx="8820000" cy="5832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611280" y="1341360"/>
            <a:ext cx="828180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Народная бурятская музыка отражает красоту и бесконечность бескрайних бурятских степей, отображает неспешный уклад кочевой жизни народа, издавна проживающего на берегах священного озера Байкал. Бурятские народные песни протяжны и мелодичны. Народная музыка бурят создавалась в особом музыкальном ладу – ПЕНТАТОНИКЕ, состоящем   из пяти музыкальных звуков. Поэтому вы сразу узнаете её после прослушивания первых же  тактов. Как будто из глубины веков доносит она до нас аромат дымящегося у юрты во время вечерней дойки аргала, стремительность лошадиных скачек  Сурхарбана и весёлую песнь влюблённого табунщика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4" descr="р3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0" name="Picture 4" descr="р4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3" name="Picture 4" descr="р5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6" name="Picture 4" descr="р7"/>
          <p:cNvPicPr/>
          <p:nvPr/>
        </p:nvPicPr>
        <p:blipFill>
          <a:blip r:embed="rId1"/>
          <a:stretch/>
        </p:blipFill>
        <p:spPr>
          <a:xfrm>
            <a:off x="324000" y="0"/>
            <a:ext cx="8569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1:37:19Z</dcterms:created>
  <dc:creator>Elena</dc:creator>
  <dc:description/>
  <dc:language>en-US</dc:language>
  <cp:lastModifiedBy>Maria</cp:lastModifiedBy>
  <dcterms:modified xsi:type="dcterms:W3CDTF">2019-11-28T15:20:03Z</dcterms:modified>
  <cp:revision>79</cp:revision>
  <dc:subject/>
  <dc:title>Новый год</dc:title>
</cp:coreProperties>
</file>