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F06-E59D-4162-B42A-544C9441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002-86A0-4A22-B818-83C19E8B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FC5-C39C-4714-A18E-11365D54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08E-C332-4AFB-840F-DE9A4D18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3EF4-1A2D-43C3-919E-7A6D56B6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F92F-0C7A-420A-BCE9-A5F5F93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A807-4E8B-4935-BEE0-63C9CEC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CFEB-78B9-4C39-A3CA-F237F30D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8883-45FB-4F40-98A4-F0BC86FF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E31-88FB-48DF-B694-1A83E7C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4D68-931B-402E-A3AA-FB33337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AA3-B36F-409D-AE07-486BA85C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8397-9263-4F5D-9A6A-F63ED9F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588B-6A17-4B02-838D-CFCC0D6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6D97-5C34-4E69-8B7D-316E847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5C36-FD90-423C-936B-8079FA88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FF2-6FA4-4C91-8F68-8C18DD50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AD92-9663-46E3-9750-FB4D3F6B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FF1E-D542-4C87-978F-BF81968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C4FE-D373-4ED9-9FAB-A481D72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2D43-A6CF-4BF1-90B0-C30A769C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2E79-166C-4358-9719-3B79E6C0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6EF-C9E6-4EE0-AD02-BD72300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F3D7-50A5-46E2-9EF6-73A46F6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2225-E244-4C44-B234-559AFCF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3E55-8B99-4FBF-BDCC-A4F2194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6327-05A5-4F5B-8908-E9E4717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FC14-A7CF-4A31-92C5-3703E73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0BBA-C1C9-4F93-A4D4-B6E90BC7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23C3-3F5A-4F9D-B5F9-C1109164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125C-8177-40FC-8A9A-B8971814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C2E9-D51F-4F3E-BC42-8FA9E73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1CFA-3B9A-4C1A-BC5C-671E98A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FB6-2277-4C09-8D53-FC21B17B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9AA4-E9E6-427E-8C5B-DA4E573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C756-631D-418A-8D7A-65B92487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989A-48FA-4E22-AA8B-6FA879F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E922-362B-41F5-BFBB-4423838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CD06-C7B5-4BD0-903F-C2D5C6D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ACB79-9FC5-45D1-AE87-71368E7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886D-69B8-4650-ABE2-4A8B4173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3A15-D42B-4A0D-AFFA-91E0A434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5446-7999-4FC3-92F9-4D0EAF31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7BE-1E74-4E55-964A-4ABAF3A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7F5-FDA2-4904-9250-9C4B2DFA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D7F-6BC0-4196-AF36-D2718F5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6DC-44DD-4C19-AB6B-F2A8079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6AB-7DD1-4C42-A9DC-7827C60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7C9-E5EE-45CA-8218-1704F35B0B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5C70-4376-488D-A4B6-95BC73EF89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401-2C13-4D98-9630-2F499A42EA3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DDB-194C-47F7-A9B4-4F81E50A3D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5" descr=""/>
          <p:cNvPicPr/>
          <p:nvPr/>
        </p:nvPicPr>
        <p:blipFill>
          <a:blip r:embed="rId1"/>
          <a:stretch/>
        </p:blipFill>
        <p:spPr>
          <a:xfrm>
            <a:off x="457200" y="1871640"/>
            <a:ext cx="8369280" cy="445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Users\user\Desktop\Новая папка\DSC_0106.jpg"/>
          <p:cNvPicPr/>
          <p:nvPr/>
        </p:nvPicPr>
        <p:blipFill>
          <a:blip r:embed="rId1"/>
          <a:stretch/>
        </p:blipFill>
        <p:spPr>
          <a:xfrm>
            <a:off x="1116000" y="907920"/>
            <a:ext cx="2046240" cy="1677960"/>
          </a:xfrm>
          <a:prstGeom prst="rect">
            <a:avLst/>
          </a:prstGeom>
          <a:ln w="9360">
            <a:solidFill>
              <a:srgbClr val="0f6fc6"/>
            </a:solidFill>
            <a:prstDash val="dashDot"/>
            <a:miter/>
          </a:ln>
        </p:spPr>
      </p:pic>
      <p:pic>
        <p:nvPicPr>
          <p:cNvPr id="231" name="Picture 6" descr="C:\Users\user\Desktop\Новая папка\DSC_0113.jpg"/>
          <p:cNvPicPr/>
          <p:nvPr/>
        </p:nvPicPr>
        <p:blipFill>
          <a:blip r:embed="rId2"/>
          <a:stretch/>
        </p:blipFill>
        <p:spPr>
          <a:xfrm>
            <a:off x="2987640" y="333360"/>
            <a:ext cx="2687760" cy="1819440"/>
          </a:xfrm>
          <a:prstGeom prst="rect">
            <a:avLst/>
          </a:prstGeom>
          <a:ln w="9360">
            <a:solidFill>
              <a:srgbClr val="0f6fc6"/>
            </a:solidFill>
            <a:prstDash val="dash"/>
            <a:miter/>
          </a:ln>
        </p:spPr>
      </p:pic>
      <p:pic>
        <p:nvPicPr>
          <p:cNvPr id="232" name="Picture 7" descr="C:\Users\user\Desktop\Новая папка\DSC_0118.jpg"/>
          <p:cNvPicPr/>
          <p:nvPr/>
        </p:nvPicPr>
        <p:blipFill>
          <a:blip r:embed="rId3"/>
          <a:stretch/>
        </p:blipFill>
        <p:spPr>
          <a:xfrm>
            <a:off x="5651640" y="765000"/>
            <a:ext cx="2520720" cy="1989360"/>
          </a:xfrm>
          <a:prstGeom prst="rect">
            <a:avLst/>
          </a:prstGeom>
          <a:ln w="9360">
            <a:solidFill>
              <a:srgbClr val="0f6fc6"/>
            </a:solidFill>
            <a:prstDash val="sysDash"/>
            <a:miter/>
          </a:ln>
        </p:spPr>
      </p:pic>
      <p:pic>
        <p:nvPicPr>
          <p:cNvPr id="233" name="Picture 8" descr="C:\Users\user\Desktop\Новая папка\DSC_0102.jpg"/>
          <p:cNvPicPr/>
          <p:nvPr/>
        </p:nvPicPr>
        <p:blipFill>
          <a:blip r:embed="rId4"/>
          <a:stretch/>
        </p:blipFill>
        <p:spPr>
          <a:xfrm>
            <a:off x="6588000" y="2565360"/>
            <a:ext cx="2341800" cy="1758960"/>
          </a:xfrm>
          <a:prstGeom prst="rect">
            <a:avLst/>
          </a:prstGeom>
          <a:ln w="9360">
            <a:solidFill>
              <a:srgbClr val="0b5395"/>
            </a:solidFill>
            <a:prstDash val="dashDot"/>
            <a:miter/>
          </a:ln>
        </p:spPr>
      </p:pic>
      <p:pic>
        <p:nvPicPr>
          <p:cNvPr id="234" name="Picture 6" descr="C:\Users\user\Desktop\DSC00008.JPG"/>
          <p:cNvPicPr/>
          <p:nvPr/>
        </p:nvPicPr>
        <p:blipFill>
          <a:blip r:embed="rId5"/>
          <a:stretch/>
        </p:blipFill>
        <p:spPr>
          <a:xfrm>
            <a:off x="250920" y="2571840"/>
            <a:ext cx="4681440" cy="3529080"/>
          </a:xfrm>
          <a:prstGeom prst="rect">
            <a:avLst/>
          </a:prstGeom>
          <a:ln w="9360">
            <a:solidFill>
              <a:srgbClr val="0b5395"/>
            </a:solidFill>
            <a:prstDash val="sysDash"/>
            <a:miter/>
          </a:ln>
        </p:spPr>
      </p:pic>
      <p:pic>
        <p:nvPicPr>
          <p:cNvPr id="235" name="Picture 6" descr="C:\Documents and Settings\Варя\Рабочий стол\IMG_1828.JPG"/>
          <p:cNvPicPr/>
          <p:nvPr/>
        </p:nvPicPr>
        <p:blipFill>
          <a:blip r:embed="rId6"/>
          <a:stretch/>
        </p:blipFill>
        <p:spPr>
          <a:xfrm>
            <a:off x="5148360" y="4149720"/>
            <a:ext cx="2541600" cy="1905120"/>
          </a:xfrm>
          <a:prstGeom prst="rect">
            <a:avLst/>
          </a:prstGeom>
          <a:ln w="9360">
            <a:solidFill>
              <a:srgbClr val="0f6fc6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1"/>
          <p:cNvSpPr/>
          <p:nvPr/>
        </p:nvSpPr>
        <p:spPr>
          <a:xfrm>
            <a:off x="5357880" y="3071880"/>
            <a:ext cx="352440" cy="2444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5357880" y="3500280"/>
            <a:ext cx="350640" cy="244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2"/>
          <p:cNvSpPr/>
          <p:nvPr/>
        </p:nvSpPr>
        <p:spPr>
          <a:xfrm>
            <a:off x="5857920" y="3071880"/>
            <a:ext cx="2714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до проведения рабо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дзаголовок 2"/>
          <p:cNvSpPr/>
          <p:nvPr/>
        </p:nvSpPr>
        <p:spPr>
          <a:xfrm>
            <a:off x="5857920" y="3500280"/>
            <a:ext cx="3003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 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после проведения рабо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27"/>
          <p:cNvSpPr txBox="1"/>
          <p:nvPr/>
        </p:nvSpPr>
        <p:spPr>
          <a:xfrm>
            <a:off x="971640" y="214200"/>
            <a:ext cx="73404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cxnSp>
        <p:nvCxnSpPr>
          <p:cNvPr id="241" name="Прямая со стрелкой 33"/>
          <p:cNvCxnSpPr/>
          <p:nvPr/>
        </p:nvCxnSpPr>
        <p:spPr>
          <a:xfrm flipV="1">
            <a:off x="356040" y="1713960"/>
            <a:ext cx="1080" cy="321516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WordArt 27"/>
          <p:cNvSpPr txBox="1"/>
          <p:nvPr/>
        </p:nvSpPr>
        <p:spPr>
          <a:xfrm>
            <a:off x="571680" y="1000080"/>
            <a:ext cx="80262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cxnSp>
        <p:nvCxnSpPr>
          <p:cNvPr id="243" name="Прямая со стрелкой 126"/>
          <p:cNvCxnSpPr/>
          <p:nvPr/>
        </p:nvCxnSpPr>
        <p:spPr>
          <a:xfrm flipV="1">
            <a:off x="356760" y="4928400"/>
            <a:ext cx="5001480" cy="108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Прямоугольник 131"/>
          <p:cNvSpPr/>
          <p:nvPr/>
        </p:nvSpPr>
        <p:spPr>
          <a:xfrm>
            <a:off x="1042920" y="4221000"/>
            <a:ext cx="500040" cy="64296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32"/>
          <p:cNvSpPr/>
          <p:nvPr/>
        </p:nvSpPr>
        <p:spPr>
          <a:xfrm>
            <a:off x="1571760" y="2643120"/>
            <a:ext cx="500040" cy="228600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33"/>
          <p:cNvSpPr/>
          <p:nvPr/>
        </p:nvSpPr>
        <p:spPr>
          <a:xfrm>
            <a:off x="2428920" y="4000680"/>
            <a:ext cx="500040" cy="92844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34"/>
          <p:cNvSpPr/>
          <p:nvPr/>
        </p:nvSpPr>
        <p:spPr>
          <a:xfrm>
            <a:off x="2928960" y="2928960"/>
            <a:ext cx="500040" cy="200016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35"/>
          <p:cNvSpPr/>
          <p:nvPr/>
        </p:nvSpPr>
        <p:spPr>
          <a:xfrm>
            <a:off x="3786120" y="4143240"/>
            <a:ext cx="500040" cy="785880"/>
          </a:xfrm>
          <a:prstGeom prst="rect">
            <a:avLst/>
          </a:prstGeom>
          <a:solidFill>
            <a:srgbClr val="ffff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36"/>
          <p:cNvSpPr/>
          <p:nvPr/>
        </p:nvSpPr>
        <p:spPr>
          <a:xfrm>
            <a:off x="4286160" y="2857680"/>
            <a:ext cx="500040" cy="2071440"/>
          </a:xfrm>
          <a:prstGeom prst="rect">
            <a:avLst/>
          </a:prstGeom>
          <a:solidFill>
            <a:srgbClr val="ff0000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37"/>
          <p:cNvSpPr/>
          <p:nvPr/>
        </p:nvSpPr>
        <p:spPr>
          <a:xfrm>
            <a:off x="1000080" y="400068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8"/>
          <p:cNvSpPr/>
          <p:nvPr/>
        </p:nvSpPr>
        <p:spPr>
          <a:xfrm>
            <a:off x="1500120" y="235728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9"/>
          <p:cNvSpPr/>
          <p:nvPr/>
        </p:nvSpPr>
        <p:spPr>
          <a:xfrm>
            <a:off x="2357280" y="364320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0"/>
          <p:cNvSpPr/>
          <p:nvPr/>
        </p:nvSpPr>
        <p:spPr>
          <a:xfrm>
            <a:off x="2928960" y="257184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41"/>
          <p:cNvSpPr/>
          <p:nvPr/>
        </p:nvSpPr>
        <p:spPr>
          <a:xfrm>
            <a:off x="3786120" y="3786120"/>
            <a:ext cx="571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42"/>
          <p:cNvSpPr/>
          <p:nvPr/>
        </p:nvSpPr>
        <p:spPr>
          <a:xfrm>
            <a:off x="4286160" y="2500200"/>
            <a:ext cx="571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дзаголовок 2"/>
          <p:cNvSpPr/>
          <p:nvPr/>
        </p:nvSpPr>
        <p:spPr>
          <a:xfrm>
            <a:off x="428760" y="5715000"/>
            <a:ext cx="7643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  <a:ea typeface="Courier New"/>
              </a:rPr>
              <a:t>Уровни освоения взя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  <a:ea typeface="Courier New"/>
              </a:rPr>
              <a:t>«Детство». Программа  развития и воспитания детей в детском са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дзаголовок 2"/>
          <p:cNvSpPr/>
          <p:nvPr/>
        </p:nvSpPr>
        <p:spPr>
          <a:xfrm>
            <a:off x="928800" y="5000760"/>
            <a:ext cx="1214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b050"/>
                </a:solidFill>
                <a:latin typeface="Arial Black"/>
                <a:ea typeface="Courier New"/>
              </a:rPr>
              <a:t>сравн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2286000" y="5000760"/>
            <a:ext cx="1285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  <a:ea typeface="Courier New"/>
              </a:rPr>
              <a:t>обобщ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одзаголовок 2"/>
          <p:cNvSpPr/>
          <p:nvPr/>
        </p:nvSpPr>
        <p:spPr>
          <a:xfrm>
            <a:off x="3571920" y="500076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c00cc"/>
                </a:solidFill>
                <a:latin typeface="Arial Black"/>
                <a:ea typeface="Courier New"/>
              </a:rPr>
              <a:t>классифик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езультативность профессиональной педагогической деятель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41264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% соотношение детей с положительной динамикой по парамет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Транслируемость практических достижений профессиональной деятельности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95280" y="1341360"/>
          <a:ext cx="8291520" cy="486108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уницип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гиональный 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13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общение на педсовете «Логические блоки Дьенеша – универсальный дидактический матери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крытый показ занятия  на «Дне открытых двер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 открытого занятия  по использованию блоков Дьенеша на Г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интернет-издан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i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убликации  в интернет-издан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i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9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2484360" y="3716280"/>
            <a:ext cx="3436920" cy="216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документы\Мои документы\Аттестация педагогов\Зотеева ИВ\портфолио\Безымянный2.png"/>
          <p:cNvPicPr/>
          <p:nvPr/>
        </p:nvPicPr>
        <p:blipFill>
          <a:blip r:embed="rId2"/>
          <a:stretch/>
        </p:blipFill>
        <p:spPr>
          <a:xfrm>
            <a:off x="7451640" y="4941720"/>
            <a:ext cx="1239840" cy="1741680"/>
          </a:xfrm>
          <a:prstGeom prst="rect">
            <a:avLst/>
          </a:prstGeom>
          <a:ln w="0">
            <a:noFill/>
          </a:ln>
        </p:spPr>
      </p:pic>
      <p:sp>
        <p:nvSpPr>
          <p:cNvPr id="266" name="Скругленный прямоугольник 7"/>
          <p:cNvSpPr/>
          <p:nvPr/>
        </p:nvSpPr>
        <p:spPr>
          <a:xfrm>
            <a:off x="6012000" y="3789360"/>
            <a:ext cx="2663640" cy="1079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58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64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numi.ru/docs/60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8"/>
          <p:cNvSpPr/>
          <p:nvPr/>
        </p:nvSpPr>
        <p:spPr>
          <a:xfrm>
            <a:off x="6012000" y="2133720"/>
            <a:ext cx="2447640" cy="287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чная страни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D:\документы\Мои документы\Аттестация педагогов\Зотеева ИВ\портфолио\Безымянный.png"/>
          <p:cNvPicPr/>
          <p:nvPr/>
        </p:nvPicPr>
        <p:blipFill>
          <a:blip r:embed="rId3"/>
          <a:stretch/>
        </p:blipFill>
        <p:spPr>
          <a:xfrm>
            <a:off x="5651640" y="4941720"/>
            <a:ext cx="1455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395280" y="4724280"/>
            <a:ext cx="8209080" cy="1008360"/>
          </a:xfrm>
          <a:prstGeom prst="rect">
            <a:avLst/>
          </a:prstGeom>
          <a:solidFill>
            <a:srgbClr val="0f6fc6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.А.Михайлова, Э.Н. Иоффе«Математика от трех до семи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.А.Смоленцева, О.В.Пустовойт«Математика до школы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Е.А.Носова, Р.Л.Непомнящая.«Логика и математика для дошкольников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.А.Михайлова«Игровые задачи для дошкольников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.П. Никитин«Ступеньки творчества или развивающие игры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етство» Программа развития и воспитания детей в детском саду Методические советы по использованию дидактических игр с блоками Дьенеша и логическими фигурами. – СПб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ихайлова З.А., Чеплашкина И.Н. Математика - это интересно. Игровые ситуации для детей дошкольного возраста.  Методическое пособие для педагогов ДОУ. СПб: «Детство –Пресс», 2006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ая система игровых занятий с блоками Дьенеш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s://ru.wikipedia.org/wiki/Дьенеш,_Золтан_Па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Заголовок 1"/>
          <p:cNvSpPr/>
          <p:nvPr/>
        </p:nvSpPr>
        <p:spPr>
          <a:xfrm>
            <a:off x="714240" y="0"/>
            <a:ext cx="7772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дзаголовок 2"/>
          <p:cNvSpPr/>
          <p:nvPr/>
        </p:nvSpPr>
        <p:spPr>
          <a:xfrm>
            <a:off x="5572080" y="4929120"/>
            <a:ext cx="3571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дзаголовок 2"/>
          <p:cNvSpPr/>
          <p:nvPr/>
        </p:nvSpPr>
        <p:spPr>
          <a:xfrm>
            <a:off x="3357720" y="6143760"/>
            <a:ext cx="25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5"/>
          <p:cNvSpPr txBox="1"/>
          <p:nvPr/>
        </p:nvSpPr>
        <p:spPr>
          <a:xfrm rot="360600">
            <a:off x="606600" y="4789440"/>
            <a:ext cx="785160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ff0000"/>
                </a:solidFill>
                <a:latin typeface="ShellyAllegroC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b0f0"/>
                </a:solidFill>
                <a:miter/>
              </a:ln>
              <a:solidFill>
                <a:srgbClr val="ff0000"/>
              </a:solidFill>
              <a:latin typeface="ShellyAllegroC"/>
              <a:ea typeface="ShellyAllegro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Условия формирования личного вклада в развитие образования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C:\Users\user\Desktop\fgos.jpg"/>
          <p:cNvPicPr/>
          <p:nvPr/>
        </p:nvPicPr>
        <p:blipFill>
          <a:blip r:embed="rId1"/>
          <a:stretch/>
        </p:blipFill>
        <p:spPr>
          <a:xfrm>
            <a:off x="539640" y="1773360"/>
            <a:ext cx="2087640" cy="1368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нципы дошкольного образован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знавательных интересов и познавательных действий ребенка в различ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ая адекватность  (соответствие условий, требований, методов возрасту и особенностям развит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на этапе завершения дошкольного образован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проявляет любознательность, интересуется причинно – следственными связями,…обладает элементарными представлениями из области математики и т. п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Актуальность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619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3200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ая сформированность представлений у детей о математических свойствах и закономерностях; неумение применять знания в решении проблемных и практических задач, в установлении логических связей и закономерност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32000">
              <a:lnSpc>
                <a:spcPct val="13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ость занятий по математическому развитию (1 раз в неделю), на которых в большой мере присутствуют элементы логики, должна компенсироваться в повседневной игровой деятельн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432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C:\Users\user\Desktop\depositphotos_9442678-Little-puzzled-child-with-color-pen-over-white.jpg"/>
          <p:cNvPicPr/>
          <p:nvPr/>
        </p:nvPicPr>
        <p:blipFill>
          <a:blip r:embed="rId1"/>
          <a:stretch/>
        </p:blipFill>
        <p:spPr>
          <a:xfrm>
            <a:off x="5923080" y="2276640"/>
            <a:ext cx="22539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Теоретическое обоснование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user\Desktop\HonDoc-7719.jpg"/>
          <p:cNvPicPr/>
          <p:nvPr/>
        </p:nvPicPr>
        <p:blipFill>
          <a:blip r:embed="rId1"/>
          <a:stretch/>
        </p:blipFill>
        <p:spPr>
          <a:xfrm>
            <a:off x="539640" y="1844640"/>
            <a:ext cx="1395360" cy="2100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648320" y="1920600"/>
            <a:ext cx="41004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.С. Выгот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.В. Запорожец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.Б. Элькон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.А. Подгорецк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.М. Фридм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.А. Михайлова и д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324000" y="4076640"/>
            <a:ext cx="431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тан Пал Дьене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 1916-2014) — венгерский математик, психолог и педагог, профессор Шербрукского университета. Автор игрового подхода к развитию детей, идея которого заключается в освоении детьми математики посредством увлекательных логических игр, песен и танце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D:\документы\Мои документы\Аттестация педагогов\Зотеева ИВ\bloki_denesha.jpg"/>
          <p:cNvPicPr/>
          <p:nvPr/>
        </p:nvPicPr>
        <p:blipFill>
          <a:blip r:embed="rId2"/>
          <a:stretch/>
        </p:blipFill>
        <p:spPr>
          <a:xfrm>
            <a:off x="4716360" y="4724280"/>
            <a:ext cx="21211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Цель и задачи педагогической деятельнос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здание педагогических условий для повышения уровня мыслительных операций, интеллектуальных возможностей детей, посредством  игровой НОД с использованием блоков Дьенеш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овать формированию начальных предматематических способностей детей: умению сравнивать, группировать, классифицирова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овать формированию начальных представлений у детей дошкольного возраста о символиз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и внедрение перспективного планирования (по возрастам) по использованию блоков Дьенеша для развития логического мышления у дошкольник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 пополнение предметно – пространственной развивающей среды групп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е развитию педагогической грамотности родителей в области использования логических блоков Дьене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едущая педагогическая иде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2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8" descr="C:\Documents and Settings\Варя\Рабочий стол\36.JPG"/>
          <p:cNvPicPr/>
          <p:nvPr/>
        </p:nvPicPr>
        <p:blipFill>
          <a:blip r:embed="rId1"/>
          <a:stretch/>
        </p:blipFill>
        <p:spPr>
          <a:xfrm>
            <a:off x="1692360" y="4869000"/>
            <a:ext cx="1584360" cy="1755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C:\Documents and Settings\Варя\Рабочий стол\31.JPG"/>
          <p:cNvPicPr/>
          <p:nvPr/>
        </p:nvPicPr>
        <p:blipFill>
          <a:blip r:embed="rId2"/>
          <a:stretch/>
        </p:blipFill>
        <p:spPr>
          <a:xfrm>
            <a:off x="4284720" y="5157720"/>
            <a:ext cx="2030400" cy="15224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5"/>
          <p:cNvSpPr txBox="1"/>
          <p:nvPr/>
        </p:nvSpPr>
        <p:spPr>
          <a:xfrm>
            <a:off x="500040" y="214200"/>
            <a:ext cx="828684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ff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99ff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  <p:sp>
        <p:nvSpPr>
          <p:cNvPr id="215" name="Подзаголовок 2"/>
          <p:cNvSpPr/>
          <p:nvPr/>
        </p:nvSpPr>
        <p:spPr>
          <a:xfrm>
            <a:off x="214200" y="1857240"/>
            <a:ext cx="3000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 Black"/>
              </a:rPr>
              <a:t>I </a:t>
            </a: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эта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одготовитель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теоретической ч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ответствующей развивающей предметно – пространственной 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спективный 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2"/>
          <p:cNvSpPr/>
          <p:nvPr/>
        </p:nvSpPr>
        <p:spPr>
          <a:xfrm>
            <a:off x="3214800" y="1785960"/>
            <a:ext cx="285732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II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 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Прак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овместная деятельность вне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амостоятельная 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Изменения в РП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Взаимодействие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21"/>
          <p:cNvSpPr/>
          <p:nvPr/>
        </p:nvSpPr>
        <p:spPr>
          <a:xfrm rot="5400000">
            <a:off x="1464120" y="12499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22"/>
          <p:cNvSpPr/>
          <p:nvPr/>
        </p:nvSpPr>
        <p:spPr>
          <a:xfrm rot="5400000">
            <a:off x="7143480" y="13572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6286680" y="1714680"/>
            <a:ext cx="264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 Black"/>
              </a:rPr>
              <a:t>III</a:t>
            </a:r>
            <a:r>
              <a:rPr b="1" lang="ru-RU" sz="2000" spc="-1" strike="noStrike">
                <a:solidFill>
                  <a:srgbClr val="cc00cc"/>
                </a:solidFill>
                <a:latin typeface="Arial Black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 Black"/>
              </a:rPr>
              <a:t>Результа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право 24"/>
          <p:cNvSpPr/>
          <p:nvPr/>
        </p:nvSpPr>
        <p:spPr>
          <a:xfrm rot="5400000">
            <a:off x="4464720" y="13215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21b2c9"/>
          </a:solidFill>
          <a:ln w="478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Documents and Settings\Варя\Рабочий стол\30.JPG"/>
          <p:cNvPicPr/>
          <p:nvPr/>
        </p:nvPicPr>
        <p:blipFill>
          <a:blip r:embed="rId3"/>
          <a:stretch/>
        </p:blipFill>
        <p:spPr>
          <a:xfrm>
            <a:off x="7215120" y="4143240"/>
            <a:ext cx="1682640" cy="2244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еятельностный аспект личного вклада в развитие образо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заимодействие с родителя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Консультации (групповые, индивидуальные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убликации консультаций для родителей на личной страничке в сети Интерн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День открытых двер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6" descr="C:\Users\user\Desktop\Новая папка\DSC_0157.jpg"/>
          <p:cNvPicPr/>
          <p:nvPr/>
        </p:nvPicPr>
        <p:blipFill>
          <a:blip r:embed="rId1"/>
          <a:stretch/>
        </p:blipFill>
        <p:spPr>
          <a:xfrm>
            <a:off x="4716360" y="2276640"/>
            <a:ext cx="3524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85840" y="0"/>
            <a:ext cx="85723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99ff"/>
                  </a:solidFill>
                  <a:miter/>
                </a:ln>
                <a:solidFill>
                  <a:srgbClr val="00b0f0"/>
                </a:solidFill>
                <a:latin typeface="Arial Black"/>
              </a:rPr>
              <a:t> </a:t>
            </a:r>
            <a:endParaRPr b="0" lang="en-US" sz="1800" spc="1" strike="noStrike">
              <a:ln w="25560">
                <a:solidFill>
                  <a:srgbClr val="ff99ff"/>
                </a:solidFill>
                <a:miter/>
              </a:ln>
              <a:solidFill>
                <a:srgbClr val="00b0f0"/>
              </a:solidFill>
              <a:latin typeface="Arial Black"/>
              <a:ea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Диапазон личного вклада в развитие образования  и степень его новизн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41264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Разработано и внедре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ла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ля младшей, средней и старшей групп с использованием нетрадиционного дидактического материала «Блоки Дьенеша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Разработана серия занятий «Веселые человечки», «Винни-Пух и друзья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Составлена картотека дидактических игр с использованием блоков Дьенеш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В группе создана игротека  развивающих игр («Танграм», «Колумбово яйцо»,«Вьетнамская игра», «Пентамино» и мн.др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Созданы и  используются при проведении НОД мультимедийные презентации «Веселые человечки идут в гости», «Веселые человечки ищут клад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6" descr="C:\Users\user\Desktop\Новая папка\DSC_0115.jpg"/>
          <p:cNvPicPr/>
          <p:nvPr/>
        </p:nvPicPr>
        <p:blipFill>
          <a:blip r:embed="rId1"/>
          <a:stretch/>
        </p:blipFill>
        <p:spPr>
          <a:xfrm>
            <a:off x="4716360" y="5084640"/>
            <a:ext cx="20383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6:30:53Z</dcterms:created>
  <dc:creator>ДИКТ</dc:creator>
  <dc:description/>
  <dc:language>en-US</dc:language>
  <cp:lastModifiedBy>дс 143</cp:lastModifiedBy>
  <dcterms:modified xsi:type="dcterms:W3CDTF">2019-11-28T09:18:27Z</dcterms:modified>
  <cp:revision>223</cp:revision>
  <dc:subject/>
  <dc:title>Методическая разработка по программе развития и воспитания детей в детском саду «Детство»,  под редакцией Т.И.Бабаевой, З.А.Михайловой, Л.М.Гурович</dc:title>
</cp:coreProperties>
</file>