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887-79A2-429B-A25D-E39376EB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B19-D812-49C9-A0F6-635BEE57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030-EA32-4788-9236-7B1459CB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88E-F453-4396-B606-801604C6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B6F8-BF1F-4718-A704-44CD876D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EAA-BE51-4CED-A9A7-593AD61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57D2-4E89-4F0C-824E-D5FF99D2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B84D-EFB5-48C3-9165-0318AAB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1216-0FBC-4099-87FA-F49F32F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AE3D-831E-4581-A5A9-17D5DC5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638-12DA-44E8-B0EE-05BF464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BF1-44EB-41AB-A621-465E70C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AAC-0DC0-4E10-B40D-1BF9888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4F72-717E-48E5-B26E-1BE5B80E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A60-6BD5-45DF-B885-E384437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084-3DF9-43C1-BD3B-0EE54A55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135-7656-40DE-B8F1-4E588127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6E68-280D-4AD6-BCD6-BB937C05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6BC2-C137-4B01-9012-879E4E8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EB16-E787-439F-A363-CF608B13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EAD5-9D21-462F-92F7-EA31928D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B86F-738F-4C16-9883-1D3DAACA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019-449E-469C-BF97-7118AAD2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BA6B-7FE0-4600-BC75-A6F5F2C4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1644-3036-4FDB-B15C-EB883C44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6F30-D67B-448F-9346-7782445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4BCD-E046-4394-AB65-F3857AB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CFDA-A85E-430E-8EFB-B8CF764D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6EA6-B839-4CBE-90A5-053E084A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8625-EC83-4F53-A956-3C584297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F77A-FD15-4BE4-A289-B8E3BCE7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84F9-0E54-459A-859E-3528EAF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24BD-4FBF-4AB5-A97A-E9211E59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6DB-2B4A-43ED-97F2-C858434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4821-F42A-4730-90AA-C3013897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2B5C-6332-408D-9640-A547D47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7F10-074D-4B8F-A140-80F67E36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2DAF-88A4-4B5A-A0DE-39C4440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5A34-CF98-4B0C-B014-909D27F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C1AA-8B8E-494F-8DFB-83EAA94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2B82-EC60-4207-80EE-57811FED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87BB-9774-4759-B96A-F726EE50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A0D3-1878-4152-AD46-9C22BC71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97A-A88C-46FD-82F7-9F58E2DA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799-1C17-43D0-9B25-E066BB8E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B4B-D0FC-42BE-8B71-81665A2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E7A-0DAF-4017-97D1-AB1E367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161-4AF8-41E6-8BCB-0AB8C49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A1E-CFFC-4C44-8595-3F4CC066A6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A02-1E89-46BA-97C0-4C318DDD05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F00-711A-4349-A1AA-718D9B5965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5A21-D49E-456E-8B6C-1791124D7C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5" descr=""/>
          <p:cNvPicPr/>
          <p:nvPr/>
        </p:nvPicPr>
        <p:blipFill>
          <a:blip r:embed="rId1"/>
          <a:stretch/>
        </p:blipFill>
        <p:spPr>
          <a:xfrm>
            <a:off x="457200" y="1871640"/>
            <a:ext cx="8369280" cy="445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Users\user\Desktop\Новая папка\DSC_0106.jpg"/>
          <p:cNvPicPr/>
          <p:nvPr/>
        </p:nvPicPr>
        <p:blipFill>
          <a:blip r:embed="rId1"/>
          <a:stretch/>
        </p:blipFill>
        <p:spPr>
          <a:xfrm>
            <a:off x="1116000" y="907920"/>
            <a:ext cx="2046240" cy="1677960"/>
          </a:xfrm>
          <a:prstGeom prst="rect">
            <a:avLst/>
          </a:prstGeom>
          <a:ln w="9360">
            <a:solidFill>
              <a:srgbClr val="0f6fc6"/>
            </a:solidFill>
            <a:prstDash val="dashDot"/>
            <a:miter/>
          </a:ln>
        </p:spPr>
      </p:pic>
      <p:pic>
        <p:nvPicPr>
          <p:cNvPr id="231" name="Picture 6" descr="C:\Users\user\Desktop\Новая папка\DSC_0113.jpg"/>
          <p:cNvPicPr/>
          <p:nvPr/>
        </p:nvPicPr>
        <p:blipFill>
          <a:blip r:embed="rId2"/>
          <a:stretch/>
        </p:blipFill>
        <p:spPr>
          <a:xfrm>
            <a:off x="2987640" y="333360"/>
            <a:ext cx="2687760" cy="1819440"/>
          </a:xfrm>
          <a:prstGeom prst="rect">
            <a:avLst/>
          </a:prstGeom>
          <a:ln w="9360">
            <a:solidFill>
              <a:srgbClr val="0f6fc6"/>
            </a:solidFill>
            <a:prstDash val="dash"/>
            <a:miter/>
          </a:ln>
        </p:spPr>
      </p:pic>
      <p:pic>
        <p:nvPicPr>
          <p:cNvPr id="232" name="Picture 7" descr="C:\Users\user\Desktop\Новая папка\DSC_0118.jpg"/>
          <p:cNvPicPr/>
          <p:nvPr/>
        </p:nvPicPr>
        <p:blipFill>
          <a:blip r:embed="rId3"/>
          <a:stretch/>
        </p:blipFill>
        <p:spPr>
          <a:xfrm>
            <a:off x="5651640" y="765000"/>
            <a:ext cx="2520720" cy="1989360"/>
          </a:xfrm>
          <a:prstGeom prst="rect">
            <a:avLst/>
          </a:prstGeom>
          <a:ln w="9360">
            <a:solidFill>
              <a:srgbClr val="0f6fc6"/>
            </a:solidFill>
            <a:prstDash val="sysDash"/>
            <a:miter/>
          </a:ln>
        </p:spPr>
      </p:pic>
      <p:pic>
        <p:nvPicPr>
          <p:cNvPr id="233" name="Picture 8" descr="C:\Users\user\Desktop\Новая папка\DSC_0102.jpg"/>
          <p:cNvPicPr/>
          <p:nvPr/>
        </p:nvPicPr>
        <p:blipFill>
          <a:blip r:embed="rId4"/>
          <a:stretch/>
        </p:blipFill>
        <p:spPr>
          <a:xfrm>
            <a:off x="6588000" y="2565360"/>
            <a:ext cx="2341800" cy="1758960"/>
          </a:xfrm>
          <a:prstGeom prst="rect">
            <a:avLst/>
          </a:prstGeom>
          <a:ln w="9360">
            <a:solidFill>
              <a:srgbClr val="0b5395"/>
            </a:solidFill>
            <a:prstDash val="dashDot"/>
            <a:miter/>
          </a:ln>
        </p:spPr>
      </p:pic>
      <p:pic>
        <p:nvPicPr>
          <p:cNvPr id="234" name="Picture 6" descr="C:\Users\user\Desktop\DSC00008.JPG"/>
          <p:cNvPicPr/>
          <p:nvPr/>
        </p:nvPicPr>
        <p:blipFill>
          <a:blip r:embed="rId5"/>
          <a:stretch/>
        </p:blipFill>
        <p:spPr>
          <a:xfrm>
            <a:off x="250920" y="2571840"/>
            <a:ext cx="4681440" cy="3529080"/>
          </a:xfrm>
          <a:prstGeom prst="rect">
            <a:avLst/>
          </a:prstGeom>
          <a:ln w="9360">
            <a:solidFill>
              <a:srgbClr val="0b5395"/>
            </a:solidFill>
            <a:prstDash val="sysDash"/>
            <a:miter/>
          </a:ln>
        </p:spPr>
      </p:pic>
      <p:pic>
        <p:nvPicPr>
          <p:cNvPr id="235" name="Picture 6" descr="C:\Documents and Settings\Варя\Рабочий стол\IMG_1828.JPG"/>
          <p:cNvPicPr/>
          <p:nvPr/>
        </p:nvPicPr>
        <p:blipFill>
          <a:blip r:embed="rId6"/>
          <a:stretch/>
        </p:blipFill>
        <p:spPr>
          <a:xfrm>
            <a:off x="5148360" y="4149720"/>
            <a:ext cx="2541600" cy="1905120"/>
          </a:xfrm>
          <a:prstGeom prst="rect">
            <a:avLst/>
          </a:prstGeom>
          <a:ln w="9360">
            <a:solidFill>
              <a:srgbClr val="0f6fc6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1"/>
          <p:cNvSpPr/>
          <p:nvPr/>
        </p:nvSpPr>
        <p:spPr>
          <a:xfrm>
            <a:off x="5357880" y="3071880"/>
            <a:ext cx="352440" cy="2444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5357880" y="3500280"/>
            <a:ext cx="350640" cy="244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2"/>
          <p:cNvSpPr/>
          <p:nvPr/>
        </p:nvSpPr>
        <p:spPr>
          <a:xfrm>
            <a:off x="5857920" y="3071880"/>
            <a:ext cx="2714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до проведения рабо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5857920" y="3500280"/>
            <a:ext cx="3003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после проведения рабо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27"/>
          <p:cNvSpPr txBox="1"/>
          <p:nvPr/>
        </p:nvSpPr>
        <p:spPr>
          <a:xfrm>
            <a:off x="971640" y="214200"/>
            <a:ext cx="73404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cxnSp>
        <p:nvCxnSpPr>
          <p:cNvPr id="241" name="Прямая со стрелкой 33"/>
          <p:cNvCxnSpPr/>
          <p:nvPr/>
        </p:nvCxnSpPr>
        <p:spPr>
          <a:xfrm flipV="1">
            <a:off x="356040" y="1713960"/>
            <a:ext cx="1080" cy="321516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WordArt 27"/>
          <p:cNvSpPr txBox="1"/>
          <p:nvPr/>
        </p:nvSpPr>
        <p:spPr>
          <a:xfrm>
            <a:off x="571680" y="1000080"/>
            <a:ext cx="80262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cxnSp>
        <p:nvCxnSpPr>
          <p:cNvPr id="243" name="Прямая со стрелкой 126"/>
          <p:cNvCxnSpPr/>
          <p:nvPr/>
        </p:nvCxnSpPr>
        <p:spPr>
          <a:xfrm flipV="1">
            <a:off x="356760" y="4928400"/>
            <a:ext cx="5001480" cy="108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Прямоугольник 131"/>
          <p:cNvSpPr/>
          <p:nvPr/>
        </p:nvSpPr>
        <p:spPr>
          <a:xfrm>
            <a:off x="1042920" y="4221000"/>
            <a:ext cx="500040" cy="64296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32"/>
          <p:cNvSpPr/>
          <p:nvPr/>
        </p:nvSpPr>
        <p:spPr>
          <a:xfrm>
            <a:off x="1571760" y="2643120"/>
            <a:ext cx="500040" cy="228600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33"/>
          <p:cNvSpPr/>
          <p:nvPr/>
        </p:nvSpPr>
        <p:spPr>
          <a:xfrm>
            <a:off x="2428920" y="4000680"/>
            <a:ext cx="500040" cy="92844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34"/>
          <p:cNvSpPr/>
          <p:nvPr/>
        </p:nvSpPr>
        <p:spPr>
          <a:xfrm>
            <a:off x="2928960" y="2928960"/>
            <a:ext cx="500040" cy="200016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35"/>
          <p:cNvSpPr/>
          <p:nvPr/>
        </p:nvSpPr>
        <p:spPr>
          <a:xfrm>
            <a:off x="3786120" y="4143240"/>
            <a:ext cx="500040" cy="78588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36"/>
          <p:cNvSpPr/>
          <p:nvPr/>
        </p:nvSpPr>
        <p:spPr>
          <a:xfrm>
            <a:off x="4286160" y="2857680"/>
            <a:ext cx="500040" cy="207144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37"/>
          <p:cNvSpPr/>
          <p:nvPr/>
        </p:nvSpPr>
        <p:spPr>
          <a:xfrm>
            <a:off x="1000080" y="400068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8"/>
          <p:cNvSpPr/>
          <p:nvPr/>
        </p:nvSpPr>
        <p:spPr>
          <a:xfrm>
            <a:off x="1500120" y="235728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9"/>
          <p:cNvSpPr/>
          <p:nvPr/>
        </p:nvSpPr>
        <p:spPr>
          <a:xfrm>
            <a:off x="2357280" y="364320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0"/>
          <p:cNvSpPr/>
          <p:nvPr/>
        </p:nvSpPr>
        <p:spPr>
          <a:xfrm>
            <a:off x="2928960" y="257184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41"/>
          <p:cNvSpPr/>
          <p:nvPr/>
        </p:nvSpPr>
        <p:spPr>
          <a:xfrm>
            <a:off x="3786120" y="378612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42"/>
          <p:cNvSpPr/>
          <p:nvPr/>
        </p:nvSpPr>
        <p:spPr>
          <a:xfrm>
            <a:off x="4286160" y="250020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дзаголовок 2"/>
          <p:cNvSpPr/>
          <p:nvPr/>
        </p:nvSpPr>
        <p:spPr>
          <a:xfrm>
            <a:off x="428760" y="5715000"/>
            <a:ext cx="7643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  <a:ea typeface="Courier New"/>
              </a:rPr>
              <a:t>Уровни освоения взя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  <a:ea typeface="Courier New"/>
              </a:rPr>
              <a:t>«Детство». Программа  развития и воспитания детей в детском са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дзаголовок 2"/>
          <p:cNvSpPr/>
          <p:nvPr/>
        </p:nvSpPr>
        <p:spPr>
          <a:xfrm>
            <a:off x="928800" y="5000760"/>
            <a:ext cx="1214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b050"/>
                </a:solidFill>
                <a:latin typeface="Arial Black"/>
                <a:ea typeface="Courier New"/>
              </a:rPr>
              <a:t>сравн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2286000" y="5000760"/>
            <a:ext cx="1285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  <a:ea typeface="Courier New"/>
              </a:rPr>
              <a:t>обобщ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дзаголовок 2"/>
          <p:cNvSpPr/>
          <p:nvPr/>
        </p:nvSpPr>
        <p:spPr>
          <a:xfrm>
            <a:off x="3571920" y="500076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c00cc"/>
                </a:solidFill>
                <a:latin typeface="Arial Black"/>
                <a:ea typeface="Courier New"/>
              </a:rPr>
              <a:t>классифик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езультативность профессиональной педагогической деятель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41264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% соотношение детей с положительной динамикой по парамет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Транслируемость практических достижений профессиональной деятельности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95280" y="1341360"/>
          <a:ext cx="8291520" cy="486108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уницип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гиональный 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3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общение на педсовете «Логические блоки Дьенеша – универсальный дидактический матери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крытый показ занятия  на «Дне открытых двер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 открытого занятия  по использованию блоков Дьенеша на Г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интернет-издан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i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убликации  в интернет-издан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i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9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2484360" y="3716280"/>
            <a:ext cx="3436920" cy="216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документы\Мои документы\Аттестация педагогов\Зотеева ИВ\портфолио\Безымянный2.png"/>
          <p:cNvPicPr/>
          <p:nvPr/>
        </p:nvPicPr>
        <p:blipFill>
          <a:blip r:embed="rId2"/>
          <a:stretch/>
        </p:blipFill>
        <p:spPr>
          <a:xfrm>
            <a:off x="7451640" y="4941720"/>
            <a:ext cx="1239840" cy="1741680"/>
          </a:xfrm>
          <a:prstGeom prst="rect">
            <a:avLst/>
          </a:prstGeom>
          <a:ln w="0">
            <a:noFill/>
          </a:ln>
        </p:spPr>
      </p:pic>
      <p:sp>
        <p:nvSpPr>
          <p:cNvPr id="266" name="Скругленный прямоугольник 7"/>
          <p:cNvSpPr/>
          <p:nvPr/>
        </p:nvSpPr>
        <p:spPr>
          <a:xfrm>
            <a:off x="6012000" y="3789360"/>
            <a:ext cx="2663640" cy="1079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58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64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0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8"/>
          <p:cNvSpPr/>
          <p:nvPr/>
        </p:nvSpPr>
        <p:spPr>
          <a:xfrm>
            <a:off x="6012000" y="2133720"/>
            <a:ext cx="2447640" cy="287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чная страни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D:\документы\Мои документы\Аттестация педагогов\Зотеева ИВ\портфолио\Безымянный.png"/>
          <p:cNvPicPr/>
          <p:nvPr/>
        </p:nvPicPr>
        <p:blipFill>
          <a:blip r:embed="rId3"/>
          <a:stretch/>
        </p:blipFill>
        <p:spPr>
          <a:xfrm>
            <a:off x="5651640" y="4941720"/>
            <a:ext cx="1455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395280" y="4724280"/>
            <a:ext cx="8209080" cy="1008360"/>
          </a:xfrm>
          <a:prstGeom prst="rect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.А.Михайлова, Э.Н. Иоффе«Математика от трех до семи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.А.Смоленцева, О.В.Пустовойт«Математика до школы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.А.Носова, Р.Л.Непомнящая.«Логика и математика для дошкольников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.А.Михайлова«Игровые задачи для дошкольников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.П. Никитин«Ступеньки творчества или развивающие игры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етство» Программа развития и воспитания детей в детском саду Методические советы по использованию дидактических игр с блоками Дьенеша и логическими фигурами. – СПб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ихайлова З.А., Чеплашкина И.Н. Математика - это интересно. Игровые ситуации для детей дошкольного возраста.  Методическое пособие для педагогов ДОУ. СПб: «Детство –Пресс», 2006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ая система игровых занятий с блоками Дьенеш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ru.wikipedia.org/wiki/Дьенеш,_Золтан_Па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Заголовок 1"/>
          <p:cNvSpPr/>
          <p:nvPr/>
        </p:nvSpPr>
        <p:spPr>
          <a:xfrm>
            <a:off x="714240" y="0"/>
            <a:ext cx="777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дзаголовок 2"/>
          <p:cNvSpPr/>
          <p:nvPr/>
        </p:nvSpPr>
        <p:spPr>
          <a:xfrm>
            <a:off x="5572080" y="4929120"/>
            <a:ext cx="3571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дзаголовок 2"/>
          <p:cNvSpPr/>
          <p:nvPr/>
        </p:nvSpPr>
        <p:spPr>
          <a:xfrm>
            <a:off x="3357720" y="6143760"/>
            <a:ext cx="25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5"/>
          <p:cNvSpPr txBox="1"/>
          <p:nvPr/>
        </p:nvSpPr>
        <p:spPr>
          <a:xfrm rot="360600">
            <a:off x="606600" y="4789440"/>
            <a:ext cx="785160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ff0000"/>
                </a:solidFill>
                <a:latin typeface="ShellyAllegroC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b0f0"/>
                </a:solidFill>
                <a:miter/>
              </a:ln>
              <a:solidFill>
                <a:srgbClr val="ff0000"/>
              </a:solidFill>
              <a:latin typeface="ShellyAllegroC"/>
              <a:ea typeface="ShellyAllegro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Условия формирования личного вклада в развитие образования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C:\Users\user\Desktop\fgos.jpg"/>
          <p:cNvPicPr/>
          <p:nvPr/>
        </p:nvPicPr>
        <p:blipFill>
          <a:blip r:embed="rId1"/>
          <a:stretch/>
        </p:blipFill>
        <p:spPr>
          <a:xfrm>
            <a:off x="539640" y="1773360"/>
            <a:ext cx="2087640" cy="1368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 дошкольного образован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знавательных интересов и познавательных действий ребенка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ая адекватность  (соответствие условий, требований, методов возрасту и особенностям развит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на этапе завершения дошкольного образован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проявляет любознательность, интересуется причинно – следственными связями,…обладает элементарными представлениями из области математики и т. 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Актуальность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619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3200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ая сформированность представлений у детей о математических свойствах и закономерностях; неумение применять знания в решении проблемных и практических задач, в установлении логических связей и закономерност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3200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ость занятий по математическому развитию (1 раз в неделю), на которых в большой мере присутствуют элементы логики, должна компенсироваться в повседневной игровой деятельн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32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C:\Users\user\Desktop\depositphotos_9442678-Little-puzzled-child-with-color-pen-over-white.jpg"/>
          <p:cNvPicPr/>
          <p:nvPr/>
        </p:nvPicPr>
        <p:blipFill>
          <a:blip r:embed="rId1"/>
          <a:stretch/>
        </p:blipFill>
        <p:spPr>
          <a:xfrm>
            <a:off x="5923080" y="2276640"/>
            <a:ext cx="22539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Теоретическое обоснование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user\Desktop\HonDoc-7719.jpg"/>
          <p:cNvPicPr/>
          <p:nvPr/>
        </p:nvPicPr>
        <p:blipFill>
          <a:blip r:embed="rId1"/>
          <a:stretch/>
        </p:blipFill>
        <p:spPr>
          <a:xfrm>
            <a:off x="539640" y="1844640"/>
            <a:ext cx="1395360" cy="2100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648320" y="1920600"/>
            <a:ext cx="41004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.С. Выгот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.В. Запорожец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.Б. Элькон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.А. Подгорецк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.М. Фридм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.А. Михайлова и д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324000" y="4076640"/>
            <a:ext cx="431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тан Пал Дьене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 1916-2014) — венгерский математик, психолог и педагог, профессор Шербрукского университета. Автор игрового подхода к развитию детей, идея которого заключается в освоении детьми математики посредством увлекательных логических игр, песен и танце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D:\документы\Мои документы\Аттестация педагогов\Зотеева ИВ\bloki_denesha.jpg"/>
          <p:cNvPicPr/>
          <p:nvPr/>
        </p:nvPicPr>
        <p:blipFill>
          <a:blip r:embed="rId2"/>
          <a:stretch/>
        </p:blipFill>
        <p:spPr>
          <a:xfrm>
            <a:off x="4716360" y="4724280"/>
            <a:ext cx="21211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Цель и задачи педагогической деятельнос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здание педагогических условий для повышения уровня мыслительных операций, интеллектуальных возможностей детей, посредством  игровой НОД с использованием блоков Дьенеш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овать формированию начальных предматематических способностей детей: умению сравнивать, группировать, классифицирова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формированию начальных представлений у детей дошкольного возраста о символиз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внедрение перспективного планирования (по возрастам) по использованию блоков Дьенеша для развития логического мышления у дошкольник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 пополнение предметно – пространственной развивающей среды групп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е развитию педагогической грамотности родителей в области использования логических блоков Дьене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едущая педагогическая иде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2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8" descr="C:\Documents and Settings\Варя\Рабочий стол\36.JPG"/>
          <p:cNvPicPr/>
          <p:nvPr/>
        </p:nvPicPr>
        <p:blipFill>
          <a:blip r:embed="rId1"/>
          <a:stretch/>
        </p:blipFill>
        <p:spPr>
          <a:xfrm>
            <a:off x="1692360" y="4869000"/>
            <a:ext cx="1584360" cy="1755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C:\Documents and Settings\Варя\Рабочий стол\31.JPG"/>
          <p:cNvPicPr/>
          <p:nvPr/>
        </p:nvPicPr>
        <p:blipFill>
          <a:blip r:embed="rId2"/>
          <a:stretch/>
        </p:blipFill>
        <p:spPr>
          <a:xfrm>
            <a:off x="4284720" y="5157720"/>
            <a:ext cx="2030400" cy="15224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500040" y="214200"/>
            <a:ext cx="8286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ff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99ff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  <p:sp>
        <p:nvSpPr>
          <p:cNvPr id="215" name="Подзаголовок 2"/>
          <p:cNvSpPr/>
          <p:nvPr/>
        </p:nvSpPr>
        <p:spPr>
          <a:xfrm>
            <a:off x="214200" y="1857240"/>
            <a:ext cx="3000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Black"/>
              </a:rPr>
              <a:t>I </a:t>
            </a: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эта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одготовитель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теоретической ч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ответствующей развивающей предметно – пространственной 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ный 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2"/>
          <p:cNvSpPr/>
          <p:nvPr/>
        </p:nvSpPr>
        <p:spPr>
          <a:xfrm>
            <a:off x="3214800" y="1785960"/>
            <a:ext cx="285732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II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 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Прак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овместная деятельность вне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амостоятельн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Изменения в РП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Взаимодействие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21"/>
          <p:cNvSpPr/>
          <p:nvPr/>
        </p:nvSpPr>
        <p:spPr>
          <a:xfrm rot="5400000">
            <a:off x="1464120" y="12499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22"/>
          <p:cNvSpPr/>
          <p:nvPr/>
        </p:nvSpPr>
        <p:spPr>
          <a:xfrm rot="5400000">
            <a:off x="7143480" y="13572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6286680" y="1714680"/>
            <a:ext cx="264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 Black"/>
              </a:rPr>
              <a:t>III</a:t>
            </a:r>
            <a:r>
              <a:rPr b="1" lang="ru-RU" sz="2000" spc="-1" strike="noStrike">
                <a:solidFill>
                  <a:srgbClr val="cc00cc"/>
                </a:solidFill>
                <a:latin typeface="Arial Black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 Black"/>
              </a:rPr>
              <a:t>Результа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право 24"/>
          <p:cNvSpPr/>
          <p:nvPr/>
        </p:nvSpPr>
        <p:spPr>
          <a:xfrm rot="5400000">
            <a:off x="4464720" y="13215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Documents and Settings\Варя\Рабочий стол\30.JPG"/>
          <p:cNvPicPr/>
          <p:nvPr/>
        </p:nvPicPr>
        <p:blipFill>
          <a:blip r:embed="rId3"/>
          <a:stretch/>
        </p:blipFill>
        <p:spPr>
          <a:xfrm>
            <a:off x="7215120" y="4143240"/>
            <a:ext cx="1682640" cy="2244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еятельностный аспект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заимодействие с родителя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Консультации (групповые, индивидуальны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убликации консультаций для родителей на личной страничке в сети Интерн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День открытых двер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6" descr="C:\Users\user\Desktop\Новая папка\DSC_0157.jpg"/>
          <p:cNvPicPr/>
          <p:nvPr/>
        </p:nvPicPr>
        <p:blipFill>
          <a:blip r:embed="rId1"/>
          <a:stretch/>
        </p:blipFill>
        <p:spPr>
          <a:xfrm>
            <a:off x="4716360" y="227664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85840" y="0"/>
            <a:ext cx="85723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ff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99ff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иапазон личного вклада в развитие образования  и степень его новизн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41264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Разработано и внедре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а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ля младшей, средней и старшей групп с использованием нетрадиционного дидактического материала «Блоки Дьенеша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Разработана серия занятий «Веселые человечки», «Винни-Пух и друзья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Составлена картотека дидактических игр с использованием блоков Дьене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В группе создана игротека  развивающих игр («Танграм», «Колумбово яйцо»,«Вьетнамская игра», «Пентамино» и мн.др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Созданы и  используются при проведении НОД мультимедийные презентации «Веселые человечки идут в гости», «Веселые человечки ищут клад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6" descr="C:\Users\user\Desktop\Новая папка\DSC_0115.jpg"/>
          <p:cNvPicPr/>
          <p:nvPr/>
        </p:nvPicPr>
        <p:blipFill>
          <a:blip r:embed="rId1"/>
          <a:stretch/>
        </p:blipFill>
        <p:spPr>
          <a:xfrm>
            <a:off x="4716360" y="5084640"/>
            <a:ext cx="20383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6:30:53Z</dcterms:created>
  <dc:creator>ДИКТ</dc:creator>
  <dc:description/>
  <dc:language>en-US</dc:language>
  <cp:lastModifiedBy>дс 143</cp:lastModifiedBy>
  <dcterms:modified xsi:type="dcterms:W3CDTF">2019-11-28T09:18:27Z</dcterms:modified>
  <cp:revision>223</cp:revision>
  <dc:subject/>
  <dc:title>Методическая разработка по программе развития и воспитания детей в детском саду «Детство»,  под редакцией Т.И.Бабаевой, З.А.Михайловой, Л.М.Гурович</dc:title>
</cp:coreProperties>
</file>