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3.png" ContentType="image/png"/>
  <Override PartName="/ppt/media/image20.gif" ContentType="image/gif"/>
  <Override PartName="/ppt/media/image18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256E-A2FB-4A4A-B3E2-56DD3774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3852-DAF9-4E52-ADD9-DD8DE068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118F-B898-4142-B1FE-F9CFAFA4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72BF-CC42-48CF-877C-495933B8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B47-7076-4F64-91BD-C03ADC44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3671CB-A177-43B0-B983-E9BD8538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236FEA-2286-463A-8A97-295AD951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A0CE43-3C9B-4E44-838D-1F4E09E6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858E88-D554-45CA-9453-6975BAD2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FD5824-17A3-4B64-B63A-D57E625F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20E3-03EA-4626-A994-5331AC7E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5912C8-E1C7-4A13-86FD-475EC302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08F9C8-9B81-4CFF-9356-1521B8E1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DFFABF-7D8F-4B50-8801-54A97208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8267BC-F6CF-4D18-A77C-61D0919A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3725EB-CA42-4488-9614-369D7B15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4079EA-1C9E-40F0-A3AE-75FC9DE8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107D03-4BF7-4F46-9E9B-8481BCF7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D6BE55-A80C-4E83-B11A-9144A350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F6D395-BE69-4138-9CF5-319EE8C0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C6B603-E819-4278-9EA5-F20E684D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8D0-EF85-44D9-9BB4-34882AC9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8CA659-6F33-40D8-80A3-C3D04362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C96DCF-8100-49FF-84E7-2DFE1524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4CBF82-EA71-4350-96DB-44E442EE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BFCDCC-50B4-4DFC-B012-B1E30091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425A95-7D0C-47C4-81BA-A3E7C33D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ACA099-ABE4-4A92-98F8-C49DA541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E8B682-72A0-4AF6-BB73-8F82253D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25768B-C45B-4E97-849C-E39E1E87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1D2C60-818F-4D00-B397-4DC7F9C8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D6D-3FC4-4121-ABD4-63FAC450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26E3-9359-4448-BE3E-C2BE73ED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FBF-A2ED-40BA-8B1C-D27D7C48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0D6-C6EF-4A19-BB50-9272AE76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B7C-B9C6-43DE-882C-4955B820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38CE-AFE0-4779-9033-915EC4409B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Скругленный прямоугольник 6"/>
          <p:cNvGrpSpPr/>
          <p:nvPr/>
        </p:nvGrpSpPr>
        <p:grpSpPr>
          <a:xfrm>
            <a:off x="426960" y="1646280"/>
            <a:ext cx="8217000" cy="4784760"/>
            <a:chOff x="426960" y="1646280"/>
            <a:chExt cx="8217000" cy="4784760"/>
          </a:xfrm>
        </p:grpSpPr>
        <p:pic>
          <p:nvPicPr>
            <p:cNvPr id="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426960" y="1646280"/>
              <a:ext cx="8217000" cy="478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662040" y="1876320"/>
              <a:ext cx="7748640" cy="43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Скругленный прямоугольник 7"/>
          <p:cNvGrpSpPr/>
          <p:nvPr/>
        </p:nvGrpSpPr>
        <p:grpSpPr>
          <a:xfrm>
            <a:off x="500040" y="285840"/>
            <a:ext cx="8143920" cy="1062000"/>
            <a:chOff x="500040" y="285840"/>
            <a:chExt cx="8143920" cy="1062000"/>
          </a:xfrm>
        </p:grpSpPr>
        <p:pic>
          <p:nvPicPr>
            <p:cNvPr id="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500040" y="285840"/>
              <a:ext cx="814392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52600" y="338040"/>
              <a:ext cx="80388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" name="Рисунок 8" descr="ром.png"/>
          <p:cNvPicPr/>
          <p:nvPr/>
        </p:nvPicPr>
        <p:blipFill>
          <a:blip r:embed="rId5"/>
          <a:stretch/>
        </p:blipFill>
        <p:spPr>
          <a:xfrm>
            <a:off x="0" y="5041800"/>
            <a:ext cx="2071800" cy="203040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9" descr="ром.png"/>
          <p:cNvPicPr/>
          <p:nvPr/>
        </p:nvPicPr>
        <p:blipFill>
          <a:blip r:embed="rId6"/>
          <a:stretch/>
        </p:blipFill>
        <p:spPr>
          <a:xfrm>
            <a:off x="6929280" y="5072040"/>
            <a:ext cx="2214720" cy="203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Скругленный прямоугольник 10"/>
          <p:cNvGrpSpPr/>
          <p:nvPr/>
        </p:nvGrpSpPr>
        <p:grpSpPr>
          <a:xfrm>
            <a:off x="785880" y="2073240"/>
            <a:ext cx="7645320" cy="1571760"/>
            <a:chOff x="785880" y="2073240"/>
            <a:chExt cx="7645320" cy="1571760"/>
          </a:xfrm>
        </p:grpSpPr>
        <p:pic>
          <p:nvPicPr>
            <p:cNvPr id="5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785880" y="2073240"/>
              <a:ext cx="764532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61840" y="2147760"/>
              <a:ext cx="749160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Скругленный прямоугольник 11"/>
          <p:cNvGrpSpPr/>
          <p:nvPr/>
        </p:nvGrpSpPr>
        <p:grpSpPr>
          <a:xfrm>
            <a:off x="1427040" y="3932280"/>
            <a:ext cx="6289920" cy="1566720"/>
            <a:chOff x="1427040" y="3932280"/>
            <a:chExt cx="6289920" cy="1566720"/>
          </a:xfrm>
        </p:grpSpPr>
        <p:pic>
          <p:nvPicPr>
            <p:cNvPr id="53" name="Скругленный прямоугольник 11" descr=""/>
            <p:cNvPicPr/>
            <p:nvPr/>
          </p:nvPicPr>
          <p:blipFill>
            <a:blip r:embed="rId4"/>
            <a:stretch/>
          </p:blipFill>
          <p:spPr>
            <a:xfrm>
              <a:off x="1427040" y="3932280"/>
              <a:ext cx="628992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504800" y="4005360"/>
              <a:ext cx="613440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Рисунок 12" descr="ром3.png"/>
          <p:cNvPicPr/>
          <p:nvPr/>
        </p:nvPicPr>
        <p:blipFill>
          <a:blip r:embed="rId5"/>
          <a:stretch/>
        </p:blipFill>
        <p:spPr>
          <a:xfrm>
            <a:off x="6134040" y="0"/>
            <a:ext cx="3487680" cy="2714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3" descr="ром3.png"/>
          <p:cNvPicPr/>
          <p:nvPr/>
        </p:nvPicPr>
        <p:blipFill>
          <a:blip r:embed="rId6"/>
          <a:stretch/>
        </p:blipFill>
        <p:spPr>
          <a:xfrm>
            <a:off x="-428760" y="4500720"/>
            <a:ext cx="3162600" cy="23572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4"/>
          <p:cNvSpPr/>
          <p:nvPr/>
        </p:nvSpPr>
        <p:spPr>
          <a:xfrm>
            <a:off x="7865280" y="628668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edot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Скругленный прямоугольник 10"/>
          <p:cNvGrpSpPr/>
          <p:nvPr/>
        </p:nvGrpSpPr>
        <p:grpSpPr>
          <a:xfrm>
            <a:off x="426960" y="426960"/>
            <a:ext cx="8217000" cy="6004080"/>
            <a:chOff x="426960" y="426960"/>
            <a:chExt cx="8217000" cy="6004080"/>
          </a:xfrm>
        </p:grpSpPr>
        <p:pic>
          <p:nvPicPr>
            <p:cNvPr id="9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26960" y="426960"/>
              <a:ext cx="8217000" cy="600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22160" y="722160"/>
              <a:ext cx="7628040" cy="54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Рисунок 11" descr="ром.png"/>
          <p:cNvPicPr/>
          <p:nvPr/>
        </p:nvPicPr>
        <p:blipFill>
          <a:blip r:embed="rId4"/>
          <a:stretch/>
        </p:blipFill>
        <p:spPr>
          <a:xfrm>
            <a:off x="0" y="5041800"/>
            <a:ext cx="2071800" cy="20304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2" descr="ром.png"/>
          <p:cNvPicPr/>
          <p:nvPr/>
        </p:nvPicPr>
        <p:blipFill>
          <a:blip r:embed="rId5"/>
          <a:stretch/>
        </p:blipFill>
        <p:spPr>
          <a:xfrm>
            <a:off x="6929280" y="5072040"/>
            <a:ext cx="2214720" cy="2032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19E0-8E64-48B1-8A53-612332638D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Скругленный прямоугольник 10"/>
          <p:cNvGrpSpPr/>
          <p:nvPr/>
        </p:nvGrpSpPr>
        <p:grpSpPr>
          <a:xfrm>
            <a:off x="426960" y="500040"/>
            <a:ext cx="8217000" cy="5997600"/>
            <a:chOff x="426960" y="500040"/>
            <a:chExt cx="8217000" cy="5997600"/>
          </a:xfrm>
        </p:grpSpPr>
        <p:pic>
          <p:nvPicPr>
            <p:cNvPr id="144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26960" y="500040"/>
              <a:ext cx="8217000" cy="59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722160" y="793800"/>
              <a:ext cx="7628040" cy="54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Рисунок 11" descr="ром.png"/>
          <p:cNvPicPr/>
          <p:nvPr/>
        </p:nvPicPr>
        <p:blipFill>
          <a:blip r:embed="rId4"/>
          <a:stretch/>
        </p:blipFill>
        <p:spPr>
          <a:xfrm>
            <a:off x="0" y="5041800"/>
            <a:ext cx="2071800" cy="20304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2" descr="ром.png"/>
          <p:cNvPicPr/>
          <p:nvPr/>
        </p:nvPicPr>
        <p:blipFill>
          <a:blip r:embed="rId5"/>
          <a:stretch/>
        </p:blipFill>
        <p:spPr>
          <a:xfrm>
            <a:off x="6929280" y="5072040"/>
            <a:ext cx="2214720" cy="2032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5844-9AAE-4BED-ABDC-4D993E18B0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ёт о проделанной работе в летне-оздоровительный период по проекту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сёлый летний  марафон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ДОАУ д/с «Сказ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1403280" y="476280"/>
            <a:ext cx="659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родной рай дети узнали посетив детскую библиотеку, где Вера Николаевна Плотникова провела познавательную беседу с показом слай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48960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Объект 3" descr=""/>
          <p:cNvPicPr/>
          <p:nvPr/>
        </p:nvPicPr>
        <p:blipFill>
          <a:blip r:embed="rId1"/>
          <a:stretch/>
        </p:blipFill>
        <p:spPr>
          <a:xfrm>
            <a:off x="2592360" y="2421000"/>
            <a:ext cx="3816360" cy="29271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2"/>
          <p:cNvSpPr/>
          <p:nvPr/>
        </p:nvSpPr>
        <p:spPr>
          <a:xfrm>
            <a:off x="2843280" y="1052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 свидание лет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3276720" y="692280"/>
            <a:ext cx="31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Л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1" descr="DSC03460.JPG"/>
          <p:cNvPicPr/>
          <p:nvPr/>
        </p:nvPicPr>
        <p:blipFill>
          <a:blip r:embed="rId1"/>
          <a:stretch/>
        </p:blipFill>
        <p:spPr>
          <a:xfrm>
            <a:off x="1547640" y="1628640"/>
            <a:ext cx="6164280" cy="374508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2"/>
          <p:cNvSpPr/>
          <p:nvPr/>
        </p:nvSpPr>
        <p:spPr>
          <a:xfrm>
            <a:off x="900000" y="83664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ЛЕЧЕНИЕ «Здравствуй лет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684360" y="90792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любимой игрушки прошёл с Петруш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2" descr=""/>
          <p:cNvPicPr/>
          <p:nvPr/>
        </p:nvPicPr>
        <p:blipFill>
          <a:blip r:embed="rId1"/>
          <a:stretch/>
        </p:blipFill>
        <p:spPr>
          <a:xfrm>
            <a:off x="2365200" y="1916280"/>
            <a:ext cx="4341960" cy="31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900000" y="69228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еля спорта была открыта  днём футб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Содержимое 3" descr="P1120246.JPG"/>
          <p:cNvPicPr/>
          <p:nvPr/>
        </p:nvPicPr>
        <p:blipFill>
          <a:blip r:embed="rId1"/>
          <a:stretch/>
        </p:blipFill>
        <p:spPr>
          <a:xfrm>
            <a:off x="2195640" y="1844640"/>
            <a:ext cx="46800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1"/>
          <p:cNvSpPr/>
          <p:nvPr/>
        </p:nvSpPr>
        <p:spPr>
          <a:xfrm>
            <a:off x="118728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2" descr=""/>
          <p:cNvPicPr/>
          <p:nvPr/>
        </p:nvPicPr>
        <p:blipFill>
          <a:blip r:embed="rId1"/>
          <a:stretch/>
        </p:blipFill>
        <p:spPr>
          <a:xfrm>
            <a:off x="2340000" y="1685880"/>
            <a:ext cx="4610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826920" y="54936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таршими детьми Была организована встреча « Берёзка – русская душа». Каждой берёзке нашего садовского двора было уделено внимание. Звучали загадки, стихи, слушали песни. Дети разговаривали с берёзами, обнимались, говорили об их проблемах, рассматривали молодые поросли русских красав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Объект 3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36003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971640" y="62064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сельной группе состояла встреча с Летом по особенному: участок украшен цветами, девочки в венках, мальчики в галстуках, украшенных цве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Объект 3" descr=""/>
          <p:cNvPicPr/>
          <p:nvPr/>
        </p:nvPicPr>
        <p:blipFill>
          <a:blip r:embed="rId1"/>
          <a:stretch/>
        </p:blipFill>
        <p:spPr>
          <a:xfrm>
            <a:off x="2124000" y="1994040"/>
            <a:ext cx="4680000" cy="3671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ttp://cdn-nus-1.pinme.ru/tumb/600/photo/35/f9e1/35f9e1287c0645cd02c15673adc7e7b9.gif"/>
          <p:cNvPicPr/>
          <p:nvPr/>
        </p:nvPicPr>
        <p:blipFill>
          <a:blip r:embed="rId2"/>
          <a:stretch/>
        </p:blipFill>
        <p:spPr>
          <a:xfrm rot="11859600">
            <a:off x="4734000" y="1471320"/>
            <a:ext cx="3000240" cy="1530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http://cdn-nus-1.pinme.ru/tumb/600/photo/35/f9e1/35f9e1287c0645cd02c15673adc7e7b9.gif"/>
          <p:cNvPicPr/>
          <p:nvPr/>
        </p:nvPicPr>
        <p:blipFill>
          <a:blip r:embed="rId3"/>
          <a:stretch/>
        </p:blipFill>
        <p:spPr>
          <a:xfrm rot="1686000">
            <a:off x="1809360" y="4635360"/>
            <a:ext cx="3106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1"/>
          <p:cNvSpPr/>
          <p:nvPr/>
        </p:nvSpPr>
        <p:spPr>
          <a:xfrm>
            <a:off x="1042920" y="54936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ная неделя началась со знакомства с игрой «Ручейки, озёра, мор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2" descr="DSC03986.JPG"/>
          <p:cNvPicPr/>
          <p:nvPr/>
        </p:nvPicPr>
        <p:blipFill>
          <a:blip r:embed="rId1"/>
          <a:stretch/>
        </p:blipFill>
        <p:spPr>
          <a:xfrm>
            <a:off x="1692360" y="1325520"/>
            <a:ext cx="5976720" cy="44355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3"/>
          <p:cNvSpPr/>
          <p:nvPr/>
        </p:nvSpPr>
        <p:spPr>
          <a:xfrm>
            <a:off x="3432960" y="59500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 Водная феер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042920" y="620640"/>
            <a:ext cx="727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к « Луже» , где дети удостоверились, что лужа может быть краси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Рисунок 3" descr="DSC03900.JPG"/>
          <p:cNvPicPr/>
          <p:nvPr/>
        </p:nvPicPr>
        <p:blipFill>
          <a:blip r:embed="rId1"/>
          <a:stretch/>
        </p:blipFill>
        <p:spPr>
          <a:xfrm>
            <a:off x="2195640" y="1785960"/>
            <a:ext cx="4970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23:13:50Z</dcterms:created>
  <dc:creator>Заляева Л.А</dc:creator>
  <dc:description/>
  <dc:language>en-US</dc:language>
  <cp:lastModifiedBy>User</cp:lastModifiedBy>
  <dcterms:modified xsi:type="dcterms:W3CDTF">2019-11-28T13:35:11Z</dcterms:modified>
  <cp:revision>18</cp:revision>
  <dc:subject/>
  <dc:title>Слайд 1</dc:title>
</cp:coreProperties>
</file>