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5AD-8575-4B5E-95D3-09AAE98E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0CF-5324-447D-B567-803BC402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E83-39D9-4EC4-A6D9-323FADCB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8F8-C35A-4F63-B8EF-9843C87D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B18E-AE61-44BD-95E0-93667FB5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0EFA-74DC-4D20-9FC2-3AC8C7A0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5ED8-E2B2-4DF1-BD87-01DAA696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9949-B4E9-44B0-99A6-0A66420F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F5D2-25B9-4766-8B74-7D98BF0C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9DD5-559E-4B0F-A139-297F284E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7ED0-3F2C-4213-80A7-DBC19BE7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285-08F0-4E3D-99D2-FA177DD1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B7E5-83CA-4D6B-971B-64AFD2B8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9E41-1C20-42B7-BD95-3EDCE8EF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0420-F142-4F43-92F0-FAE6C286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64D9-0C30-4075-B222-702C68E1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9FEF-DA7B-4A3A-9018-E5EA84D5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A905C-6A21-4850-855E-397B34B2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2BF7E-0E5A-448C-90BB-F3EDF3BD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C7190-0074-4A3B-A44C-7F865844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53F04-373E-41E0-A17A-E4B4A6EB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4DC3F-1D58-41CD-A392-1E342241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FEC-943F-456C-88E2-86174D9B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318F3-8E62-42C2-8890-C31E7065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4023D-4A5F-4FB3-9ADE-B772E7D4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CBF12-88B7-414F-8158-316DE51A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132E6-C8D7-419C-A139-9447F816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C8218-D257-4222-886F-3B6A97E3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C55AE-F80C-4CEB-A3B7-8518361F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C217B-C14E-4F65-AF27-69AE6BC9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276A2-1CDE-4977-B071-CFFECC09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BE8C4-B983-4AC2-B0A7-E73A95E2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D3893-CA41-496B-95EC-63862D97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3B4-B106-4949-B0C7-B7FF2D20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DBC4C-0CC3-42F0-837C-41A7FF49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08C6F-BBDC-4E54-917D-F99DA51F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CD918-97E9-444C-B00B-8CE57BF1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3B9F5-9742-4B2A-AADD-E6842121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16CB7-D770-4E58-A3B6-210C83C1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931F1-6151-4012-86B5-E091C1F9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304FB-8799-4A24-9334-E8DD7464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21843-E6A8-4081-BBC9-892B3B04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9B85F-E3CC-4DFF-AC1D-64D4DB68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87843-C328-4011-AF1F-8836A2AC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DCF-5BED-4F57-9E58-3519F8E5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4574A-4B76-4098-B8B2-D36A0878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DECF1-5383-456F-9A23-9CFA337F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55484-2922-4B5A-9B06-5FAE99FD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F18BC-9445-4455-9F7B-A72A2824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AA1AF-4698-4894-AB52-9F1706F9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9FD76-D8C2-45FD-B3E8-EFB451B7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D84D5-69BB-49BB-881B-2C99036F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33B1B-5AA9-423A-9EE6-B0A06265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34AF6-F765-4FC1-8372-C431D861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B8017-4A5F-4BC4-A1E5-A25ABFDF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AA8-0501-464F-8E42-CD5B9B13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28A5C-1840-4FB3-859D-CE8D0A72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DB62D-1CD2-4AA8-91E3-63868C21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1F1D0-1C57-484C-8213-5FEC9D0D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9B59E-882C-4073-BD02-EBEDE5BD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AA824-BD80-4A9C-8F0D-B39615F5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52084-38D2-4494-B320-3622E9B7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602A0-FABF-4F9F-B488-55D696D3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848CB-3587-4DAF-A5F6-673BF781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B2020-4FDF-43E8-9835-F5398415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A943F-7737-4BDE-8FA6-74A34BFA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D6C-C39C-492A-89F5-077CCC48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96C49-312C-4CF2-BE08-BD489FCE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86537-F2D3-4F79-A6EF-DAA5BD26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94886-1996-44D7-A402-A24055F0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B9D61-CFEA-41D4-B8AC-6C639795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6E46A-61C2-4D1D-BFFA-C8445ACE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53293-A909-4D5C-AB0D-0EFD5CE0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070A6-5428-4905-BA7D-A0C34879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0D84C-500E-451F-8FAB-A8F4E8FE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D6A70-5954-4865-9F22-657850A2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B2744-BA44-4BBE-9C3E-352BDDDA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96F-AE0E-4DEC-BD50-8E053815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80B9A-F0E4-46E8-AA51-606B6DDF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EE043-B383-447C-BC50-31FB1EDB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63647-4570-4C80-B848-210C15C1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DA3C3-B7CD-4694-A645-59E9215A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D6BF7-F561-4BA0-85C4-0712B625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B0C01-A934-4534-B8CC-F74946C9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D23F1-EDA2-4DF0-9C9D-3296C122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608C6-4A66-48D6-90B1-324E91B5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AEF82-3A7B-48C8-8794-37F047E9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6CC40-6359-4998-90EA-D6358482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C85-33F5-45ED-9E9B-56855DA8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5B5B1-2B75-4607-B72F-6B339658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2070C-10A6-4E67-8DC4-B386978C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78BC0-E95F-4D16-9837-480E8C05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819CB-B24E-4E67-B8D2-0789FFEB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DF21C-F706-425E-AF8A-A6C72314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3417D-58F7-470B-AF2F-140EA18E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14EA1-04C4-4420-B10D-F027410C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945E-2901-47A8-9B1B-65C0C8C0B6B1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0B03-ED9C-471B-A0C1-179924D1EB32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AA13-FD30-4782-8CB8-4D20205467C6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3B91-7372-413C-ABBC-17DB8C236798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0F15-4519-44C5-B6DB-4AB9A1C89D5B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404E-C0D2-41FC-9136-E2407AD355A8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E67B-ECB6-4FEB-8CEA-F9CC99CD52A1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9239-DEBB-452B-BEE5-8020953C192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https://ds05.infourok.ru/uploads/ex/0483/0001b232-a997d359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https://ds05.infourok.ru/uploads/ex/1011/000910c0-1c9cbdbd/hello_html_m6313828c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55280" y="3789360"/>
            <a:ext cx="554364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ласенко Е.В.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916000" y="2060640"/>
            <a:ext cx="5554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а дорожного дви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9" name="Объект 3" descr=""/>
          <p:cNvPicPr/>
          <p:nvPr/>
        </p:nvPicPr>
        <p:blipFill>
          <a:blip r:embed="rId1"/>
          <a:stretch/>
        </p:blipFill>
        <p:spPr>
          <a:xfrm>
            <a:off x="1281240" y="1219320"/>
            <a:ext cx="6581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91" name="Объект 3" descr=""/>
          <p:cNvPicPr/>
          <p:nvPr/>
        </p:nvPicPr>
        <p:blipFill>
          <a:blip r:embed="rId1"/>
          <a:stretch/>
        </p:blipFill>
        <p:spPr>
          <a:xfrm>
            <a:off x="1281240" y="1219320"/>
            <a:ext cx="6581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93" name="Объект 3" descr=""/>
          <p:cNvPicPr/>
          <p:nvPr/>
        </p:nvPicPr>
        <p:blipFill>
          <a:blip r:embed="rId1"/>
          <a:stretch/>
        </p:blipFill>
        <p:spPr>
          <a:xfrm>
            <a:off x="2103480" y="396720"/>
            <a:ext cx="493704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0" descr="https://ds05.infourok.ru/uploads/ex/0483/0001b232-a997d359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ttp://900igr.net/up/datai/237725/0002-003-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0" descr="4"/>
          <p:cNvPicPr/>
          <p:nvPr/>
        </p:nvPicPr>
        <p:blipFill>
          <a:blip r:embed="rId3"/>
          <a:stretch/>
        </p:blipFill>
        <p:spPr>
          <a:xfrm>
            <a:off x="2050920" y="189000"/>
            <a:ext cx="4826160" cy="4029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0" descr="https://ds05.infourok.ru/uploads/ex/0483/0001b232-a997d359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" descr="http://900igr.net/up/datai/237725/0002-003-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5"/>
          <p:cNvPicPr/>
          <p:nvPr/>
        </p:nvPicPr>
        <p:blipFill>
          <a:blip r:embed="rId3"/>
          <a:stretch/>
        </p:blipFill>
        <p:spPr>
          <a:xfrm>
            <a:off x="179280" y="189000"/>
            <a:ext cx="4176720" cy="277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406" name="Picture 8" descr="6"/>
          <p:cNvPicPr/>
          <p:nvPr/>
        </p:nvPicPr>
        <p:blipFill>
          <a:blip r:embed="rId4"/>
          <a:stretch/>
        </p:blipFill>
        <p:spPr>
          <a:xfrm>
            <a:off x="4716360" y="1197000"/>
            <a:ext cx="3988080" cy="2705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0" descr="https://ds05.infourok.ru/uploads/ex/0483/0001b232-a997d359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2" descr="http://900igr.net/up/datai/237725/0002-003-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7" descr="7"/>
          <p:cNvPicPr/>
          <p:nvPr/>
        </p:nvPicPr>
        <p:blipFill>
          <a:blip r:embed="rId3"/>
          <a:stretch/>
        </p:blipFill>
        <p:spPr>
          <a:xfrm>
            <a:off x="179280" y="260280"/>
            <a:ext cx="4043520" cy="2797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413" name="Picture 8" descr="8"/>
          <p:cNvPicPr/>
          <p:nvPr/>
        </p:nvPicPr>
        <p:blipFill>
          <a:blip r:embed="rId4"/>
          <a:stretch/>
        </p:blipFill>
        <p:spPr>
          <a:xfrm>
            <a:off x="4716360" y="1341360"/>
            <a:ext cx="3816360" cy="2697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0" descr="https://ds05.infourok.ru/uploads/ex/0483/0001b232-a997d359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2" descr="http://900igr.net/up/datai/237725/0002-003-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7" descr="9"/>
          <p:cNvPicPr/>
          <p:nvPr/>
        </p:nvPicPr>
        <p:blipFill>
          <a:blip r:embed="rId3"/>
          <a:stretch/>
        </p:blipFill>
        <p:spPr>
          <a:xfrm>
            <a:off x="395280" y="189000"/>
            <a:ext cx="3002040" cy="4527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420" name="Picture 8" descr="10"/>
          <p:cNvPicPr/>
          <p:nvPr/>
        </p:nvPicPr>
        <p:blipFill>
          <a:blip r:embed="rId4"/>
          <a:stretch/>
        </p:blipFill>
        <p:spPr>
          <a:xfrm>
            <a:off x="4211640" y="549360"/>
            <a:ext cx="4159080" cy="2908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8" descr="спаси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0" descr="https://ds05.infourok.ru/uploads/ex/0483/0001b232-a997d359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2" descr="http://900igr.net/up/datai/237725/0002-003-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9" descr="1"/>
          <p:cNvPicPr/>
          <p:nvPr/>
        </p:nvPicPr>
        <p:blipFill>
          <a:blip r:embed="rId3"/>
          <a:stretch/>
        </p:blipFill>
        <p:spPr>
          <a:xfrm>
            <a:off x="2771640" y="476280"/>
            <a:ext cx="3275280" cy="4757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0" descr="https://ds05.infourok.ru/uploads/ex/0483/0001b232-a997d359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2" descr="http://900igr.net/up/datai/237725/0002-003-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0" descr="2"/>
          <p:cNvPicPr/>
          <p:nvPr/>
        </p:nvPicPr>
        <p:blipFill>
          <a:blip r:embed="rId3"/>
          <a:stretch/>
        </p:blipFill>
        <p:spPr>
          <a:xfrm>
            <a:off x="1908000" y="549360"/>
            <a:ext cx="5553360" cy="3906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9" name="Объект 3" descr=""/>
          <p:cNvPicPr/>
          <p:nvPr/>
        </p:nvPicPr>
        <p:blipFill>
          <a:blip r:embed="rId1"/>
          <a:stretch/>
        </p:blipFill>
        <p:spPr>
          <a:xfrm>
            <a:off x="1281240" y="1219320"/>
            <a:ext cx="6581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1" name="Объект 3" descr=""/>
          <p:cNvPicPr/>
          <p:nvPr/>
        </p:nvPicPr>
        <p:blipFill>
          <a:blip r:embed="rId1"/>
          <a:stretch/>
        </p:blipFill>
        <p:spPr>
          <a:xfrm>
            <a:off x="2103480" y="396720"/>
            <a:ext cx="493704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3" name="Объект 3" descr=""/>
          <p:cNvPicPr/>
          <p:nvPr/>
        </p:nvPicPr>
        <p:blipFill>
          <a:blip r:embed="rId1"/>
          <a:stretch/>
        </p:blipFill>
        <p:spPr>
          <a:xfrm>
            <a:off x="1281240" y="1219320"/>
            <a:ext cx="6581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0" descr="https://ds05.infourok.ru/uploads/ex/0483/0001b232-a997d359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2" descr="http://900igr.net/up/datai/237725/0002-003-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0" descr="i"/>
          <p:cNvPicPr/>
          <p:nvPr/>
        </p:nvPicPr>
        <p:blipFill>
          <a:blip r:embed="rId3"/>
          <a:stretch/>
        </p:blipFill>
        <p:spPr>
          <a:xfrm>
            <a:off x="1692360" y="260280"/>
            <a:ext cx="5700600" cy="3959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1" name="Объект 3" descr=""/>
          <p:cNvPicPr/>
          <p:nvPr/>
        </p:nvPicPr>
        <p:blipFill>
          <a:blip r:embed="rId1"/>
          <a:stretch/>
        </p:blipFill>
        <p:spPr>
          <a:xfrm>
            <a:off x="1281240" y="1219320"/>
            <a:ext cx="6581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0" descr="https://ds05.infourok.ru/uploads/ex/0483/0001b232-a997d359/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http://900igr.net/up/datai/237725/0002-003-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9" descr="3"/>
          <p:cNvPicPr/>
          <p:nvPr/>
        </p:nvPicPr>
        <p:blipFill>
          <a:blip r:embed="rId3"/>
          <a:stretch/>
        </p:blipFill>
        <p:spPr>
          <a:xfrm>
            <a:off x="1763640" y="260280"/>
            <a:ext cx="5648400" cy="4071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2T09:12:19Z</dcterms:created>
  <dc:creator>Слава</dc:creator>
  <dc:description/>
  <dc:language>en-US</dc:language>
  <cp:lastModifiedBy>A</cp:lastModifiedBy>
  <dcterms:modified xsi:type="dcterms:W3CDTF">2019-11-28T12:16:45Z</dcterms:modified>
  <cp:revision>19</cp:revision>
  <dc:subject/>
  <dc:title>Слайд 1</dc:title>
</cp:coreProperties>
</file>