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6166-51FF-4892-9479-3375B99C3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3A04-0282-4133-B258-58AC46EA0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75A6-87F0-4D6A-BB70-9ACE33007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D9F9-F0D5-4C29-9CD3-2EB5C806D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840E3-B02C-4529-B947-2C76B6C0B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BE642-54BD-4A21-A887-977239563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CDEB0-CE29-4337-BCFB-350794C3F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C1841-07F5-498D-BCE5-39B72BB28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75477-1981-4ED0-A601-6829109A2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6F9E0-B78C-44F2-BE7D-E379B91A8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79F46-FD0B-4246-B6C0-438FD22A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0DBA-A31B-4149-B719-78C2B437E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53CBB-31C2-4D51-83C1-105325D1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14C86-09C1-4648-BE6A-2280873E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09670-E97B-4B7F-B164-C65502DD8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A37A8-5F08-44A2-98B1-327EEBF96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92916-133D-403F-BD5B-14D086072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3FA63-483B-421B-B1B2-1D325D984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3318A-AAD2-4863-A7B9-640D538E4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F46CD-7891-4610-8831-63E686497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69A60-C2AE-43AE-98C4-53835518B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49E5E-EF28-4C9E-BD15-0C5E76826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02BF-9811-4D81-B70C-BBC641E48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7D115-D4BB-47BA-87CC-B1B29B373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68980-467E-4820-B8DF-AE44DAB6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32031-FC75-41FF-A34A-39495DE9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96816-93B7-4706-B337-31597548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47F74-5013-48F9-827B-EB9DFBC4B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0DBAD-51F3-42E9-96BF-D9A720965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0D9D0-02F3-4C8A-8C9B-07657E4CB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7DB40-FE0C-437F-A7BC-52D07344E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C1205-AB02-4157-A65B-282EEAF82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92BDF-60D2-4251-A19C-C96945B03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76CB-4DF2-4FFC-9D05-6D74DEDA5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3E1CB-F72E-4544-BFCF-3E2AAC83D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8E7FC-A85C-4ED2-96D2-3580A7CEA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7F62D-883A-48BF-B9FB-74F7B0A08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9206A-63A8-4B12-B61E-F7539245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6AD28-6448-4E61-9D2F-8379957E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C53BB-2A17-4EBF-9789-3A2C531D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B6EC2-9C69-48C4-91EA-A3190A6A4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35DF7-1BFE-4E36-A4E3-8CD0675AD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68D56-DEAF-4EB8-A78B-CC92D375A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24179-4CC5-4FDA-9CD1-63F91FCA0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7265-3EA0-4A04-86BF-4DBC99119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2FCB4-1074-4FCA-8242-5441EFC62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B931F-C805-4626-B504-9E2767C31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4A647-5638-4A39-B445-C702DF46C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CF4CB-8190-40C4-8776-7735A2B1E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67927-83B2-407C-AF82-F4B2800C4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BBDB8-1CEE-4C8A-B4AC-063E98C0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5D176-322C-4E0D-893F-65F8E580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75AF5-C16A-463D-8E2C-B04D747D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7326E-A22C-4BCB-9683-617D43821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50D34-AD56-428C-B4BB-9447D6242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D080-C8F3-44A9-B7CA-D96A9CDF3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BC1BD-52F8-44E2-B427-D5F7EDB56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D8B8B4-963A-4233-A438-C3267C967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EB1C8-BFC7-4AE4-9E28-1E10A3852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8F6DB3-8A07-44E0-A9AF-64D485F13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12630-EC01-41CA-88D7-8E6288B57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5B4FE-FA0D-4018-BC4C-566C9554F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9E41C-7EF4-4FCE-9106-7BB532F01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8AF918-38F7-4996-92DD-57EC0AB7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9520AE-1AF4-44EA-A0DE-B90A2B8E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4310E-2066-40C4-8D5F-BA1A3AD7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1155-1941-4184-AA74-6B60F78DC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9B03D-96C8-4FAF-A131-9926397A7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D02FB-5AF9-4CB0-A19E-9A7371082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AD0BB-993A-4122-87E2-09CBA1926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55402-A0EF-411E-B482-951917781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C13B60-FF5C-440B-837E-1EE682C2A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D9102-81AB-47BC-8455-9E6030FB0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4333FA-62CB-4B9D-8C78-F1268BF65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17269-11FC-4971-91F6-B66A6B966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CB72E0-D222-44E5-8A68-C9D08D4EE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E9E65-7709-4373-B942-4C56EE3D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6DDE-F75E-4367-9CBF-8C6C5256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2FCBC-5B19-4E3D-BAA0-32E420B0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6A90F-26C5-4C61-BC96-7EDC4DAB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2C53A-98F6-404A-926C-3EBD90C91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9E950-9E18-40B3-9CD6-A62D33EFA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24F0D-AADB-4F12-B1B3-6804B98C0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0D8223-7339-4BD3-9088-73B88434A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CB8756-60C4-483C-9D19-06D4B4B68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F7497F-C52A-49FD-82C2-5ABED8434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542EFA-CC30-42C3-AD0E-F90E0A02B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D54CCD-2ECE-42DC-ADD3-9EE0AF63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37E3-556E-42C7-90C9-5BA4BCE8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B28EE9-B5C1-4EBB-88DF-E7B5DB56A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E6EEFA-E5A4-43F6-A0B4-F3BC01DD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2450F8-66DF-40BE-B13C-2F50323A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21DBB7-D6F3-42E2-935D-874C4B25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6EB20B-A0AF-4CE8-BC91-CC712268B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D7F249-0065-439D-BF20-2EFA76001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8F75BE-7F66-49AF-9A5B-6EE004941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A5453-C293-4EA5-A729-65938041CFF9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2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32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21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31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4017B-619E-409E-A767-984DE940DCA6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6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7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e9ec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96862-D103-4CEC-A69F-D0B772D7935E}" type="slidenum">
              <a:rPr b="0" lang="ru-RU" sz="1400" spc="-1" strike="noStrike">
                <a:solidFill>
                  <a:srgbClr val="dde9e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Равнобедренный треугольник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338D6-5731-4F7B-A153-B59D3A84CB33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4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Равнобедренный треугольник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1D563-31B5-4262-B3D9-F3867F486CC9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9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Равнобедренный треугольник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E45D2-A56F-4CEF-8697-2227F4414044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Равнобедренный треугольник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9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e9ec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B6221-6E7F-4DE6-BC11-4615AC8C12EE}" type="slidenum">
              <a:rPr b="0" lang="ru-RU" sz="1400" spc="-1" strike="noStrike">
                <a:solidFill>
                  <a:srgbClr val="dde9e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Равнобедренный треугольник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ая соединительная линия 8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44C24-AC28-478B-B4E9-9A7C9BF3379E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4" descr="https://ds05.infourok.ru/uploads/ex/0483/0001b232-a997d359/img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https://ds05.infourok.ru/uploads/ex/1011/000910c0-1c9cbdbd/hello_html_m6313828c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55280" y="3789360"/>
            <a:ext cx="554364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ласенко Е.В.</a:t>
            </a:r>
            <a:endParaRPr b="0" lang="en-US" sz="24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2916000" y="2060640"/>
            <a:ext cx="555444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15280" indent="-215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авила дорожного движ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89" name="Объект 3" descr=""/>
          <p:cNvPicPr/>
          <p:nvPr/>
        </p:nvPicPr>
        <p:blipFill>
          <a:blip r:embed="rId1"/>
          <a:stretch/>
        </p:blipFill>
        <p:spPr>
          <a:xfrm>
            <a:off x="1281240" y="1219320"/>
            <a:ext cx="6581520" cy="49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91" name="Объект 3" descr=""/>
          <p:cNvPicPr/>
          <p:nvPr/>
        </p:nvPicPr>
        <p:blipFill>
          <a:blip r:embed="rId1"/>
          <a:stretch/>
        </p:blipFill>
        <p:spPr>
          <a:xfrm>
            <a:off x="1281240" y="1219320"/>
            <a:ext cx="6581520" cy="49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93" name="Объект 3" descr=""/>
          <p:cNvPicPr/>
          <p:nvPr/>
        </p:nvPicPr>
        <p:blipFill>
          <a:blip r:embed="rId1"/>
          <a:stretch/>
        </p:blipFill>
        <p:spPr>
          <a:xfrm>
            <a:off x="2103480" y="396720"/>
            <a:ext cx="4937040" cy="65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20" descr="https://ds05.infourok.ru/uploads/ex/0483/0001b232-a997d359/img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2" descr="http://900igr.net/up/datai/237725/0002-003-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6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10" descr="4"/>
          <p:cNvPicPr/>
          <p:nvPr/>
        </p:nvPicPr>
        <p:blipFill>
          <a:blip r:embed="rId3"/>
          <a:stretch/>
        </p:blipFill>
        <p:spPr>
          <a:xfrm>
            <a:off x="2050920" y="189000"/>
            <a:ext cx="4826160" cy="40291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20" descr="https://ds05.infourok.ru/uploads/ex/0483/0001b232-a997d359/img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2" descr="http://900igr.net/up/datai/237725/0002-003-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2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7" descr="5"/>
          <p:cNvPicPr/>
          <p:nvPr/>
        </p:nvPicPr>
        <p:blipFill>
          <a:blip r:embed="rId3"/>
          <a:stretch/>
        </p:blipFill>
        <p:spPr>
          <a:xfrm>
            <a:off x="179280" y="189000"/>
            <a:ext cx="4176720" cy="2773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406" name="Picture 8" descr="6"/>
          <p:cNvPicPr/>
          <p:nvPr/>
        </p:nvPicPr>
        <p:blipFill>
          <a:blip r:embed="rId4"/>
          <a:stretch/>
        </p:blipFill>
        <p:spPr>
          <a:xfrm>
            <a:off x="4716360" y="1197000"/>
            <a:ext cx="3988080" cy="27050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20" descr="https://ds05.infourok.ru/uploads/ex/0483/0001b232-a997d359/img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12" descr="http://900igr.net/up/datai/237725/0002-003-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9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7" descr="7"/>
          <p:cNvPicPr/>
          <p:nvPr/>
        </p:nvPicPr>
        <p:blipFill>
          <a:blip r:embed="rId3"/>
          <a:stretch/>
        </p:blipFill>
        <p:spPr>
          <a:xfrm>
            <a:off x="179280" y="260280"/>
            <a:ext cx="4043520" cy="27972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413" name="Picture 8" descr="8"/>
          <p:cNvPicPr/>
          <p:nvPr/>
        </p:nvPicPr>
        <p:blipFill>
          <a:blip r:embed="rId4"/>
          <a:stretch/>
        </p:blipFill>
        <p:spPr>
          <a:xfrm>
            <a:off x="4716360" y="1341360"/>
            <a:ext cx="3816360" cy="26971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20" descr="https://ds05.infourok.ru/uploads/ex/0483/0001b232-a997d359/img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12" descr="http://900igr.net/up/datai/237725/0002-003-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6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7" descr="9"/>
          <p:cNvPicPr/>
          <p:nvPr/>
        </p:nvPicPr>
        <p:blipFill>
          <a:blip r:embed="rId3"/>
          <a:stretch/>
        </p:blipFill>
        <p:spPr>
          <a:xfrm>
            <a:off x="395280" y="189000"/>
            <a:ext cx="3002040" cy="4527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420" name="Picture 8" descr="10"/>
          <p:cNvPicPr/>
          <p:nvPr/>
        </p:nvPicPr>
        <p:blipFill>
          <a:blip r:embed="rId4"/>
          <a:stretch/>
        </p:blipFill>
        <p:spPr>
          <a:xfrm>
            <a:off x="4211640" y="549360"/>
            <a:ext cx="4159080" cy="29080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8" descr="спасиб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0" descr="https://ds05.infourok.ru/uploads/ex/0483/0001b232-a997d359/img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2" descr="http://900igr.net/up/datai/237725/0002-003-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8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9" descr="1"/>
          <p:cNvPicPr/>
          <p:nvPr/>
        </p:nvPicPr>
        <p:blipFill>
          <a:blip r:embed="rId3"/>
          <a:stretch/>
        </p:blipFill>
        <p:spPr>
          <a:xfrm>
            <a:off x="2771640" y="476280"/>
            <a:ext cx="3275280" cy="47577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0" descr="https://ds05.infourok.ru/uploads/ex/0483/0001b232-a997d359/img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2" descr="http://900igr.net/up/datai/237725/0002-003-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4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10" descr="2"/>
          <p:cNvPicPr/>
          <p:nvPr/>
        </p:nvPicPr>
        <p:blipFill>
          <a:blip r:embed="rId3"/>
          <a:stretch/>
        </p:blipFill>
        <p:spPr>
          <a:xfrm>
            <a:off x="1908000" y="549360"/>
            <a:ext cx="5553360" cy="3906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69" name="Объект 3" descr=""/>
          <p:cNvPicPr/>
          <p:nvPr/>
        </p:nvPicPr>
        <p:blipFill>
          <a:blip r:embed="rId1"/>
          <a:stretch/>
        </p:blipFill>
        <p:spPr>
          <a:xfrm>
            <a:off x="1281240" y="1219320"/>
            <a:ext cx="6581520" cy="49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71" name="Объект 3" descr=""/>
          <p:cNvPicPr/>
          <p:nvPr/>
        </p:nvPicPr>
        <p:blipFill>
          <a:blip r:embed="rId1"/>
          <a:stretch/>
        </p:blipFill>
        <p:spPr>
          <a:xfrm>
            <a:off x="2103480" y="396720"/>
            <a:ext cx="4937040" cy="65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73" name="Объект 3" descr=""/>
          <p:cNvPicPr/>
          <p:nvPr/>
        </p:nvPicPr>
        <p:blipFill>
          <a:blip r:embed="rId1"/>
          <a:stretch/>
        </p:blipFill>
        <p:spPr>
          <a:xfrm>
            <a:off x="1281240" y="1219320"/>
            <a:ext cx="6581520" cy="49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0" descr="https://ds05.infourok.ru/uploads/ex/0483/0001b232-a997d359/img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2" descr="http://900igr.net/up/datai/237725/0002-003-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6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10" descr="i"/>
          <p:cNvPicPr/>
          <p:nvPr/>
        </p:nvPicPr>
        <p:blipFill>
          <a:blip r:embed="rId3"/>
          <a:stretch/>
        </p:blipFill>
        <p:spPr>
          <a:xfrm>
            <a:off x="1692360" y="260280"/>
            <a:ext cx="5700600" cy="39592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81" name="Объект 3" descr=""/>
          <p:cNvPicPr/>
          <p:nvPr/>
        </p:nvPicPr>
        <p:blipFill>
          <a:blip r:embed="rId1"/>
          <a:stretch/>
        </p:blipFill>
        <p:spPr>
          <a:xfrm>
            <a:off x="1281240" y="1219320"/>
            <a:ext cx="6581520" cy="49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20" descr="https://ds05.infourok.ru/uploads/ex/0483/0001b232-a997d359/img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2" descr="http://900igr.net/up/datai/237725/0002-003-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4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9" descr="3"/>
          <p:cNvPicPr/>
          <p:nvPr/>
        </p:nvPicPr>
        <p:blipFill>
          <a:blip r:embed="rId3"/>
          <a:stretch/>
        </p:blipFill>
        <p:spPr>
          <a:xfrm>
            <a:off x="1763640" y="260280"/>
            <a:ext cx="5648400" cy="40719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22T09:12:19Z</dcterms:created>
  <dc:creator>Слава</dc:creator>
  <dc:description/>
  <dc:language>en-US</dc:language>
  <cp:lastModifiedBy>A</cp:lastModifiedBy>
  <dcterms:modified xsi:type="dcterms:W3CDTF">2019-11-28T12:16:45Z</dcterms:modified>
  <cp:revision>19</cp:revision>
  <dc:subject/>
  <dc:title>Слайд 1</dc:title>
</cp:coreProperties>
</file>