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67E-9955-46F8-9E0A-C93DEB47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535-ADE7-43B4-BC04-A554C41F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295F1-08AE-41B3-A0FD-C61AC8D4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3F372-C921-4A62-BAD7-B9BFF01B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12EF3-F0FB-4F65-BC82-F4A22991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D79E3-B9EA-4180-BE5D-0DC86154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DD9CC-963A-4CED-8C22-87BEDD7E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DB13D-61C6-4B33-9EDE-56243AC8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3AB53-8CAB-431B-A477-284F1EB7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68356-882A-4010-A4D3-ED4B11B7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11108-E396-46E9-BC6F-190450C6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1D571-36C0-4CE3-A6DD-DF5D159F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52C-83F2-436C-BA17-FAE387F5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7538A-A17F-4CE5-B2F1-F089D740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65B70-B968-4D3C-8597-6041AD5A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24C74-E1F1-48EB-B902-B7E66062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4D26C-DFC9-402D-AF60-AFE05ACB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D4E32-9731-4FF9-A451-B9011BEE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7F039-4156-4A27-AF66-1B4E8D8A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645AD-CF25-4426-BD27-2D30C47F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B05B3-3B2C-4A51-873F-94B634B7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91473-E245-40F2-A386-B680B67A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9B0A3-3C77-45BD-A7C5-CEDEF437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BAF-AC04-473C-9DF4-37AF20CB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B3C27-BD2F-430D-99BC-A96C41A1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FF62C-C49E-4B85-B27E-87BF1166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CE343-F1F6-4933-BC6B-6F3F6F11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671F7-6C34-434C-910B-9474EECC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30AE1-EDA9-4AC4-B066-EA092726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E870D-DA1B-4910-B922-1BCE01C8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26822-9F34-4A05-A67C-80B4A03B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405C5-A581-44CF-B3CE-6B3E822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C8ED3-B3AF-4842-ADE5-1DBB02C0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A3D5F-33C7-47A1-B837-7A24FECF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749D-08F6-4EC0-A7A0-6403B8EE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347D0-DF9D-497A-A785-7A2394E9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9BA82-2404-48FA-AFB9-5035E984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292BA-3F4E-4409-A723-0DDC4149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59BFD-6886-40B8-83B1-33CEB1D7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3138E-3BEE-4A78-A9CF-43C03109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F4347-F170-400A-AA04-5836511B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DCBDE-3DBC-4D9A-A1D1-BDECF5B9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93930-D52A-4F3B-9865-FCBCCE75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C64D59-4FAF-47C5-A1E2-A10EF2C0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BBA90-615E-4F2B-90F5-5F2F4E98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9E72-C314-48A3-9AA9-5E5A83F0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75A4E-59DF-4D6E-8CC1-C067BE63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118CD-926D-43EF-92A3-D74FB597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4479C-D860-4B3F-AA0C-2D3B91B5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4E989-0FC8-4CF9-A363-A7108CBC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B736A-5850-4FE0-8AC8-FFFF4802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0F3B-E86C-4306-9176-C9D4525E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906F-8BBF-4DE9-A534-BB2DC9EE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A5D0-7BA0-420D-BDC7-1337AE19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2657-78A6-49F2-B4F3-20E9D67A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C82E-06F9-40A3-BA2B-18361518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895-6932-408F-B2F6-7051B1FF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DBA1-D93E-47A6-95CD-D7D1FAE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68F1-A003-4030-AF71-1EC362EC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2F36-B18F-4DC8-BF9F-446A1F17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F17E-7AED-4A65-B757-90B66F4E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AEFF-56B9-4268-A808-2513C1DB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907B-2E20-4707-827A-05A8CA3C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723EE-8B49-4EDB-8D84-E9189641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F7C73-CA43-4140-8927-9C6424A8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1C8C-E5C4-470E-AA98-E05CF6FC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ADB4-4FEA-42E6-8317-FDF98B0A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D77-031E-4E9A-A0DD-708283D3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E5B9-2510-4810-8296-436FC503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305C-5CEA-4039-B43F-AEA499DD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CAF24-211E-4393-B3F3-6D54BAAF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318F-CC70-4479-A2B9-4E528B11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DC25-A393-4CD8-A65A-1A6FDA23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4ADC-70F3-47C4-88DF-3946FB79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258F-4D77-4338-B5EC-4207B3D3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11F15-F54C-4CD0-82BA-3DE2AEBC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B5507-C116-4280-AC08-F56C20C7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46C6-C04A-4CD0-9800-E94BE2F4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FF5-7122-4A88-B698-DABA6A39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297A7-F960-4355-885E-564AF28C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14B22-3BDD-4D27-9387-2194B2DD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322A2-5581-432F-8044-75617FA2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1548-A32E-48B0-91A7-97C7F2BD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A2CB-F4DE-4945-A86C-E7CA70D7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B4A12-B2EF-4C07-8423-60EE3D1E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04FE-7395-4997-B380-43DBA109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F9579-648E-4F34-B3DC-C81A22E7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EA767-34EB-4710-BAAD-1E007347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C3769-3A8B-4B88-A3B6-6D9BA02B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C5D-4DC1-4334-B01D-3DA63596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9BD99-C16B-4CEE-AFA5-B599B3E6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CEDA3-1CE8-43A9-B50C-93D00180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2682A-62CF-46BB-B6EC-BC0E2F9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9DD43-DD6F-4862-A309-2FC9CE6D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0CDA2-BC4F-41AD-8A35-B7738FB9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E23FF-343B-4008-B75F-0C28A695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842D4-6CDF-4AB1-B607-8B86808A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26ABE-50F7-4464-B7EC-4DE3A955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BB8AE-C759-4265-88A5-83D95703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977AC-0D47-4FA4-B04C-A74C66E9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E69-1D37-4CFD-A950-712555B7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B8267-8B44-4169-BE9F-F365DD8F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00155-2AEE-4F33-866E-A2BAD63D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76DE-4B01-4A52-9F55-58E3A2A3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40850-9CDC-40C6-91FF-3BBD04B6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B34BB-D62C-4F89-B721-72CE8397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6204-9EA5-414D-95C7-C3EBEFCD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884EA-A639-4219-8DD7-50C3FA17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89F70-8F80-4A30-94A4-ED52D96F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EAE8A-CB7B-4F04-8744-E27EE434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108D8-6F4C-467D-9FFE-23C3E2BD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4F5-CAAA-4574-8C75-65675638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7F51A-6BEC-4819-9882-2AF761E2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BD58A-6428-470E-8D17-C87BD303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E2E8C-BD47-46B8-ACCC-677C97A2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58B39-8E42-4B5D-BAC6-8233C467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D10F2-19B2-4D29-9BE4-2D023BEE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AD910-18D7-4B7B-A5B4-2CD99E9F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04F3E-E2C8-4975-B8CB-32C70C3D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FDD07-3922-4DE1-BAD3-152BE885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531B9-189F-47C8-BFFF-CF71AF37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EC772-440A-4AD9-AE27-D49491CD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A0E-2F4E-45BE-BE3E-9700E5B3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B4770-C298-4EE7-90D2-A617EBA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8793A-DB8F-47FC-8D36-B764C4F2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B0062-0B5D-4486-B0DA-FAF543E6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B41D2-9C62-475F-BDAB-D39BFD44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7FF63-D5AF-415C-A505-6C88914C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72BA7-6DE7-4805-ABD2-75ECE416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C64A0-E0B5-4AF5-B042-664265B3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D35F4-E5B5-4DA9-B590-29D127C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C5546-E1A4-4DDF-94B2-7B05747B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4ADC1-DAF5-416E-97F3-D31100F2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B9B-A703-4CA8-956C-83EEE918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1C44F-F088-4483-A850-939D5614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2F7D5-57BE-4D48-81F4-353FF528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C5E5D-1801-4061-825D-371B955A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81237-94CF-45A6-94F5-D66B987E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A6B1B-7476-4B37-A39B-EB14667C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BC1D9-2022-4FC9-B73C-96564707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68889-88DA-4339-8668-560D6DA2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B751E-B958-446D-8F16-635AD3A0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4E4D4-2D70-4C5D-BAEB-003DC873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75A55-9707-4F46-9D93-211EBFC6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2409-C1C7-4F47-A051-48AD56089DE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D2F7-13A2-4145-940C-D4028A7AE94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C4A4-2196-4EF8-AE1E-903365AB3D3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6C7C-C646-4313-A04F-BFFF5634E6B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E3DA-E1D3-4FEC-872B-42C3A905E4E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7D09-3256-4939-84E7-276ADCF5561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79E3-A7AB-4C15-9A96-31D1941DBC4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B4D2-9605-4920-8200-1569103963A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2738-19C4-43CC-9E34-9267059D922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7046-B25D-4B9F-947F-A9CEC47E255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05D0-C05E-4CBF-932E-EA08B9408A5B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CD91-12E2-443E-9217-395BDA0DA01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эты Серебряного века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6797520" y="1484280"/>
            <a:ext cx="2095560" cy="2743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"/>
          <p:cNvPicPr/>
          <p:nvPr/>
        </p:nvPicPr>
        <p:blipFill>
          <a:blip r:embed="rId2"/>
          <a:stretch/>
        </p:blipFill>
        <p:spPr>
          <a:xfrm>
            <a:off x="3714840" y="2357280"/>
            <a:ext cx="2095560" cy="3419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"/>
          <p:cNvPicPr/>
          <p:nvPr/>
        </p:nvPicPr>
        <p:blipFill>
          <a:blip r:embed="rId3"/>
          <a:stretch/>
        </p:blipFill>
        <p:spPr>
          <a:xfrm>
            <a:off x="285840" y="2852640"/>
            <a:ext cx="2381040" cy="3457800"/>
          </a:xfrm>
          <a:prstGeom prst="rect">
            <a:avLst/>
          </a:prstGeom>
          <a:ln w="0">
            <a:noFill/>
          </a:ln>
        </p:spPr>
      </p:pic>
      <p:sp>
        <p:nvSpPr>
          <p:cNvPr id="610" name="Прямоугольник 1"/>
          <p:cNvSpPr/>
          <p:nvPr/>
        </p:nvSpPr>
        <p:spPr>
          <a:xfrm>
            <a:off x="4140360" y="5940360"/>
            <a:ext cx="52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: Брезденюк Ольга Ивано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итературы МОУ «СОШ№13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Есенин С.А. « О родина!»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0920" y="1356840"/>
            <a:ext cx="4069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Брожу по синим селам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акая благодать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тчаянный, веселый,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о весь в тебя я, мать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училище разгула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репил я плоть и ум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 березового гула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тет твой вешний шум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Люблю твои пороки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пьянство, и разбой,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утром на востоке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рять себя звездой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всю тебя, как знаю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Хочу измять и взять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горько проклинаю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 то, что ты мне мать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5" descr="Картинки по запросу село константиново рязанская область есенин"/>
          <p:cNvPicPr/>
          <p:nvPr/>
        </p:nvPicPr>
        <p:blipFill>
          <a:blip r:embed="rId1"/>
          <a:stretch/>
        </p:blipFill>
        <p:spPr>
          <a:xfrm>
            <a:off x="3924360" y="2116080"/>
            <a:ext cx="4763880" cy="3167280"/>
          </a:xfrm>
          <a:prstGeom prst="rect">
            <a:avLst/>
          </a:prstGeom>
          <a:ln w="0">
            <a:noFill/>
          </a:ln>
        </p:spPr>
      </p:pic>
      <p:sp>
        <p:nvSpPr>
          <p:cNvPr id="638" name="Прямоугольник 3"/>
          <p:cNvSpPr/>
          <p:nvPr/>
        </p:nvSpPr>
        <p:spPr>
          <a:xfrm>
            <a:off x="3924360" y="5280120"/>
            <a:ext cx="47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адьба родителей С.А. Есенина в Константин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рина Цветаев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0" name="Picture 2" descr="Картинки по запросу Марина Цветаева"/>
          <p:cNvPicPr/>
          <p:nvPr/>
        </p:nvPicPr>
        <p:blipFill>
          <a:blip r:embed="rId1"/>
          <a:stretch/>
        </p:blipFill>
        <p:spPr>
          <a:xfrm>
            <a:off x="324000" y="1628640"/>
            <a:ext cx="3828960" cy="4572000"/>
          </a:xfrm>
          <a:prstGeom prst="rect">
            <a:avLst/>
          </a:prstGeom>
          <a:ln w="0">
            <a:noFill/>
          </a:ln>
        </p:spPr>
      </p:pic>
      <p:sp>
        <p:nvSpPr>
          <p:cNvPr id="641" name="Содержимое 2"/>
          <p:cNvSpPr/>
          <p:nvPr/>
        </p:nvSpPr>
        <p:spPr>
          <a:xfrm>
            <a:off x="4386240" y="1628640"/>
            <a:ext cx="4449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рина Цветаева родилась 26 сентября (8 октября) 1892 года в Москве. Сама Цветаева праздновала свой день рождения 9 октября, связывая его с днём поминовения апостола Иоанна Богослова по православному календ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рина Цветаева — Молитва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250920" y="1455840"/>
            <a:ext cx="3889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Христос и Бог! Я жажду чуда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Теперь, сейчас, в начале дня!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О, дай мне умереть, покуда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ся жизнь как книга для меня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Ты мудрый, Ты не скажешь строго: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— «Терпи, еще не кончен срок»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Ты сам мне подал — слишком много!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Я жажду сразу — всех дорог!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сего хочу: с душой цыгана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Идти под песни на разбой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За всех страдать под звук органа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и амазонкой мчаться в бо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Гадать по звездам в черной башне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ести детей вперед, сквозь тень…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Чтоб был легендой — день вчерашний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Чтоб был безумьем — каждый день!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Люблю и крест, и шелк, и каски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я душа мгновений след…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Ты дал мне детство — лучше сказки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И дай мне смерть — в семнадцать лет!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4" name="Picture 2" descr="Памятники Марине Цветаевой"/>
          <p:cNvPicPr/>
          <p:nvPr/>
        </p:nvPicPr>
        <p:blipFill>
          <a:blip r:embed="rId1"/>
          <a:stretch/>
        </p:blipFill>
        <p:spPr>
          <a:xfrm>
            <a:off x="5292720" y="1465200"/>
            <a:ext cx="3311640" cy="4506840"/>
          </a:xfrm>
          <a:prstGeom prst="rect">
            <a:avLst/>
          </a:prstGeom>
          <a:ln w="0">
            <a:noFill/>
          </a:ln>
        </p:spPr>
      </p:pic>
      <p:sp>
        <p:nvSpPr>
          <p:cNvPr id="645" name="Прямоугольник 5"/>
          <p:cNvSpPr/>
          <p:nvPr/>
        </p:nvSpPr>
        <p:spPr>
          <a:xfrm>
            <a:off x="5292720" y="5981760"/>
            <a:ext cx="331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Памятник в Борисоглебском переулке в Москве, напротив цветаевского Дома-музе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1714680" y="164304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ыучить 1 стихотворение по выбору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Анна Ахматова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066920" y="1699920"/>
            <a:ext cx="4738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46b86"/>
                </a:solidFill>
                <a:latin typeface="Georgia"/>
              </a:rPr>
              <a:t>Анна Андреевна Ахматова</a:t>
            </a:r>
            <a:r>
              <a:rPr b="0" lang="ru-RU" sz="1700" spc="-1" strike="noStrike">
                <a:solidFill>
                  <a:srgbClr val="646b86"/>
                </a:solidFill>
                <a:latin typeface="Georgia"/>
              </a:rPr>
              <a:t> (фамилия при рождении — </a:t>
            </a:r>
            <a:r>
              <a:rPr b="1" lang="ru-RU" sz="1700" spc="-1" strike="noStrike">
                <a:solidFill>
                  <a:srgbClr val="646b86"/>
                </a:solidFill>
                <a:latin typeface="Georgia"/>
              </a:rPr>
              <a:t>Горенко</a:t>
            </a:r>
            <a:r>
              <a:rPr b="0" lang="ru-RU" sz="1700" spc="-1" strike="noStrike">
                <a:solidFill>
                  <a:srgbClr val="646b86"/>
                </a:solidFill>
                <a:latin typeface="Georgia"/>
              </a:rPr>
              <a:t>; 11 (23) июня 1889, Одесса, Российская империя — 5 марта 1966, Домодедово, Московская область, РСФСР, СССР) — русская поэтесса, писатель, литературовед, литературный критик, переводчик, один из крупнейших русских поэтов XX века.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3" name="Picture 5" descr="Картинки по запросу анна ахматова"/>
          <p:cNvPicPr/>
          <p:nvPr/>
        </p:nvPicPr>
        <p:blipFill>
          <a:blip r:embed="rId1"/>
          <a:stretch/>
        </p:blipFill>
        <p:spPr>
          <a:xfrm>
            <a:off x="539640" y="1700280"/>
            <a:ext cx="2857680" cy="435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85840"/>
            <a:ext cx="85345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Анна Ахматов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290520" y="1735200"/>
            <a:ext cx="4568760" cy="3925800"/>
          </a:xfrm>
          <a:prstGeom prst="rect">
            <a:avLst/>
          </a:prstGeom>
          <a:ln w="0">
            <a:noFill/>
          </a:ln>
        </p:spPr>
      </p:pic>
      <p:sp>
        <p:nvSpPr>
          <p:cNvPr id="616" name="Прямоугольник 7"/>
          <p:cNvSpPr/>
          <p:nvPr/>
        </p:nvSpPr>
        <p:spPr>
          <a:xfrm>
            <a:off x="5003640" y="1735200"/>
            <a:ext cx="4214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водили тебя на рассвет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За тобой, как на выносе, шл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темной горнице плакали дет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У божницы свеча оплыл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убах твоих холод икон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Смертный пот на челе... не забыт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Буду я, как стрелецкие женки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д кремлевскими башнями в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Александр Блок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787640" y="1484280"/>
            <a:ext cx="35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одился 16 (28) ноября 1880 года. По происхождению, семейным и родственным связям, дружеским отношениям, поэт принадлежал к кругу старой русской интеллигенции, из поколения в поколения служившей науке и литератур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5" descr="Картинки по запросу александр блок"/>
          <p:cNvPicPr/>
          <p:nvPr/>
        </p:nvPicPr>
        <p:blipFill>
          <a:blip r:embed="rId1"/>
          <a:stretch/>
        </p:blipFill>
        <p:spPr>
          <a:xfrm>
            <a:off x="611280" y="1841400"/>
            <a:ext cx="2952720" cy="403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Александр Блок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6929280" y="4000680"/>
            <a:ext cx="1810080" cy="231444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оугольник 4"/>
          <p:cNvSpPr/>
          <p:nvPr/>
        </p:nvSpPr>
        <p:spPr>
          <a:xfrm>
            <a:off x="642960" y="1643040"/>
            <a:ext cx="6215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стихи Блок написал в пять лет. В 10 лет Александр Блок написал два номера журнала «Корабл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етства Александр Блок каждое лето проводил в подмосковном имении деда Шахматово. В 8 км находилось имение друга Бекетова, великого русского химика Дмитрия Менделеева Боб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 лет Блок увлёкся театром. В Петербурге Александр Блок записался в театральный кружок. Однако после первого успеха ролей в театре ему больше не дав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9899"/>
                </a:solidFill>
                <a:latin typeface="Georgia"/>
              </a:rPr>
              <a:t>Государственный историко-литературный и природный музей-заповедник А. А. Блока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538776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Поэтические произведения Блока переведены на многие языки мира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72880" y="1412640"/>
            <a:ext cx="3556080" cy="49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О доблестях, о подвигах, о слав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Я забывал на горестной земле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Когда твое лицо в простой оправ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Передо мной сияло на столе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Но час настал, и ты ушла из дому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Я бросил в ночь заветное кольцо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Ты отдала свою судьбу другому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И я забыл прекрасное лицо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Летели дни, крутясь проклятым роем..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Вино и страсть терзали жизнь мою..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И вспомнил я тебя пред аналоем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И звал тебя, как молодость свою..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Я звал тебя, но -ты не оглянулась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Я слезы лил, но ты не снизошла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Ты в синий плащ печально завернулась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В сырую ночь ты из дому ушла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Не знаю, где приют своей гордын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Ты, милая, ты, нежная, нашла..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Я крепко сплю, мне снится, плащ твой синий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В котором ты в сырую ночь ушла..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Уж не мечтать о нежности, о славе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Все миновалось, молодость прошла?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Твое лицо в его простой оправ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Своей рукой убрал я со стола.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314800" cy="411660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2"/>
          <p:cNvSpPr/>
          <p:nvPr/>
        </p:nvSpPr>
        <p:spPr>
          <a:xfrm>
            <a:off x="6084720" y="5745240"/>
            <a:ext cx="231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Памятник Александру Блоку в Москве, на улице Спиридо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Стихотворение Александра Блока на стене одного из домов в Лейдене (Нидерланды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5508720" y="1989000"/>
            <a:ext cx="304776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"/>
          <p:cNvGraphicFramePr/>
          <p:nvPr/>
        </p:nvGraphicFramePr>
        <p:xfrm>
          <a:off x="301680" y="1711440"/>
          <a:ext cx="4575240" cy="3292200"/>
        </p:xfrm>
        <a:graphic>
          <a:graphicData uri="http://schemas.openxmlformats.org/drawingml/2006/table">
            <a:tbl>
              <a:tblPr/>
              <a:tblGrid>
                <a:gridCol w="457524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очь, улица, фонарь, аптек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ссмысленный и тусклый св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Живи еще хоть четверть века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се будет так. Исхода н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мрешь - начнешь опять сначал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 повторится все, как встар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очь, ледяная рябь канал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птека, улица, фонар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ергей Есенин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355640" y="1527120"/>
            <a:ext cx="4449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дился в селе Константиново Рязанской губернии, Кузьминской волости, в крестьянской семье. Отец — Александр Никитич Есенин, мать — Татьяна Фёдоровна Титова 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5" descr="Картинки по запросу сергей есенин"/>
          <p:cNvPicPr/>
          <p:nvPr/>
        </p:nvPicPr>
        <p:blipFill>
          <a:blip r:embed="rId1"/>
          <a:stretch/>
        </p:blipFill>
        <p:spPr>
          <a:xfrm>
            <a:off x="395280" y="1539720"/>
            <a:ext cx="3097080" cy="457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3:27:37Z</dcterms:created>
  <dc:creator>Star</dc:creator>
  <dc:description/>
  <dc:language>en-US</dc:language>
  <cp:lastModifiedBy>Admin</cp:lastModifiedBy>
  <dcterms:modified xsi:type="dcterms:W3CDTF">2019-11-25T10:51:35Z</dcterms:modified>
  <cp:revision>33</cp:revision>
  <dc:subject/>
  <dc:title>Поэты «Серебряного века».</dc:title>
</cp:coreProperties>
</file>