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B38-EF32-41D1-B9D1-E4A27924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965-48B4-4132-BCBF-87550114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41817-D4FB-4FD9-9CF4-2C35C66D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9DA98-A614-4611-9CCA-ACC09FF4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68AE1-E993-4975-B2DA-2FA6F72C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A4167-04BA-4DF3-A419-9951A46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0DCF3-8657-4499-B65E-1A4130D0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86667-DE03-48CF-B234-82CF9513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B4D41-2A79-4FEB-B228-139DEA31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4A92A-2CB7-4030-B845-F7E1891F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76A6E-675C-4A95-A59B-5CD31DDC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75230-CF8F-4F09-8D52-D67ECD2C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822-5F1B-48FB-9785-F21DD3FF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6FEA0-47FC-4CAF-A009-05CFB9A8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3CA6D-747E-4D03-8D77-DE578A0A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F9779-5FEE-40F3-9BCF-5F6FA25C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E8D91-98F7-44A3-9F9B-1E91B724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5FA9E-1385-4FB5-A22A-E2349964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9DA37-5A3D-44C4-AE5A-40DF1FBE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77D28-37FC-48BF-BD93-E749DCB2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AAD89-CB67-4D6E-952D-C71E99A7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85AD0-2C48-43AF-BBDA-0137EB8B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58785-ED9B-443F-A2BF-CE3E6ABC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EED-CD2A-482B-A1F5-7786C14E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8FE7A-0411-4AAF-8D73-A16E25EF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B528F-701D-4F8E-B0A7-C5AFB6A0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1663F-5E47-46F1-95DE-90491668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B92EB-A802-4E76-A052-E520F4BA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D4389-7818-4C02-8E88-E0F88BBF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C0D5D-9317-435F-9A54-FBE9E879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6B94C-62DD-47D1-A039-CE46A3DE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075B9-B994-48E3-982F-536FC79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97843-BE99-4F11-B3CE-E84FE350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E1F69-B22F-4422-A909-E024059B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C81F-E8C8-48B3-A3C8-1050D4CF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59EB3-6434-44B1-8E86-5C42F2A5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EE529-8230-4355-A163-DF9620E8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0FAC5-EE51-4799-8105-6554A253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8C386-9AB9-4425-9A91-440ACEDD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9B4F3-CB02-4851-A094-8F9DA40D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2B2F8-3997-4289-A02E-57DA237A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B2053-649B-4DE5-A7BC-41C676C0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06FA0-2411-4209-A3B4-F470C643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D2AAA-6834-4793-B1CE-A7948546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923B8-0F8C-4F7C-A45F-89CBF6FF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FEFC-2CB8-4B84-A337-B7FDAB1B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674AF-3CC2-4EAC-9B5D-66BF4725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03C23-BE96-4AAC-8D38-F15690F9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D343B-1C53-4801-90C6-26F5E12E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CF0C4-9D41-40D8-AD62-EC8B9FEC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D0EE9-CB0F-4BD8-8C98-036EF1FF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B602-54AD-436B-9FDD-0E1C8025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07B4-6530-42EA-BE9B-871A7067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6A8B-7D40-46E1-A585-31127308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5917-243A-4EAD-B726-3A50CF15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0235-4D7A-439F-B5EE-B24496FC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224-F907-4BC9-90CF-7719BDFF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D806-5AA0-464D-9E49-435E2AC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07B4-B313-4C7A-88CA-7BFCC4B1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CC10-611E-40E4-B6D6-A353F85F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9445-10FC-493A-9253-E36D12EE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EC98-9941-4D4E-9BCE-77918FD0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3B9E-DABE-463C-BC6A-DBF98EEA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95F5-C51A-4383-8D7F-FB52317D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1F28-3D2E-476D-9800-82E496AE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B950-C824-4173-B346-6300E069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16AD-8AF2-417F-ACBC-34E95A8D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7A6-E1DC-4207-8269-AF1422E9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B9AB1-337B-439D-811B-7F2C70E6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2ABAA-F86E-4DE6-A2CF-D02F919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ED8D-716E-411F-9472-E3E1CB44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1A92-8661-4C69-B00D-DC1D86D1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DAC4-37F7-41AD-9B7D-710AE1C1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6D980-BFDC-41E6-8811-ED8C2818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31A8-F82F-4950-9798-F7947C20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2C97-F4E9-4FE3-A650-EC1C5A36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60FFC-D15B-4E19-B091-9541DDAA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993D-999A-47F5-919B-75CB6C19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842-F6AB-44D1-B509-6DE28B63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F4FA0-5081-4AAE-A8C1-1DD79635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763B-3F3F-4142-8EE6-6250DDFD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796F1-A1D0-4398-B02E-D4AB85E3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39CE5-E5EB-4F96-90B9-419484F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FEF39-BC4E-4DA2-A8A6-1A90AF1D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B7946-4143-401B-8D35-B4F19253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CA344-3771-45A7-8A76-6BA3CE30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3CBA-C09A-447F-A988-3562FA81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16890-B206-4D0D-9E54-FE9F0D71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321EB-EA21-4620-A430-D7C42BFB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959-B7E1-48D3-9E03-40EACF0B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F6428-636C-43B3-B258-CF8A6CD7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E857-3ADE-42C0-BC3D-920F4FF6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26E51-4773-43D1-B239-02BB671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5116-69FC-4F5B-AA21-A2BEDB17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3442-99C9-44A6-9F84-6A900EC8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E5BFE-5CA6-4CAB-9E24-3ABA92D9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C3291-6065-40B0-AE57-DCF71D0B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F2DC9-4FA1-47BD-82FE-49465B8D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D558D-1254-4864-8AA9-D1C780BE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E318C-B47F-4573-A87B-E5B9443A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278-A5BE-4579-B8A5-9C99633F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D7AC6-E1FB-4C58-B65F-D7162692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A33D8-78D7-4B81-9738-97D570D5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A7568-2A76-4B42-B726-73D81ADE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0B109-04AA-4B46-81D2-65514A6B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6FDDE-995C-4143-90E1-7243503A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6F609-2C6B-43C6-977A-183A1175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BE152-3178-4DAF-9FE7-2F3342D3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DABA9-C271-4304-8DDB-6AE54647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161D4-09B8-492F-B2B1-A42F11B6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E94E8-AD03-4F7F-BCE1-9FCF3FBC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BA6-DA87-4A4A-9EF6-CC616C46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1B60D-0ECF-44B8-BC6B-5709B324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7E770-2392-43D1-850F-2667F09A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30999-930B-4A51-9D14-9038DEDE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2D591-4507-45B3-AE4D-9691C649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9DCF5-6514-4D4E-A2AE-A39B267F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80BF2-A26A-4024-BAF3-33E2C8A3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96E3A-4679-435A-88BB-B35361A2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E7E8F-CDFD-45CF-998F-145EF154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66938-E87F-45DA-B0DE-AE026F56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B0F8D-F101-4C62-B693-B8D79F8A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94D-E59A-4337-A980-685BAA58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9D65C-1FBA-4016-9260-26958E01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547BC-DDBB-4424-9704-440117A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E2DCB-1B84-411F-A2AD-EA4BE0CD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FDD2C-D11E-4A3F-9E06-D4DF7F3D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130FE-6259-4D7C-812B-0CEEFDB8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920DB-CC0F-49AA-B559-5C596DFA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61C0F-F197-4424-8D35-55778694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F9B6C-428D-4CFA-AB80-DC9E6054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936E8-4FE1-4E69-A6DC-43BD30D4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B71B6-4D00-497D-AF18-24ACD96B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6E5-CC63-484E-9428-FD9C62FC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41D08-F05B-42E9-A484-8629560C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F33E6-2271-4C20-AEB2-0396A9F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34779-AB3F-406A-924A-830FAE6B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D3B30-5F2E-4A5B-A2D7-08CE079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B6F88-1297-400F-8F18-90EE2530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8AC3E-2C88-46CD-A01C-0293F64D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EE281-EBE7-408D-881A-637D120C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1E8C6-66B5-4DBC-869E-38CF98B9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01163-63F6-4E00-ADDA-D7CEF4F7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A563A-E0CE-474D-8981-363961B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E41A-6FD6-4B24-AB15-DFFA3C6C94B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7514-B764-4928-85F8-030082B802C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4E8E-289D-479F-90BE-B367123FDFD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5FA2-DC82-4653-B82D-C2E0B858090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6FB0-7A82-4E92-92D6-45047B47045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7544-C744-45F9-B099-EBF9035A86F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4ADA-31CA-4C87-BF24-8BA3946023A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B0DB-D19F-4D11-9FB9-F93CDA9E596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5F4F-C075-4773-ACEC-BB19613D877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27CD-6EC1-425C-957A-0EB47D1F580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184A-0BAC-4F6F-A13D-6D15EDC4BD6E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5741-061E-47EB-AA2D-35D1C4C2A35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эты Серебряного века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6797520" y="1484280"/>
            <a:ext cx="2095560" cy="2743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"/>
          <p:cNvPicPr/>
          <p:nvPr/>
        </p:nvPicPr>
        <p:blipFill>
          <a:blip r:embed="rId2"/>
          <a:stretch/>
        </p:blipFill>
        <p:spPr>
          <a:xfrm>
            <a:off x="3714840" y="2357280"/>
            <a:ext cx="2095560" cy="3419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"/>
          <p:cNvPicPr/>
          <p:nvPr/>
        </p:nvPicPr>
        <p:blipFill>
          <a:blip r:embed="rId3"/>
          <a:stretch/>
        </p:blipFill>
        <p:spPr>
          <a:xfrm>
            <a:off x="285840" y="2852640"/>
            <a:ext cx="2381040" cy="3457800"/>
          </a:xfrm>
          <a:prstGeom prst="rect">
            <a:avLst/>
          </a:prstGeom>
          <a:ln w="0">
            <a:noFill/>
          </a:ln>
        </p:spPr>
      </p:pic>
      <p:sp>
        <p:nvSpPr>
          <p:cNvPr id="610" name="Прямоугольник 1"/>
          <p:cNvSpPr/>
          <p:nvPr/>
        </p:nvSpPr>
        <p:spPr>
          <a:xfrm>
            <a:off x="4140360" y="5940360"/>
            <a:ext cx="52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: Брезденюк Ольга Иван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итературы МОУ «СОШ№13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Есенин С.А. « О родина!»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0920" y="1356840"/>
            <a:ext cx="4069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Брожу по синим селам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акая благодать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тчаянный, веселый,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о весь в тебя я, мать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училище разгула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репил я плоть и ум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 березового гула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тет твой вешний шум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Люблю твои пороки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пьянство, и разбой,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утром на востоке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рять себя звездой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всю тебя, как знаю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Хочу измять и взять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горько проклинаю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 то, что ты мне мать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5" descr="Картинки по запросу село константиново рязанская область есенин"/>
          <p:cNvPicPr/>
          <p:nvPr/>
        </p:nvPicPr>
        <p:blipFill>
          <a:blip r:embed="rId1"/>
          <a:stretch/>
        </p:blipFill>
        <p:spPr>
          <a:xfrm>
            <a:off x="3924360" y="2116080"/>
            <a:ext cx="4763880" cy="3167280"/>
          </a:xfrm>
          <a:prstGeom prst="rect">
            <a:avLst/>
          </a:prstGeom>
          <a:ln w="0">
            <a:noFill/>
          </a:ln>
        </p:spPr>
      </p:pic>
      <p:sp>
        <p:nvSpPr>
          <p:cNvPr id="638" name="Прямоугольник 3"/>
          <p:cNvSpPr/>
          <p:nvPr/>
        </p:nvSpPr>
        <p:spPr>
          <a:xfrm>
            <a:off x="3924360" y="5280120"/>
            <a:ext cx="47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адьба родителей С.А. Есенина в Константин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рина Цветаев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0" name="Picture 2" descr="Картинки по запросу Марина Цветаева"/>
          <p:cNvPicPr/>
          <p:nvPr/>
        </p:nvPicPr>
        <p:blipFill>
          <a:blip r:embed="rId1"/>
          <a:stretch/>
        </p:blipFill>
        <p:spPr>
          <a:xfrm>
            <a:off x="324000" y="1628640"/>
            <a:ext cx="3828960" cy="4572000"/>
          </a:xfrm>
          <a:prstGeom prst="rect">
            <a:avLst/>
          </a:prstGeom>
          <a:ln w="0">
            <a:noFill/>
          </a:ln>
        </p:spPr>
      </p:pic>
      <p:sp>
        <p:nvSpPr>
          <p:cNvPr id="641" name="Содержимое 2"/>
          <p:cNvSpPr/>
          <p:nvPr/>
        </p:nvSpPr>
        <p:spPr>
          <a:xfrm>
            <a:off x="4386240" y="1628640"/>
            <a:ext cx="4449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рина Цветаева родилась 26 сентября (8 октября) 1892 года в Москве. Сама Цветаева праздновала свой день рождения 9 октября, связывая его с днём поминовения апостола Иоанна Богослова по православному календ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рина Цветаева — Молитва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250920" y="1455840"/>
            <a:ext cx="3889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Христос и Бог! Я жажду чуд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Теперь, сейчас, в начале дня!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О, дай мне умереть, покуд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ся жизнь как книга для меня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Ты мудрый, Ты не скажешь строго: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— «Терпи, еще не кончен срок»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Ты сам мне подал — слишком много!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Я жажду сразу — всех дорог!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сего хочу: с душой цыган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Идти под песни на разбой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За всех страдать под звук орган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и амазонкой мчаться в бо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Гадать по звездам в черной башне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ести детей вперед, сквозь тень…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Чтоб был легендой — день вчерашний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Чтоб был безумьем — каждый день!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Люблю и крест, и шелк, и каски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я душа мгновений след…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Ты дал мне детство — лучше сказки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И дай мне смерть — в семнадцать лет!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4" name="Picture 2" descr="Памятники Марине Цветаевой"/>
          <p:cNvPicPr/>
          <p:nvPr/>
        </p:nvPicPr>
        <p:blipFill>
          <a:blip r:embed="rId1"/>
          <a:stretch/>
        </p:blipFill>
        <p:spPr>
          <a:xfrm>
            <a:off x="5292720" y="1465200"/>
            <a:ext cx="3311640" cy="4506840"/>
          </a:xfrm>
          <a:prstGeom prst="rect">
            <a:avLst/>
          </a:prstGeom>
          <a:ln w="0">
            <a:noFill/>
          </a:ln>
        </p:spPr>
      </p:pic>
      <p:sp>
        <p:nvSpPr>
          <p:cNvPr id="645" name="Прямоугольник 5"/>
          <p:cNvSpPr/>
          <p:nvPr/>
        </p:nvSpPr>
        <p:spPr>
          <a:xfrm>
            <a:off x="5292720" y="5981760"/>
            <a:ext cx="331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Памятник в Борисоглебском переулке в Москве, напротив цветаевского Дома-музе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1714680" y="164304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ыучить 1 стихотворение по выбору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Анна Ахматова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066920" y="1699920"/>
            <a:ext cx="4738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46b86"/>
                </a:solidFill>
                <a:latin typeface="Georgia"/>
              </a:rPr>
              <a:t>Анна Андреевна Ахматова</a:t>
            </a:r>
            <a:r>
              <a:rPr b="0" lang="ru-RU" sz="1700" spc="-1" strike="noStrike">
                <a:solidFill>
                  <a:srgbClr val="646b86"/>
                </a:solidFill>
                <a:latin typeface="Georgia"/>
              </a:rPr>
              <a:t> (фамилия при рождении — </a:t>
            </a:r>
            <a:r>
              <a:rPr b="1" lang="ru-RU" sz="1700" spc="-1" strike="noStrike">
                <a:solidFill>
                  <a:srgbClr val="646b86"/>
                </a:solidFill>
                <a:latin typeface="Georgia"/>
              </a:rPr>
              <a:t>Горенко</a:t>
            </a:r>
            <a:r>
              <a:rPr b="0" lang="ru-RU" sz="1700" spc="-1" strike="noStrike">
                <a:solidFill>
                  <a:srgbClr val="646b86"/>
                </a:solidFill>
                <a:latin typeface="Georgia"/>
              </a:rPr>
              <a:t>; 11 (23) июня 1889, Одесса, Российская империя — 5 марта 1966, Домодедово, Московская область, РСФСР, СССР) — русская поэтесса, писатель, литературовед, литературный критик, переводчик, один из крупнейших русских поэтов XX века.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3" name="Picture 5" descr="Картинки по запросу анна ахматова"/>
          <p:cNvPicPr/>
          <p:nvPr/>
        </p:nvPicPr>
        <p:blipFill>
          <a:blip r:embed="rId1"/>
          <a:stretch/>
        </p:blipFill>
        <p:spPr>
          <a:xfrm>
            <a:off x="539640" y="1700280"/>
            <a:ext cx="2857680" cy="43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85840"/>
            <a:ext cx="85345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Анна Ахматов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290520" y="1735200"/>
            <a:ext cx="4568760" cy="3925800"/>
          </a:xfrm>
          <a:prstGeom prst="rect">
            <a:avLst/>
          </a:prstGeom>
          <a:ln w="0">
            <a:noFill/>
          </a:ln>
        </p:spPr>
      </p:pic>
      <p:sp>
        <p:nvSpPr>
          <p:cNvPr id="616" name="Прямоугольник 7"/>
          <p:cNvSpPr/>
          <p:nvPr/>
        </p:nvSpPr>
        <p:spPr>
          <a:xfrm>
            <a:off x="5003640" y="1735200"/>
            <a:ext cx="4214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водили тебя на рассвет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За тобой, как на выносе, шл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темной горнице плакали дет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 божницы свеча оплыл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убах твоих холод икон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Смертный пот на челе... не забыт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Буду я, как стрелецкие женки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д кремлевскими башнями в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Александр Блок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787640" y="1484280"/>
            <a:ext cx="35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одился 16 (28) ноября 1880 года. По происхождению, семейным и родственным связям, дружеским отношениям, поэт принадлежал к кругу старой русской интеллигенции, из поколения в поколения служившей науке и литератур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5" descr="Картинки по запросу александр блок"/>
          <p:cNvPicPr/>
          <p:nvPr/>
        </p:nvPicPr>
        <p:blipFill>
          <a:blip r:embed="rId1"/>
          <a:stretch/>
        </p:blipFill>
        <p:spPr>
          <a:xfrm>
            <a:off x="611280" y="1841400"/>
            <a:ext cx="2952720" cy="403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Александр Блок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6929280" y="4000680"/>
            <a:ext cx="1810080" cy="231444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4"/>
          <p:cNvSpPr/>
          <p:nvPr/>
        </p:nvSpPr>
        <p:spPr>
          <a:xfrm>
            <a:off x="642960" y="1643040"/>
            <a:ext cx="6215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стихи Блок написал в пять лет. В 10 лет Александр Блок написал два номера журнала «Корабл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етства Александр Блок каждое лето проводил в подмосковном имении деда Шахматово. В 8 км находилось имение друга Бекетова, великого русского химика Дмитрия Менделеева Боб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 лет Блок увлёкся театром. В Петербурге Александр Блок записался в театральный кружок. Однако после первого успеха ролей в театре ему больше не дав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9899"/>
                </a:solidFill>
                <a:latin typeface="Georgia"/>
              </a:rPr>
              <a:t>Государственный историко-литературный и природный музей-заповедник А. А. Блока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538776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Поэтические произведения Блока переведены на многие языки мира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72880" y="1412640"/>
            <a:ext cx="3556080" cy="49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О доблестях, о подвигах, о слав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Я забывал на горестной земле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Когда твое лицо в простой оправ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Передо мной сияло на столе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Но час настал, и ты ушла из дому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Я бросил в ночь заветное кольцо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Ты отдала свою судьбу другому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И я забыл прекрасное лицо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Летели дни, крутясь проклятым роем..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Вино и страсть терзали жизнь мою..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И вспомнил я тебя пред аналоем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И звал тебя, как молодость свою..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Я звал тебя, но -ты не оглянулась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Я слезы лил, но ты не снизошла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Ты в синий плащ печально завернулась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В сырую ночь ты из дому ушла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Не знаю, где приют своей гордын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Ты, милая, ты, нежная, нашла..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Я крепко сплю, мне снится, плащ твой синий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В котором ты в сырую ночь ушла..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Уж не мечтать о нежности, о славе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Все миновалось, молодость прошла?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Твое лицо в его простой оправ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Своей рукой убрал я со стола.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314800" cy="411660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2"/>
          <p:cNvSpPr/>
          <p:nvPr/>
        </p:nvSpPr>
        <p:spPr>
          <a:xfrm>
            <a:off x="6084720" y="5745240"/>
            <a:ext cx="231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Памятник Александру Блоку в Москве, на улице Спиридо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Стихотворение Александра Блока на стене одного из домов в Лейдене (Нидерланды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304776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"/>
          <p:cNvGraphicFramePr/>
          <p:nvPr/>
        </p:nvGraphicFramePr>
        <p:xfrm>
          <a:off x="301680" y="1711440"/>
          <a:ext cx="4575240" cy="3292200"/>
        </p:xfrm>
        <a:graphic>
          <a:graphicData uri="http://schemas.openxmlformats.org/drawingml/2006/table">
            <a:tbl>
              <a:tblPr/>
              <a:tblGrid>
                <a:gridCol w="457524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чь, улица, фонарь, аптек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ссмысленный и тусклый св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иви еще хоть четверть века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се будет так. Исхода н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мрешь - начнешь опять снача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 повторится все, как встар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чь, ледяная рябь кана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птека, улица, фона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ергей Есенин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355640" y="1527120"/>
            <a:ext cx="4449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лся в селе Константиново Рязанской губернии, Кузьминской волости, в крестьянской семье. Отец — Александр Никитич Есенин, мать — Татьяна Фёдоровна Титова 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5" descr="Картинки по запросу сергей есенин"/>
          <p:cNvPicPr/>
          <p:nvPr/>
        </p:nvPicPr>
        <p:blipFill>
          <a:blip r:embed="rId1"/>
          <a:stretch/>
        </p:blipFill>
        <p:spPr>
          <a:xfrm>
            <a:off x="395280" y="1539720"/>
            <a:ext cx="3097080" cy="457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3:27:37Z</dcterms:created>
  <dc:creator>Star</dc:creator>
  <dc:description/>
  <dc:language>en-US</dc:language>
  <cp:lastModifiedBy>Admin</cp:lastModifiedBy>
  <dcterms:modified xsi:type="dcterms:W3CDTF">2019-11-25T10:51:35Z</dcterms:modified>
  <cp:revision>33</cp:revision>
  <dc:subject/>
  <dc:title>Поэты «Серебряного века».</dc:title>
</cp:coreProperties>
</file>