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6A2F3-DCF3-49C7-B371-748CCAC51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50BA0-BAEA-42B4-8499-6AE806DE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5C1B3-9664-4502-A2F2-5B84D2C3B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3917D-7544-44F5-8418-E77640187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534D4-A0A7-40FF-B439-46F89DCC5B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C892C-53B2-4904-9B64-30091FA99D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346BA-07DF-47EC-808B-CA81A3A8D8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BB097B-9123-47C9-B5D8-CEBE902AE7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84258-BA35-4CD0-847F-0EC1B54D12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DC79E-EA38-4648-85D0-A87E88DE5E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667E3-4694-48D2-8E42-AD54F8B008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191B8-7C65-4152-8736-43329C8E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90134-3D36-4259-AF65-772A382A97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309ED-D6C1-4148-931C-852C9A3BB5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DD46F-6315-4B40-BA25-084590B700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B1440-BAFC-4822-8D53-AB6321862B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16884-C2DE-47E5-A7E8-E8B135E565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5EC09-D5C3-493A-94CE-36C62264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F58D0-26AD-4444-93BE-848B442C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DD6E4-8E81-4AA6-A61B-34E55F74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224F6-096D-4881-AF32-561BC825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FAD69-9C39-4432-B5C2-5B3CF293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29AD8-CEDC-4C2A-A098-F02B8C76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37C80-621E-4624-BD10-98FB6BDE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42AFE9C-FD28-4731-BB78-60C828CEE76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B95A198-F785-4A86-872F-BF125DBB4DD5}" type="datetime"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CAFAEA8-133D-456E-91FD-1859F821857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612720" y="404640"/>
            <a:ext cx="718344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Читаем сказки А. С. Пушкина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1004760" y="2633760"/>
            <a:ext cx="6400800" cy="30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5" descr="https://j.livelib.ru/boocover/1001487335/200/0192/Aleksandr_Pushkin__Skazka_o_mjortvoj_tsarevne_i_o_semi_bogatyryah.jpg"/>
          <p:cNvPicPr/>
          <p:nvPr/>
        </p:nvPicPr>
        <p:blipFill>
          <a:blip r:embed="rId1"/>
          <a:stretch/>
        </p:blipFill>
        <p:spPr>
          <a:xfrm rot="19954200">
            <a:off x="463680" y="2143080"/>
            <a:ext cx="1511280" cy="1965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Ð. Ð¡. ÐÑÑÐºÐ¸Ð½ - Ð¡ÐºÐ°Ð·ÐºÐ° Ð¾ ÑÑÐ±Ð°ÐºÐµ Ð¸ ÑÑÐ±ÐºÐµ. Ð¡ÐºÐ°Ð·ÐºÐ° Ð¾ Ð·Ð¾Ð»Ð¾ÑÐ¾Ð¼ Ð¿ÐµÑÑÑÐºÐµ (ÑÐ±Ð¾ÑÐ½Ð¸Ðº)"/>
          <p:cNvPicPr/>
          <p:nvPr/>
        </p:nvPicPr>
        <p:blipFill>
          <a:blip r:embed="rId2"/>
          <a:stretch/>
        </p:blipFill>
        <p:spPr>
          <a:xfrm>
            <a:off x="3556080" y="2211480"/>
            <a:ext cx="1297080" cy="1741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ÐÐ»ÐµÐºÑÐ°Ð½Ð´Ñ ÐÑÑÐºÐ¸Ð½ - Ð¡ÐºÐ°Ð·ÐºÐ° Ð¾ ÐÐ¾Ð¿Ðµ Ð¸ Ð¾ ÑÐ°Ð±Ð¾ÑÐ½Ð¸ÐºÐµ ÐµÐ³Ð¾ ÐÐ°Ð»Ð´Ðµ"/>
          <p:cNvPicPr/>
          <p:nvPr/>
        </p:nvPicPr>
        <p:blipFill>
          <a:blip r:embed="rId3"/>
          <a:stretch/>
        </p:blipFill>
        <p:spPr>
          <a:xfrm rot="1260000">
            <a:off x="6156360" y="2055960"/>
            <a:ext cx="1477800" cy="2052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ÐÐ»ÐµÐºÑÐ°Ð½Ð´Ñ ÐÑÑÐºÐ¸Ð½ - Ð ÑÑÐ»Ð°Ð½ Ð¸ ÐÑÐ´Ð¼Ð¸Ð»Ð°"/>
          <p:cNvPicPr/>
          <p:nvPr/>
        </p:nvPicPr>
        <p:blipFill>
          <a:blip r:embed="rId4"/>
          <a:stretch/>
        </p:blipFill>
        <p:spPr>
          <a:xfrm rot="19470600">
            <a:off x="645840" y="4508280"/>
            <a:ext cx="1333440" cy="2000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ÐÐ»ÐµÐºÑÐ°Ð½Ð´Ñ ÐÑÑÐºÐ¸Ð½ - Ð¡ÐºÐ°Ð·ÐºÐ° Ð¾ Ð·Ð¾Ð»Ð¾ÑÐ¾Ð¼ Ð¿ÐµÑÑÑÐºÐµ"/>
          <p:cNvPicPr/>
          <p:nvPr/>
        </p:nvPicPr>
        <p:blipFill>
          <a:blip r:embed="rId5"/>
          <a:stretch/>
        </p:blipFill>
        <p:spPr>
          <a:xfrm rot="2362800">
            <a:off x="6273360" y="4732200"/>
            <a:ext cx="1333440" cy="1762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5" descr="https://j.livelib.ru/boocover/1002723260/200/2ffe/Aleksandr_Pushkin__Skazka_o_tsare_Saltane.jpg"/>
          <p:cNvPicPr/>
          <p:nvPr/>
        </p:nvPicPr>
        <p:blipFill>
          <a:blip r:embed="rId6"/>
          <a:stretch/>
        </p:blipFill>
        <p:spPr>
          <a:xfrm>
            <a:off x="3389400" y="4133880"/>
            <a:ext cx="1652400" cy="2552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838080" y="2362320"/>
            <a:ext cx="7693200" cy="42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0080720" y="2303640"/>
            <a:ext cx="18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6480000" y="4392720"/>
            <a:ext cx="1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Рисунок 4" descr=""/>
          <p:cNvPicPr/>
          <p:nvPr/>
        </p:nvPicPr>
        <p:blipFill>
          <a:blip r:embed="rId1"/>
          <a:stretch/>
        </p:blipFill>
        <p:spPr>
          <a:xfrm>
            <a:off x="109440" y="3357720"/>
            <a:ext cx="2962440" cy="35002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2" descr=""/>
          <p:cNvPicPr/>
          <p:nvPr/>
        </p:nvPicPr>
        <p:blipFill>
          <a:blip r:embed="rId2"/>
          <a:stretch/>
        </p:blipFill>
        <p:spPr>
          <a:xfrm>
            <a:off x="109440" y="36360"/>
            <a:ext cx="2922840" cy="36403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6" descr=""/>
          <p:cNvPicPr/>
          <p:nvPr/>
        </p:nvPicPr>
        <p:blipFill>
          <a:blip r:embed="rId3"/>
          <a:stretch/>
        </p:blipFill>
        <p:spPr>
          <a:xfrm>
            <a:off x="3276720" y="3676680"/>
            <a:ext cx="4751280" cy="31417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8" descr=""/>
          <p:cNvPicPr/>
          <p:nvPr/>
        </p:nvPicPr>
        <p:blipFill>
          <a:blip r:embed="rId4"/>
          <a:stretch/>
        </p:blipFill>
        <p:spPr>
          <a:xfrm>
            <a:off x="5940360" y="36360"/>
            <a:ext cx="3059280" cy="355788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2" descr=""/>
          <p:cNvPicPr/>
          <p:nvPr/>
        </p:nvPicPr>
        <p:blipFill>
          <a:blip r:embed="rId5"/>
          <a:stretch/>
        </p:blipFill>
        <p:spPr>
          <a:xfrm>
            <a:off x="2860560" y="363600"/>
            <a:ext cx="3602160" cy="3225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838080" y="2362320"/>
            <a:ext cx="7693200" cy="42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0080720" y="2303640"/>
            <a:ext cx="18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6480000" y="4392720"/>
            <a:ext cx="1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8" descr="http://data27.i.gallery.ru/albums/gallery/437131-d3838-95616131-m750x740-ucf7ca.jpg"/>
          <p:cNvPicPr/>
          <p:nvPr/>
        </p:nvPicPr>
        <p:blipFill>
          <a:blip r:embed="rId1"/>
          <a:stretch/>
        </p:blipFill>
        <p:spPr>
          <a:xfrm>
            <a:off x="324000" y="476280"/>
            <a:ext cx="7900920" cy="54738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979560" y="333360"/>
            <a:ext cx="718344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979560" y="2637000"/>
            <a:ext cx="6400800" cy="30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Рисунок 2" descr=""/>
          <p:cNvPicPr/>
          <p:nvPr/>
        </p:nvPicPr>
        <p:blipFill>
          <a:blip r:embed="rId1"/>
          <a:stretch/>
        </p:blipFill>
        <p:spPr>
          <a:xfrm>
            <a:off x="338040" y="333360"/>
            <a:ext cx="7979040" cy="583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1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56 0.125 0.125 C 0.125 0.194 0.069 0.25 0 0.25 C -0.069 0.25 -0.125 0.194 -0.125 0.125 C -0.125 0.056 -0.069 0 0 0 Z">
                                      <p:cBhvr>
                                        <p:cTn id="12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Рисунок 2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5522760" cy="6478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539640" y="765000"/>
            <a:ext cx="7632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акие сказки написал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А. С. Пушкин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539640" y="2362320"/>
            <a:ext cx="799164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«Сказка о рыбаке и рыбке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«Сказка о царе Салтане, о сыне его славном и могуче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богатыре князе Гвидоне Салтановиче и о прекрасн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Царевне Лебеди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«Сказка о мертвой царевне и о семи богатырях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«Сказка о золотом петушке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833400" y="495360"/>
            <a:ext cx="778032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838080" y="2362320"/>
            <a:ext cx="7693200" cy="42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0080720" y="2303640"/>
            <a:ext cx="18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480000" y="4392720"/>
            <a:ext cx="1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Рисунок 2" descr=""/>
          <p:cNvPicPr/>
          <p:nvPr/>
        </p:nvPicPr>
        <p:blipFill>
          <a:blip r:embed="rId1"/>
          <a:stretch/>
        </p:blipFill>
        <p:spPr>
          <a:xfrm>
            <a:off x="4122720" y="2658960"/>
            <a:ext cx="4896000" cy="37576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"/>
          <p:cNvPicPr/>
          <p:nvPr/>
        </p:nvPicPr>
        <p:blipFill>
          <a:blip r:embed="rId2"/>
          <a:stretch/>
        </p:blipFill>
        <p:spPr>
          <a:xfrm>
            <a:off x="142920" y="115920"/>
            <a:ext cx="3889440" cy="535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8317080" y="2362320"/>
            <a:ext cx="214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0080720" y="2303640"/>
            <a:ext cx="18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480000" y="4392720"/>
            <a:ext cx="1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Рисунок 2" descr=""/>
          <p:cNvPicPr/>
          <p:nvPr/>
        </p:nvPicPr>
        <p:blipFill>
          <a:blip r:embed="rId1"/>
          <a:stretch/>
        </p:blipFill>
        <p:spPr>
          <a:xfrm>
            <a:off x="150840" y="27000"/>
            <a:ext cx="4357800" cy="60040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"/>
          <p:cNvPicPr/>
          <p:nvPr/>
        </p:nvPicPr>
        <p:blipFill>
          <a:blip r:embed="rId2"/>
          <a:stretch/>
        </p:blipFill>
        <p:spPr>
          <a:xfrm>
            <a:off x="4643280" y="63360"/>
            <a:ext cx="4356360" cy="59756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3640" y="6039000"/>
            <a:ext cx="746892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казка о рыбаке и рыбке</a:t>
            </a:r>
            <a:endParaRPr b="0" lang="en-US" sz="18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p:transition spd="slow">
    <p:wipe dir="l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833400" y="495360"/>
            <a:ext cx="778032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838080" y="6283440"/>
            <a:ext cx="76932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2f2b20"/>
                </a:solidFill>
                <a:latin typeface="Times New Roman"/>
                <a:ea typeface="Lohit Hindi;Times New Roman"/>
              </a:rPr>
              <a:t>Сказка о мертвой царевне и семи богатыр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0080720" y="2303640"/>
            <a:ext cx="18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6480000" y="4392720"/>
            <a:ext cx="1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Рисунок 2" descr=""/>
          <p:cNvPicPr/>
          <p:nvPr/>
        </p:nvPicPr>
        <p:blipFill>
          <a:blip r:embed="rId1"/>
          <a:stretch/>
        </p:blipFill>
        <p:spPr>
          <a:xfrm>
            <a:off x="52560" y="14400"/>
            <a:ext cx="4535280" cy="63370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"/>
          <p:cNvPicPr/>
          <p:nvPr/>
        </p:nvPicPr>
        <p:blipFill>
          <a:blip r:embed="rId2"/>
          <a:stretch/>
        </p:blipFill>
        <p:spPr>
          <a:xfrm>
            <a:off x="4602240" y="14400"/>
            <a:ext cx="4257720" cy="33829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2" descr=""/>
          <p:cNvPicPr/>
          <p:nvPr/>
        </p:nvPicPr>
        <p:blipFill>
          <a:blip r:embed="rId3"/>
          <a:stretch/>
        </p:blipFill>
        <p:spPr>
          <a:xfrm>
            <a:off x="4630680" y="3397320"/>
            <a:ext cx="4251240" cy="28861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833400" y="495360"/>
            <a:ext cx="778032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179280" y="3821040"/>
            <a:ext cx="3529080" cy="27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казка о мертвой царевне и семи богатыр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0080720" y="2303640"/>
            <a:ext cx="18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6480000" y="4392720"/>
            <a:ext cx="1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Рисунок 4" descr=""/>
          <p:cNvPicPr/>
          <p:nvPr/>
        </p:nvPicPr>
        <p:blipFill>
          <a:blip r:embed="rId1"/>
          <a:stretch/>
        </p:blipFill>
        <p:spPr>
          <a:xfrm>
            <a:off x="4886280" y="23760"/>
            <a:ext cx="4257720" cy="362124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2" descr=""/>
          <p:cNvPicPr/>
          <p:nvPr/>
        </p:nvPicPr>
        <p:blipFill>
          <a:blip r:embed="rId2"/>
          <a:stretch/>
        </p:blipFill>
        <p:spPr>
          <a:xfrm>
            <a:off x="28440" y="23760"/>
            <a:ext cx="4824720" cy="362124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4" descr=""/>
          <p:cNvPicPr/>
          <p:nvPr/>
        </p:nvPicPr>
        <p:blipFill>
          <a:blip r:embed="rId3"/>
          <a:stretch/>
        </p:blipFill>
        <p:spPr>
          <a:xfrm>
            <a:off x="3882960" y="3654360"/>
            <a:ext cx="5192640" cy="309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833400" y="765000"/>
            <a:ext cx="7780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920880" y="5950080"/>
            <a:ext cx="769284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казка  о золотом петуш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0080720" y="2303640"/>
            <a:ext cx="18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480000" y="4392720"/>
            <a:ext cx="1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Рисунок 4" descr=""/>
          <p:cNvPicPr/>
          <p:nvPr/>
        </p:nvPicPr>
        <p:blipFill>
          <a:blip r:embed="rId1"/>
          <a:stretch/>
        </p:blipFill>
        <p:spPr>
          <a:xfrm>
            <a:off x="0" y="549360"/>
            <a:ext cx="4794120" cy="525456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2" descr=""/>
          <p:cNvPicPr/>
          <p:nvPr/>
        </p:nvPicPr>
        <p:blipFill>
          <a:blip r:embed="rId2"/>
          <a:stretch/>
        </p:blipFill>
        <p:spPr>
          <a:xfrm>
            <a:off x="4794120" y="260280"/>
            <a:ext cx="4299120" cy="5543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8T13:44:54Z</dcterms:created>
  <dc:creator>Vera</dc:creator>
  <dc:description/>
  <dc:language>en-US</dc:language>
  <cp:lastModifiedBy>Irina</cp:lastModifiedBy>
  <dcterms:modified xsi:type="dcterms:W3CDTF">2019-06-05T08:01:31Z</dcterms:modified>
  <cp:revision>73</cp:revision>
  <dc:subject/>
  <dc:title>Формирование связной речи у дошкольников с ОНР</dc:title>
</cp:coreProperties>
</file>