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2CC6-D3A2-4AE0-9060-0004FA7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654D-9290-46BD-B7FA-6D8FD11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3A11-9C0C-4C29-8D46-FB73B22F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65AC-F029-4172-B463-50BCA6E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5CCE-8047-4B4B-B020-916C0590A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09A3C-F444-4899-8AD5-D3972F090E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59A01-CE15-47D5-8A66-7285CE8B6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1E52E-2283-4E70-B376-862C397A8E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1527B-D3A7-4819-AA42-DC844B42B0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F9D04-13E5-4AD2-AEE8-FA04E4128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9B84-C594-4F30-BF5F-F990D903B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75AA-00DC-47A4-AE46-25CAF59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DA47-1FC6-4362-A960-4F2BAAECD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BCB0-3BE6-47A4-8420-9C8C1F210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61E95-0B90-42D9-92F4-8E53A81B9F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C1E80-BF45-403C-97EC-2104866640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9EACF-808D-464D-8ED5-FF64C5738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20DA-587B-4937-B3C5-F7430E17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DB34-D997-4F77-BBEB-29BDFBB9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E542-362F-4C44-950C-6A185921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3D7C-5975-4510-A51C-8962E96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FE83-736A-4587-9575-707CF85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277-A62E-4631-AA85-12644A4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D4D0-7426-4E48-8EC5-AEF5C46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0679D9-646C-4EF9-A9DD-A4082BDCC16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72A887-7AB5-4A4C-A63C-A0B5EA4AC1DC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7D0EBB-55A3-40C2-BEAC-1FC05C9804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612720" y="404640"/>
            <a:ext cx="71834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Читаем сказки А. С. Пушки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004760" y="2633760"/>
            <a:ext cx="64008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https://j.livelib.ru/boocover/1001487335/200/0192/Aleksandr_Pushkin__Skazka_o_mjortvoj_tsarevne_i_o_semi_bogatyryah.jpg"/>
          <p:cNvPicPr/>
          <p:nvPr/>
        </p:nvPicPr>
        <p:blipFill>
          <a:blip r:embed="rId1"/>
          <a:stretch/>
        </p:blipFill>
        <p:spPr>
          <a:xfrm rot="19954200">
            <a:off x="463680" y="2143080"/>
            <a:ext cx="1511280" cy="196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Ð. Ð¡. ÐÑÑÐºÐ¸Ð½ - Ð¡ÐºÐ°Ð·ÐºÐ° Ð¾ ÑÑÐ±Ð°ÐºÐµ Ð¸ ÑÑÐ±ÐºÐµ. Ð¡ÐºÐ°Ð·ÐºÐ° Ð¾ Ð·Ð¾Ð»Ð¾ÑÐ¾Ð¼ Ð¿ÐµÑÑÑÐºÐµ (ÑÐ±Ð¾ÑÐ½Ð¸Ðº)"/>
          <p:cNvPicPr/>
          <p:nvPr/>
        </p:nvPicPr>
        <p:blipFill>
          <a:blip r:embed="rId2"/>
          <a:stretch/>
        </p:blipFill>
        <p:spPr>
          <a:xfrm>
            <a:off x="3556080" y="2211480"/>
            <a:ext cx="1297080" cy="174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ÐÐ»ÐµÐºÑÐ°Ð½Ð´Ñ ÐÑÑÐºÐ¸Ð½ - Ð¡ÐºÐ°Ð·ÐºÐ° Ð¾ ÐÐ¾Ð¿Ðµ Ð¸ Ð¾ ÑÐ°Ð±Ð¾ÑÐ½Ð¸ÐºÐµ ÐµÐ³Ð¾ ÐÐ°Ð»Ð´Ðµ"/>
          <p:cNvPicPr/>
          <p:nvPr/>
        </p:nvPicPr>
        <p:blipFill>
          <a:blip r:embed="rId3"/>
          <a:stretch/>
        </p:blipFill>
        <p:spPr>
          <a:xfrm rot="1260000">
            <a:off x="6156360" y="2055960"/>
            <a:ext cx="1477800" cy="20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ÐÐ»ÐµÐºÑÐ°Ð½Ð´Ñ ÐÑÑÐºÐ¸Ð½ - Ð ÑÑÐ»Ð°Ð½ Ð¸ ÐÑÐ´Ð¼Ð¸Ð»Ð°"/>
          <p:cNvPicPr/>
          <p:nvPr/>
        </p:nvPicPr>
        <p:blipFill>
          <a:blip r:embed="rId4"/>
          <a:stretch/>
        </p:blipFill>
        <p:spPr>
          <a:xfrm rot="19470600">
            <a:off x="645840" y="4508280"/>
            <a:ext cx="133344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ÐÐ»ÐµÐºÑÐ°Ð½Ð´Ñ ÐÑÑÐºÐ¸Ð½ - Ð¡ÐºÐ°Ð·ÐºÐ° Ð¾ Ð·Ð¾Ð»Ð¾ÑÐ¾Ð¼ Ð¿ÐµÑÑÑÐºÐµ"/>
          <p:cNvPicPr/>
          <p:nvPr/>
        </p:nvPicPr>
        <p:blipFill>
          <a:blip r:embed="rId5"/>
          <a:stretch/>
        </p:blipFill>
        <p:spPr>
          <a:xfrm rot="2362800">
            <a:off x="6273360" y="4732200"/>
            <a:ext cx="1333440" cy="176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https://j.livelib.ru/boocover/1002723260/200/2ffe/Aleksandr_Pushkin__Skazka_o_tsare_Saltane.jpg"/>
          <p:cNvPicPr/>
          <p:nvPr/>
        </p:nvPicPr>
        <p:blipFill>
          <a:blip r:embed="rId6"/>
          <a:stretch/>
        </p:blipFill>
        <p:spPr>
          <a:xfrm>
            <a:off x="3389400" y="4133880"/>
            <a:ext cx="165240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109440" y="3357720"/>
            <a:ext cx="2962440" cy="3500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"/>
          <p:cNvPicPr/>
          <p:nvPr/>
        </p:nvPicPr>
        <p:blipFill>
          <a:blip r:embed="rId2"/>
          <a:stretch/>
        </p:blipFill>
        <p:spPr>
          <a:xfrm>
            <a:off x="109440" y="36360"/>
            <a:ext cx="2922840" cy="36403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3"/>
          <a:stretch/>
        </p:blipFill>
        <p:spPr>
          <a:xfrm>
            <a:off x="3276720" y="3676680"/>
            <a:ext cx="475128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"/>
          <p:cNvPicPr/>
          <p:nvPr/>
        </p:nvPicPr>
        <p:blipFill>
          <a:blip r:embed="rId4"/>
          <a:stretch/>
        </p:blipFill>
        <p:spPr>
          <a:xfrm>
            <a:off x="5940360" y="36360"/>
            <a:ext cx="3059280" cy="3557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5"/>
          <a:stretch/>
        </p:blipFill>
        <p:spPr>
          <a:xfrm>
            <a:off x="2860560" y="363600"/>
            <a:ext cx="3602160" cy="322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http://data27.i.gallery.ru/albums/gallery/437131-d3838-95616131-m750x740-ucf7ca.jpg"/>
          <p:cNvPicPr/>
          <p:nvPr/>
        </p:nvPicPr>
        <p:blipFill>
          <a:blip r:embed="rId1"/>
          <a:stretch/>
        </p:blipFill>
        <p:spPr>
          <a:xfrm>
            <a:off x="324000" y="476280"/>
            <a:ext cx="790092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979560" y="333360"/>
            <a:ext cx="7183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97956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79790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522760" cy="647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39640" y="765000"/>
            <a:ext cx="76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ие сказки напис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. С. Пушкин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9640" y="2362320"/>
            <a:ext cx="79916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рыбаке и рыбке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царе Салтане, о сыне его славном и могуч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гатыре князе Гвидоне Салтановиче и о прекрас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аревне Лебед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мертвой царевне и о семи богатырях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золотом петушк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4122720" y="2658960"/>
            <a:ext cx="4896000" cy="3757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142920" y="115920"/>
            <a:ext cx="388944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317080" y="2362320"/>
            <a:ext cx="214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50840" y="27000"/>
            <a:ext cx="4357800" cy="6004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4643280" y="63360"/>
            <a:ext cx="4356360" cy="5975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6039000"/>
            <a:ext cx="74689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казка о рыбаке и рыбке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38080" y="6283440"/>
            <a:ext cx="769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Lohit Hindi;Times New Roman"/>
              </a:rPr>
              <a:t>Сказка о мертвой царевне и семи богатыр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52560" y="14400"/>
            <a:ext cx="4535280" cy="633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4602240" y="14400"/>
            <a:ext cx="425772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"/>
          <p:cNvPicPr/>
          <p:nvPr/>
        </p:nvPicPr>
        <p:blipFill>
          <a:blip r:embed="rId3"/>
          <a:stretch/>
        </p:blipFill>
        <p:spPr>
          <a:xfrm>
            <a:off x="4630680" y="3397320"/>
            <a:ext cx="425124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79280" y="3821040"/>
            <a:ext cx="352908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азка о мертвой царевне и семи богатыр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4886280" y="23760"/>
            <a:ext cx="4257720" cy="3621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28440" y="23760"/>
            <a:ext cx="4824720" cy="3621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3"/>
          <a:stretch/>
        </p:blipFill>
        <p:spPr>
          <a:xfrm>
            <a:off x="3882960" y="3654360"/>
            <a:ext cx="519264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3400" y="765000"/>
            <a:ext cx="7780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920880" y="5950080"/>
            <a:ext cx="7692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азка  о золотом пет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0" y="549360"/>
            <a:ext cx="4794120" cy="5254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4794120" y="260280"/>
            <a:ext cx="429912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3:44:54Z</dcterms:created>
  <dc:creator>Vera</dc:creator>
  <dc:description/>
  <dc:language>en-US</dc:language>
  <cp:lastModifiedBy>Irina</cp:lastModifiedBy>
  <dcterms:modified xsi:type="dcterms:W3CDTF">2019-06-05T08:01:31Z</dcterms:modified>
  <cp:revision>73</cp:revision>
  <dc:subject/>
  <dc:title>Формирование связной речи у дошкольников с ОНР</dc:title>
</cp:coreProperties>
</file>