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B28-12DA-4BD9-9878-29EE0605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1AB-240D-4B82-8A1E-DB54C82D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512-2949-4054-901D-1F86C5B3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F4E-CAAE-4CE2-ADD6-A58CE038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C359-2C94-4FB4-BD66-1132D6D5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7505-54C0-4B6D-9A46-688484EA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F51C-ECEB-4E26-88B3-A3FE2AF7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A763-A710-4D4E-8192-9E87C0F5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1BF5-B920-4348-92AB-2CBAD683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B2F9-C0DD-4E1D-A191-D0154BBA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7C8F-9F4C-4CC8-8013-C767D5EB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600-F0A3-4D98-8597-3574F942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DE14-606D-4DBC-8BCB-EFF70019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5C8E-31A0-4D98-8A28-4F0C2EBC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E366-6B75-44D0-997E-37AD993B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88AA-5DEE-4BF7-90E5-BEBE5E70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9A42-569C-49B3-AFD1-EDBF4236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A92E-7751-48D9-9C5D-A6F2F06E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CE66-C0FE-4336-925D-A5C02DF7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7706-8BC5-44D7-837E-F2971111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F5D8-EAEF-4807-840D-236D5751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7593-2EBC-4EA4-8A1A-B652CC7F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364-A686-444D-AE6B-745F0D9F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FA6A7-AE03-40AB-8F72-62BDDD26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C28EC-617D-401A-9F1F-B07936D1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4E4B3-748D-4995-B911-E82F8871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1F5F-6AFC-4DE1-9E02-826A72C9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C32A-C50A-4100-9A9D-FE0991FC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C1024-F035-45BC-A7CE-3E9B3D75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776C-916E-4883-94D7-5DD4EF5E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EF5F3-622F-490E-B0DD-8162EB85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914B4-A6D6-4F43-8611-2DECB27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7CCE7-A244-4DB7-AA10-66CA76A1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739-5B52-402F-A31A-DB61BD5A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6900D-284B-4B3E-9D51-7DD05C91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1597A-2B5B-475E-AB64-AD1B4C20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3B5F-E39B-47EC-B69D-E57AF261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FC64D-C109-453E-A391-6157BFF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B524D-CD30-4D23-AE00-451561B0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3CC8-CAE5-43A5-9C7C-6469EDF3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16ED0-958B-4BFB-85ED-4A275E38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7E2FD-13AD-4ACE-B158-A4C3A77F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D482A-DDC5-4ED8-A91E-70CE82A5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B6EFE-8812-4BDB-AD5C-3E9CD95F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793-0C0D-485F-BC87-F7657BF0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C78C4-8A50-4610-882F-733701B3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526E7-995E-43AA-8D76-07488C72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36E45-BA53-40B7-B6D5-F0FE6A48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9D34-85B1-4893-BD48-4A724CE7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E0CE7-3056-4B7B-BF27-5537FCFC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4EA62-A699-46DA-AF30-83F9DE2D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2BA3-B048-4BB6-A25F-0EAFE9F1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87DA8-6848-4959-9AD6-15D7FC8B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F3BDB-DFD9-4244-9709-6B5FFCB3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2248D-9EBC-4793-95B2-712880E6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E2B-494F-495B-B954-B5F93420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F23F1-A003-4C06-B8F7-776769F4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3795C-9A28-4E57-8918-FD682CE8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BC591-178F-4DAF-831E-E2ECA105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36222-614A-40EF-869E-F2FE4704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E41CA-CB4A-4501-8AB7-44E3B674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B678C-1821-4F31-83A4-159FB2C6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D3FFC-2F8A-481D-BF88-58B68E9A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BDA48-4925-4A90-ABA7-9DE2EF81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DF7DD-0474-4A18-9D4B-0AC5433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81628-AB3F-4650-A5C6-FCF0198E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260-FC6D-464F-BE8F-D04F0B9E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00C07-6D2B-421E-BA01-9D2A4FB4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A7F5F-C3B3-44B3-B501-37740DD0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D3768-6777-478E-8310-DE3A4E57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5E7-6ABA-4776-BE74-9ABB7AA8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D5D-508C-46A7-BBF2-4F7DE3A3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1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198F-A5C5-4F3B-A405-E0523DE7B6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AFBF-7D20-4CCE-A506-F26A667A85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67BF-FFA7-41B0-B022-D4912329CF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67FB-CB2F-4F19-9086-43283AE94A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9DE6-EB18-4C22-8F99-205972BBE6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219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223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224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225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226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27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228" name="Oval 12"/>
                  <p:cNvSpPr/>
                  <p:nvPr/>
                </p:nvSpPr>
                <p:spPr>
                  <a:xfrm rot="16200000">
                    <a:off x="883008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Freeform 13"/>
                  <p:cNvSpPr/>
                  <p:nvPr/>
                </p:nvSpPr>
                <p:spPr>
                  <a:xfrm rot="16200000">
                    <a:off x="8763840" y="7056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0" name="Freeform 14"/>
                  <p:cNvSpPr/>
                  <p:nvPr/>
                </p:nvSpPr>
                <p:spPr>
                  <a:xfrm rot="16200000">
                    <a:off x="883476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1" name="Freeform 15"/>
                  <p:cNvSpPr/>
                  <p:nvPr/>
                </p:nvSpPr>
                <p:spPr>
                  <a:xfrm rot="16200000">
                    <a:off x="8904240" y="1076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2" name="Freeform 16"/>
                  <p:cNvSpPr/>
                  <p:nvPr/>
                </p:nvSpPr>
                <p:spPr>
                  <a:xfrm rot="16200000">
                    <a:off x="8830080" y="19584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Freeform 17"/>
                  <p:cNvSpPr/>
                  <p:nvPr/>
                </p:nvSpPr>
                <p:spPr>
                  <a:xfrm rot="16200000">
                    <a:off x="8778600" y="1713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23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2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24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2" name="Freeform 46"/>
            <p:cNvSpPr/>
            <p:nvPr/>
          </p:nvSpPr>
          <p:spPr>
            <a:xfrm>
              <a:off x="7953480" y="4909680"/>
              <a:ext cx="1190520" cy="19386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600"/>
                <a:gd name="textAreaBottom" fmla="*/ 1938960 h 19386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47"/>
            <p:cNvSpPr/>
            <p:nvPr/>
          </p:nvSpPr>
          <p:spPr>
            <a:xfrm>
              <a:off x="7939080" y="4858920"/>
              <a:ext cx="1219320" cy="199872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48"/>
            <p:cNvSpPr/>
            <p:nvPr/>
          </p:nvSpPr>
          <p:spPr>
            <a:xfrm>
              <a:off x="7927920" y="2820240"/>
              <a:ext cx="1231920" cy="40341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160"/>
                <a:gd name="textAreaBottom" fmla="*/ 4034520 h 40341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49"/>
            <p:cNvSpPr/>
            <p:nvPr/>
          </p:nvSpPr>
          <p:spPr>
            <a:xfrm>
              <a:off x="8010360" y="3540600"/>
              <a:ext cx="979560" cy="21826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2680"/>
                <a:gd name="textAreaBottom" fmla="*/ 2183040 h 21826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50"/>
            <p:cNvSpPr/>
            <p:nvPr/>
          </p:nvSpPr>
          <p:spPr>
            <a:xfrm>
              <a:off x="8244000" y="431280"/>
              <a:ext cx="914400" cy="5044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4680"/>
                <a:gd name="textAreaBottom" fmla="*/ 5044680 h 50446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51"/>
            <p:cNvSpPr/>
            <p:nvPr/>
          </p:nvSpPr>
          <p:spPr>
            <a:xfrm>
              <a:off x="8250120" y="266400"/>
              <a:ext cx="909720" cy="30693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360"/>
                <a:gd name="textAreaBottom" fmla="*/ 3069720 h 306936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52"/>
            <p:cNvSpPr/>
            <p:nvPr/>
          </p:nvSpPr>
          <p:spPr>
            <a:xfrm>
              <a:off x="7943760" y="4320"/>
              <a:ext cx="576360" cy="33501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160"/>
                <a:gd name="textAreaBottom" fmla="*/ 3350520 h 33501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53"/>
            <p:cNvSpPr/>
            <p:nvPr/>
          </p:nvSpPr>
          <p:spPr>
            <a:xfrm>
              <a:off x="7943760" y="5760"/>
              <a:ext cx="300240" cy="33505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0520"/>
                <a:gd name="textAreaBottom" fmla="*/ 3350880 h 33505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55"/>
            <p:cNvSpPr/>
            <p:nvPr/>
          </p:nvSpPr>
          <p:spPr>
            <a:xfrm>
              <a:off x="7958160" y="6229800"/>
              <a:ext cx="1165320" cy="61848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AutoShape 56"/>
            <p:cNvSpPr/>
            <p:nvPr/>
          </p:nvSpPr>
          <p:spPr>
            <a:xfrm rot="5400000">
              <a:off x="4326480" y="3318120"/>
              <a:ext cx="6853320" cy="225360"/>
            </a:xfrm>
            <a:custGeom>
              <a:avLst/>
              <a:gdLst>
                <a:gd name="textAreaLeft" fmla="*/ 667800 w 6853320"/>
                <a:gd name="textAreaRight" fmla="*/ 6185520 w 68533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515E-1280-49D8-9315-0436964E9C96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WordArt 5" descr=""/>
          <p:cNvPicPr/>
          <p:nvPr/>
        </p:nvPicPr>
        <p:blipFill>
          <a:blip r:embed="rId1"/>
          <a:stretch/>
        </p:blipFill>
        <p:spPr>
          <a:xfrm>
            <a:off x="463680" y="1768320"/>
            <a:ext cx="7650000" cy="278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Преимущества групповых форм работы</a:t>
            </a:r>
            <a:endParaRPr b="0" lang="en-US" sz="4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2560" y="1889280"/>
            <a:ext cx="76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общение к важным навыкам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учшается успеваемость; формируется мотивация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ть можно кажд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в группе помогает ребенку не только учиться, но и проявить се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ется взаимоува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авливается психологический комфорт в коллекти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яется возможность избежать негативных сторон соревн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Способы формирования групп</a:t>
            </a:r>
            <a:endParaRPr b="0" lang="en-US" sz="4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нее составить список групп и вывесить их, указав место сбора кажд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читаться «на первый-второй...» по числу групп. После расчета первые номера образуют первую группу, вторые - вторую и так далее. Вместо номеров можно использовать цвета, времена года, страны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зиции (или желанию) студ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олевое распределение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силитат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редник-организатор деятельности групп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стра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записывает результаты работ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ладч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докладывает результаты работы группы всему класс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и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задает уточняющие вопросы, которые помогают группе лучше выполнить задание, например те вопросы, которая могла бы задать другая сторона в дискусс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ивный слушател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арается пересказать своими словами то, о чем только что говорил кто-либо из членов группы, помогая сформулировать мысл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блюдател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оме того, наблюдатель может выставлять оценки или баллы каждому участнику групп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онометрис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ледит за временем, отпущенным на выполнение зада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Способы организации группового взаимодействия</a:t>
            </a:r>
            <a:endParaRPr b="0" lang="en-US" sz="4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лые группы получают одно и то ж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Группы получают разны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Группы получают разные, но работающие на общий результат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Группы сменного сост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Работа групп по принципу «вертуш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Работа групп по принципу «эстафе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ормы групповой работы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Аквариум»</a:t>
            </a:r>
            <a:endParaRPr b="0" lang="en-US" sz="32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980640"/>
            <a:ext cx="76201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го как педагог распределил студентов на две — четыре группы и предложил задание для выполнения и необходимую информацию, студенты одной из групп садятся в центре аудитории  и образуют свой маленький круг — «аквариум». Они начинают обсуждать предложенную преподавателем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е, которая работает, для выполнения задания следу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знакомиться с ситу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судить ее в группе, используя метод диску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йти к общей мысли за 3—5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стальные студенты должны только слушать, не вмешиваясь в ход обсуждения, наблюдая, происходит ли дискуссия по определенным правилам дискуссии. Через 3-5 мин. члены группы занимают свои места, а остальные студенты проводят обсуждение по пла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глашаетесь ли вы с мнением груп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ыла ли эта мысль достаточно аргументирова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торый из аргументов вы считаете самым убедитель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 место в «аквариуме» занимает другая группа, которая обсуждает следующую ситу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группы должны побывать в «аквариуме», а деятельность каждой из них должна быть обсуждена аудито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21:42:16Z</dcterms:created>
  <dc:creator>Zhakulina</dc:creator>
  <dc:description/>
  <dc:language>en-US</dc:language>
  <cp:lastModifiedBy>Бай</cp:lastModifiedBy>
  <dcterms:modified xsi:type="dcterms:W3CDTF">2019-01-09T16:33:25Z</dcterms:modified>
  <cp:revision>147</cp:revision>
  <dc:subject/>
  <dc:title>Реализация  компетентностно-ориентированного подхода</dc:title>
</cp:coreProperties>
</file>