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D40-11B0-4F36-9C43-0690DA16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7CD-0533-4B0E-AD23-23FA7F01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16C-F107-4473-A115-0B28E048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8A0-AA86-4106-991A-D6967EB0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ECB6-E9F5-4E3B-9E6F-7BF3647C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320E-6C25-443C-B12B-111FC868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61EC-7BB6-4647-ADFA-8F3E1425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4255-1214-492E-8AFB-6BD05143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F4D7-64DE-4869-9EED-E371F276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8BBE-4059-4805-994B-53599E60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9D69-03EF-4C67-98E5-CABD10DE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E3E-6C0F-41A3-A28C-A2D74B4E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E160-07D4-4CD6-ABA5-D9FBDC05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F035-810A-4584-BBEC-E1DD153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F171-2CAF-481E-8076-F78E691F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2A8E-B2DE-4E7B-9954-58AE33D0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0FCC-B29F-4A15-8768-F8DA6D0B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A1EB-AAA6-4C45-8D0B-1C69B8B5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8A80-B950-4EBD-BC44-5C9F4AAF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E833-631B-44B9-8425-6C9B45AF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E08E-3680-4142-898A-AEAB38D3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9017-C909-48F4-82B6-FF877B17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215-5E37-4F40-8483-42D6C276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D133-341E-4928-BB19-E6A8AD09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FB60-118A-47E3-BFD8-8B484412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095F-65E0-4C9F-9A06-9A6C9AFC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BB895-F1CD-4E03-B182-D1317CF4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E3D1-6A97-4A32-9693-581B00C7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BB12-44A1-48EA-B446-A5C0D309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88D1-8C0A-47FA-84C7-ECE93DDF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27DF9-ED06-4DFE-AB07-D7E6901E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F1773-C6DE-4CD4-963C-40A73B64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F1D34-4CEF-4A33-819D-25EFF133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76B-5DB7-48D0-A308-4500B0B1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63CDB-7DA2-42A0-9115-02C4FD01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E2D9-76CE-4D5E-8936-4FA919FE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F797-239B-4637-86E4-B7F75EF8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C1211-2FC5-45D4-8137-3EF8E1F6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B728-4CA7-438F-873F-9493C4DB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1AB78-9C80-4902-860D-6A61FBFB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B8C1-A481-454C-9E72-2FF02082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F8A04-BECA-441C-B0DB-2B01BEE0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68342-7DDD-4BB8-AE2A-0BD1DB17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D3A0-2FFC-490D-826B-73FBE0A1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4BB-A0A1-44DC-B4F0-AE669A8C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AB60-F391-4081-9AC2-9261C51C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35BF-109E-4FE8-ADF5-9CF9ADDF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653C1-2FA9-400B-B8EF-3F5CBAAC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9F46A-6ADB-49FD-B75B-44C7A7F4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92FB2-7DA5-4A72-864C-FDCCFF19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34536-C97B-4F05-9DE5-33D5E675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A149-176B-4DA4-A96C-02D214A4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D0EA1-6DFA-4276-B870-6663F0D7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0FD8F-8737-4A70-B11F-AE7207E2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C1E8B-4EBB-46F8-B546-1A6B70FE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772-7BBE-4F1A-8CAB-26203A42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45A5-4426-49BF-B19E-898CCFFC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604F7-5A74-4AAC-8FB5-C57E73E6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46803-2A26-4BB5-AC9E-F4959E56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0F473-5D59-4B4A-B604-18635B0E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85EEB-5A49-4DF4-A0A1-B8079D72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8C405-1842-4439-A7C1-209BCD82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57E71-FF84-4F34-B9E8-8207E6A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776D6-0630-4E68-BC03-41758D84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0EA31-0E25-498C-9672-7FDC1049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B9209-E23E-48D3-8A15-EB0D2B36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571-3FB9-440F-AE1F-CB0DD86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40E26-C08A-4783-8700-61102A1D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9CE74-68A7-46E0-A404-0D8251A9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B57DD-7EC7-437B-9343-B3B086E3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5A8-B6CA-4BE5-9C91-E7179D0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B69-7BD5-4E2D-A1E5-64CE11F3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1466-5D90-474B-952F-BAEF81ABB5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08FA-E355-4E75-9C0D-C520133D9A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39CC-1D27-492F-8581-38E6C06F77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15A4-8559-4601-9506-AE5428EEB5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1123-3E12-46B4-928B-8648D9B31A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219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22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223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224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225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226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27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28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Freeform 13"/>
                  <p:cNvSpPr/>
                  <p:nvPr/>
                </p:nvSpPr>
                <p:spPr>
                  <a:xfrm rot="16200000">
                    <a:off x="8763840" y="7056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0" name="Freeform 14"/>
                  <p:cNvSpPr/>
                  <p:nvPr/>
                </p:nvSpPr>
                <p:spPr>
                  <a:xfrm rot="16200000">
                    <a:off x="883476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1" name="Freeform 15"/>
                  <p:cNvSpPr/>
                  <p:nvPr/>
                </p:nvSpPr>
                <p:spPr>
                  <a:xfrm rot="16200000">
                    <a:off x="8904240" y="1076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2" name="Freeform 16"/>
                  <p:cNvSpPr/>
                  <p:nvPr/>
                </p:nvSpPr>
                <p:spPr>
                  <a:xfrm rot="16200000">
                    <a:off x="8830080" y="19584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23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2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24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2" name="Freeform 46"/>
            <p:cNvSpPr/>
            <p:nvPr/>
          </p:nvSpPr>
          <p:spPr>
            <a:xfrm>
              <a:off x="7953480" y="4909680"/>
              <a:ext cx="1190520" cy="19386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600"/>
                <a:gd name="textAreaBottom" fmla="*/ 1938960 h 19386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47"/>
            <p:cNvSpPr/>
            <p:nvPr/>
          </p:nvSpPr>
          <p:spPr>
            <a:xfrm>
              <a:off x="7939080" y="4858920"/>
              <a:ext cx="1219320" cy="199872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48"/>
            <p:cNvSpPr/>
            <p:nvPr/>
          </p:nvSpPr>
          <p:spPr>
            <a:xfrm>
              <a:off x="7927920" y="2820240"/>
              <a:ext cx="1231920" cy="40341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160"/>
                <a:gd name="textAreaBottom" fmla="*/ 4034520 h 40341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49"/>
            <p:cNvSpPr/>
            <p:nvPr/>
          </p:nvSpPr>
          <p:spPr>
            <a:xfrm>
              <a:off x="8010360" y="3540600"/>
              <a:ext cx="979560" cy="21826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2680"/>
                <a:gd name="textAreaBottom" fmla="*/ 2183040 h 21826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50"/>
            <p:cNvSpPr/>
            <p:nvPr/>
          </p:nvSpPr>
          <p:spPr>
            <a:xfrm>
              <a:off x="8244000" y="431280"/>
              <a:ext cx="914400" cy="5044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4680"/>
                <a:gd name="textAreaBottom" fmla="*/ 5044680 h 50446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51"/>
            <p:cNvSpPr/>
            <p:nvPr/>
          </p:nvSpPr>
          <p:spPr>
            <a:xfrm>
              <a:off x="8250120" y="266400"/>
              <a:ext cx="909720" cy="30693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360"/>
                <a:gd name="textAreaBottom" fmla="*/ 3069720 h 306936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52"/>
            <p:cNvSpPr/>
            <p:nvPr/>
          </p:nvSpPr>
          <p:spPr>
            <a:xfrm>
              <a:off x="7943760" y="4320"/>
              <a:ext cx="576360" cy="33501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160"/>
                <a:gd name="textAreaBottom" fmla="*/ 3350520 h 33501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53"/>
            <p:cNvSpPr/>
            <p:nvPr/>
          </p:nvSpPr>
          <p:spPr>
            <a:xfrm>
              <a:off x="7943760" y="5760"/>
              <a:ext cx="300240" cy="33505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0520"/>
                <a:gd name="textAreaBottom" fmla="*/ 3350880 h 33505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AutoShape 56"/>
            <p:cNvSpPr/>
            <p:nvPr/>
          </p:nvSpPr>
          <p:spPr>
            <a:xfrm rot="5400000">
              <a:off x="4326480" y="3318120"/>
              <a:ext cx="6853320" cy="225360"/>
            </a:xfrm>
            <a:custGeom>
              <a:avLst/>
              <a:gdLst>
                <a:gd name="textAreaLeft" fmla="*/ 667800 w 6853320"/>
                <a:gd name="textAreaRight" fmla="*/ 6185520 w 68533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E42F-5F54-410E-9FDB-C9370FF6329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WordArt 5" descr=""/>
          <p:cNvPicPr/>
          <p:nvPr/>
        </p:nvPicPr>
        <p:blipFill>
          <a:blip r:embed="rId1"/>
          <a:stretch/>
        </p:blipFill>
        <p:spPr>
          <a:xfrm>
            <a:off x="463680" y="1768320"/>
            <a:ext cx="7650000" cy="278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Преимущества групповых форм работы</a:t>
            </a:r>
            <a:endParaRPr b="0" lang="en-US" sz="4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2560" y="1889280"/>
            <a:ext cx="76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общение к важным навыкам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учшается успеваемость; формируется мотивация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ь можно кажд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в группе помогает ребенку не только учиться, но и проявить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ется взаимоува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авливается психологический комфорт в коллекти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яется возможность избежать негативных сторон соревн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Способы формирования групп</a:t>
            </a:r>
            <a:endParaRPr b="0" lang="en-US" sz="4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нее составить список групп и вывесить их, указав место сбора кажд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читаться «на первый-второй...» по числу групп. После расчета первые номера образуют первую группу, вторые - вторую и так далее. Вместо номеров можно использовать цвета, времена года, страны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зиции (или желанию) студ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олевое распределение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силитат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редник-организатор деятельности групп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стра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записывает результаты работ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ладч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окладывает результаты работы группы всему класс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и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задает уточняющие вопросы, которые помогают группе лучше выполнить задание, например те вопросы, которая могла бы задать другая сторона в дискусс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ный слушател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арается пересказать своими словами то, о чем только что говорил кто-либо из членов группы, помогая сформулировать мыс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блюдател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оме того, наблюдатель может выставлять оценки или баллы каждому участнику групп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онометрис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ледит за временем, отпущенным на выполнение зада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Способы организации группового взаимодействия</a:t>
            </a:r>
            <a:endParaRPr b="0" lang="en-US" sz="4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лые группы получают одно и то ж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Группы получают разны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Группы получают разные, но работающие на общий результат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Группы сменного сост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Работа групп по принципу «вертуш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Работа групп по принципу «эстаф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ормы групповой работы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Аквариум»</a:t>
            </a:r>
            <a:endParaRPr b="0" lang="en-US" sz="32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980640"/>
            <a:ext cx="76201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 как педагог распределил студентов на две — четыре группы и предложил задание для выполнения и необходимую информацию, студенты одной из групп садятся в центре аудитории  и образуют свой маленький круг — «аквариум». Они начинают обсуждать предложенную преподавателем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е, которая работает, для выполнения задания следу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знакомиться с ситу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судить ее в группе, используя метод диску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йти к общей мысли за 3—5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стальные студенты должны только слушать, не вмешиваясь в ход обсуждения, наблюдая, происходит ли дискуссия по определенным правилам дискуссии. Через 3-5 мин. члены группы занимают свои места, а остальные студенты проводят обсуждение по пла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глашаетесь ли вы с мнением груп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ыла ли эта мысль достаточно аргументирова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торый из аргументов вы считаете самым убедитель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 место в «аквариуме» занимает другая группа, которая обсуждает следующую ситу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группы должны побывать в «аквариуме», а деятельность каждой из них должна быть обсуждена ауди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21:42:16Z</dcterms:created>
  <dc:creator>Zhakulina</dc:creator>
  <dc:description/>
  <dc:language>en-US</dc:language>
  <cp:lastModifiedBy>Бай</cp:lastModifiedBy>
  <dcterms:modified xsi:type="dcterms:W3CDTF">2019-01-09T16:33:25Z</dcterms:modified>
  <cp:revision>147</cp:revision>
  <dc:subject/>
  <dc:title>Реализация  компетентностно-ориентированного подхода</dc:title>
</cp:coreProperties>
</file>