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3053-0658-490B-B213-99AA5C3C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1BCF-7824-43D5-A33B-AEA22D9E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4280-87CB-412A-A1F8-16EF1C42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6804-CECD-42B1-93C0-F966D4E7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12D4-0448-4DD7-86C3-7C8DDB73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6C64-0040-4B15-9B2B-1DFBF197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811B-291D-4BA5-BF01-D5348520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C7AD-A56A-4A1B-BBC2-E839FF16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2FF4-EA9E-4A56-8629-8FACB6D1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5A57-8961-4625-992E-71014333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EDBC-27C4-417A-A56A-48B70B28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54EB-7A6C-442E-87B8-73B44327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BAA1-CD6B-41AF-AE58-7F5F28BC440E}" type="slidenum">
              <a:rPr b="1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395280" y="765000"/>
            <a:ext cx="97218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444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444444"/>
                </a:solidFill>
                <a:latin typeface="Times New Roman"/>
                <a:ea typeface="Times New Roman"/>
              </a:rPr>
              <a:t>    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   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езентация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ля проведения речевой конференции 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 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 теме: «Весна». 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комендуется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ля обучающихся  со слуховой депривацией. 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 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Начальная школа)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1053720" y="5373720"/>
            <a:ext cx="6974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Автор: учитель-дефектолог ГКОУ СКОШИ №5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     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Гуденко Людмила Владимировна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296640" y="1749600"/>
            <a:ext cx="4466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лете́ла  ла́с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к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͜  три́девять  земе́ль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враща́йся,  ла́с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ка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͜   д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́  апре́ль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враща́йся,  ла́с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ка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о́ль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не͜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на́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усть  с͜  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о́ю,  ла́с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ка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лети́т  весна́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329760" y="6021360"/>
            <a:ext cx="99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аня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Рисунок 1" descr=""/>
          <p:cNvPicPr/>
          <p:nvPr/>
        </p:nvPicPr>
        <p:blipFill>
          <a:blip r:embed="rId1"/>
          <a:stretch/>
        </p:blipFill>
        <p:spPr>
          <a:xfrm>
            <a:off x="4944960" y="1989000"/>
            <a:ext cx="39402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495000" y="2421000"/>
            <a:ext cx="484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͜  весне́  набу́хли  по́чк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͜  п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лю́нулись  листо́чки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и́  на͜  ве́тки  клёна 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ко́ль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но́си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 зелёных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473400" y="616572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раида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Рисунок 1" descr=""/>
          <p:cNvPicPr/>
          <p:nvPr/>
        </p:nvPicPr>
        <p:blipFill>
          <a:blip r:embed="rId1"/>
          <a:srcRect l="0" t="0" r="3557" b="17366"/>
          <a:stretch/>
        </p:blipFill>
        <p:spPr>
          <a:xfrm>
            <a:off x="5373720" y="1996920"/>
            <a:ext cx="3240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2374200" y="67140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414720" y="1838160"/>
            <a:ext cx="4804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ый  солнечный  денёк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ует  вешний  ветерок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робьи  развеселилис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 эти  тёплые  часы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аже  почки  рты  раскрыл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 деревьях,  как  птенцы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 сосульки  прослезилис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 повесили  носы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399600" y="6021360"/>
            <a:ext cx="8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в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Рисунок 1" descr=""/>
          <p:cNvPicPr/>
          <p:nvPr/>
        </p:nvPicPr>
        <p:blipFill>
          <a:blip r:embed="rId1"/>
          <a:stretch/>
        </p:blipFill>
        <p:spPr>
          <a:xfrm>
            <a:off x="5580000" y="1822320"/>
            <a:ext cx="316872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140760" y="1798560"/>
            <a:ext cx="518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юблю  грозу  в  начале  мая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гда  весенний  первый  гром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 бы  резвяся  и  играя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охочет  в  небе  голубом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емят  раскаты  молодые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т  дождик  брызнул,  пыль  летит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исли  перлы  дождевые, 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солнце нити  золотит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Рисунок 5" descr="5457.jpg"/>
          <p:cNvPicPr/>
          <p:nvPr/>
        </p:nvPicPr>
        <p:blipFill>
          <a:blip r:embed="rId1"/>
          <a:stretch/>
        </p:blipFill>
        <p:spPr>
          <a:xfrm>
            <a:off x="5334120" y="1828800"/>
            <a:ext cx="3706560" cy="416232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250200" y="602136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Женя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09960" y="609480"/>
            <a:ext cx="85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ко́е  вре́мя  го́да  бу́дет  по́сле  весны́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751120" y="1368360"/>
            <a:ext cx="184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Ле́т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ō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611280" y="2362320"/>
            <a:ext cx="837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то͜   вы͜   бу́дете  де́лать  ле́т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1239840" y="3352680"/>
            <a:ext cx="6531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Times New Roman"/>
              </a:rPr>
              <a:t>Ōтдыха́т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Пла́вать  в͜   реке́  и́ли  в͜   мо́р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Times New Roman"/>
              </a:rPr>
              <a:t>Заг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ō</a:t>
            </a:r>
            <a:r>
              <a:rPr b="1" lang="ru-RU" sz="3600" spc="-1" strike="noStrike">
                <a:solidFill>
                  <a:srgbClr val="ff9900"/>
                </a:solidFill>
                <a:latin typeface="Times New Roman"/>
              </a:rPr>
              <a:t>ра́ть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81bd"/>
                </a:solidFill>
                <a:latin typeface="Times New Roman"/>
              </a:rPr>
              <a:t>Игра́ть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050"/>
                </a:solidFill>
                <a:latin typeface="Times New Roman"/>
              </a:rPr>
              <a:t>Х</a:t>
            </a: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ō</a:t>
            </a:r>
            <a:r>
              <a:rPr b="1" lang="ru-RU" sz="3600" spc="-1" strike="noStrike">
                <a:solidFill>
                  <a:srgbClr val="ff5050"/>
                </a:solidFill>
                <a:latin typeface="Times New Roman"/>
              </a:rPr>
              <a:t>ди́ть  в͜   лес  за͜   я́г</a:t>
            </a: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ō</a:t>
            </a:r>
            <a:r>
              <a:rPr b="1" lang="ru-RU" sz="3600" spc="-1" strike="noStrike">
                <a:solidFill>
                  <a:srgbClr val="ff5050"/>
                </a:solidFill>
                <a:latin typeface="Times New Roman"/>
              </a:rPr>
              <a:t>дами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2"/>
          <p:cNvSpPr/>
          <p:nvPr/>
        </p:nvSpPr>
        <p:spPr>
          <a:xfrm>
            <a:off x="1004400" y="1700280"/>
            <a:ext cx="719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Times New Roman"/>
              </a:rPr>
              <a:t>Посмотрите на следующий слайд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Times New Roman"/>
              </a:rPr>
              <a:t>                    </a:t>
            </a:r>
            <a:r>
              <a:rPr b="1" lang="ru-RU" sz="3600" spc="-1" strike="noStrike">
                <a:solidFill>
                  <a:srgbClr val="215968"/>
                </a:solidFill>
                <a:latin typeface="Times New Roman"/>
              </a:rPr>
              <a:t>и скажите,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Times New Roman"/>
              </a:rPr>
              <a:t>                  </a:t>
            </a:r>
            <a:r>
              <a:rPr b="1" lang="ru-RU" sz="3600" spc="-1" strike="noStrike">
                <a:solidFill>
                  <a:srgbClr val="215968"/>
                </a:solidFill>
                <a:latin typeface="Times New Roman"/>
              </a:rPr>
              <a:t>какие звуки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Times New Roman"/>
              </a:rPr>
              <a:t>             </a:t>
            </a:r>
            <a:r>
              <a:rPr b="1" lang="ru-RU" sz="3600" spc="-1" strike="noStrike">
                <a:solidFill>
                  <a:srgbClr val="215968"/>
                </a:solidFill>
                <a:latin typeface="Times New Roman"/>
              </a:rPr>
              <a:t>можно услышат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Times New Roman"/>
              </a:rPr>
              <a:t>             </a:t>
            </a:r>
            <a:r>
              <a:rPr b="1" lang="ru-RU" sz="3600" spc="-1" strike="noStrike">
                <a:solidFill>
                  <a:srgbClr val="215968"/>
                </a:solidFill>
                <a:latin typeface="Times New Roman"/>
              </a:rPr>
              <a:t>на морском берегу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215968"/>
                </a:solidFill>
                <a:latin typeface="Times New Roman"/>
              </a:rPr>
              <a:t>Запомните их и назовите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Изображение1.jpg"/>
          <p:cNvPicPr/>
          <p:nvPr/>
        </p:nvPicPr>
        <p:blipFill>
          <a:blip r:embed="rId1"/>
          <a:stretch/>
        </p:blipFill>
        <p:spPr>
          <a:xfrm>
            <a:off x="71280" y="0"/>
            <a:ext cx="907272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6595560" y="1125360"/>
            <a:ext cx="159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а́йки   крича́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3287160" y="907920"/>
            <a:ext cx="159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ам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ёт  лети́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2714760" y="4869000"/>
            <a:ext cx="212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е́ти  игра́ют  в͜   мяч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5658840" y="2421000"/>
            <a:ext cx="15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́тер  плывё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2131560" y="6093000"/>
            <a:ext cx="164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́зыка  игра́е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5515920" y="630864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учи́т  л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а́ткой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1039320" y="1793880"/>
            <a:ext cx="176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удо́к  тепл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хо́д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5732640" y="4221000"/>
            <a:ext cx="129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леск  волн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Staya_chaek.mp3" descr=""/>
          <p:cNvPicPr/>
          <p:nvPr/>
        </p:nvPicPr>
        <p:blipFill>
          <a:blip r:embed="rId2"/>
          <a:stretch/>
        </p:blipFill>
        <p:spPr>
          <a:xfrm>
            <a:off x="8244000" y="112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Samolet_proletajuschii_nad_golovoi.mp3" descr=""/>
          <p:cNvPicPr/>
          <p:nvPr/>
        </p:nvPicPr>
        <p:blipFill>
          <a:blip r:embed="rId3"/>
          <a:stretch/>
        </p:blipFill>
        <p:spPr>
          <a:xfrm>
            <a:off x="3132000" y="907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9" name="Nabivajut_myachom.mp3" descr=""/>
          <p:cNvPicPr/>
          <p:nvPr/>
        </p:nvPicPr>
        <p:blipFill>
          <a:blip r:embed="rId4"/>
          <a:stretch/>
        </p:blipFill>
        <p:spPr>
          <a:xfrm>
            <a:off x="3124080" y="456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0" name="Kater_dvizhetsya_-_shum_dvigatelya.mp3" descr=""/>
          <p:cNvPicPr/>
          <p:nvPr/>
        </p:nvPicPr>
        <p:blipFill>
          <a:blip r:embed="rId5"/>
          <a:stretch/>
        </p:blipFill>
        <p:spPr>
          <a:xfrm>
            <a:off x="5364000" y="242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1" name="Grammofon_patefon_igraet.mp3" descr=""/>
          <p:cNvPicPr/>
          <p:nvPr/>
        </p:nvPicPr>
        <p:blipFill>
          <a:blip r:embed="rId6"/>
          <a:stretch/>
        </p:blipFill>
        <p:spPr>
          <a:xfrm>
            <a:off x="197964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2" name="Molotkom_zabivajut_gvozdi.mp3" descr=""/>
          <p:cNvPicPr/>
          <p:nvPr/>
        </p:nvPicPr>
        <p:blipFill>
          <a:blip r:embed="rId7"/>
          <a:stretch/>
        </p:blipFill>
        <p:spPr>
          <a:xfrm>
            <a:off x="529272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3" name="Gudok_parohoda.mp3" descr=""/>
          <p:cNvPicPr/>
          <p:nvPr/>
        </p:nvPicPr>
        <p:blipFill>
          <a:blip r:embed="rId8"/>
          <a:stretch/>
        </p:blipFill>
        <p:spPr>
          <a:xfrm>
            <a:off x="1101600" y="1488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4" name="Bolshie_volny.mp3" descr=""/>
          <p:cNvPicPr/>
          <p:nvPr/>
        </p:nvPicPr>
        <p:blipFill>
          <a:blip r:embed="rId9"/>
          <a:stretch/>
        </p:blipFill>
        <p:spPr>
          <a:xfrm>
            <a:off x="5580000" y="422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" name="Samolet_proletajuschii_nad_golovoi.mp3" descr=""/>
          <p:cNvPicPr/>
          <p:nvPr/>
        </p:nvPicPr>
        <p:blipFill>
          <a:blip r:embed="rId10"/>
          <a:stretch/>
        </p:blipFill>
        <p:spPr>
          <a:xfrm>
            <a:off x="179280" y="189000"/>
            <a:ext cx="304920" cy="260280"/>
          </a:xfrm>
          <a:prstGeom prst="rect">
            <a:avLst/>
          </a:prstGeom>
          <a:ln w="0">
            <a:noFill/>
          </a:ln>
        </p:spPr>
      </p:pic>
      <p:pic>
        <p:nvPicPr>
          <p:cNvPr id="106" name="Nabivajut_myachom.mp3" descr=""/>
          <p:cNvPicPr/>
          <p:nvPr/>
        </p:nvPicPr>
        <p:blipFill>
          <a:blip r:embed="rId11"/>
          <a:stretch/>
        </p:blipFill>
        <p:spPr>
          <a:xfrm>
            <a:off x="46836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7" name="Bolshie_volny.mp3" descr=""/>
          <p:cNvPicPr/>
          <p:nvPr/>
        </p:nvPicPr>
        <p:blipFill>
          <a:blip r:embed="rId12"/>
          <a:stretch/>
        </p:blipFill>
        <p:spPr>
          <a:xfrm>
            <a:off x="75564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8" name="Grammofon_patefon_igraet.mp3" descr=""/>
          <p:cNvPicPr/>
          <p:nvPr/>
        </p:nvPicPr>
        <p:blipFill>
          <a:blip r:embed="rId13"/>
          <a:stretch/>
        </p:blipFill>
        <p:spPr>
          <a:xfrm>
            <a:off x="104292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9" name="Gudok_parohoda.mp3" descr=""/>
          <p:cNvPicPr/>
          <p:nvPr/>
        </p:nvPicPr>
        <p:blipFill>
          <a:blip r:embed="rId14"/>
          <a:stretch/>
        </p:blipFill>
        <p:spPr>
          <a:xfrm>
            <a:off x="1332000" y="189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0" name="Staya_chaek.mp3" descr=""/>
          <p:cNvPicPr/>
          <p:nvPr/>
        </p:nvPicPr>
        <p:blipFill>
          <a:blip r:embed="rId15"/>
          <a:stretch/>
        </p:blipFill>
        <p:spPr>
          <a:xfrm>
            <a:off x="161928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1" name="Kater_dvizhetsya_-_shum_dvigatelya.mp3" descr=""/>
          <p:cNvPicPr/>
          <p:nvPr/>
        </p:nvPicPr>
        <p:blipFill>
          <a:blip r:embed="rId16"/>
          <a:stretch/>
        </p:blipFill>
        <p:spPr>
          <a:xfrm>
            <a:off x="190800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2" name="Molotkom_zabivajut_gvozdi.mp3" descr=""/>
          <p:cNvPicPr/>
          <p:nvPr/>
        </p:nvPicPr>
        <p:blipFill>
          <a:blip r:embed="rId17"/>
          <a:stretch/>
        </p:blipFill>
        <p:spPr>
          <a:xfrm>
            <a:off x="2195640" y="189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3" name="Grammofon_patefon_igraet.mp3" descr=""/>
          <p:cNvPicPr/>
          <p:nvPr/>
        </p:nvPicPr>
        <p:blipFill>
          <a:blip r:embed="rId18"/>
          <a:stretch/>
        </p:blipFill>
        <p:spPr>
          <a:xfrm>
            <a:off x="2484360" y="189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28"/>
          <p:cNvSpPr/>
          <p:nvPr/>
        </p:nvSpPr>
        <p:spPr>
          <a:xfrm>
            <a:off x="684360" y="981000"/>
            <a:ext cx="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37"/>
          <p:cNvSpPr/>
          <p:nvPr/>
        </p:nvSpPr>
        <p:spPr>
          <a:xfrm>
            <a:off x="181080" y="40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38"/>
          <p:cNvSpPr/>
          <p:nvPr/>
        </p:nvSpPr>
        <p:spPr>
          <a:xfrm>
            <a:off x="397080" y="40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39"/>
          <p:cNvSpPr/>
          <p:nvPr/>
        </p:nvSpPr>
        <p:spPr>
          <a:xfrm>
            <a:off x="686160" y="40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40"/>
          <p:cNvSpPr/>
          <p:nvPr/>
        </p:nvSpPr>
        <p:spPr>
          <a:xfrm>
            <a:off x="973440" y="40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41"/>
          <p:cNvSpPr/>
          <p:nvPr/>
        </p:nvSpPr>
        <p:spPr>
          <a:xfrm>
            <a:off x="1261440" y="40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42"/>
          <p:cNvSpPr/>
          <p:nvPr/>
        </p:nvSpPr>
        <p:spPr>
          <a:xfrm>
            <a:off x="1549440" y="40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43"/>
          <p:cNvSpPr/>
          <p:nvPr/>
        </p:nvSpPr>
        <p:spPr>
          <a:xfrm>
            <a:off x="1837080" y="40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Box 44"/>
          <p:cNvSpPr/>
          <p:nvPr/>
        </p:nvSpPr>
        <p:spPr>
          <a:xfrm>
            <a:off x="2050920" y="4046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45"/>
          <p:cNvSpPr/>
          <p:nvPr/>
        </p:nvSpPr>
        <p:spPr>
          <a:xfrm>
            <a:off x="2413080" y="40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68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67318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73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7853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78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2411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73216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88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36908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93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31608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98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1403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03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253687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08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17853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13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2411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18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" dur="253687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136908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" dur="1403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33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6" dur="67318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38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73216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43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31608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48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136908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2770200" y="3068640"/>
            <a:ext cx="376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15968"/>
                </a:solidFill>
                <a:latin typeface="Times New Roman"/>
              </a:rPr>
              <a:t>Молодцы!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Весна́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"/>
          <p:cNvSpPr/>
          <p:nvPr/>
        </p:nvSpPr>
        <p:spPr>
          <a:xfrm>
            <a:off x="2286000" y="336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444"/>
                </a:solidFill>
                <a:latin typeface="Arial"/>
              </a:rPr>
              <a:t>  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1322640" y="714240"/>
            <a:ext cx="674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</a:rPr>
              <a:t>Како́е  сейча́с  вре́мя  го́да  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2992680" y="2438280"/>
            <a:ext cx="285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5050"/>
                </a:solidFill>
                <a:latin typeface="Times New Roman"/>
              </a:rPr>
              <a:t>Весна́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075040" y="1111320"/>
            <a:ext cx="58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7375e"/>
                </a:solidFill>
                <a:uFillTx/>
                <a:latin typeface="Times New Roman"/>
              </a:rPr>
              <a:t>Наз</a:t>
            </a:r>
            <a:r>
              <a:rPr b="1" lang="en-US" sz="3600" spc="-1" strike="noStrike" u="sng">
                <a:solidFill>
                  <a:srgbClr val="17375e"/>
                </a:solidFill>
                <a:uFillTx/>
                <a:latin typeface="Times New Roman"/>
              </a:rPr>
              <a:t>ō</a:t>
            </a:r>
            <a:r>
              <a:rPr b="1" lang="ru-RU" sz="3600" spc="-1" strike="noStrike" u="sng">
                <a:solidFill>
                  <a:srgbClr val="17375e"/>
                </a:solidFill>
                <a:uFillTx/>
                <a:latin typeface="Times New Roman"/>
              </a:rPr>
              <a:t>ви́те  приме́ты  весны́</a:t>
            </a:r>
            <a:r>
              <a:rPr b="1" lang="ru-RU" sz="3600" spc="-1" strike="noStrike" u="sng">
                <a:solidFill>
                  <a:srgbClr val="10253f"/>
                </a:solidFill>
                <a:uFillTx/>
                <a:latin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644120" y="2133720"/>
            <a:ext cx="6509880" cy="393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lang="ru-RU" sz="3600" spc="-1" strike="noStrike">
                <a:solidFill>
                  <a:srgbClr val="00cc00"/>
                </a:solidFill>
                <a:latin typeface="Times New Roman"/>
              </a:rPr>
              <a:t>Сне͞г  раста́ял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99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ff3399"/>
                </a:solidFill>
                <a:latin typeface="Times New Roman"/>
              </a:rPr>
              <a:t>На͜   у́лице  тепло́.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Не́б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ō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г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ō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лубо́е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Со́лнце  я́рк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ō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 све́тит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На͜   дере́вьях  набу́хли  по́чки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Прилете́ли  пти́цы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2228040" y="404640"/>
            <a:ext cx="443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Весе́нние   ме́сяцы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1697040" y="1052640"/>
            <a:ext cx="14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</a:rPr>
              <a:t>Март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3717720" y="105264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Апре́ль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6235200" y="105264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Май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390960" y="2492280"/>
            <a:ext cx="236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пе́ль  стучи́т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вени́т,  поёт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Ōна́  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́е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не͞г  и͜  лё͞д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2426760" y="4365720"/>
            <a:ext cx="392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лили́сь,  набу́хли  по́чк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͜  гнезда́  летя́т  шмели́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́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͜   куста́  цвето́чк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ы́е  расцвели́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5378040" y="2421000"/>
            <a:ext cx="35409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учи́   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́ют  льди́нк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пло́ ста́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у́͞г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͜  и͞з – 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͞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͜  трави́нк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́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͞з  со́нный  жук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8663 0.12593 E">
                                      <p:cBhvr>
                                        <p:cTn id="51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4636 0.38843 E">
                                      <p:cBhvr>
                                        <p:cTn id="55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3629 0.10509 E">
                                      <p:cBhvr>
                                        <p:cTn id="59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74880" y="647640"/>
            <a:ext cx="694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974880" y="2205000"/>
            <a:ext cx="5041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а́͞вка  зелене́ет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́лнышко  блести́т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а́с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ка с͜  весно́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͜  се́ни  к͜  нам  лети́т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187560" y="6021360"/>
            <a:ext cx="121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нис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Рисунок 2" descr=""/>
          <p:cNvPicPr/>
          <p:nvPr/>
        </p:nvPicPr>
        <p:blipFill>
          <a:blip r:embed="rId1"/>
          <a:srcRect l="33827" t="0" r="0" b="0"/>
          <a:stretch/>
        </p:blipFill>
        <p:spPr>
          <a:xfrm>
            <a:off x="4932360" y="1844640"/>
            <a:ext cx="37386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430560" y="1731960"/>
            <a:ext cx="3848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пре́ль!  Апре́ль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͜   д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́ звени́т капе́ль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͜   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я́м  бегу́т  ручьи́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͜   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́гах  лу́ж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ко́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вы́йдут  муравьи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́сле  зи́мней  сту́ж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ра́ется  медве́͞д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квозь  густо́й  вале́жник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́ли  пти́цы  пе́сни  пет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͜   расцвёл  подсне́жник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389520" y="6308640"/>
            <a:ext cx="10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одион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Рисунок 3" descr=""/>
          <p:cNvPicPr/>
          <p:nvPr/>
        </p:nvPicPr>
        <p:blipFill>
          <a:blip r:embed="rId1"/>
          <a:srcRect l="13307" t="-1127" r="8646" b="1932"/>
          <a:stretch/>
        </p:blipFill>
        <p:spPr>
          <a:xfrm>
            <a:off x="4427640" y="1639800"/>
            <a:ext cx="44575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188280" y="1916280"/>
            <a:ext cx="4833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Ōпя́ть  весна́  пришла́  на͜  да́чу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ку́ет  со́лнце.  День  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ро́с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͜  лишь͜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ни́  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у́льки  пла́чут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але́я  зи́му  и͜  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́͞з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͜  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я́нке,  у͜   т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и́нк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ва́ются  трави́нк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͜  бу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ка́  руче́й  бежи́т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͜  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͜  ёлкой сне͞г  лежи́т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472320" y="6021360"/>
            <a:ext cx="7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ва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Рисунок 1" descr=""/>
          <p:cNvPicPr/>
          <p:nvPr/>
        </p:nvPicPr>
        <p:blipFill>
          <a:blip r:embed="rId1"/>
          <a:srcRect l="0" t="0" r="0" b="7740"/>
          <a:stretch/>
        </p:blipFill>
        <p:spPr>
          <a:xfrm>
            <a:off x="4933800" y="1876320"/>
            <a:ext cx="40309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900000" y="1773360"/>
            <a:ext cx="482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͜  нам  весна́  шага́е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ы́стрыми  шага́ми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͜  сугро́бы  та́ют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͜   её͜   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а́м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ёрные  п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́лин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͜  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я́х  видны́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́д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 о́чень  тёплы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́ги  у͜   весны́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Рисунок 5" descr="6.jpg"/>
          <p:cNvPicPr/>
          <p:nvPr/>
        </p:nvPicPr>
        <p:blipFill>
          <a:blip r:embed="rId1"/>
          <a:stretch/>
        </p:blipFill>
        <p:spPr>
          <a:xfrm>
            <a:off x="5148360" y="1052640"/>
            <a:ext cx="3743280" cy="504036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327960" y="60213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рин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1T21:22:17Z</dcterms:created>
  <dc:creator>Пользователь 1</dc:creator>
  <dc:description/>
  <dc:language>en-US</dc:language>
  <cp:lastModifiedBy>Людмила Вл. Гуденко</cp:lastModifiedBy>
  <dcterms:modified xsi:type="dcterms:W3CDTF">2019-11-28T09:08:08Z</dcterms:modified>
  <cp:revision>180</cp:revision>
  <dc:subject/>
  <dc:title>Презентация PowerPoint</dc:title>
</cp:coreProperties>
</file>