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B90-9536-47EE-8711-2DD01578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965-938C-4ACB-A5C2-EE20A5A0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6B1-9301-455C-8534-C69F77D7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AC5-9A27-4CE0-B5FE-A22E53E2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751F-59F7-46D0-AA10-006F2EB2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9151-2F5F-405C-A138-BA58EB0E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7EF3-2220-4F16-8714-C96BADD5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AFEA-84CE-4317-8A1C-9F1FF1B2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4AEB-4985-475B-A686-A2071C1B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64D5-E417-4654-81AA-05AAD233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8C9A-A22D-4678-B85C-750F4C65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B8A-4F75-4200-BB32-F4748A69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854B-E074-439D-B20A-73176ACF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AB6D-D190-4DE7-859D-EF1BC0F1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DF71-1C7E-4F1A-871F-6FF7DC3F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571B-E7C4-4DA1-9F75-4E04B7F3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EC4C-4247-44CA-B643-B916DBC5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0F56B-7502-4C87-A13E-959F70E5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B8613-4A49-482C-A53E-62A43B3F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8B6B-CE5A-49C9-A518-13C05D93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58D8-EA89-49E4-9B64-E378EAE9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8D562-6FAC-49B7-921A-A404AC2B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64D-AD76-4538-9D9E-712FE9E6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BA6A-F817-484E-BB30-1D5A557E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33C6-CC8B-4C5A-B6A0-43401B59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5FD0-B77F-414F-922E-340604B0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90CC-909E-44BC-B968-F6D0961C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E9D81-FDB0-4067-B1EA-96480634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9DC9-B880-4A7F-A499-ADF5D6CA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A9C39-58B6-495A-882F-CBF2CA59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07F4D-C782-4568-8608-97A25E46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4DA07-B107-4CAE-A3E7-72E33957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CDEE-8E1D-42F3-B093-EE1C9E33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54E-60F6-4686-BFB1-52143219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9B36-22FD-4F21-990B-81AD4025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D8840-4A50-47C0-A521-6E621C6A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AF01-2960-4DF7-B831-9867D0F8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CD183-EC82-4201-AA7E-17E4D0B6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686CC-B477-415C-984D-164FD6B0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55BA-F527-4C4B-9FCA-95FB60E8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8D11-9F04-4FA8-8BA6-BFE2F5BF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57465-AB0F-406B-BA90-6BB4E05E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EDE8-BB0B-4B2E-9638-8F6473DA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A4D-9612-41AA-889E-D5C9FB1C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E6F-0582-4E9B-8082-2A51A6AD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B45-F6E7-4EE1-98B3-4D7ED9CB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3AE-2C86-4F0C-8F15-814B1341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382-D4EF-4F62-B900-7CAEE438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3968-16F9-4EF1-9BDA-0767DEF14081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E745-8397-4DBF-9E98-EA75E1D2E6D2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3923-7A71-41C3-9993-15C1301837BA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8E4C-0F6F-49CF-9E31-511444051C4F}" type="slidenum">
              <a:rPr b="0" lang="es-E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45680" y="4797000"/>
            <a:ext cx="83026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Критерии оценивания ответов учащихся начальной школ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Изложения и сочин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8000" y="112500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Оценка "5" ставится: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-за правильное и последовательное воспроизведение авторского текста, логически последовательное раскрытие темы, отсутствие фактических ошибок, богатство словаря, правильность речевого оформления (допускается 1 речевая неточность);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- нет грубых орфографических и пунктуационных ошибок; допускается 1 -2 исправления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Оценка "4" ставится: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за правильное и достаточно полное воспроизведение авторского текста, раскрыта тема, но имеются незначительные нарушения последовательности изложения мыслей;  допускается 1-2 речевых или фактических недочета, или недочёт в содержании и построении текста.1-2 орфографические и 1-2 пунктуационные ошибки, 1-2 исправления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Оценка "3" ставится: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имеются отступления от авторского текста; отклонение от темы; допущены отдельные нарушения в последовательности изложения мыслей, в построении 1-2 предложений; беден словарь; имеются речевые неточности; 3-5 речевых недочетов в содержании и построении текста.3-5 орфографических и не более 2 пунктуационных ошибок, 1-2 исправления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Оценка «2» ставится: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1300" spc="-1" strike="noStrike">
                <a:solidFill>
                  <a:srgbClr val="404040"/>
                </a:solidFill>
                <a:latin typeface="Trebuchet MS"/>
              </a:rPr>
              <a:t>работа не соответствует теме; имеются значительные отступления от авторского текста; много фактических неточностей; нарушена последовательность изложения мыслей; отсутствует связь между частями работы, отдельными предложениями; словарь однообразен; более 6 речевых недочетов и ошибок в содержании и построении текста; более 5 орфографических и 3-4 пунктуационных ошибок, 3-5 исправлений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Контрольное списыв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9280" y="1125000"/>
            <a:ext cx="885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ценка " 5 " ставитс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нет ошибок и исправлений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работа написана аккуратно, в соответствии с требованиями каллиграфии письм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ценка «4» –1 ошибка или 1-2 исправления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ценка «3» –2-3 ошибки и 1 исправлени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ценка «2» – 4 и более ошиб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За ошибку в списывании считается практически любая допущенная ошибка орфографического и пунктуационного характер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Комбинированная рабо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9280" y="11970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5" ставится за безошибочное выполнение всех заданий, допускается 1 ошибка и исправления. Уровень высокий: 90% -100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4" ставится, если ученик безошибочно выполнил не менее 3/4 заданий. Уровень выше среднего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65%- 89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"3" ставится, если ученик правильно выполнил не менее 1/2 заданий. Уровень средний: 51% - 64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2" ставится: если ученик не справился с большинством заданий. Низкий уровень: менее 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90c226"/>
                </a:solidFill>
                <a:latin typeface="Trebuchet MS"/>
              </a:rPr>
              <a:t>Критерии отслеживания результативности деятельности по литературному чтению 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ение наизус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азительное чтен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ение по роля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еска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Чтение наизусть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79280" y="112500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"5"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твердо, без подсказок, знает наизусть, выразительно читае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"4"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знает стихотворение наизусть, но допускает при чтен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перестановку слов, самостоятельно исправляет допущенные неточ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"3"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читает наизусть, но при чтении обнаруживает нетвердое усвоение текс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"2"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нарушает последовательность при чтении, не полностью воспроизводит текст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rebuchet MS"/>
              </a:rPr>
              <a:t>Выразительное чтение стихотворения</a:t>
            </a:r>
            <a:br>
              <a:rPr sz="32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8000" y="105264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Требования к выразительному чтению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1. Правильная постановка логического удар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2. Соблюдение пауз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3. Правильный выбор темп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4. Соблюдение нужной интон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5. Безошибочное чте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5" - выполнены правильно все треб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4" - не соблюдены 1-2 треб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3" -допущены ошибки по трем требования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"2" - допущены ошибки более, чем по трем требования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Чтение по ролям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8000" y="1052640"/>
            <a:ext cx="903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Требования к чтению по ролям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воевременно начинать читать свои слов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2. Подбирать правильную интонацию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3. Читать безошибочн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. Читать выразительн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ценка "5" - выполнены все треб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ценка "4" - допущены ошибки по одному какому-то требованию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ценка "3" - допущены ошибки по двум требования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ценка "2" -допущены ошибки по трем требования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7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ересказ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9280" y="981000"/>
            <a:ext cx="8856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, serif"/>
              </a:rPr>
              <a:t>Оценка "5" - пересказывает содержание прочитанного самостоятельно, последовательно, не упуская главного (подробно, или кратко, или по плану), правильно отвечает на вопрос, умеет подкрепить ответ на вопрос чтением соответствующих отрывк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, serif"/>
              </a:rPr>
              <a:t>Оценка "4" -допускает 1-2 ошибки, неточности, сам исправляет и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, serif"/>
              </a:rPr>
              <a:t>Оценка "3" - пересказывает при помощи наводящих вопросов учителя, не умеет последовательно передать содержание прочитанного, допускает речевые ошиб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, serif"/>
              </a:rPr>
              <a:t>Оценка "2" - не может передать содержание прочитанног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90c226"/>
                </a:solidFill>
                <a:latin typeface="Trebuchet MS"/>
              </a:rPr>
              <a:t>Критерии отслеживания результативности деятельности по окружающему миру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12500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Способы оценивани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Open Sans"/>
              </a:rPr>
              <a:t> 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усвоения знаний и умений осуществляется через выполнение школьником заданий в учебниках и рабочих тетрадях, в самостоятельных и итоговых работах (1-2 кл.), в проверочных и контрольных работах (3-4 кл.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Open Sans"/>
              </a:rPr>
              <a:t> 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Оценка усвоения знаний и умений осуществляется через постоянное повторение важнейших понятий, законов и правил. Перед началом изучения нового материала проводится блиц-опрос важнейших понятий курса и их взаимосвязей, которые необходимо вспомнить для правильного понимания новой тем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Критерии оценки: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79280" y="1052640"/>
            <a:ext cx="8856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ценка «5» ставится, за решение нестандартной задачи (ответ на вопрос), где потребовалось применить знания по новой теме или знания и умения уже отработанные, но в непривычной ситу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ценка «4» ставится за решение типовой задачи, подобной тем, что решали уже много раз, где требовалось применить сформированные умения и усвоенные зна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ценка «3» ставится, если при выполнении типовой задачи ученик допустил 1-2 фактические ошиб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Текущий контро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по окружающему миру осуществляется в письменной и устной форме. Письменные работы для текущего контроля проводятся в форме тестов и практических работ. Работы для текущего контроля состоят из нескольких однотипных заданий, с помощью которых осуществляется всесторонняя проверка только одного определенного ум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Тематический контро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по окружающему миру проводится в устной форме. 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снованием для выставления итоговой оцен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знаний служат результаты наблюдений учителя за повседневной работой учеников, устного опроса, текущих, тестовых и практических работ, итоговой диагностической работ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Критерии отслеживания результативности деятельности по математике (предметный уровень)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39840"/>
            <a:ext cx="84470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исьменные работ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трольные рассчитаны на весь уро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амостоятельные – 15-20 мину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стные отве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Оценивание письменных работ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80640"/>
            <a:ext cx="910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, serif"/>
              </a:rPr>
              <a:t>Работа, состоящая из примеров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5» – работа без ошибок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4» –1 грубая и 1–2 негрубые ошибк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3» – 2–3 грубые и 1–2 негрубые ошибки или 3 и более негрубых ошибк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2» – 4 и более грубых ошибок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, serif"/>
              </a:rPr>
              <a:t>Работа, состоящая из задач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5» ставится за работу без ошибок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4» – 1–2 негрубых ошибк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3» – 1 грубая и 3–4 негрубые ошибк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«2» – 2 и более грубых ошибк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, serif"/>
              </a:rPr>
              <a:t>Комбинированная работа (1 задача, примеры и задание другого вида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"5" ставится: вся работа выполнена безошибочно и нет исправлений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"4" ставится: допущены 1-2 вычислительные ошибк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"3" ставится: допущены ошибки в ходе решения задачи при правильном выполнении всех остальных заданий или допущены 3-4 вычислительные ошибки, при этом ход решения задачи должен быть верным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Оценка "2" ставится: допущены ошибки в ходе решения задачи и хотя бы одна вычислительная ошибка или при решении задачи и примеров допущено более 5 вычислительных ошибок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Характеристика ошибок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8000" y="981000"/>
            <a:ext cx="892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Грубые ошиб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, serif"/>
              </a:rPr>
              <a:t>: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, serif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Вычислительные ошибки в примерах и задачах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2. Ошибки на незнание порядка выполнения арифметических действий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3. Неправильное решение задачи (пропуск действия, неправильный выбор действий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лишние действия)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4. Не решённая до конца задача или пример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5. Невыполненное задание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6. Ошибки при выполнении чертежа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, serif"/>
              </a:rPr>
              <a:t>Негрубые ошибки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, serif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Неверно сформулированный ответ задач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2. Неправильное списывание данных (чисел, знаков)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3.Недоведение до конца преобразований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4.Нерациональный прием вычислений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5. Неправильно поставленный вопрос к действию при решении задач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, serif"/>
              </a:rPr>
              <a:t>За грамматические ошибки, допущенные в работе, оценка по математике не снижается. За неряшливо оформленную работу оценка по математике может быть снижается на 1 балл, но не ниже «3», и не в контрольной итоговой работе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ценка устных ответов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79280" y="1052280"/>
            <a:ext cx="8964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«5» </a:t>
            </a: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ставится ученику, если он: а) при ответе обнаруживает осознанное усвоение изученного учебного материала и умеет им самостоятельно пользоваться; б) производит вычисления правильно, достаточно быстро и рационально; умеет проверять произведенные вычисления; в) умеет самостоятельно решить задачу; правильно выполняет задания практического характер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«4» </a:t>
            </a: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ставится, если  ученик допускает отдельные неточности в работе, которые исправляет сам при указании учителя о том, что он допустил оши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«3» </a:t>
            </a: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ставится ученику, если он показывает осознанное усвоение более половины изученных вопросов и исправляет допущенные ошибки после пояснения учител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, serif"/>
              </a:rPr>
              <a:t>Оценка «2» </a:t>
            </a:r>
            <a:r>
              <a:rPr b="0" lang="ru-RU" sz="2000" spc="-1" strike="noStrike">
                <a:solidFill>
                  <a:srgbClr val="000000"/>
                </a:solidFill>
                <a:latin typeface="Times New Roman, serif"/>
              </a:rPr>
              <a:t>ставится ученику, если он обнаруживает незнание большей части программного материала, не справляется с решением задач и пример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Критерии отслеживания результативности деятельности по русскому языку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ктан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рамматические зад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оварные диктан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ложения и сочин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писы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мбинированные рабо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стные отве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Диктант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8000" y="105228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5"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 ставится за диктант, в котором нет ошибок, допускается 1-2 исправления; работа написана аккуратно, в соответствии с требованиями письма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4"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 ставится за диктант, в котором допущено не более 2 орфографических ошибок или 4 недочетов, работа выполнена чисто, но допущены небольшие отклонения от норм каллиграфии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3"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 ставится за диктант, в котором допущено 3-5 орфографических ошибок или 8 недочетов. Работа написана небрежно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2" 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ставится за диктант, в котором 6 и более орфографических ошибок или более 8 недочетов, работа написана неряшливо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Ошибкой в диктанте следует считать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нарушение правил орфографии при написании сл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неправильное написание слов с непроверяемыми написаниям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пропуск, перестановка, замена букв, слогов в словах; замену сл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отсутствие знаков препинания в пределах программы данного класса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За ошибку в диктанте не счита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ошибки на разделы орфографии и пунктуации, которые не изучались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единичный случай замены одного слова другим без искажения смысла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За одну ошибку в диктанте счита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два исправлен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две пунктуационные ошибк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 </a:t>
            </a: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повторение ошибок в одном и том же слове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Грамматические задания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12500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5"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ставится за безошибочное выполнение всех заданий, допускается 1 ошибка и исправления. Высокий уровень: 90% -100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4"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ставится, если ученик правильно выполнил не менее 3/4 заданий. Уровень выше среднего: 65%- 89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Оценка"3"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ставится, если ученик правильно выполнил не менее 1/2 заданий. Средний уровень: 51% - 64%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Оценка "2"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ставится, если ученик не справился с большинством грамматических заданий. Низкий уровень: менее 50%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Словарный диктант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1125000"/>
            <a:ext cx="910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«5» – работа без ошиб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«4» – 1 ошибка и 1 исправл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«3» – 2 ошибки и 1 исправл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«2» – 3–5 ошиб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шибкой считается любая допущенная орфографическая ошибка, включая пропуск и замену бук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9-11-28T09:59:05Z</dcterms:modified>
  <cp:revision>749</cp:revision>
  <dc:subject/>
  <dc:title>Diapositiva 1</dc:title>
</cp:coreProperties>
</file>