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960-034D-4A53-9C1C-1D9F90E4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BFD-890B-4F96-B693-EBF6F997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B40-2710-4DBA-854B-775ABC6B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B0C-1E43-4B7E-941A-952FE1E0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05FE-F77D-4BB5-83BB-73288B5C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A09A-8178-4DE4-8C07-DE358DE7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70C8-56D8-4FE5-AB8F-0D2746E8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563E-4DE4-4500-976F-12CCF9FC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7395-E9E8-4281-A91B-E945A7A4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4F57-0FD7-4601-BDB4-4A82C0A1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5201-F201-41A0-858A-027A2050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E71-B133-4299-B8E1-2FB9BA89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ABA7-97FD-470D-9D25-07162906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67A5-800F-4A9C-A846-BC6B11A5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0AE5-04AF-44CE-A225-C36AD764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8AED-4D80-4B64-9C82-2B5426A3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3AC9-4A1A-481B-AB6F-AC361C57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43564-D93F-462B-8A92-2A71F9B6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4221E-4BBF-4A17-9A00-831B019C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713FE-8943-47FE-8C7D-AF7D9230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955FA-A029-4B82-AD6F-3D833124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95192-66EA-4752-846F-5398BAB8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583-9580-4EEC-B6BF-60B95C9D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68F04-01C0-4782-933E-684AAA7C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3A529-F890-4212-A992-5CE3C151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51AFE-15EC-45D8-9CE1-F239D8D1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E7501-D3BA-4E98-93E2-9AE967C2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5761E-D57A-40B9-9397-471F30AA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36796-BB2B-4E17-BFF5-35D3BA4F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93283-C45F-4D6B-876B-93D1ECD0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B1BF0-9D72-437D-8FC8-84789137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A78E3-83BC-4970-8251-A9AD0477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62CF0-3229-4F0E-A39C-1B1EFF4E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2A5-4677-46A2-A65F-36682113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B84AF-7614-455F-968B-EAD67609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349B9-3C0A-4779-BEB3-0A1B568B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70705-5C97-470E-A720-1DE7F2EC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52526-A02A-4FA0-BCA0-337229C8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9C5C0-DBC2-4945-B5B6-CA4C1E42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8FD2E-C410-496C-B371-2970120F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E37BD-31E7-439D-98E7-EE6EA05C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80970-C493-42A5-9791-BCCC6380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57BB8-F473-4BB0-A9D4-6A6CBCAF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113-4A73-4CCA-B11A-4C1F2101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FF9-6E71-48BF-967E-8699CFD4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1CA9-2BFB-4096-A9CB-A0C98285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5D2A-513B-4735-9240-2D37AC8A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2073-9340-4649-BBE0-B05CE7DB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29E1-9487-4D72-A984-D873D6B83A9C}" type="slidenum">
              <a:rPr b="0" lang="es-E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E604-D05E-4F6F-A234-9AB2FBB91911}" type="slidenum">
              <a:rPr b="0" lang="es-E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3785-1517-45B0-993B-7A734EF3618C}" type="slidenum">
              <a:rPr b="0" lang="es-E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5DA7-E094-4B56-A778-4170CAC386B1}" type="slidenum">
              <a:rPr b="0" lang="es-E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45680" y="4797000"/>
            <a:ext cx="83026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Критерии оценивания ответов учащихся начальной школ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Изложения и сочин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08000" y="1125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Оценка "5" ставится: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-за правильное и последовательное воспроизведение авторского текста, логически последовательное раскрытие темы, отсутствие фактических ошибок, богатство словаря, правильность речевого оформления (допускается 1 речевая неточность);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- нет грубых орфографических и пунктуационных ошибок; допускается 1 -2 исправления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Оценка "4" ставится: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за правильное и достаточно полное воспроизведение авторского текста, раскрыта тема, но имеются незначительные нарушения последовательности изложения мыслей;  допускается 1-2 речевых или фактических недочета, или недочёт в содержании и построении текста.1-2 орфографические и 1-2 пунктуационные ошибки, 1-2 исправления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Оценка "3" ставится: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имеются отступления от авторского текста; отклонение от темы; допущены отдельные нарушения в последовательности изложения мыслей, в построении 1-2 предложений; беден словарь; имеются речевые неточности; 3-5 речевых недочетов в содержании и построении текста.3-5 орфографических и не более 2 пунктуационных ошибок, 1-2 исправления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Оценка «2» ставится: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работа не соответствует теме; имеются значительные отступления от авторского текста; много фактических неточностей; нарушена последовательность изложения мыслей; отсутствует связь между частями работы, отдельными предложениями; словарь однообразен; более 6 речевых недочетов и ошибок в содержании и построении текста; более 5 орфографических и 3-4 пунктуационных ошибок, 3-5 исправлений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Контрольное списыва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79280" y="1125000"/>
            <a:ext cx="885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ценка " 5 " ставитс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 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нет ошибок и исправлений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 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работа написана аккуратно, в соответствии с требованиями каллиграфии письм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ценка «4» –1 ошибка или 1-2 исправления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ценка «3» –2-3 ошибки и 1 исправлени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ценка «2» – 4 и более ошиб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За ошибку в списывании считается практически любая допущенная ошибка орфографического и пунктуационного характер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Комбинированная рабо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9280" y="11970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Оценка "5" ставится за безошибочное выполнение всех заданий, допускается 1 ошибка и исправления. Уровень высокий: 90% -100%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Оценка "4" ставится, если ученик безошибочно выполнил не менее 3/4 заданий. Уровень выше среднего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65%- 89%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Оценка"3" ставится, если ученик правильно выполнил не менее 1/2 заданий. Уровень средний: 51% - 64%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Оценка "2" ставится: если ученик не справился с большинством заданий. Низкий уровень: менее 5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90c226"/>
                </a:solidFill>
                <a:latin typeface="Trebuchet MS"/>
              </a:rPr>
              <a:t>Критерии отслеживания результативности деятельности по литературному чтению 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ение наизуст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разительное чтен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ение по роля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ереска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Чтение наизусть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79280" y="112500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Оценка "5"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твердо, без подсказок, знает наизусть, выразительно читае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Оценка"4"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знает стихотворение наизусть, но допускает при чтен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перестановку слов, самостоятельно исправляет допущенные неточ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Оценка "3"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читает наизусть, но при чтении обнаруживает нетвердое усвоение текс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Оценка "2"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нарушает последовательность при чтении, не полностью воспроизводит текст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rebuchet MS"/>
              </a:rPr>
              <a:t>Выразительное чтение стихотворения</a:t>
            </a:r>
            <a:br>
              <a:rPr sz="32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08000" y="105264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Требования к выразительному чтению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1. Правильная постановка логического удар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2. Соблюдение пауз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3. Правильный выбор темп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4. Соблюдение нужной интон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5. Безошибочное чтен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Оценка "5" - выполнены правильно все треб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Оценка "4" - не соблюдены 1-2 треб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Оценка "3" -допущены ошибки по трем требования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Оценка "2" - допущены ошибки более, чем по трем требования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Чтение по ролям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8000" y="1052640"/>
            <a:ext cx="903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Требования к чтению по ролям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воевременно начинать читать свои слов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2. Подбирать правильную интонацию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3. Читать безошибочно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4. Читать выразительно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ценка "5" - выполнены все треб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ценка "4" - допущены ошибки по одному какому-то требованию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ценка "3" - допущены ошибки по двум требования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ценка "2" -допущены ошибки по трем требования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229600" cy="7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Пересказ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79280" y="981000"/>
            <a:ext cx="88567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, serif"/>
              </a:rPr>
              <a:t>Оценка "5" - пересказывает содержание прочитанного самостоятельно, последовательно, не упуская главного (подробно, или кратко, или по плану), правильно отвечает на вопрос, умеет подкрепить ответ на вопрос чтением соответствующих отрывк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, serif"/>
              </a:rPr>
              <a:t>Оценка "4" -допускает 1-2 ошибки, неточности, сам исправляет и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, serif"/>
              </a:rPr>
              <a:t>Оценка "3" - пересказывает при помощи наводящих вопросов учителя, не умеет последовательно передать содержание прочитанного, допускает речевые ошибк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, serif"/>
              </a:rPr>
              <a:t>Оценка "2" - не может передать содержание прочитанног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90c226"/>
                </a:solidFill>
                <a:latin typeface="Trebuchet MS"/>
              </a:rPr>
              <a:t>Критерии отслеживания результативности деятельности по окружающему миру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12500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Способы оценивани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Open Sans"/>
              </a:rPr>
              <a:t> </a:t>
            </a: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Оценка усвоения знаний и умений осуществляется через выполнение школьником заданий в учебниках и рабочих тетрадях, в самостоятельных и итоговых работах (1-2 кл.), в проверочных и контрольных работах (3-4 кл.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Open Sans"/>
              </a:rPr>
              <a:t> </a:t>
            </a: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Оценка усвоения знаний и умений осуществляется через постоянное повторение важнейших понятий, законов и правил. Перед началом изучения нового материала проводится блиц-опрос важнейших понятий курса и их взаимосвязей, которые необходимо вспомнить для правильного понимания новой тем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Критерии оценки: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79280" y="1052640"/>
            <a:ext cx="8856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ценка «5» ставится, за решение нестандартной задачи (ответ на вопрос), где потребовалось применить знания по новой теме или знания и умения уже отработанные, но в непривычной ситу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ценка «4» ставится за решение типовой задачи, подобной тем, что решали уже много раз, где требовалось применить сформированные умения и усвоенные зна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ценка «3» ставится, если при выполнении типовой задачи ученик допустил 1-2 фактические ошиб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Текущий контро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 по окружающему миру осуществляется в письменной и устной форме. Письменные работы для текущего контроля проводятся в форме тестов и практических работ. Работы для текущего контроля состоят из нескольких однотипных заданий, с помощью которых осуществляется всесторонняя проверка только одного определенного ум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Тематический контро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 по окружающему миру проводится в устной форме. 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снованием для выставления итоговой оцен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знаний служат результаты наблюдений учителя за повседневной работой учеников, устного опроса, текущих, тестовых и практических работ, итоговой диагностической работ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Критерии отслеживания результативности деятельности по математике (предметный уровень)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39840"/>
            <a:ext cx="84470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исьменные работ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трольные рассчитаны на весь урок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амостоятельные – 15-20 мину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стные ответ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452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Оценивание письменных работ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980640"/>
            <a:ext cx="9109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, serif"/>
              </a:rPr>
              <a:t>Работа, состоящая из примеров: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«5» – работа без ошибок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«4» –1 грубая и 1–2 негрубые ошибки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«3» – 2–3 грубые и 1–2 негрубые ошибки или 3 и более негрубых ошибки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«2» – 4 и более грубых ошибок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, serif"/>
              </a:rPr>
              <a:t>Работа, состоящая из задач: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«5» ставится за работу без ошибок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«4» – 1–2 негрубых ошибки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«3» – 1 грубая и 3–4 негрубые ошибки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«2» – 2 и более грубых ошибки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, serif"/>
              </a:rPr>
              <a:t>Комбинированная работа (1 задача, примеры и задание другого вида)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"5" ставится: вся работа выполнена безошибочно и нет исправлений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"4" ставится: допущены 1-2 вычислительные ошибки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"3" ставится: допущены ошибки в ходе решения задачи при правильном выполнении всех остальных заданий или допущены 3-4 вычислительные ошибки, при этом ход решения задачи должен быть верным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"2" ставится: допущены ошибки в ходе решения задачи и хотя бы одна вычислительная ошибка или при решении задачи и примеров допущено более 5 вычислительных ошибок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Характеристика ошибок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8000" y="981000"/>
            <a:ext cx="8928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Грубые ошиб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, serif"/>
              </a:rPr>
              <a:t>: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, serif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Вычислительные ошибки в примерах и задачах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2. Ошибки на незнание порядка выполнения арифметических действий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3. Неправильное решение задачи (пропуск действия, неправильный выбор действий,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лишние действия)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4. Не решённая до конца задача или пример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5. Невыполненное задание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6. Ошибки при выполнении чертежа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Негрубые ошибки: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, serif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Неверно сформулированный ответ задачи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2. Неправильное списывание данных (чисел, знаков)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3.Недоведение до конца преобразований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4.Нерациональный прием вычислений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5. Неправильно поставленный вопрос к действию при решении задачи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За грамматические ошибки, допущенные в работе, оценка по математике не снижается. За неряшливо оформленную работу оценка по математике может быть снижается на 1 балл, но не ниже «3», и не в контрольной итоговой работе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Оценка устных ответов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79280" y="1052280"/>
            <a:ext cx="8964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Оценка «5» </a:t>
            </a:r>
            <a:r>
              <a:rPr b="0" lang="ru-RU" sz="2000" spc="-1" strike="noStrike">
                <a:solidFill>
                  <a:srgbClr val="000000"/>
                </a:solidFill>
                <a:latin typeface="Times New Roman, serif"/>
              </a:rPr>
              <a:t>ставится ученику, если он: а) при ответе обнаруживает осознанное усвоение изученного учебного материала и умеет им самостоятельно пользоваться; б) производит вычисления правильно, достаточно быстро и рационально; умеет проверять произведенные вычисления; в) умеет самостоятельно решить задачу; правильно выполняет задания практического характер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Оценка «4» </a:t>
            </a:r>
            <a:r>
              <a:rPr b="0" lang="ru-RU" sz="2000" spc="-1" strike="noStrike">
                <a:solidFill>
                  <a:srgbClr val="000000"/>
                </a:solidFill>
                <a:latin typeface="Times New Roman, serif"/>
              </a:rPr>
              <a:t>ставится, если  ученик допускает отдельные неточности в работе, которые исправляет сам при указании учителя о том, что он допустил оши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Оценка «3» </a:t>
            </a:r>
            <a:r>
              <a:rPr b="0" lang="ru-RU" sz="2000" spc="-1" strike="noStrike">
                <a:solidFill>
                  <a:srgbClr val="000000"/>
                </a:solidFill>
                <a:latin typeface="Times New Roman, serif"/>
              </a:rPr>
              <a:t>ставится ученику, если он показывает осознанное усвоение более половины изученных вопросов и исправляет допущенные ошибки после пояснения учител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Оценка «2» </a:t>
            </a:r>
            <a:r>
              <a:rPr b="0" lang="ru-RU" sz="2000" spc="-1" strike="noStrike">
                <a:solidFill>
                  <a:srgbClr val="000000"/>
                </a:solidFill>
                <a:latin typeface="Times New Roman, serif"/>
              </a:rPr>
              <a:t>ставится ученику, если он обнаруживает незнание большей части программного материала, не справляется с решением задач и примеро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964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Критерии отслеживания результативности деятельности по русскому языку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иктант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рамматические зад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ловарные диктант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ложения и сочин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писы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мбинированные работ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стные ответ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452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Диктанты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08000" y="105228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 u="sng">
                <a:solidFill>
                  <a:srgbClr val="404040"/>
                </a:solidFill>
                <a:uFillTx/>
                <a:latin typeface="Trebuchet MS"/>
              </a:rPr>
              <a:t>Оценка "5"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 ставится за диктант, в котором нет ошибок, допускается 1-2 исправления; работа написана аккуратно, в соответствии с требованиями письма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 u="sng">
                <a:solidFill>
                  <a:srgbClr val="404040"/>
                </a:solidFill>
                <a:uFillTx/>
                <a:latin typeface="Trebuchet MS"/>
              </a:rPr>
              <a:t>Оценка "4"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 ставится за диктант, в котором допущено не более 2 орфографических ошибок или 4 недочетов, работа выполнена чисто, но допущены небольшие отклонения от норм каллиграфии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 u="sng">
                <a:solidFill>
                  <a:srgbClr val="404040"/>
                </a:solidFill>
                <a:uFillTx/>
                <a:latin typeface="Trebuchet MS"/>
              </a:rPr>
              <a:t>Оценка "3"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 ставится за диктант, в котором допущено 3-5 орфографических ошибок или 8 недочетов. Работа написана небрежно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 u="sng">
                <a:solidFill>
                  <a:srgbClr val="404040"/>
                </a:solidFill>
                <a:uFillTx/>
                <a:latin typeface="Trebuchet MS"/>
              </a:rPr>
              <a:t>Оценка "2" 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ставится за диктант, в котором 6 и более орфографических ошибок или более 8 недочетов, работа написана неряшливо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Ошибкой в диктанте следует считать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 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нарушение правил орфографии при написании сл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 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неправильное написание слов с непроверяемыми написаниям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 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пропуск, перестановка, замена букв, слогов в словах; замену сл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 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отсутствие знаков препинания в пределах программы данного класса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За ошибку в диктанте не счита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 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ошибки на разделы орфографии и пунктуации, которые не изучались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 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единичный случай замены одного слова другим без искажения смысла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За одну ошибку в диктанте счита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 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два исправления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 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две пунктуационные ошибк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 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повторение ошибок в одном и том же слове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Грамматические задания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12500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Оценка "5"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ставится за безошибочное выполнение всех заданий, допускается 1 ошибка и исправления. Высокий уровень: 90% -100%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Оценка "4"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ставится, если ученик правильно выполнил не менее 3/4 заданий. Уровень выше среднего: 65%- 89%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Оценка"3"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ставится, если ученик правильно выполнил не менее 1/2 заданий. Средний уровень: 51% - 64%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Оценка "2"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ставится, если ученик не справился с большинством грамматических заданий. Низкий уровень: менее 50%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Словарный диктант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1125000"/>
            <a:ext cx="9109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а «5» – работа без ошибо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а «4» – 1 ошибка и 1 исправлен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а «3» – 2 ошибки и 1 исправлен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а «2» – 3–5 ошибо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шибкой считается любая допущенная орфографическая ошибка, включая пропуск и замену бук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9-11-28T09:59:05Z</dcterms:modified>
  <cp:revision>749</cp:revision>
  <dc:subject/>
  <dc:title>Diapositiva 1</dc:title>
</cp:coreProperties>
</file>