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16C5-FEDC-43E3-880E-DA1B1BA76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E136-C431-4743-B52C-879DBF5B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A229-126E-4457-B7F0-FED0BBC3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3D5C-0FD0-475E-AAA0-8370E5B9E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8921-BA97-4C9C-83D0-3EEC5E32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8FCB-D5AC-492E-97F6-331FFEB8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9D31-6EB4-4302-921C-0F1CB16A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3F92-4DE5-4BFB-AFF4-35AE181D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7CE9-D0AD-4779-AB03-8506EB13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40D8-4AC8-4065-A381-8E93A143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9E3F-6177-491D-A6E5-FB3A9C99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AE93-2088-46F7-BE35-E0EF85EE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3EC1-F18F-4476-8C8C-5AB286B8FB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s://cf.ppt-online.org/files/slide/v/VfgroKABXCRuF3Epcz76D92xYhyZPG8Wmv0aj5/slide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5181120"/>
            <a:ext cx="42670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.Кослан, 2019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1523880" y="685800"/>
            <a:ext cx="57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Муниципальное  учреждение дополнительного образовани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«Детская школа искусств»  с.Косл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заимодействие родителей и школы искусств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4876920" y="5486400"/>
            <a:ext cx="4103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Разработчик: директор, преподаватель музыкально-теоретических дисциплин Мамонтова Ирина Васил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МУ ДО «Детская школа искусств» с.Кослан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https://avatars.mds.yandex.net/get-pdb/1943293/8915da19-a2b6-4165-9892-53ff8e2204b4/s1200?webp=fal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Клуб для семьи с ребёнком раннего возра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«будущий дошкольн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Организуется для родителей детей вновь поступающих в Д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Monotype Corsiva"/>
              </a:rPr>
              <a:t>Этапы взаимодействия</a:t>
            </a: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Monotype Corsiva"/>
              </a:rPr>
              <a:t>1этап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.Организацион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Цель: привлечь как можно больше родителей к членству в клубе, заинтересовав их содержанием и формами работы с детьми и взрослыми; убедить в результативности совместных усилий для оптимизации адаптационного пери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Monotype Corsiva"/>
              </a:rPr>
              <a:t>2 этап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. Ознакомительный</a:t>
            </a: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 – «Неделя открытых дверей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Цель: показать родителям условия пребывания в детей в ДШИ; как можно шире представить образовательные услуги учреждения; вызвать заинтересованность, доверие к педагогам детского са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Monotype Corsiva"/>
              </a:rPr>
              <a:t>3 этап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. Консультацион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Цель: профессионально подготовить родителей и детей к поступлению в ДШ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Monotype Corsiva"/>
              </a:rPr>
              <a:t>4 этап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. Адаптационны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Цель: обеспечить условия комфортной адаптации родителя и ребёнка к ДШ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https://avatars.mds.yandex.net/get-pdb/1943293/8915da19-a2b6-4165-9892-53ff8e2204b4/s1200?webp=fal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ечера вопросов и отве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Структура вечера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ступительное слово ведущего.Сообщение о количестве и характере поступивших вопросов. Представление консульта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сновная часть вечера – устные ответы на поступившие вопросы, показ научно-популярного филь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Заключительное слово ведущего.Переход к индивидуальным консультац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https://avatars.mds.yandex.net/get-pdb/1943293/8915da19-a2b6-4165-9892-53ff8e2204b4/s1200?webp=fal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Праздники в ДШ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3915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Этапы подготовки и проведения праздни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1 этап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. Информацион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2 этап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. Проектир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3 этап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. Подготовитель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4 этап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. Реализация проекта празд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5 этап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. Рефлексив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https://avatars.mds.yandex.net/get-pdb/1943293/8915da19-a2b6-4165-9892-53ff8e2204b4/s1200?webp=fal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рогулки и экскурсии педагогов, детей и род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828800" y="1371600"/>
            <a:ext cx="46483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ыезды на прир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сещение теа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сещение музе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https://avatars.mds.yandex.net/get-pdb/1943293/8915da19-a2b6-4165-9892-53ff8e2204b4/s1200?webp=fal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роектная деятельность преподавателей, детей и род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1 этап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. Выдвижение иде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2 этап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. Разработка проекта реализации иде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3 этап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. Реализация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4 этап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. Рефлексия опыта реализации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Формой отражения результатов проекта могут стать 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семейные днев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https://avatars.mds.yandex.net/get-pdb/1943293/8915da19-a2b6-4165-9892-53ff8e2204b4/s1200?webp=fal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Семейный теат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рганизация театральных гости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-   индивидуальные занятия с детьми и взросл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игры и упражнения на развитие творческих способ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изготовление костюмов, декор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-  подготовка к театральным представл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https://avatars.mds.yandex.net/get-pdb/1943293/8915da19-a2b6-4165-9892-53ff8e2204b4/s1200?webp=fal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влетворение потребностей родителей (законных представителей) и ребенка, имеющих ведущее значение для его разви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ить партнёрские отношения с семь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ить усилия для полноценного развития и воспита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атмосферу общности интересов и взаимопроникновения в проблемы семьи и школ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зировать и обогащать воспитательные умения родит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активной жизненной позиции родителей по отношению к шк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5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https://avatars.mds.yandex.net/get-pdb/1943293/8915da19-a2b6-4165-9892-53ff8e2204b4/s1200?webp=fal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Формы совместной деятельности преподавателей, родителей и дете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828800"/>
            <a:ext cx="60199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А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ечера музыки и поэз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оскресный семейный абоне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«Семейная гостина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День семь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лу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раздники в Детской школе искус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рогулки и экскурсии преподавателей, детей и род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роектная деятельност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емейный теа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https://avatars.mds.yandex.net/get-pdb/1943293/8915da19-a2b6-4165-9892-53ff8e2204b4/s1200?webp=fal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38080" y="106668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Это действие, предпринимаемое для какой-либо це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Благотвори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ыражение гражданского проте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Благоустройство  здания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1 этап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. Подготовительный. Составление текста обращения к семьям воспитанников и подготовка необходимого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2 этап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. Реализация дей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3 этап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. Организация выставки детских работ или фоторепортаж. Подведение итогов. Награждение благодарственными письмами активных участников 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2666520" y="151920"/>
            <a:ext cx="358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Акц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https://avatars.mds.yandex.net/get-pdb/1943293/8915da19-a2b6-4165-9892-53ff8e2204b4/s1200?webp=fal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ечера музыки и поэ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70102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Являются хорошим средством объединения детей и взрослых в контексте искус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«В гостях у детств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«Песни наших бабушек и дедуше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«Зимний вече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«Музыка в семье»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https://avatars.mds.yandex.net/get-pdb/1943293/8915da19-a2b6-4165-9892-53ff8e2204b4/s1200?webp=fal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Воскресный семейный абонеме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6978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озможность встречи с искусством предоставляют семье учреждения искусства и культуры, организующие концерты по заранее составленным программам воскресного семейного абонем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https://avatars.mds.yandex.net/get-pdb/1943293/8915da19-a2b6-4165-9892-53ff8e2204b4/s1200?webp=fal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«Семейная гостина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6705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Это форма свободного общения семей воспитанников и педаго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оэти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музыка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театра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римерная </a:t>
            </a: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структура организации общения гост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бор г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редставление г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Дружеские сувениры «Что я вам принёс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Творческая иг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Завершение встречи «Стоя в прихожей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я хочу сказать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..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https://avatars.mds.yandex.net/get-pdb/1943293/8915da19-a2b6-4165-9892-53ff8e2204b4/s1200?webp=fal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День семь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06632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ыставки семейных газ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емейные посиде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онк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онце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пектакли семейных коллекти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фестивали детского твор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портивные соревнования «Папа, мама, я – спортивная семья»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https://avatars.mds.yandex.net/get-pdb/1943293/8915da19-a2b6-4165-9892-53ff8e2204b4/s1200?webp=fal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Семейные клу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76520" y="1371240"/>
            <a:ext cx="58672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Monotype Corsiva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Это организованные в детской школе искусств неформальные объединения родителей, созданные для решения практических задач восп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фольклор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портив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туристический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иректор</dc:creator>
  <dc:description/>
  <dc:language>en-US</dc:language>
  <cp:lastModifiedBy>Директор</cp:lastModifiedBy>
  <dcterms:modified xsi:type="dcterms:W3CDTF">2019-11-28T06:56:26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