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563-E949-4548-A989-54E4EF3E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488-59EF-49C2-B8A2-8B1DAD6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D9A-FC60-4F05-B198-412E20F6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E66-9A7A-452D-9E77-20ED5543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015-CA79-478D-AA94-9C05033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D31-804B-4DF3-8267-4B81240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936-BDAB-4296-895A-D0497B74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5CB-70F4-4203-AF3C-2B0ABC8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C22-2F97-454C-8113-E132C45B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A61-99B3-4CE9-9854-EC3BAA7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317-E8E2-47F5-80EA-CCB86C3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726-33FF-45AC-B2C5-472CD5E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FBE2-1BD4-493D-A238-829AF2A76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cf.ppt-online.org/files/slide/v/VfgroKABXCRuF3Epcz76D92xYhyZPG8Wmv0aj5/slide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18112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.Кослан,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523880" y="6858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униципальное  учреждение дополнительного образова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Детская школа искусств»  с.Кос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заимодействие родителей и школы искусст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876920" y="548640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работчик: директор, преподаватель музыкально-теоретических дисциплин Мамонтова Ирина Васи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У ДО «Детская школа искусств» с.Косла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луб для семьи с ребёнком ранне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будущий дошк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рганизуется для родителей детей вновь поступающих в Д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Этапы взаимодействия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1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Организ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ривлечь как можно больше родителей к членству в клубе, заинтересовав их содержанием и формами работы с детьми и взрослыми; убедить в результативности совместных усилий для оптимизации адаптационного пери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Ознакомительны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– «Неделя открытых двер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оказать родителям условия пребывания в детей в ДШИ; как можно шире представить образовательные услуги учреждения; вызвать заинтересованность, доверие к педагогам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Консульт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профессионально подготовить родителей и детей к поступлению в Д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Адаптацио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Цель: обеспечить условия комфортной адаптации родителя и ребёнка к Д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а вопросов и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руктура вечера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тупительное слово ведущего.Сообщение о количестве и характере поступивших вопросов. Представление 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ь вечера – устные ответы на поступившие вопросы, показ научно-популярного фил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ключительное слово ведущего.Переход к индивидуальным консульт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здники в Д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Этапы подготовки и проведения празд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Информ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роек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Реализация проекта праз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5 этап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Рефлекс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гулки и экскурсии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371600"/>
            <a:ext cx="4648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езды на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ещение теа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ещение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ектная деятельность преподавателей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Выдвижение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азработка проекта реализаци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еализац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4 этап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 Рефлексия опыта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рмой отражения результатов проекта могут стать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емейные днев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ейн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рганизация театральных гост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  индивидуальные занятия с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гры и упражнения на 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готовление костюмов, дек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 подготовка к театральным представл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ей родителей (законных представителей) и ребенка, имеющих ведущее значение для е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артнёрские отношения с сем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усилия для полноценного развития и воспит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общности интересов и взаимопроникновения в проблемы семьи и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 обогащать воспитательные умени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ктивной жизненной позиции родителей по отношению к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ы совместной деятельности преподавателей, родителей и де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чера музыки и поэ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скресный семейный абон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Семейная гости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ень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л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аздники в Детской школе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гулки и экскурсии преподавателей, детей 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ектная деятельнос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емейный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действие, предпринимаемое для какой-либо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твор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ражение гражданского прот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устройство  здания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Подготовительный. Составление текста обращения к семьям воспитанников и подготовка необходим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Реализация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Организация выставки детских работ или фоторепортаж. Подведение итогов. Награждение благодарственными письмами активных участников 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666520" y="1519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к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чера музыки и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вляются хорошим средством объединения детей и взрослых в контексте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В гостях у дет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Песни наших бабушек и дед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Зимний веч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Музыка в семье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оскресный семейный абон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7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ь встречи с искусством предоставляют семье учреждения искусства и культуры, организующие концерты по заранее составленным программам воскресного семейного абон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Семейная гости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форма свободного общения семей воспитанников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узык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еат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мерная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структура организации общения г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бор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едставление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ружеские сувениры «Что я вам принё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ворческ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вершение встречи «Стоя в прихож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хочу сказа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ен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ставки семейных газ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мейные поси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ектакли семейны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естивали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портивные соревнования «Папа, мама, я – спортивная семь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s://avatars.mds.yandex.net/get-pdb/1943293/8915da19-a2b6-4165-9892-53ff8e2204b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мейные кл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организованные в детской школе искусств неформальные объединения родителей, созданные для решения практических задач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олькл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уристиче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ректор</dc:creator>
  <dc:description/>
  <dc:language>en-US</dc:language>
  <cp:lastModifiedBy>Директор</cp:lastModifiedBy>
  <dcterms:modified xsi:type="dcterms:W3CDTF">2019-11-28T06:56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