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5.jpeg" ContentType="image/jpeg"/>
  <Override PartName="/ppt/media/image11.png" ContentType="image/png"/>
  <Override PartName="/ppt/media/image10.jpeg" ContentType="image/jpeg"/>
  <Override PartName="/ppt/media/image2.gif" ContentType="image/gif"/>
  <Override PartName="/ppt/media/image3.gif" ContentType="image/gif"/>
  <Override PartName="/ppt/media/image6.png" ContentType="image/png"/>
  <Override PartName="/ppt/media/image14.wmf" ContentType="image/x-wmf"/>
  <Override PartName="/ppt/media/image4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5E1E-308F-49A5-8C23-416669429C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E7D2-E4B6-4990-B1DB-BAFD5F899C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781-8FCA-44B6-8C9B-121CD062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3F2-B69E-43A9-804C-5FEF7499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BD8-504C-42C3-9836-C9EF990E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78CC-47C6-475F-A259-659C6B9A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88C4-407E-4621-9496-71DE0C76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6851-8E47-4A71-AE8C-C6E416B2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DEF5-29A1-41AD-8082-C6C6D157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7EB0-595E-45B0-9B48-F2A9C4AE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DAE4-EA98-4A69-81F9-BC523BC1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5FB4-7491-4631-8054-7C6E6D71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BCB1-A7C7-4750-96B4-99764212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3DB-90E8-4AF9-8310-D61410BA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07CD-312B-427B-8AF1-16E6C791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6DA8-7B2E-42D2-B101-499B6F9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4A4C-F8BA-4580-A3B6-251A4473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7CA8-A147-41B1-93A3-B8AA324C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E3F4-2811-4D2B-A4A3-8BB3BDF7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E666E-0FB3-4A99-9D66-445BEBC2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005BF-EF7B-43FF-A0E6-2867FC73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1260F-BC7D-4829-BBB2-87793ABD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07598-07C9-49F9-BE4A-2CFB7446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D7BDF-9D67-4CAB-B64E-2FF7530C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356-7E3C-43E7-930E-B802B486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4A2A2-6C10-43FA-8A1E-4BB5076A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33451-063D-404C-A773-3E2F364E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8E274-DB77-4C3B-ACE5-AF262DD4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6D532-3B5B-40AB-8FE4-6D9D71EC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06C4C-3907-40DA-8086-00544830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D594E-7BD8-413F-BBB2-3F6A162B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1DC64-C5D5-40FF-B3EB-5C659D24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47646-E853-41A7-A4C0-97205793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1DEB4-07EB-4AA4-9D25-3CC7C71D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E7AD-1CD0-494C-908C-A2681CF7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EA5-0F7E-4735-B048-5BB831E8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562F4-4054-4801-8523-266019E4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0A97-0DB3-49E5-8A47-FC652AF9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E51AD-2617-48B0-987D-AA6BA5AF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E72B-7F27-4FE7-818E-16C022C8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AB145-B32A-499C-B021-8F8E5CD6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E1F71-BAF8-4EFE-A27F-ED7B2777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1052-C1EE-4DB3-BEB8-94577A7B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0639-E060-4C56-81B1-D2D7AE81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E7561-A865-4710-9AF3-53372D4E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411-241F-4488-93EB-407B521F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194-7A65-46D5-B6C3-01822454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2ED-14F7-46DA-9DD5-7FDE7593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EA3-1B95-4C48-A584-0F44BB1E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EB9-8FE5-4774-B22F-27C57FB2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8451-18B1-4EED-B6F0-530E5BC93FD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3FC6-0A25-4BEC-9573-E9C118EA9975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D225-5AD4-4AB5-B6FD-337A7905A71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EFBD-4827-44F9-AB3C-D21B2E9A79D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4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42920" y="2565000"/>
            <a:ext cx="352908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брание для родителей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0" y="429264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24242"/>
                </a:solidFill>
                <a:latin typeface="Times New Roman"/>
              </a:rPr>
              <a:t>Адаптация детей раннего возраста к условиям ДО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Picture 2" descr="C:\Documents and Settings\Администратор\Мои документы\фото\анимашки\detia-844.gif"/>
          <p:cNvPicPr/>
          <p:nvPr/>
        </p:nvPicPr>
        <p:blipFill>
          <a:blip r:embed="rId1"/>
          <a:stretch/>
        </p:blipFill>
        <p:spPr>
          <a:xfrm>
            <a:off x="704880" y="2205000"/>
            <a:ext cx="3192480" cy="379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C:\Documents and Settings\Администратор\Мои документы\фото\анимашки\zvezdia-484.gif"/>
          <p:cNvPicPr/>
          <p:nvPr/>
        </p:nvPicPr>
        <p:blipFill>
          <a:blip r:embed="rId2"/>
          <a:stretch/>
        </p:blipFill>
        <p:spPr>
          <a:xfrm>
            <a:off x="4932360" y="-100080"/>
            <a:ext cx="2908440" cy="25210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4586400" y="5872320"/>
            <a:ext cx="36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Воспитатель Павлова Т.В. ГБДОУ№23 Кировского р-н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920" y="836640"/>
            <a:ext cx="6337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ЫЕ ПРИЗНАКИ ТОГО, ЧТО РЕБЕНОК АДАПТИРОВАЛСЯ :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2205000"/>
            <a:ext cx="446400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хороший аппетит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спокойный сон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охотное общение с другими детьми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адекватная реакция на любое предложение воспитателя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ормальное эмоциональное состояни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0" name="Picture 3" descr="C:\Users\Andrey\Desktop\Олеся\3-xFl3oQjkY.jpg"/>
          <p:cNvPicPr/>
          <p:nvPr/>
        </p:nvPicPr>
        <p:blipFill>
          <a:blip r:embed="rId1"/>
          <a:stretch/>
        </p:blipFill>
        <p:spPr>
          <a:xfrm>
            <a:off x="5435640" y="2708280"/>
            <a:ext cx="29527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0246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ты родителям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140360" y="981000"/>
            <a:ext cx="43192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 всег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just">
              <a:lnSpc>
                <a:spcPct val="115000"/>
              </a:lnSpc>
              <a:spcBef>
                <a:spcPts val="41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родителей во многом зависит эмоциональный настрой ребенка.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just">
              <a:lnSpc>
                <a:spcPct val="115000"/>
              </a:lnSpc>
              <a:spcBef>
                <a:spcPts val="41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говорите фразы типа: «Вот будешь вести себя плохо, в садике тебя накажут». 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just">
              <a:lnSpc>
                <a:spcPct val="115000"/>
              </a:lnSpc>
              <a:spcBef>
                <a:spcPts val="41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когда собираетесь в детский сад, старайтесь создавать спокойную, жизнерадостную атмосферу, с позитивным настроем обсуждайте предстоящий день.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just">
              <a:lnSpc>
                <a:spcPct val="11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1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гда он точно будет удачным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1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для вас и для ребенка!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3" name="Picture 4" descr="C:\Users\PC\Desktop\2011, лето, физо, пред.среда\P1010001.JPG"/>
          <p:cNvPicPr/>
          <p:nvPr/>
        </p:nvPicPr>
        <p:blipFill>
          <a:blip r:embed="rId1"/>
          <a:stretch/>
        </p:blipFill>
        <p:spPr>
          <a:xfrm>
            <a:off x="1042920" y="1773360"/>
            <a:ext cx="3097440" cy="2854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C:\Documents and Settings\Администратор\Мои документы\фото\анимашки\Новая папка\872726[1].gif"/>
          <p:cNvPicPr/>
          <p:nvPr/>
        </p:nvPicPr>
        <p:blipFill>
          <a:blip r:embed="rId2"/>
          <a:stretch/>
        </p:blipFill>
        <p:spPr>
          <a:xfrm>
            <a:off x="1403280" y="4437000"/>
            <a:ext cx="22352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Monotype Corsiva"/>
              </a:rPr>
              <a:t>Спасибо за внимание!!!</a:t>
            </a:r>
            <a:endParaRPr b="0" lang="en-US" sz="8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7" name="Picture 4" descr="C:\Documents and Settings\Администратор\Мои документы\фото\анимашки\cveta-1152.gif"/>
          <p:cNvPicPr/>
          <p:nvPr/>
        </p:nvPicPr>
        <p:blipFill>
          <a:blip r:embed="rId1"/>
          <a:stretch/>
        </p:blipFill>
        <p:spPr>
          <a:xfrm>
            <a:off x="822240" y="3716280"/>
            <a:ext cx="2438640" cy="2440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C:\Documents and Settings\Администратор\Мои документы\фото\анимашки\zvezdia-454.gif"/>
          <p:cNvPicPr/>
          <p:nvPr/>
        </p:nvPicPr>
        <p:blipFill>
          <a:blip r:embed="rId2"/>
          <a:stretch/>
        </p:blipFill>
        <p:spPr>
          <a:xfrm>
            <a:off x="7451640" y="47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C:\Documents and Settings\Администратор\Мои документы\фото\анимашки\zvezdia-454.gif"/>
          <p:cNvPicPr/>
          <p:nvPr/>
        </p:nvPicPr>
        <p:blipFill>
          <a:blip r:embed="rId3"/>
          <a:stretch/>
        </p:blipFill>
        <p:spPr>
          <a:xfrm>
            <a:off x="611280" y="47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C:\Documents and Settings\Администратор\Мои документы\фото\анимашки\zvezdia-472.gif"/>
          <p:cNvPicPr/>
          <p:nvPr/>
        </p:nvPicPr>
        <p:blipFill>
          <a:blip r:embed="rId4"/>
          <a:stretch/>
        </p:blipFill>
        <p:spPr>
          <a:xfrm>
            <a:off x="7042320" y="4937040"/>
            <a:ext cx="885600" cy="876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Documents and Settings\Администратор\Мои документы\фото\анимашки\detia-808.gif"/>
          <p:cNvPicPr/>
          <p:nvPr/>
        </p:nvPicPr>
        <p:blipFill>
          <a:blip r:embed="rId5"/>
          <a:stretch/>
        </p:blipFill>
        <p:spPr>
          <a:xfrm>
            <a:off x="6519960" y="3693960"/>
            <a:ext cx="192060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4901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Адаптац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процесс вхождения человека в новую для него среду и приспособление к ее условиям, который происходит на разных уровнях: физиологическом, психологическом.</a:t>
            </a:r>
            <a:br>
              <a:rPr sz="2000"/>
            </a:b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Скругленный прямоугольник 3"/>
          <p:cNvSpPr/>
          <p:nvPr/>
        </p:nvSpPr>
        <p:spPr>
          <a:xfrm>
            <a:off x="2843280" y="2860560"/>
            <a:ext cx="3529080" cy="79236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d0ff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И АДАПТАЦИ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Скругленный прямоугольник 4"/>
          <p:cNvSpPr/>
          <p:nvPr/>
        </p:nvSpPr>
        <p:spPr>
          <a:xfrm>
            <a:off x="826920" y="4532400"/>
            <a:ext cx="3168720" cy="914400"/>
          </a:xfrm>
          <a:prstGeom prst="roundRect">
            <a:avLst>
              <a:gd name="adj" fmla="val 16667"/>
            </a:avLst>
          </a:prstGeom>
          <a:solidFill>
            <a:srgbClr val="dddcd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Скругленный прямоугольник 6"/>
          <p:cNvSpPr/>
          <p:nvPr/>
        </p:nvSpPr>
        <p:spPr>
          <a:xfrm>
            <a:off x="5219640" y="4532400"/>
            <a:ext cx="3097440" cy="914400"/>
          </a:xfrm>
          <a:prstGeom prst="roundRect">
            <a:avLst>
              <a:gd name="adj" fmla="val 16667"/>
            </a:avLst>
          </a:prstGeom>
          <a:solidFill>
            <a:srgbClr val="dddcd0"/>
          </a:solidFill>
          <a:ln w="15840">
            <a:solidFill>
              <a:srgbClr val="999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Прямая соединительная линия 10"/>
          <p:cNvSpPr/>
          <p:nvPr/>
        </p:nvSpPr>
        <p:spPr>
          <a:xfrm flipV="1">
            <a:off x="2411280" y="4292640"/>
            <a:ext cx="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Прямая соединительная линия 12"/>
          <p:cNvSpPr/>
          <p:nvPr/>
        </p:nvSpPr>
        <p:spPr>
          <a:xfrm flipV="1">
            <a:off x="6767640" y="4292640"/>
            <a:ext cx="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Прямая соединительная линия 14"/>
          <p:cNvSpPr/>
          <p:nvPr/>
        </p:nvSpPr>
        <p:spPr>
          <a:xfrm>
            <a:off x="2411280" y="4292640"/>
            <a:ext cx="435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Прямая соединительная линия 16"/>
          <p:cNvSpPr/>
          <p:nvPr/>
        </p:nvSpPr>
        <p:spPr>
          <a:xfrm>
            <a:off x="4608360" y="3652920"/>
            <a:ext cx="0" cy="63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5" name="Picture 2" descr="C:\Documents and Settings\Администратор\Мои документы\фото\анимашки\detia-765.gif"/>
          <p:cNvPicPr/>
          <p:nvPr/>
        </p:nvPicPr>
        <p:blipFill>
          <a:blip r:embed="rId1"/>
          <a:stretch/>
        </p:blipFill>
        <p:spPr>
          <a:xfrm>
            <a:off x="6369120" y="2371680"/>
            <a:ext cx="184464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08360" y="-603360"/>
            <a:ext cx="3456000" cy="54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аптация является активным процессом приводящим к:</a:t>
            </a: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ff0000"/>
                </a:solidFill>
                <a:latin typeface="Century Gothic"/>
                <a:ea typeface="Calibri"/>
              </a:rPr>
              <a:t>позитивным результатам            (адаптированность)</a:t>
            </a:r>
            <a:br>
              <a:rPr sz="14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успешной адаптации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Внутренний комфорт (эмоциональная удовлетворенность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нешняя адекватность поведения (способность легко и точно выполнять новые требования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09800" y="5013360"/>
            <a:ext cx="3529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buClr>
                <a:srgbClr val="ff0000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Негативным результатам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                 </a:t>
            </a: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(стресс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8" name="Picture 2" descr="C:\Documents and Settings\Администратор\Мои документы\фото\анимашки\zvezdia-472.gif"/>
          <p:cNvPicPr/>
          <p:nvPr/>
        </p:nvPicPr>
        <p:blipFill>
          <a:blip r:embed="rId1"/>
          <a:stretch/>
        </p:blipFill>
        <p:spPr>
          <a:xfrm>
            <a:off x="3419640" y="115920"/>
            <a:ext cx="1450800" cy="1436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C:\Documents and Settings\Администратор\Мои документы\фото\анимашки\zvezdia-472.gif"/>
          <p:cNvPicPr/>
          <p:nvPr/>
        </p:nvPicPr>
        <p:blipFill>
          <a:blip r:embed="rId2"/>
          <a:stretch/>
        </p:blipFill>
        <p:spPr>
          <a:xfrm>
            <a:off x="1187280" y="396720"/>
            <a:ext cx="885960" cy="87660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11" descr=""/>
          <p:cNvPicPr/>
          <p:nvPr/>
        </p:nvPicPr>
        <p:blipFill>
          <a:blip r:embed="rId3"/>
          <a:srcRect l="3934" t="0" r="393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Схема 3" descr=""/>
          <p:cNvPicPr/>
          <p:nvPr/>
        </p:nvPicPr>
        <p:blipFill>
          <a:blip r:embed="rId1"/>
          <a:stretch/>
        </p:blipFill>
        <p:spPr>
          <a:xfrm>
            <a:off x="682560" y="676440"/>
            <a:ext cx="7632720" cy="5286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C:\Documents and Settings\Администратор\Мои документы\фото\анимашки\detia-822.gif"/>
          <p:cNvPicPr/>
          <p:nvPr/>
        </p:nvPicPr>
        <p:blipFill>
          <a:blip r:embed="rId2"/>
          <a:stretch/>
        </p:blipFill>
        <p:spPr>
          <a:xfrm>
            <a:off x="1042920" y="1052640"/>
            <a:ext cx="1603440" cy="102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Схема 2" descr=""/>
          <p:cNvPicPr/>
          <p:nvPr/>
        </p:nvPicPr>
        <p:blipFill>
          <a:blip r:embed="rId1"/>
          <a:stretch/>
        </p:blipFill>
        <p:spPr>
          <a:xfrm>
            <a:off x="249120" y="822240"/>
            <a:ext cx="8425080" cy="5499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Администратор\Мои документы\фото\анимашки\detia-674.gif"/>
          <p:cNvPicPr/>
          <p:nvPr/>
        </p:nvPicPr>
        <p:blipFill>
          <a:blip r:embed="rId2"/>
          <a:stretch/>
        </p:blipFill>
        <p:spPr>
          <a:xfrm>
            <a:off x="1258920" y="620640"/>
            <a:ext cx="126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734000" y="836640"/>
            <a:ext cx="3301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т которых зависит течение адаптации:</a:t>
            </a: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43280" y="2205000"/>
            <a:ext cx="3600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24242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возраст ребенка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24242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состояние здоровья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24242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уровень развития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24242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умение общаться со сверстниками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24242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сформированность предметной и игровой деятельности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24242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приближенность домашнего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режима к режиму ДОУ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7" name="Picture 2" descr="C:\Users\PC\Desktop\фотоографии на сайт\ФОТО- ЛЕТО\создание условий в период ЛОР в МДОУ №62\P1000880.JPG"/>
          <p:cNvPicPr/>
          <p:nvPr/>
        </p:nvPicPr>
        <p:blipFill>
          <a:blip r:embed="rId1"/>
          <a:srcRect l="26971" t="0" r="26971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фазы адаптационного процесс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9" name="Схема 3" descr=""/>
          <p:cNvPicPr/>
          <p:nvPr/>
        </p:nvPicPr>
        <p:blipFill>
          <a:blip r:embed="rId1"/>
          <a:stretch/>
        </p:blipFill>
        <p:spPr>
          <a:xfrm>
            <a:off x="542880" y="2114640"/>
            <a:ext cx="7924680" cy="4267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Администратор\Мои документы\фото\анимашки\detia-673.gif"/>
          <p:cNvPicPr/>
          <p:nvPr/>
        </p:nvPicPr>
        <p:blipFill>
          <a:blip r:embed="rId2"/>
          <a:stretch/>
        </p:blipFill>
        <p:spPr>
          <a:xfrm>
            <a:off x="6732720" y="4724280"/>
            <a:ext cx="12859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тяжести адаптаци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920" y="1916280"/>
            <a:ext cx="727416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50000"/>
              </a:lnSpc>
              <a:spcBef>
                <a:spcPts val="400"/>
              </a:spcBef>
              <a:buClr>
                <a:srgbClr val="00b05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гкая степень: </a:t>
            </a:r>
            <a:r>
              <a:rPr b="0" lang="ru-RU" sz="1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0 – 15 дней (до месяца) – сдвиги нормализуются в эти сроки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400"/>
              </a:spcBef>
              <a:buClr>
                <a:srgbClr val="00b05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Средняя степень:</a:t>
            </a:r>
            <a:r>
              <a:rPr b="0" lang="ru-RU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рно 1 месяц, может быть заболевание 5 –7 дней, есть признаки психического стресса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400"/>
              </a:spcBef>
              <a:buClr>
                <a:srgbClr val="00b05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Times New Roman"/>
              </a:rPr>
              <a:t>Тяжелая степен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 месяца – часто болеет, регрессия в развитии, может быть как физическое, так и психическое истощение организма (вялость, эмоциональные качели)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400"/>
              </a:spcBef>
              <a:buClr>
                <a:srgbClr val="00b05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Times New Roman"/>
              </a:rPr>
              <a:t>Очень тяжелая степен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оло полугода и более. Встает вопрос – стоит ли ребенку оставаться в детском саду, возможно, что он – «несадовый» ребенок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3" name="Picture 2" descr="C:\Documents and Settings\Администратор\Мои документы\фото\анимашки\detia-652.gif"/>
          <p:cNvPicPr/>
          <p:nvPr/>
        </p:nvPicPr>
        <p:blipFill>
          <a:blip r:embed="rId1"/>
          <a:stretch/>
        </p:blipFill>
        <p:spPr>
          <a:xfrm>
            <a:off x="7093080" y="620640"/>
            <a:ext cx="14475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02468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ты родителям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42920" y="1125000"/>
            <a:ext cx="2881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астые ошибки родителей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995280" y="1125000"/>
            <a:ext cx="475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еготовность родителей к негативной реакции ребенка на дошкольное учреждение. 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лаксивость</a:t>
            </a:r>
            <a:r>
              <a:rPr b="0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– это нормальное состояние ребенка в период адаптации к ДОУ.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Обвинение и наказание ребенка за слезы.        От Вас требуется только терпение и помощь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ебывание в состоянии обеспокоенности, тревожности. Прежде всего, вам нужно успокоиться. Это состояние передается детям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ниженное внимание к ребенку. Рекомендуется, как можно больше времени проводить с ребенком в этот период его жизни.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7" name="Picture 2" descr="C:\Program Files\Microsoft Office\MEDIA\CAGCAT10\j0216724.wmf"/>
          <p:cNvPicPr/>
          <p:nvPr/>
        </p:nvPicPr>
        <p:blipFill>
          <a:blip r:embed="rId1"/>
          <a:stretch/>
        </p:blipFill>
        <p:spPr>
          <a:xfrm>
            <a:off x="971640" y="2205000"/>
            <a:ext cx="2663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5:22:43Z</dcterms:created>
  <dc:creator>Ариша</dc:creator>
  <dc:description/>
  <dc:language>en-US</dc:language>
  <cp:lastModifiedBy>Иван Павлов</cp:lastModifiedBy>
  <dcterms:modified xsi:type="dcterms:W3CDTF">2019-11-29T19:20:14Z</dcterms:modified>
  <cp:revision>55</cp:revision>
  <dc:subject/>
  <dc:title>Родительское собрание</dc:title>
</cp:coreProperties>
</file>