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5.jpeg" ContentType="image/jpeg"/>
  <Override PartName="/ppt/media/image11.png" ContentType="image/png"/>
  <Override PartName="/ppt/media/image10.jpeg" ContentType="image/jpeg"/>
  <Override PartName="/ppt/media/image2.gif" ContentType="image/gif"/>
  <Override PartName="/ppt/media/image3.gif" ContentType="image/gif"/>
  <Override PartName="/ppt/media/image6.png" ContentType="image/png"/>
  <Override PartName="/ppt/media/image14.wmf" ContentType="image/x-wmf"/>
  <Override PartName="/ppt/media/image4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7C87-BBE5-41D0-A572-1C40FCD0F5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4344-DC32-4FDC-9811-79D4A59DC7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0BD-009C-4B11-8B89-D7FD5B57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C7A-F9D9-4F95-B5DF-0AB77794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2E0-ED4C-433B-90C4-2A456A90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5B5-F69F-4A49-8ECC-89A9C5DC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E265-ADC0-4D02-A7C4-E9F31945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09D5-65F9-4556-B06B-36199AFF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A6CC-D04E-4A9A-A296-C28FA5BC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B3AF-803E-4CC6-A9BA-621F43D0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1951-8AA5-4A55-8180-E53049D6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819F-1C9C-44F4-8C1B-1E32B63D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B640-8F28-430F-82D4-184664E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B6B-48EC-4235-B8F5-45C9C66E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26F0-39C3-4F5A-A2E5-FF484A25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F1AD-0E10-48F9-9751-6B741BFB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52C1-E658-4BF6-95E8-C74D52CC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37E1-2655-443F-AE13-AB718DFE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3A17-12F6-43BD-98BB-EB1BFFEF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F7513-EF10-4EFF-AA83-85E5B47C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6970E-2EA1-4EFD-B8D6-73C2C9DD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7278C-ADC1-4683-AFE0-821849EA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29BBE-44D0-4182-9BD5-88D6AB98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A03AE-5671-47B6-89CC-F4A1EEE2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161-889A-44F2-8FE8-DEC5509E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8C8F1-58CB-4D88-9FE6-27987D26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2C7C1-A71A-4F96-9658-61EFCDD0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28AE3-A437-4846-BCA3-C2833F5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6C150-E9A4-4031-841A-1A953702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831CB-D4B4-43BA-920F-691B7FD9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37C1C-6660-4FEC-BB46-AB0FC862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E5464-195A-4FBC-A538-21598015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DFD0A-B297-4CEA-B0E4-305D9AF6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29C6-0E5D-45FB-83AA-3E741E58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8FF1B-65FB-47C4-AF53-AD12D05F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F45-7CFA-4C0D-A79B-1751C38C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9E8A6-8B80-4260-BE0F-444D441E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5DD96-75F0-4D7B-9B3E-BDDA811D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5C643-D91E-4FC1-B50F-CB5B9DBC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40B82-5E92-454F-81A4-8343638A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3D4E3-DCB1-43DA-BCB6-90521DE7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BA125-1936-4ED5-B37B-7B270AE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AABD-718C-4A63-938C-5304D654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DB49-D6EE-4531-B4BF-36D3061F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73950-D515-4BC4-9740-7D8479BD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A34-461E-4165-97D6-8A6AA421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ABC-C9CF-49F8-B65B-82BED23D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C4F-AFDD-405B-B594-83E26C97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B44-70DB-4279-BD6C-48D435BC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0DC-6A58-436C-B545-276BFF9C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9846-28B0-4BFE-B3EF-80875DEE54C3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B60D-89D1-4FB3-BBB6-42D1D6311900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3881-E663-4109-AA17-C1F261941B5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5350-348A-4A7B-98A7-234B3F1DA8E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4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42920" y="2565000"/>
            <a:ext cx="352908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брание для родителей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0" y="429264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24242"/>
                </a:solidFill>
                <a:latin typeface="Times New Roman"/>
              </a:rPr>
              <a:t>Адаптация детей раннего возраста к условиям ДО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Picture 2" descr="C:\Documents and Settings\Администратор\Мои документы\фото\анимашки\detia-844.gif"/>
          <p:cNvPicPr/>
          <p:nvPr/>
        </p:nvPicPr>
        <p:blipFill>
          <a:blip r:embed="rId1"/>
          <a:stretch/>
        </p:blipFill>
        <p:spPr>
          <a:xfrm>
            <a:off x="704880" y="2205000"/>
            <a:ext cx="3192480" cy="379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C:\Documents and Settings\Администратор\Мои документы\фото\анимашки\zvezdia-484.gif"/>
          <p:cNvPicPr/>
          <p:nvPr/>
        </p:nvPicPr>
        <p:blipFill>
          <a:blip r:embed="rId2"/>
          <a:stretch/>
        </p:blipFill>
        <p:spPr>
          <a:xfrm>
            <a:off x="4932360" y="-100080"/>
            <a:ext cx="2908440" cy="25210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>
            <a:off x="4586400" y="5872320"/>
            <a:ext cx="36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Воспитатель Павлова Т.В. ГБДОУ№23 Кировского р-н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920" y="836640"/>
            <a:ext cx="6337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ЫЕ ПРИЗНАКИ ТОГО, ЧТО РЕБЕНОК АДАПТИРОВАЛСЯ :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2205000"/>
            <a:ext cx="446400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хороший аппетит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спокойный сон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охотное общение с другими детьми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адекватная реакция на любое предложение воспитателя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ормальное эмоциональное состояни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0" name="Picture 3" descr="C:\Users\Andrey\Desktop\Олеся\3-xFl3oQjkY.jpg"/>
          <p:cNvPicPr/>
          <p:nvPr/>
        </p:nvPicPr>
        <p:blipFill>
          <a:blip r:embed="rId1"/>
          <a:stretch/>
        </p:blipFill>
        <p:spPr>
          <a:xfrm>
            <a:off x="5435640" y="2708280"/>
            <a:ext cx="29527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0246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ты родителям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140360" y="981000"/>
            <a:ext cx="43192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 всег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just">
              <a:lnSpc>
                <a:spcPct val="115000"/>
              </a:lnSpc>
              <a:spcBef>
                <a:spcPts val="41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родителей во многом зависит эмоциональный настрой ребенка.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just">
              <a:lnSpc>
                <a:spcPct val="115000"/>
              </a:lnSpc>
              <a:spcBef>
                <a:spcPts val="41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говорите фразы типа: «Вот будешь вести себя плохо, в садике тебя накажут». 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just">
              <a:lnSpc>
                <a:spcPct val="115000"/>
              </a:lnSpc>
              <a:spcBef>
                <a:spcPts val="41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когда собираетесь в детский сад, старайтесь создавать спокойную, жизнерадостную атмосферу, с позитивным настроем обсуждайте предстоящий день.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just">
              <a:lnSpc>
                <a:spcPct val="11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1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гда он точно будет удачным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1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для вас и для ребенка!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3" name="Picture 4" descr="C:\Users\PC\Desktop\2011, лето, физо, пред.среда\P1010001.JPG"/>
          <p:cNvPicPr/>
          <p:nvPr/>
        </p:nvPicPr>
        <p:blipFill>
          <a:blip r:embed="rId1"/>
          <a:stretch/>
        </p:blipFill>
        <p:spPr>
          <a:xfrm>
            <a:off x="1042920" y="1773360"/>
            <a:ext cx="3097440" cy="2854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C:\Documents and Settings\Администратор\Мои документы\фото\анимашки\Новая папка\872726[1].gif"/>
          <p:cNvPicPr/>
          <p:nvPr/>
        </p:nvPicPr>
        <p:blipFill>
          <a:blip r:embed="rId2"/>
          <a:stretch/>
        </p:blipFill>
        <p:spPr>
          <a:xfrm>
            <a:off x="1403280" y="4437000"/>
            <a:ext cx="22352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Monotype Corsiva"/>
              </a:rPr>
              <a:t>Спасибо за внимание!!!</a:t>
            </a:r>
            <a:endParaRPr b="0" lang="en-US" sz="88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7" name="Picture 4" descr="C:\Documents and Settings\Администратор\Мои документы\фото\анимашки\cveta-1152.gif"/>
          <p:cNvPicPr/>
          <p:nvPr/>
        </p:nvPicPr>
        <p:blipFill>
          <a:blip r:embed="rId1"/>
          <a:stretch/>
        </p:blipFill>
        <p:spPr>
          <a:xfrm>
            <a:off x="822240" y="3716280"/>
            <a:ext cx="2438640" cy="2440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C:\Documents and Settings\Администратор\Мои документы\фото\анимашки\zvezdia-454.gif"/>
          <p:cNvPicPr/>
          <p:nvPr/>
        </p:nvPicPr>
        <p:blipFill>
          <a:blip r:embed="rId2"/>
          <a:stretch/>
        </p:blipFill>
        <p:spPr>
          <a:xfrm>
            <a:off x="7451640" y="47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C:\Documents and Settings\Администратор\Мои документы\фото\анимашки\zvezdia-454.gif"/>
          <p:cNvPicPr/>
          <p:nvPr/>
        </p:nvPicPr>
        <p:blipFill>
          <a:blip r:embed="rId3"/>
          <a:stretch/>
        </p:blipFill>
        <p:spPr>
          <a:xfrm>
            <a:off x="611280" y="47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C:\Documents and Settings\Администратор\Мои документы\фото\анимашки\zvezdia-472.gif"/>
          <p:cNvPicPr/>
          <p:nvPr/>
        </p:nvPicPr>
        <p:blipFill>
          <a:blip r:embed="rId4"/>
          <a:stretch/>
        </p:blipFill>
        <p:spPr>
          <a:xfrm>
            <a:off x="7042320" y="4937040"/>
            <a:ext cx="885600" cy="876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Documents and Settings\Администратор\Мои документы\фото\анимашки\detia-808.gif"/>
          <p:cNvPicPr/>
          <p:nvPr/>
        </p:nvPicPr>
        <p:blipFill>
          <a:blip r:embed="rId5"/>
          <a:stretch/>
        </p:blipFill>
        <p:spPr>
          <a:xfrm>
            <a:off x="6519960" y="3693960"/>
            <a:ext cx="192060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4901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Адаптац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процесс вхождения человека в новую для него среду и приспособление к ее условиям, который происходит на разных уровнях: физиологическом, психологическом.</a:t>
            </a:r>
            <a:br>
              <a:rPr sz="2000"/>
            </a:b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Скругленный прямоугольник 3"/>
          <p:cNvSpPr/>
          <p:nvPr/>
        </p:nvSpPr>
        <p:spPr>
          <a:xfrm>
            <a:off x="2843280" y="2860560"/>
            <a:ext cx="3529080" cy="79236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d0ff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И АДАПТАЦИ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Скругленный прямоугольник 4"/>
          <p:cNvSpPr/>
          <p:nvPr/>
        </p:nvSpPr>
        <p:spPr>
          <a:xfrm>
            <a:off x="826920" y="4532400"/>
            <a:ext cx="3168720" cy="914400"/>
          </a:xfrm>
          <a:prstGeom prst="roundRect">
            <a:avLst>
              <a:gd name="adj" fmla="val 16667"/>
            </a:avLst>
          </a:prstGeom>
          <a:solidFill>
            <a:srgbClr val="dddcd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Скругленный прямоугольник 6"/>
          <p:cNvSpPr/>
          <p:nvPr/>
        </p:nvSpPr>
        <p:spPr>
          <a:xfrm>
            <a:off x="5219640" y="4532400"/>
            <a:ext cx="3097440" cy="914400"/>
          </a:xfrm>
          <a:prstGeom prst="roundRect">
            <a:avLst>
              <a:gd name="adj" fmla="val 16667"/>
            </a:avLst>
          </a:prstGeom>
          <a:solidFill>
            <a:srgbClr val="dddcd0"/>
          </a:solidFill>
          <a:ln w="15840">
            <a:solidFill>
              <a:srgbClr val="999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Прямая соединительная линия 10"/>
          <p:cNvSpPr/>
          <p:nvPr/>
        </p:nvSpPr>
        <p:spPr>
          <a:xfrm flipV="1">
            <a:off x="2411280" y="4292640"/>
            <a:ext cx="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Прямая соединительная линия 12"/>
          <p:cNvSpPr/>
          <p:nvPr/>
        </p:nvSpPr>
        <p:spPr>
          <a:xfrm flipV="1">
            <a:off x="6767640" y="4292640"/>
            <a:ext cx="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Прямая соединительная линия 14"/>
          <p:cNvSpPr/>
          <p:nvPr/>
        </p:nvSpPr>
        <p:spPr>
          <a:xfrm>
            <a:off x="2411280" y="4292640"/>
            <a:ext cx="435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Прямая соединительная линия 16"/>
          <p:cNvSpPr/>
          <p:nvPr/>
        </p:nvSpPr>
        <p:spPr>
          <a:xfrm>
            <a:off x="4608360" y="3652920"/>
            <a:ext cx="0" cy="63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5" name="Picture 2" descr="C:\Documents and Settings\Администратор\Мои документы\фото\анимашки\detia-765.gif"/>
          <p:cNvPicPr/>
          <p:nvPr/>
        </p:nvPicPr>
        <p:blipFill>
          <a:blip r:embed="rId1"/>
          <a:stretch/>
        </p:blipFill>
        <p:spPr>
          <a:xfrm>
            <a:off x="6369120" y="2371680"/>
            <a:ext cx="184464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08360" y="-603360"/>
            <a:ext cx="3456000" cy="54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аптация является активным процессом приводящим к:</a:t>
            </a: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ff0000"/>
                </a:solidFill>
                <a:latin typeface="Century Gothic"/>
                <a:ea typeface="Calibri"/>
              </a:rPr>
              <a:t>позитивным результатам            (адаптированность)</a:t>
            </a:r>
            <a:br>
              <a:rPr sz="14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успешной адаптации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Внутренний комфорт (эмоциональная удовлетворенность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нешняя адекватность поведения (способность легко и точно выполнять новые требования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09800" y="5013360"/>
            <a:ext cx="3529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buClr>
                <a:srgbClr val="ff0000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Негативным результатам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                 </a:t>
            </a:r>
            <a:r>
              <a:rPr b="1" lang="ru-RU" sz="1400" spc="-1" strike="noStrike">
                <a:solidFill>
                  <a:srgbClr val="ff0000"/>
                </a:solidFill>
                <a:latin typeface="Century Gothic"/>
              </a:rPr>
              <a:t>(стресс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8" name="Picture 2" descr="C:\Documents and Settings\Администратор\Мои документы\фото\анимашки\zvezdia-472.gif"/>
          <p:cNvPicPr/>
          <p:nvPr/>
        </p:nvPicPr>
        <p:blipFill>
          <a:blip r:embed="rId1"/>
          <a:stretch/>
        </p:blipFill>
        <p:spPr>
          <a:xfrm>
            <a:off x="3419640" y="115920"/>
            <a:ext cx="1450800" cy="1436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C:\Documents and Settings\Администратор\Мои документы\фото\анимашки\zvezdia-472.gif"/>
          <p:cNvPicPr/>
          <p:nvPr/>
        </p:nvPicPr>
        <p:blipFill>
          <a:blip r:embed="rId2"/>
          <a:stretch/>
        </p:blipFill>
        <p:spPr>
          <a:xfrm>
            <a:off x="1187280" y="396720"/>
            <a:ext cx="885960" cy="87660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11" descr=""/>
          <p:cNvPicPr/>
          <p:nvPr/>
        </p:nvPicPr>
        <p:blipFill>
          <a:blip r:embed="rId3"/>
          <a:srcRect l="3934" t="0" r="393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Схема 3" descr=""/>
          <p:cNvPicPr/>
          <p:nvPr/>
        </p:nvPicPr>
        <p:blipFill>
          <a:blip r:embed="rId1"/>
          <a:stretch/>
        </p:blipFill>
        <p:spPr>
          <a:xfrm>
            <a:off x="682560" y="676440"/>
            <a:ext cx="7632720" cy="5286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C:\Documents and Settings\Администратор\Мои документы\фото\анимашки\detia-822.gif"/>
          <p:cNvPicPr/>
          <p:nvPr/>
        </p:nvPicPr>
        <p:blipFill>
          <a:blip r:embed="rId2"/>
          <a:stretch/>
        </p:blipFill>
        <p:spPr>
          <a:xfrm>
            <a:off x="1042920" y="1052640"/>
            <a:ext cx="1603440" cy="102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Схема 2" descr=""/>
          <p:cNvPicPr/>
          <p:nvPr/>
        </p:nvPicPr>
        <p:blipFill>
          <a:blip r:embed="rId1"/>
          <a:stretch/>
        </p:blipFill>
        <p:spPr>
          <a:xfrm>
            <a:off x="249120" y="822240"/>
            <a:ext cx="8425080" cy="5499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Администратор\Мои документы\фото\анимашки\detia-674.gif"/>
          <p:cNvPicPr/>
          <p:nvPr/>
        </p:nvPicPr>
        <p:blipFill>
          <a:blip r:embed="rId2"/>
          <a:stretch/>
        </p:blipFill>
        <p:spPr>
          <a:xfrm>
            <a:off x="1258920" y="620640"/>
            <a:ext cx="126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734000" y="836640"/>
            <a:ext cx="3301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т которых зависит течение адаптации:</a:t>
            </a: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43280" y="2205000"/>
            <a:ext cx="3600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24242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возраст ребенка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24242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состояние здоровья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24242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уровень развития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24242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умение общаться со сверстниками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24242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сформированность предметной и игровой деятельности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24242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приближенность домашнего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424242"/>
                </a:solidFill>
                <a:latin typeface="Times New Roman"/>
                <a:ea typeface="Times New Roman"/>
              </a:rPr>
              <a:t>режима к режиму ДОУ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7" name="Picture 2" descr="C:\Users\PC\Desktop\фотоографии на сайт\ФОТО- ЛЕТО\создание условий в период ЛОР в МДОУ №62\P1000880.JPG"/>
          <p:cNvPicPr/>
          <p:nvPr/>
        </p:nvPicPr>
        <p:blipFill>
          <a:blip r:embed="rId1"/>
          <a:srcRect l="26971" t="0" r="26971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фазы адаптационного процесс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9" name="Схема 3" descr=""/>
          <p:cNvPicPr/>
          <p:nvPr/>
        </p:nvPicPr>
        <p:blipFill>
          <a:blip r:embed="rId1"/>
          <a:stretch/>
        </p:blipFill>
        <p:spPr>
          <a:xfrm>
            <a:off x="542880" y="2114640"/>
            <a:ext cx="7924680" cy="4267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Администратор\Мои документы\фото\анимашки\detia-673.gif"/>
          <p:cNvPicPr/>
          <p:nvPr/>
        </p:nvPicPr>
        <p:blipFill>
          <a:blip r:embed="rId2"/>
          <a:stretch/>
        </p:blipFill>
        <p:spPr>
          <a:xfrm>
            <a:off x="6732720" y="4724280"/>
            <a:ext cx="12859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тяжести адаптаци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920" y="1916280"/>
            <a:ext cx="727416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50000"/>
              </a:lnSpc>
              <a:spcBef>
                <a:spcPts val="400"/>
              </a:spcBef>
              <a:buClr>
                <a:srgbClr val="00b05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гкая степень: </a:t>
            </a:r>
            <a:r>
              <a:rPr b="0" lang="ru-RU" sz="1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0 – 15 дней (до месяца) – сдвиги нормализуются в эти сроки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400"/>
              </a:spcBef>
              <a:buClr>
                <a:srgbClr val="00b05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Средняя степень:</a:t>
            </a:r>
            <a:r>
              <a:rPr b="0" lang="ru-RU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рно 1 месяц, может быть заболевание 5 –7 дней, есть признаки психического стресса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400"/>
              </a:spcBef>
              <a:buClr>
                <a:srgbClr val="00b05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Times New Roman"/>
              </a:rPr>
              <a:t>Тяжелая степен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 месяца – часто болеет, регрессия в развитии, может быть как физическое, так и психическое истощение организма (вялость, эмоциональные качели)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50000"/>
              </a:lnSpc>
              <a:spcBef>
                <a:spcPts val="400"/>
              </a:spcBef>
              <a:buClr>
                <a:srgbClr val="00b05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Times New Roman"/>
              </a:rPr>
              <a:t>Очень тяжелая степен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оло полугода и более. Встает вопрос – стоит ли ребенку оставаться в детском саду, возможно, что он – «несадовый» ребенок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3" name="Picture 2" descr="C:\Documents and Settings\Администратор\Мои документы\фото\анимашки\detia-652.gif"/>
          <p:cNvPicPr/>
          <p:nvPr/>
        </p:nvPicPr>
        <p:blipFill>
          <a:blip r:embed="rId1"/>
          <a:stretch/>
        </p:blipFill>
        <p:spPr>
          <a:xfrm>
            <a:off x="7093080" y="620640"/>
            <a:ext cx="14475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02468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ты родителям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42920" y="1125000"/>
            <a:ext cx="2881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астые ошибки родителей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995280" y="1125000"/>
            <a:ext cx="475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еготовность родителей к негативной реакции ребенка на дошкольное учреждение. 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лаксивость</a:t>
            </a:r>
            <a:r>
              <a:rPr b="0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– это нормальное состояние ребенка в период адаптации к ДОУ.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Обвинение и наказание ребенка за слезы.        От Вас требуется только терпение и помощь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ебывание в состоянии обеспокоенности, тревожности. Прежде всего, вам нужно успокоиться. Это состояние передается детям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ниженное внимание к ребенку. Рекомендуется, как можно больше времени проводить с ребенком в этот период его жизни.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7" name="Picture 2" descr="C:\Program Files\Microsoft Office\MEDIA\CAGCAT10\j0216724.wmf"/>
          <p:cNvPicPr/>
          <p:nvPr/>
        </p:nvPicPr>
        <p:blipFill>
          <a:blip r:embed="rId1"/>
          <a:stretch/>
        </p:blipFill>
        <p:spPr>
          <a:xfrm>
            <a:off x="971640" y="2205000"/>
            <a:ext cx="2663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5:22:43Z</dcterms:created>
  <dc:creator>Ариша</dc:creator>
  <dc:description/>
  <dc:language>en-US</dc:language>
  <cp:lastModifiedBy>Иван Павлов</cp:lastModifiedBy>
  <dcterms:modified xsi:type="dcterms:W3CDTF">2019-11-29T19:20:14Z</dcterms:modified>
  <cp:revision>55</cp:revision>
  <dc:subject/>
  <dc:title>Родительское собрание</dc:title>
</cp:coreProperties>
</file>