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470-E57B-4707-BD9E-45A22F8D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CF9-9516-46A8-88BF-BCA1FC23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F43-CEEF-4364-8876-2EB8CEFF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E3C-A5FC-4851-A306-6940B1AD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4BFE-C107-4E06-AC19-D89DC28E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8C5A-121D-4DDD-81FB-D5560E8F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08AC-05AD-45EA-8002-1DCF1AB4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EE26-716E-4993-AE1C-9A065194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5612-05BF-47AD-8F5A-C46C4CC7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84B5-7172-4717-A468-1E451758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B8DE-F97F-4C07-87D1-D1E0A201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E8C-7A6D-4589-B28B-368685C7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0431-CC87-4385-9E41-61CAB6BA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791D-650B-40E9-A103-365ADAC2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7257-C649-4100-8E74-63538D57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B5F1-36DB-4654-9BE4-9FAF7C0E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8850-8060-474A-967A-76987866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157-58C5-4184-B1CA-F7191142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D69-B46E-4E9E-B1BF-F8979330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0CA-5076-4325-B281-D80C0AAA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5CC-0FA0-4494-9179-5544AC5A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0DE-D1FF-421E-A5F8-32F65A72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2F7-FCAF-40E6-8E7A-630FEF60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437-95EF-406B-BFDE-AFF21DCE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5129-8E3F-4ADB-B2CD-5FCAA316F3E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182A-37A1-468B-A9CD-6EFFDA510DE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3;&#1077;&#1082;&#1090;&#1088;&#1080;&#1095;&#1077;&#1089;&#1082;&#1072;&#1103;_&#1105;&#1084;&#1082;&#1086;&#1089;&#1090;&#1100;" TargetMode="External"/><Relationship Id="rId2" Type="http://schemas.openxmlformats.org/officeDocument/2006/relationships/hyperlink" Target="http://ru.wikipedia.org/wiki/&#1069;&#1083;&#1077;&#1082;&#1090;&#1088;&#1080;&#1095;&#1077;&#1089;&#1082;&#1080;&#1081;_&#1079;&#1072;&#1088;&#1103;&#1076;" TargetMode="External"/><Relationship Id="rId3" Type="http://schemas.openxmlformats.org/officeDocument/2006/relationships/hyperlink" Target="http://ru.wikipedia.org/wiki/&#1069;&#1083;&#1077;&#1082;&#1090;&#1088;&#1080;&#1095;&#1077;&#1089;&#1082;&#1080;&#1081;_&#1079;&#1072;&#1088;&#1103;&#1076;" TargetMode="External"/><Relationship Id="rId4" Type="http://schemas.openxmlformats.org/officeDocument/2006/relationships/hyperlink" Target="http://ru.wikipedia.org/wiki/&#1069;&#1083;&#1077;&#1082;&#1090;&#1088;&#1080;&#1095;&#1077;&#1089;&#1082;&#1086;&#1077;_&#1085;&#1072;&#1087;&#1088;&#1103;&#1078;&#1077;&#1085;&#1080;&#1077;" TargetMode="External"/><Relationship Id="rId5" Type="http://schemas.openxmlformats.org/officeDocument/2006/relationships/hyperlink" Target="http://ru.wikipedia.org/wiki/&#1060;&#1072;&#1088;&#1072;&#1076;" TargetMode="External"/><Relationship Id="rId6" Type="http://schemas.openxmlformats.org/officeDocument/2006/relationships/hyperlink" Target="http://ru.wikipedia.org/wiki/&#1057;&#1048;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apacitorsseries.pn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91;&#1096;&#1082;&#1072;_&#1043;&#1072;&#1091;&#1089;&#1089;&#1072;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7;&#1084;&#1087;&#1077;&#1088;&#1072;&#1090;&#1091;&#1088;&#1072;" TargetMode="External"/><Relationship Id="rId2" Type="http://schemas.openxmlformats.org/officeDocument/2006/relationships/hyperlink" Target="http://ru.wikipedia.org/wiki/&#1057;&#1082;&#1086;&#1088;&#1086;&#1089;&#1090;&#1100;" TargetMode="External"/><Relationship Id="rId3" Type="http://schemas.openxmlformats.org/officeDocument/2006/relationships/hyperlink" Target="http://ru.wikipedia.org/wiki/&#1053;&#1086;&#1089;&#1080;&#1090;&#1077;&#1083;&#1080;_&#1079;&#1072;&#1088;&#1103;&#1076;&#1072;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3;&#1077;&#1082;&#1090;&#1088;&#1086;&#1083;&#1080;&#1090;&#1080;&#1095;&#1077;&#1089;&#1082;&#1080;&#1081;_&#1082;&#1086;&#1085;&#1076;&#1077;&#1085;&#1089;&#1072;&#1090;&#1086;&#1088;" TargetMode="External"/><Relationship Id="rId2" Type="http://schemas.openxmlformats.org/officeDocument/2006/relationships/hyperlink" Target="http://ru.wikipedia.org/wiki/&#1069;&#1083;&#1077;&#1082;&#1090;&#1088;&#1086;&#1083;&#1080;&#1090;" TargetMode="External"/><Relationship Id="rId3" Type="http://schemas.openxmlformats.org/officeDocument/2006/relationships/hyperlink" Target="http://ru.wikipedia.org/wiki/&#1042;&#1079;&#1088;&#1099;&#1074;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3;&#1077;&#1082;&#1090;&#1088;&#1080;&#1095;&#1077;&#1089;&#1082;&#1080;&#1081;_&#1082;&#1086;&#1085;&#1076;&#1077;&#1085;&#1089;&#1072;&#1090;&#1086;&#1088;#.D0.AD.D0.BA.D0.B2.D0.B8.D0.B2.D0.B0.D0.BB.D0.B5.D0.BD.D1.82.D0.BD.D0.BE.D0.B5_.D0.BF.D0.BE.D1.81.D0.BB.D0.B5.D0.B4.D0.BE.D0.B2.D0.B0.D1.82.D0.B5.D0.BB.D1.8C.D0.BD.D0.BE.D0.B5_.D1.81.D0.BE.D0.BF.D1.80.D0.BE.D1.82.D0.B8.D0.B2.D0.BB.D0.B5.D0.BD.D0.B8.D0.B5_.E2.80.94_R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90;&#1091;&#1096;&#1082;&#1072;_&#1080;&#1085;&#1076;&#1091;&#1082;&#1090;&#1080;&#1074;&#1085;&#1086;&#1089;&#1090;&#1080;" TargetMode="External"/><Relationship Id="rId2" Type="http://schemas.openxmlformats.org/officeDocument/2006/relationships/hyperlink" Target="http://ru.wikipedia.org/wiki/&#1056;&#1077;&#1079;&#1080;&#1089;&#1090;&#1086;&#1088;" TargetMode="External"/><Relationship Id="rId3" Type="http://schemas.openxmlformats.org/officeDocument/2006/relationships/hyperlink" Target="http://ru.wikipedia.org/wiki/&#1060;&#1080;&#1083;&#1100;&#1090;&#1088;_(&#1101;&#1083;&#1077;&#1082;&#1090;&#1088;&#1086;&#1085;&#1080;&#1082;&#1072;)" TargetMode="External"/><Relationship Id="rId4" Type="http://schemas.openxmlformats.org/officeDocument/2006/relationships/hyperlink" Target="http://ru.wikipedia.org/wiki/&#1054;&#1073;&#1088;&#1072;&#1090;&#1085;&#1072;&#1103;_&#1089;&#1074;&#1103;&#1079;&#1100;" TargetMode="External"/><Relationship Id="rId5" Type="http://schemas.openxmlformats.org/officeDocument/2006/relationships/hyperlink" Target="http://ru.wikipedia.org/wiki/&#1050;&#1086;&#1083;&#1077;&#1073;&#1072;&#1090;&#1077;&#1083;&#1100;&#1085;&#1099;&#1081;_&#1082;&#1086;&#1085;&#1090;&#1091;&#1088;" TargetMode="External"/><Relationship Id="rId6" Type="http://schemas.openxmlformats.org/officeDocument/2006/relationships/hyperlink" Target="http://ru.wikipedia.org/wiki/&#1048;&#1084;&#1087;&#1091;&#1083;&#1100;&#1089;" TargetMode="External"/><Relationship Id="rId7" Type="http://schemas.openxmlformats.org/officeDocument/2006/relationships/hyperlink" Target="http://ru.wikipedia.org/wiki/&#1060;&#1086;&#1090;&#1086;&#1074;&#1089;&#1087;&#1099;&#1096;&#1082;&#1072;" TargetMode="External"/><Relationship Id="rId8" Type="http://schemas.openxmlformats.org/officeDocument/2006/relationships/hyperlink" Target="http://ru.wikipedia.org/wiki/&#1055;&#1091;&#1096;&#1082;&#1072;_&#1043;&#1072;&#1091;&#1089;&#1089;&#1072;" TargetMode="External"/><Relationship Id="rId9" Type="http://schemas.openxmlformats.org/officeDocument/2006/relationships/hyperlink" Target="http://ru.wikipedia.org/wiki/&#1059;&#1089;&#1090;&#1088;&#1086;&#1081;&#1089;&#1090;&#1074;&#1086;_&#1083;&#1072;&#1079;&#1077;&#1088;&#1072;" TargetMode="External"/><Relationship Id="rId10" Type="http://schemas.openxmlformats.org/officeDocument/2006/relationships/hyperlink" Target="http://ru.wikipedia.org/wiki/&#1043;&#1077;&#1085;&#1077;&#1088;&#1072;&#1090;&#1086;&#1088;_&#1052;&#1072;&#1088;&#1082;&#1089;&#1072;" TargetMode="External"/><Relationship Id="rId11" Type="http://schemas.openxmlformats.org/officeDocument/2006/relationships/hyperlink" Target="http://ru.wikipedia.org/wiki/&#1043;&#1077;&#1085;&#1077;&#1088;&#1072;&#1090;&#1086;&#1088;_&#1050;&#1086;&#1082;&#1088;&#1086;&#1092;&#1090;&#1072;-&#1059;&#1086;&#1083;&#1090;&#1086;&#1085;&#1072;" TargetMode="External"/><Relationship Id="rId12" Type="http://schemas.openxmlformats.org/officeDocument/2006/relationships/hyperlink" Target="http://ru.wikipedia.org/wiki/&#1043;&#1077;&#1085;&#1077;&#1088;&#1072;&#1090;&#1086;&#1088;_&#1050;&#1086;&#1082;&#1088;&#1086;&#1092;&#1090;&#1072;-&#1059;&#1086;&#1083;&#1090;&#1086;&#1085;&#1072;" TargetMode="External"/><Relationship Id="rId13" Type="http://schemas.openxmlformats.org/officeDocument/2006/relationships/hyperlink" Target="http://ru.wikipedia.org/wiki/&#1050;&#1086;&#1084;&#1087;&#1100;&#1102;&#1090;&#1077;&#1088;&#1085;&#1072;&#1103;_&#1087;&#1072;&#1084;&#1103;&#1090;&#1100;" TargetMode="External"/><Relationship Id="rId14" Type="http://schemas.openxmlformats.org/officeDocument/2006/relationships/hyperlink" Target="http://ru.wikipedia.org/wiki/&#1050;&#1086;&#1084;&#1087;&#1077;&#1085;&#1089;&#1080;&#1088;&#1091;&#1102;&#1097;&#1080;&#1077;_&#1091;&#1089;&#1090;&#1088;&#1086;&#1081;&#1089;&#1090;&#1074;&#1072;" TargetMode="External"/><Relationship Id="rId15" Type="http://schemas.openxmlformats.org/officeDocument/2006/relationships/hyperlink" Target="http://ru.wikipedia.org/wiki/&#1056;&#1077;&#1072;&#1082;&#1090;&#1080;&#1074;&#1085;&#1072;&#1103;_&#1084;&#1086;&#1097;&#1085;&#1086;&#1089;&#1090;&#1100;" TargetMode="External"/><Relationship Id="rId16" Type="http://schemas.openxmlformats.org/officeDocument/2006/relationships/hyperlink" Target="http://ru.wikipedia.org/wiki/&#1043;&#1072;&#1088;&#1084;&#1086;&#1085;&#1080;&#1082;&#1072;" TargetMode="External"/><Relationship Id="rId17" Type="http://schemas.openxmlformats.org/officeDocument/2006/relationships/hyperlink" Target="http://ru.wikipedia.org/wiki/&#1047;&#1072;&#1088;&#1103;&#1078;&#1077;&#1085;&#1085;&#1072;&#1103;_&#1095;&#1072;&#1089;&#1090;&#1080;&#1094;&#1072;" TargetMode="External"/><Relationship Id="rId1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4;&#1074;&#1091;&#1093;&#1087;&#1086;&#1083;&#1102;&#1089;&#1085;&#1080;&#1082;" TargetMode="External"/><Relationship Id="rId3" Type="http://schemas.openxmlformats.org/officeDocument/2006/relationships/hyperlink" Target="http://ru.wikipedia.org/wiki/&#1069;&#1083;&#1077;&#1082;&#1090;&#1088;&#1080;&#1095;&#1077;&#1089;&#1082;&#1072;&#1103;_&#1105;&#1084;&#1082;&#1086;&#1089;&#1090;&#1100;" TargetMode="External"/><Relationship Id="rId4" Type="http://schemas.openxmlformats.org/officeDocument/2006/relationships/hyperlink" Target="http://ru.wikipedia.org/wiki/&#1069;&#1083;&#1077;&#1082;&#1090;&#1088;&#1080;&#1095;&#1077;&#1089;&#1082;&#1072;&#1103;_&#1087;&#1088;&#1086;&#1074;&#1086;&#1076;&#1080;&#1084;&#1086;&#1089;&#1090;&#1100;" TargetMode="External"/><Relationship Id="rId5" Type="http://schemas.openxmlformats.org/officeDocument/2006/relationships/hyperlink" Target="http://ru.wikipedia.org/wiki/&#1044;&#1080;&#1101;&#1083;&#1077;&#1082;&#1090;&#1088;&#1080;&#1082;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45_&#1075;&#1086;&#1076;" TargetMode="External"/><Relationship Id="rId2" Type="http://schemas.openxmlformats.org/officeDocument/2006/relationships/hyperlink" Target="http://ru.wikipedia.org/wiki/&#1051;&#1077;&#1081;&#1076;&#1077;&#1085;" TargetMode="External"/><Relationship Id="rId3" Type="http://schemas.openxmlformats.org/officeDocument/2006/relationships/hyperlink" Target="http://ru.wikipedia.org/wiki/&#1052;&#1091;&#1096;&#1077;&#1085;&#1073;&#1088;&#1091;&#1082;,_&#1055;&#1080;&#1090;&#1077;&#1088;_&#1074;&#1072;&#1085;" TargetMode="External"/><Relationship Id="rId4" Type="http://schemas.openxmlformats.org/officeDocument/2006/relationships/hyperlink" Target="http://ru.wikipedia.org/wiki/&#1051;&#1077;&#1081;&#1076;&#1077;&#1085;&#1089;&#1082;&#1072;&#1103;_&#1073;&#1072;&#1085;&#1082;&#1072;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2;&#1077;&#1087;&#1100;_&#1087;&#1086;&#1089;&#1090;&#1086;&#1103;&#1085;&#1085;&#1086;&#1075;&#1086;_&#1090;&#1086;&#1082;&#1072;&amp;action=edit&amp;redlink=1" TargetMode="External"/><Relationship Id="rId2" Type="http://schemas.openxmlformats.org/officeDocument/2006/relationships/hyperlink" Target="http://ru.wikipedia.org/w/index.php?title=&#1062;&#1077;&#1087;&#1100;_&#1087;&#1077;&#1088;&#1077;&#1084;&#1077;&#1085;&#1085;&#1086;&#1075;&#1086;_&#1090;&#1086;&#1082;&#1072;&amp;action=edit&amp;redlink=1" TargetMode="External"/><Relationship Id="rId3" Type="http://schemas.openxmlformats.org/officeDocument/2006/relationships/hyperlink" Target="http://ru.wikipedia.org/wiki/&#1058;&#1086;&#1082;_&#1089;&#1084;&#1077;&#1097;&#1077;&#1085;&#1080;&#1103;" TargetMode="External"/><Relationship Id="rId4" Type="http://schemas.openxmlformats.org/officeDocument/2006/relationships/hyperlink" Target="http://ru.wikipedia.org/wiki/&#1052;&#1077;&#1090;&#1086;&#1076;_&#1082;&#1086;&#1084;&#1087;&#1083;&#1077;&#1082;&#1089;&#1085;&#1099;&#1093;_&#1072;&#1084;&#1087;&#1083;&#1080;&#1090;&#1091;&#1076;" TargetMode="External"/><Relationship Id="rId5" Type="http://schemas.openxmlformats.org/officeDocument/2006/relationships/hyperlink" Target="http://ru.wikipedia.org/wiki/&#1048;&#1084;&#1087;&#1077;&#1076;&#1072;&#1085;&#1089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&#1079;&#1086;&#1085;&#1072;&#1085;&#1089;#.D0.AD.D0.BB.D0.B5.D0.BA.D1.82.D1.80.D0.BE.D0.BD.D0.B8.D0.BA.D0.B0" TargetMode="External"/><Relationship Id="rId2" Type="http://schemas.openxmlformats.org/officeDocument/2006/relationships/hyperlink" Target="http://ru.wikipedia.org/wiki/&#1050;&#1072;&#1090;&#1091;&#1096;&#1082;&#1072;_&#1080;&#1085;&#1076;&#1091;&#1082;&#1090;&#1080;&#1074;&#1085;&#1086;&#1089;&#1090;&#1080;" TargetMode="External"/><Relationship Id="rId3" Type="http://schemas.openxmlformats.org/officeDocument/2006/relationships/hyperlink" Target="http://ru.wikipedia.org/wiki/&#1069;&#1083;&#1077;&#1082;&#1090;&#1088;&#1080;&#1095;&#1077;&#1089;&#1082;&#1072;&#1103;_&#1101;&#1085;&#1077;&#1088;&#1075;&#1080;&#1103;" TargetMode="External"/><Relationship Id="rId4" Type="http://schemas.openxmlformats.org/officeDocument/2006/relationships/hyperlink" Target="http://ru.wikipedia.org/wiki/&#1069;&#1083;&#1077;&#1082;&#1090;&#1088;&#1080;&#1095;&#1077;&#1089;&#1082;&#1086;&#1077;_&#1085;&#1072;&#1087;&#1088;&#1103;&#1078;&#1077;&#1085;&#1080;&#1077;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lteg.ru/spravochnik/elektrolit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54;&#1057;&#1058;" TargetMode="External"/><Relationship Id="rId2" Type="http://schemas.openxmlformats.org/officeDocument/2006/relationships/slide" Target=""/><Relationship Id="rId3" Type="http://schemas.openxmlformats.org/officeDocument/2006/relationships/hyperlink" Target="http://ru.wikipedia.org/wiki/IEEE" TargetMode="External"/><Relationship Id="rId4" Type="http://schemas.openxmlformats.org/officeDocument/2006/relationships/hyperlink" Target="http://ru.wikipedia.org/wiki/&#1060;&#1072;&#1081;&#1083;:Capacitor_symbol_GOST.svg" TargetMode="External"/><Relationship Id="rId5" Type="http://schemas.openxmlformats.org/officeDocument/2006/relationships/hyperlink" Target="http://ru.wikipedia.org/wiki/&#1060;&#1072;&#1081;&#1083;:Polarized_capacitor_symbol_GOST.svg" TargetMode="External"/><Relationship Id="rId6" Type="http://schemas.openxmlformats.org/officeDocument/2006/relationships/hyperlink" Target="http://ru.wikipedia.org/wiki/&#1060;&#1072;&#1081;&#1083;:Trimmer_capacitor_symbol_GOST.svg" TargetMode="External"/><Relationship Id="rId7" Type="http://schemas.openxmlformats.org/officeDocument/2006/relationships/hyperlink" Target="http://ru.wikipedia.org/w/index.php?title=&#1069;&#1083;&#1077;&#1082;&#1090;&#1088;&#1080;&#1095;&#1077;&#1089;&#1082;&#1072;&#1103;_&#1087;&#1088;&#1080;&#1085;&#1094;&#1080;&#1087;&#1080;&#1072;&#1083;&#1100;&#1085;&#1072;&#1103;_&#1089;&#1093;&#1077;&#1084;&#1072;&amp;action=edit&amp;redlink=1" TargetMode="External"/><Relationship Id="rId8" Type="http://schemas.openxmlformats.org/officeDocument/2006/relationships/hyperlink" Target="http://ru.wikipedia.org/wiki/&#1060;&#1072;&#1088;&#1072;&#1076;" TargetMode="External"/><Relationship Id="rId9" Type="http://schemas.openxmlformats.org/officeDocument/2006/relationships/hyperlink" Target="http://ru.wikipedia.org/wiki/&#1069;&#1083;&#1077;&#1082;&#1090;&#1088;&#1086;&#1083;&#1080;&#1090;&#1080;&#1095;&#1077;&#1089;&#1082;&#1080;&#1081;_&#1082;&#1086;&#1085;&#1076;&#1077;&#1085;&#1089;&#1072;&#1090;&#1086;&#1088;" TargetMode="External"/><Relationship Id="rId10" Type="http://schemas.openxmlformats.org/officeDocument/2006/relationships/slide" Target=""/><Relationship Id="rId11" Type="http://schemas.openxmlformats.org/officeDocument/2006/relationships/hyperlink" Target="http://ru.wikipedia.org/wiki/&#1056;&#1103;&#1076;&#1099;_&#1085;&#1086;&#1084;&#1080;&#1085;&#1072;&#1083;&#1086;&#1074;_&#1088;&#1072;&#1076;&#1080;&#1086;&#1076;&#1077;&#1090;&#1072;&#1083;&#1077;&#1081;" TargetMode="Externa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141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9588"/>
                </a:solidFill>
                <a:latin typeface="Arial"/>
              </a:rPr>
              <a:t>Электрический конденсатор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сновной характеристикой конденсатора является его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ёмкость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характеризующая способность конденсатора накапливать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электрический заряд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В обозначении конденсатора фигурирует значение номинальной ёмкости, в то время как реальная ёмкость может значительно меняться в зависимости от многих факторов. Реальная ёмкость конденсатора определяет его электрические свойства. Так, по определению ёмкости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заряд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на обкладке пропорционален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напряжению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между обкладками (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CU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. Типичные значения ёмкости конденсаторов составляют от единиц пикофарад до сотен микро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фарад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Однако существуют конденсаторы с ёмкостью до десятков фарад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Ёмкость плоского конденсатора, состоящего из двух параллельных металлических пластин площадью   каждая, расположенных на расстоянии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друг от друга, в систем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С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выражается формулой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" descr="C = \frac{\varepsilon \varepsilon_0 S}{d} ~"/>
          <p:cNvPicPr/>
          <p:nvPr/>
        </p:nvPicPr>
        <p:blipFill>
          <a:blip r:embed="rId7"/>
          <a:stretch/>
        </p:blipFill>
        <p:spPr>
          <a:xfrm>
            <a:off x="5940360" y="5661000"/>
            <a:ext cx="1656000" cy="79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ля получения больших ёмкостей конденсаторы соединяют параллельно. При этом напряжение между обкладками всех конденсаторов одинаково. Общая ёмкость батареи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параллельно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соединённых конденсаторов равна сумме ёмкостей всех конденсаторов, входящих в батарею. Если у всех параллельно соединённых конденсаторов расстояние между обкладками и свойства диэлектрика одинаковы, то эти конденсаторы можно представить как один большой конденсатор, разделённый на фрагменты меньшей площад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и последовательном соединении конденсаторов заряды всех конденсаторов одинаковы, так как от источника питания они поступают только на внешние электроды, а на внутренних электродах они получаются только за счет разделения зарядов, ранее нейтрализовавших друг друга. Общая ёмкость батареи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последовательно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соединённых конденсаторов ра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" descr="Capacitorsseries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5084640"/>
            <a:ext cx="2048040" cy="400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Удельная ёмкость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онденсаторы также характеризуются удельной ёмкостью — отношением ёмкости к объёму (или массе) диэлектрика. Максимальное значение удельной ёмкости достигается при минимальной толщине диэлектрика, однако при этом уменьшается его напряжение пробо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Плотность энергии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лотность энергии электролитического конденсатора зависит от конструктивного исполнения. Максимальная плотность достигается у больших конденсаторов, где масса корпуса невелика по сравнению с массой обкладок и электролита. Например, у конденсатора EPCOS B4345 емкостью 12000 мкФ x 450 В и массой 1.9кг плотность энергии составляет 639Дж/кг или 845Дж/л. Особенно важен этот параметр при использовании конденсатора в качестве накопителя энергии, с последующим мгновенным её высвобождением, например, в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пушке Гаусс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Номинальное напряжение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Другой, не менее важной характеристикой конденсаторов является номинальное напряжение — значение напряжения, обозначенное на конденсаторе, при котором он может работать в заданных условиях в течение срока службы с сохранением параметров в допустимых предела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оминальное напряжение зависит от конструкции конденсатора и свойств применяемых материалов. При эксплуатации напряжение на конденсаторе не должно превышать номинального. Для многих типов конденсаторов с увеличением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температуры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допустимое напряжение снижается, что связано с увеличением тепловой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скорости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движения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носителей заряд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и, соответственно, снижению требований для образования электрического пробо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Полярность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огие конденсаторы с оксидным диэлектриком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электролитически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) функционируют только при корректной полярности напряжения из-за химических особенностей взаимодействия электролита с диэлектриком. При обратной полярности напряжения электролитические конденсаторы обычно выходят из строя из-за химического разрушения диэлектрика с последующим увеличением тока, вскипанием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электролит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внутри и, как следствие, с вероятностью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взрыв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корпус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Опасность разрушения (взрыва) 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зрывы электролитических конденсаторов — довольно распространённое явление. Основной причиной взрывов является перегрев конденсатора, вызываемый в большинстве случаев утечкой или повышением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эквивалентного последовательного сопротивления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 вследствие старения (актуально для импульсных устройств). В современных компьютерах также перегрев конденсаторов — очень частая причина выхода их из стоя, когда они стоят рядом с источниками повышенного тепловыделения (радиаторы охлаждения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Для уменьшения повреждений других деталей и травматизма персонала в современных конденсаторах большой ёмкости устанавливают клапан или выполняют насечку на корпусе (часто можно заметить её в форме буквы X, K или Т на торце, иногда на больших конденсаторах она прикрыта пластиком). При повышении внутреннего давления открывается клапан или корпус разрушается по насечке, испарившийся электролит выходит в виде едкого газа и иногда даже жидкости, и давление спадает без взрыва и осколк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Однако не забывайте, что в старых отечественных электролитических конденсаторах никаких защит от взрыва нет, взрывная сила частей корпуса может быть достаточно большой и травмировать человека, а также разбить например лампочку (реальный случай из практики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9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Применение конденсаторов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нденсаторы находят применение практически во всех областях электротехник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нденсаторы (совместно с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катушками индуктивности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/ил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резисторами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) используются для построения различных цепей с частотно-зависимыми свойствами, в частности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фильтров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цепей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обратной связи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колебательных контуров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 т. п.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и быстром разряде конденсатора можно получить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импульс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большой мощности, например,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фотовспышках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электромагнитных ускорителях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импульсных лазерах с оптической накачкой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генераторах Маркса, (ГИН; ГИТ)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генераторах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Кокрофта-Уолтона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 т. п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ак как конденсатор способен длительное время сохранять заряд, то его можно использовать в качестве элемент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памяти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ли устройства хранения электрической энергии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 промышленной электротехнике конденсаторы используются для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компенсации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реактивной мощности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 в фильтрах высших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гармоник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нденсаторы способны накапливать большой заряд и создавать большую напряженность на обкладках, которая используется для различных целей, например, для ускорения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заряженных частиц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ли для создания кратковременных мощных электрических разрядов (см. генератор Ван де Граафа)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змерительный преобразователь (ИП) малых перемещений: малое изменение расстояния между обкладками очень заметно сказывается на ёмкости конденсатора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П влажности воздуха, древесины (изменение состава диэлектрика приводит к изменению емкости)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 схемах РЗиА конденсаторы используются для реализации логики работы некоторых защит. В частности, в схеме работы АПВ использование конденсатора позволяет обеспечить требуемую кратность срабатывания защиты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змерителя уровня жидкости. Непроводящая жидкость, заполняет пространство между обкладками конденсатора, и ёмкость конденсатора меняется в зависимости от уровн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c4c3aa"/>
                </a:solidFill>
                <a:latin typeface="Arial"/>
              </a:rPr>
              <a:t>Источники информации:</a:t>
            </a:r>
            <a:br>
              <a:rPr sz="4700"/>
            </a:br>
            <a:r>
              <a:rPr b="0" lang="ru-RU" sz="4700" spc="-1" strike="noStrike">
                <a:solidFill>
                  <a:srgbClr val="c4c3aa"/>
                </a:solidFill>
                <a:latin typeface="Arial"/>
              </a:rPr>
              <a:t>wikipedia.org</a:t>
            </a:r>
            <a:br>
              <a:rPr sz="4700"/>
            </a:br>
            <a:br>
              <a:rPr sz="4700"/>
            </a:b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боту выполнила ученица 9 «В»класса МОУ СОШ № 36 Ивашкина Татьян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читель физики: Сергеева Е.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лининград 2010 го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5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5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5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5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5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Что такое конденсатор?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онденсатор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от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лат.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 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ondens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 — «уплотнять», «сгущать») —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двухполюсни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с определённым значением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ёмкости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и малой омической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проводимостью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; устройство для накопления энергии электрического поля. Конденсатор является пассивным электронным компонентом. Обычно состоит из двух электродов в форме пластин (называемых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обкладками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, разделённых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диэлектриком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, толщина которого мала по сравнению с размерами обкладо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История создания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1745 году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в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Лейдене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немецкий физик Эвальд Юрген фон Клейст и голландский физик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Питер ван Мушенбру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создали первый конденсатор — «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лейденскую банку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Свойства конденсатор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онденсатор в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цепи постоянного то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может проводить ток в момент включения его в цепь (происходит заряд или перезаряд конденсатора), по окончании переходного процесса ток через конденсатор не течёт, так как его обкладки разделены диэлектриком. В цепи же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переменного то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он проводит колебания переменного тока посредством циклической перезарядки конденсатора, замыкаясь так называемым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током смещени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терминах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метода комплексных амплитуд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конденсатор обладает комплексным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импеданс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3927600" y="319932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~\hat Z_C = \frac{1}{i \omega C}~"/>
          <p:cNvPicPr/>
          <p:nvPr/>
        </p:nvPicPr>
        <p:blipFill>
          <a:blip r:embed="rId6"/>
          <a:stretch/>
        </p:blipFill>
        <p:spPr>
          <a:xfrm>
            <a:off x="3132000" y="5734080"/>
            <a:ext cx="2087640" cy="86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Резонансная частот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конденсатора ра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                         конденсатор в цепи переменного тока ведёт себя как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катушка инду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Следовательно, конденсатор целесообразно использовать лишь на частотах  , на которых его сопротивление носит ёмкостный характер. Обычно максимальная рабочая частота конденсатора примерно в 2—3 раза ниже резонансн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денсатор может накапливать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электрическую энергию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Энергия заряженного конденсатор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д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 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напряжени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(разность потенциалов), до которого заряжен конденсато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" descr="~\omega"/>
          <p:cNvPicPr/>
          <p:nvPr/>
        </p:nvPicPr>
        <p:blipFill>
          <a:blip r:embed="rId5"/>
          <a:stretch/>
        </p:blipFill>
        <p:spPr>
          <a:xfrm>
            <a:off x="155520" y="46080"/>
            <a:ext cx="114480" cy="856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~f_p = \frac {1}{2 \pi \sqrt {L_c C} }"/>
          <p:cNvPicPr/>
          <p:nvPr/>
        </p:nvPicPr>
        <p:blipFill>
          <a:blip r:embed="rId6"/>
          <a:stretch/>
        </p:blipFill>
        <p:spPr>
          <a:xfrm>
            <a:off x="6659640" y="1484280"/>
            <a:ext cx="2089080" cy="7923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 E = {C U^2 \over 2} "/>
          <p:cNvPicPr/>
          <p:nvPr/>
        </p:nvPicPr>
        <p:blipFill>
          <a:blip r:embed="rId7"/>
          <a:stretch/>
        </p:blipFill>
        <p:spPr>
          <a:xfrm>
            <a:off x="7308720" y="4005360"/>
            <a:ext cx="1511280" cy="7696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~f &gt; f_p"/>
          <p:cNvPicPr/>
          <p:nvPr/>
        </p:nvPicPr>
        <p:blipFill>
          <a:blip r:embed="rId8"/>
          <a:stretch/>
        </p:blipFill>
        <p:spPr>
          <a:xfrm>
            <a:off x="1619280" y="2133720"/>
            <a:ext cx="93672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Классификация конденсаторов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Основная классификация конденсаторов проводится по типу диэлектрика в конденсаторе. Тип диэлектрика определяет основные электрические параметры конденсаторов: сопротивление изоляции, стабильность ёмкости, величину потерь и др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По виду диэлектрика различают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Конденсаторы вакуумные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(обкладки без диэлектрика находятся в вакууме)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Конденсаторы с газообразным диэлектриком.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Конденсаторы с жидким диэлектриком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Конденсаторы с твёрдым неорганическим диэлектриком: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стеклянные (стеклоэмалевые, стеклокерамические, стеклоплёночные), слюдяные, керамические, тонкослойные из неорганических плёнок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Конденсаторы с твёрдым органическим диэлектриком: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бумажные, металлобумажные, плёночные, комбинированные — бумажноплёночные, тонкослойные из органических синтетических плёнок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Электролитические и оксидно-полупроводниковые конденсаторы.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Такие конденсаторы отличаются от всех прочих типов прежде всего своей огромной удельной ёмкостью! В качестве диэлектрика используется оксидный слой на металле, являющийся анодом. Вторая обкладка (катод) — это или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электролит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 (в электролитических конденсаторах) или слой полупроводника (в оксидно-полупроводниковых), нанесенный непосредственно на оксидный слой. Анод изготовляется, в зависимости от типа конденсатора, из алюминиевой, ниобиевой или танталовой фольг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роме того, конденсаторы различаются по возможности изменения своей ёмкости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Постоянные конденсаторы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— основной класс конденсаторов, не меняющие своей ёмкости (кроме как в течение срока службы)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Переменные конденсаторы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— конденсаторы, которые допускают изменение ёмкости в процессе функционирования аппаратуры. Управление ёмкостью может осуществляться механически, электрическим напряжением (вариконды) и температурой (термо­конденсаторы). Применяются, например, в радиоприемниках для перестройки частоты резонансного контура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Подстроечные конденсаторы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— конденсаторы, ёмкость которых изменяется при разовой или периодической регулировке и не изменяется в процессе функционирования аппаратуры. Их используют для подстройки и выравнивания начальных ёмкостей сопрягаемых контуров, для периодической подстройки и регулировки цепей схем, где требуется незначительное изменение ёмкост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зависимости от назначения можно условно разделить конденсаторы на конденсаторы общего и специального назначения. Конденсаторы общего назначения используются практически в большинстве видов и классов аппаратуры. Традиционно к ним относят наиболее распространенные низковольтные конденсаторы, к которым не предъявляются особые требования. Все остальные конденсаторы являются специальными. К ним относятся высоковольтные, импульсные, помехоподавляюшие, дозиметрические, пусковые и другие конденсатор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Обозначение на схемах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России условные графические обозначения конденсаторов на схемах должны соответствовать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ГОСТ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2.728-74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2" action="ppaction://hlinksldjump"/>
              </a:rPr>
              <a:t>[2]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либо международному стандарту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IEEE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315—1975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бознач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 ГОСТ 2.728-74Описание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нденсатор постоянной ёмкости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ляризованный конденсатор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дстроечный конденсатор переменной ёмкостиНа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электрических принципиальных схемах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номинальная ёмкость конденсаторов обычно указывается в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микрофарадах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(1 мкФ = 106 пФ) и пикофарадах, но нередко и в нанофарадах. При ёмкости не более 0,01 мкФ, ёмкость конденсатора указывают в пикофарадах, при этом допустимо не указывать единицу измерения, то есть постфикс «пФ» опускают. При обозначении номинала ёмкости в других единицах указывают единицу измерения (пикоФарад). Для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электролитических конденсаторов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а также для высоковольтных конденсаторов на схемах, после обозначения номинала ёмкости, указывают их максимальное рабочее напряжение в вольтах (В) или киловольтах (кВ). Например так: «10 мк x 10 В». Для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10" action="ppaction://hlinksldjump"/>
              </a:rPr>
              <a:t>переменных конденсаторов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указывают диапазон изменения ёмкости, например так: «10 — 180». В настоящее время изготавливаются конденсаторы с номинальными ёмкостями из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десятичнологарифмических рядов значений Е3, Е6, Е12, Е24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то есть на одну декаду приходится 3, 6, 12, 24 значения, так, чтобы значения с соответствующим допуском (разбросом) перекрывали всю декаду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Основные параметры.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Ёмкос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68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68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68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68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2:28:03Z</dcterms:created>
  <dc:creator>1</dc:creator>
  <dc:description/>
  <dc:language>en-US</dc:language>
  <cp:lastModifiedBy>1</cp:lastModifiedBy>
  <dcterms:modified xsi:type="dcterms:W3CDTF">2010-03-18T12:58:53Z</dcterms:modified>
  <cp:revision>3</cp:revision>
  <dc:subject/>
  <dc:title>Электрический конденсатор.</dc:title>
</cp:coreProperties>
</file>