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211-EEF7-40BE-A33F-D70FA725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5D7-A570-4876-93CF-2858D2FC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8EE-D77A-4584-BBD2-2F4ABA0F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EC7-65D2-40E7-86E5-DB38E810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F244-05D3-4BB8-AB9B-F0AA0CB0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599-70C4-4E16-BF9E-C23377C9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EABF-4B7D-41EF-B6CA-2CE5AF14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6F45-746B-4982-931B-131CC7C5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2E65-119A-4AC8-A140-80605E28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8ADA-8BF2-477B-A357-44650001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FFA3-B224-45DC-A750-090ED7AC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DE9-4B76-47DA-84BF-BE330293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526A-08F7-4737-BBE3-D5A26D6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35D8-70BE-4561-A761-4DC68F5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6C8F-00EA-4136-AC15-A4F60326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7490-145F-4037-997E-BEEF6162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CFD8-8421-4645-8FE3-2E7D5364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2AE-02A8-4290-808E-C1DD36AA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D03-CB08-470C-A604-9646543C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429-1D9A-4924-8F8D-82315420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76A-EFAF-4D92-9DB7-4817465C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878-6B9A-4815-8A9C-192C5C55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1DF-F68B-4986-B018-62E49AE2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92B-62C6-4528-B023-B090329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0F5D-8642-4C62-8577-C397B6E85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E594-8FD1-4FD3-91F3-9F787548205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Эмоциональное развитие детей</a:t>
            </a: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Рисунок 3" descr="bad-mood.jpg"/>
          <p:cNvPicPr/>
          <p:nvPr/>
        </p:nvPicPr>
        <p:blipFill>
          <a:blip r:embed="rId1"/>
          <a:stretch/>
        </p:blipFill>
        <p:spPr>
          <a:xfrm>
            <a:off x="1676520" y="4038480"/>
            <a:ext cx="388620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447560" y="2209680"/>
            <a:ext cx="7491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увства дошкольника непроизвольны. Они быстро вспыхивают, ярко выражаются и быстро гаснут. Бурное веселье нередко сменяется слезам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2295360" cy="1944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1905120" y="228600"/>
            <a:ext cx="2133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18960" y="914040"/>
            <a:ext cx="74912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строение ребенка во многом зависит от взаимоотношений с взрослыми и сверстникам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4419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95280" y="457200"/>
            <a:ext cx="7491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сли взрослые внимательны к ребенку, уважают его как личность, то он испытывает эмоциональное благополучие. Проявляются и закрепляются положительные качества ребенка, доброжелательное отношение к другим людям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сли взрослые приносят ребенку огорчения, то он остро переживает чувство неудовлетворения, перенося, в свою очередь, на окружающих его людей, свои игрушки негативное отношени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609480"/>
            <a:ext cx="74916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азвитие эмоций, чувств ребенка связано с определенными социальными ситуациями. Нарушение привычной ситуации (изменение режима, уклада жизни ребенка) может привести к появлению аффективных реакций, а также страха. Неудовлетворение (подавление) новых потребностей у ребенка в кризисный период может вызвать состояние фрустрации. Фрустрация проявляется как агрессия (гнев, ярость, стремление напасть на противника) или депрессия (пассивное состояние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огда ребенок начинает рисовать себя в трудных ситуациях или просто рисует страшные сны, это сигнал о неблагополучном эмоциональном состоя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Развитие эмоций и чувств у дошкольников зависит от ряда услов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моции и чувства формируются в процессе общения ребенка со сверстник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и специально организованной деятельности (например, музыкальные занятия) дети учатся испытывать определенные чувства, связанные с восприятием (например, музык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моции и чувства очень интенсивно развиваются в соответствующем возрасту дошкольников виде деятельности - в игре, насыщенной переживания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процессе выполнения совместных трудовых дел (уборка комнаты) развивается эмоциональное единство семь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Характеристики эмоциональной сферы в дошкольном возраст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6964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Эмоциональные процессы более управляем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Развивается эмоциональное предвосхищение (будущий результат, его оценка взрослым) 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роисходит переход от желаний, направленных на предмет, к желаниям, связанным с представлениях о предмете, его свойствах и получением конечного результа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амооценка несколько завышена, что помогает осваивать новые виды деятельности без сомнения и страха, но к моменту обучения в школе уровень самооценки снижается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оявляется способность оценивать свое поведени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Задачи развития эмоциональной сферы дошкольни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Научить детей понимать эмоциональные состояния свои и окружающих их людей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Дать представления о способах выражения собственных эмоций (мимика, жесты, поза, слово) ;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Совершенствовать способность управлять своими чувствами и эмоциями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МЕТОДИЧЕСКИЕ СРЕДСТВА РАЗВИТИЯ ЭМОЦИОНАЛЬНОЙ СФЕРЫ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олевые игры (игры-драматизации) 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сихогимнастические иг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оммуникативные иг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ворческие игры и упражн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пражнения на выражение эмоций и эмоциональный контакт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лаксац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•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Элементы психологического тренинг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ледует постоянно обращать особое внимание на состояние детей, их настроение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5"/>
          <p:cNvSpPr txBox="1"/>
          <p:nvPr/>
        </p:nvSpPr>
        <p:spPr>
          <a:xfrm rot="20178000">
            <a:off x="3166920" y="3852360"/>
            <a:ext cx="5632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80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80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23880" y="5331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Эмоции являются первым проявлением психики в онтогенезе, основой психосоматического здоровья, фундаментом мотивации и творческой активности. С помощью эмоций и чувств ребенок сигнализирует взрослым о своем самочувствии, желаниях, нуждах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5334120" y="4262400"/>
            <a:ext cx="3151080" cy="21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18960" y="914400"/>
            <a:ext cx="7491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Развитию эмоциональной сферы ребенка не всегда уделяется достаточное внимание в отличие от его интеллектуального развития, хотя эмоции воздействуют на все компоненты познания: на ощущения, восприятие, воображение, память и мышлени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Замыкаясь на телевизорах, компьютерах, дети стали меньше общаться со взрослыми, а ведь общение в значительной степени обогащает чувственную сферу. Современные дети стали менее отзывчивыми к чувствам други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7491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овременные дети стали все чаще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испытывать так называемую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эмоциональную усталость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7920" y="533160"/>
            <a:ext cx="7315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К классу эмоций относятся настроения, чувства, аффекты, страсти и стресс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41972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1599840"/>
            <a:ext cx="7491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ведение ребенка, развитие его эмоциональной сферы является важным показателем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сихического состояния, благополучия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, возможных перспектив развития, а так же его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доровь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391520" y="4495680"/>
            <a:ext cx="1550880" cy="2114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266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95280" y="2895480"/>
            <a:ext cx="7491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шибки семейного воспитания, эмоциональные перегрузки с раннего возраста блокируют у ребенка эмоциональное самовыражение, что приводит к возникновению неврозов, фобий, дезадаптивных форм повед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86080" cy="21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31240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00120" y="3124080"/>
            <a:ext cx="7491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Эмоции выполняют регулирующую и охранную функции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1338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500120" y="1523880"/>
            <a:ext cx="74916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Эмоции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являются источником радости и сострадания, а жизнь без эмоций, как положительных, так и отрицательных, пресна и бесцветн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410080" y="3962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7:57:51Z</dcterms:created>
  <dc:creator>DEPO</dc:creator>
  <dc:description/>
  <dc:language>en-US</dc:language>
  <cp:lastModifiedBy>SvetlanaR</cp:lastModifiedBy>
  <dcterms:modified xsi:type="dcterms:W3CDTF">2015-08-31T17:58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70000000000010243100207f6000400038000</vt:lpwstr>
  </property>
  <property fmtid="{D5CDD505-2E9C-101B-9397-08002B2CF9AE}" pid="3" name="Version">
    <vt:r8>1</vt:r8>
  </property>
</Properties>
</file>