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F9D-A375-4DA3-B065-A4ECDCD9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D4E-25AD-45DD-AE63-2BEB71BE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098-BA74-4BD2-91F6-3951651D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B07-FB79-4270-AA51-BF3A5A58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0EC2-4CEF-467E-A5E1-4F018898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7346-49C5-4A01-B3BE-CAC9809B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112F-F3F7-4597-BFC5-2C1D8565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63F0-D0CD-4F29-9FA8-B2A01BFC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4A44-C59A-4AC4-AD5D-12790B36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6E12-0C31-4609-B95F-F54E2D8F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B36D-A0D4-4B75-9217-1E58A078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D78-51AC-4F39-9AF1-11D7FAC6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CE2A-93AC-417D-901F-6413494A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99CB-3A73-4182-BD3A-F03AF0DC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8E7A-137B-4672-B4A3-8A699717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B1A7-C220-4A03-815F-830E8593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CBDB-71EC-4C9E-B241-572639F7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316-DDDC-4062-825B-104AFE1A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240-1577-45A1-AA4C-94D1A7CA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50B-EFAC-4E13-B17D-769B8B24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045-050E-493A-AC67-D597738C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F11-785C-4B75-88C7-F97A37E7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C657-8EF9-423D-9768-09BB624F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214-0E64-493C-84CF-22DE2F09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B938-4915-4F5B-8A6C-F68C6E7A1B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83D8-F33C-445B-9E1E-877EC7EA68D9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Эмоциональное развитие детей</a:t>
            </a: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Рисунок 3" descr="bad-mood.jpg"/>
          <p:cNvPicPr/>
          <p:nvPr/>
        </p:nvPicPr>
        <p:blipFill>
          <a:blip r:embed="rId1"/>
          <a:stretch/>
        </p:blipFill>
        <p:spPr>
          <a:xfrm>
            <a:off x="1676520" y="4038480"/>
            <a:ext cx="388620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447560" y="2209680"/>
            <a:ext cx="74912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увства дошкольника непроизвольны. Они быстро вспыхивают, ярко выражаются и быстро гаснут. Бурное веселье нередко сменяется слезам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2295360" cy="1944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1905120" y="228600"/>
            <a:ext cx="2133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218960" y="914040"/>
            <a:ext cx="74912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астроение ребенка во многом зависит от взаимоотношений с взрослыми и сверстниками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2819520" y="3276720"/>
            <a:ext cx="4419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95280" y="457200"/>
            <a:ext cx="7491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Если взрослые внимательны к ребенку, уважают его как личность, то он испытывает эмоциональное благополучие. Проявляются и закрепляются положительные качества ребенка, доброжелательное отношение к другим людям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Если взрослые приносят ребенку огорчения, то он остро переживает чувство неудовлетворения, перенося, в свою очередь, на окружающих его людей, свои игрушки негативное отношени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95280" y="609480"/>
            <a:ext cx="74916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Развитие эмоций, чувств ребенка связано с определенными социальными ситуациями. Нарушение привычной ситуации (изменение режима, уклада жизни ребенка) может привести к появлению аффективных реакций, а также страха. Неудовлетворение (подавление) новых потребностей у ребенка в кризисный период может вызвать состояние фрустрации. Фрустрация проявляется как агрессия (гнев, ярость, стремление напасть на противника) или депрессия (пассивное состояние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огда ребенок начинает рисовать себя в трудных ситуациях или просто рисует страшные сны, это сигнал о неблагополучном эмоциональном состояни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Развитие эмоций и чувств у дошкольников зависит от ряда услов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Эмоции и чувства формируются в процессе общения ребенка со сверстникам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ри специально организованной деятельности (например, музыкальные занятия) дети учатся испытывать определенные чувства, связанные с восприятием (например, музыки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Эмоции и чувства очень интенсивно развиваются в соответствующем возрасту дошкольников виде деятельности - в игре, насыщенной переживаниям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 процессе выполнения совместных трудовых дел (уборка комнаты) развивается эмоциональное единство семь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Характеристики эмоциональной сферы в дошкольном возраст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6964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Эмоциональные процессы более управляемы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Развивается эмоциональное предвосхищение (будущий результат, его оценка взрослым) 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Происходит переход от желаний, направленных на предмет, к желаниям, связанным с представлениях о предмете, его свойствах и получением конечного результат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Самооценка несколько завышена, что помогает осваивать новые виды деятельности без сомнения и страха, но к моменту обучения в школе уровень самооценки снижается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Появляется способность оценивать свое поведение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Задачи развития эмоциональной сферы дошкольни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Научить детей понимать эмоциональные состояния свои и окружающих их людей;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Дать представления о способах выражения собственных эмоций (мимика, жесты, поза, слово) ;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Совершенствовать способность управлять своими чувствами и эмоциями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МЕТОДИЧЕСКИЕ СРЕДСТВА РАЗВИТИЯ ЭМОЦИОНАЛЬНОЙ СФЕРЫ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олевые игры (игры-драматизации) 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сихогимнастические игр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Коммуникативные игр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Творческие игры и упражн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пражнения на выражение эмоций и эмоциональный контакт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лаксац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Элементы психологического тренинг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ледует постоянно обращать особое внимание на состояние детей, их настроение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35049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00" name="WordArt 5"/>
          <p:cNvSpPr txBox="1"/>
          <p:nvPr/>
        </p:nvSpPr>
        <p:spPr>
          <a:xfrm rot="20178000">
            <a:off x="3166920" y="3852360"/>
            <a:ext cx="5632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80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80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23880" y="5331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Эмоции являются первым проявлением психики в онтогенезе, основой психосоматического здоровья, фундаментом мотивации и творческой активности. С помощью эмоций и чувств ребенок сигнализирует взрослым о своем самочувствии, желаниях, нуждах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5" name="Рисунок 3" descr=""/>
          <p:cNvPicPr/>
          <p:nvPr/>
        </p:nvPicPr>
        <p:blipFill>
          <a:blip r:embed="rId1"/>
          <a:stretch/>
        </p:blipFill>
        <p:spPr>
          <a:xfrm>
            <a:off x="5334120" y="4262400"/>
            <a:ext cx="3151080" cy="21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218960" y="914400"/>
            <a:ext cx="74912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Развитию эмоциональной сферы ребенка не всегда уделяется достаточное внимание в отличие от его интеллектуального развития, хотя эмоции воздействуют на все компоненты познания: на ощущения, восприятие, воображение, память и мышление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Замыкаясь на телевизорах, компьютерах, дети стали меньше общаться со взрослыми, а ведь общение в значительной степени обогащает чувственную сферу. Современные дети стали менее отзывчивыми к чувствам других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7491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овременные дети стали все чаще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испытывать так называемую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эмоциональную усталость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4343400" y="34290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47920" y="533160"/>
            <a:ext cx="73152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К классу эмоций относятся настроения, чувства, аффекты, страсти и стресс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1" name="Рисунок 3" descr=""/>
          <p:cNvPicPr/>
          <p:nvPr/>
        </p:nvPicPr>
        <p:blipFill>
          <a:blip r:embed="rId1"/>
          <a:stretch/>
        </p:blipFill>
        <p:spPr>
          <a:xfrm>
            <a:off x="4343400" y="304920"/>
            <a:ext cx="441972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5280" y="1599840"/>
            <a:ext cx="7491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ведение ребенка, развитие его эмоциональной сферы является важным показателем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сихического состояния, благополучия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, возможных перспектив развития, а так же его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здоровь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391520" y="4495680"/>
            <a:ext cx="1550880" cy="2114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1523880" y="228600"/>
            <a:ext cx="2667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95280" y="2895480"/>
            <a:ext cx="7491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шибки семейного воспитания, эмоциональные перегрузки с раннего возраста блокируют у ребенка эмоциональное самовыражение, что приводит к возникновению неврозов, фобий, дезадаптивных форм поведени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286080" cy="2190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1600200" y="152280"/>
            <a:ext cx="31240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500120" y="3124080"/>
            <a:ext cx="7491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Эмоции выполняют регулирующую и охранную функции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1338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500120" y="1523880"/>
            <a:ext cx="74916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Эмоции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являются источником радости и сострадания, а жизнь без эмоций, как положительных, так и отрицательных, пресна и бесцветн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410080" y="39625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07:57:51Z</dcterms:created>
  <dc:creator>DEPO</dc:creator>
  <dc:description/>
  <dc:language>en-US</dc:language>
  <cp:lastModifiedBy>SvetlanaR</cp:lastModifiedBy>
  <dcterms:modified xsi:type="dcterms:W3CDTF">2015-08-31T17:58:3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70000000000010243100207f6000400038000</vt:lpwstr>
  </property>
  <property fmtid="{D5CDD505-2E9C-101B-9397-08002B2CF9AE}" pid="3" name="Version">
    <vt:r8>1</vt:r8>
  </property>
</Properties>
</file>