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BFD4-DAD0-4E20-939E-AF1B310312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13C1-9B60-460D-B4D4-E0F783A242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шла  ЕЕ3  урок 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FEB-12C8-41AE-A96D-083113F2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A89-B959-41BA-B0F6-622214E6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CC2CF-4E0F-412A-B0E8-AD2EC1AA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285C5-983B-4B3C-83EE-808B16D5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FD510-6FAC-452F-A6F9-F3704EE5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3C663-6B0C-472B-9AFA-70B9A83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91AAA-7BF2-4636-AB81-FC42B169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7C42C-57F0-4752-BB79-D867DE1C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DD2B5-D03E-43EC-977D-E19E4894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184BD-B45D-499A-9EB8-185BF050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C5209-9E14-44FD-86CA-D18132EB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3A562-8722-4DFB-ABFB-A9315A2D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7D2-1A32-47A3-AA47-23DCA6ED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C5272-C076-4647-95B7-05FA1C7F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54829-BA08-4F44-9704-C5844DA3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FF79A-555E-4380-AE92-772CB43B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437D3-7977-42A2-B108-7CD6AD66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E796D-D71E-428E-8E54-8184B813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CEAD9-F7A0-44E8-A17A-F207FFB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A8945-3B0B-4861-A2CA-26933EE4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525B5-4BD1-421A-B337-A5C03D9A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1B0D3-4C1F-4130-ADA3-FD0BDCC7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461CB-A30A-4003-80C6-82A2C580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7C3-8A1E-4D8D-AE0D-1972283B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14AEC-58DC-4483-B0D7-50EFA268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5845-EC04-4906-A50B-89AF9A1C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F006-0037-4999-97A6-87A7CD11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D6FF-2E5E-4D95-B587-9B1682CF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78AC-0E44-4FBF-B73C-2261876F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4295-BE32-4C88-87C2-E1719234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6766-0697-48DF-A45A-1EDDB110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7A02-B8CE-41E4-9097-8B12A437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EA9-C8FF-435C-B868-5F245466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11A3-2C3A-4A0F-AD2C-76065F2A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BC20-A428-4D5C-860C-F17B5F64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D431-8674-4468-83CB-16149C20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F6C0-ACD3-458E-83D7-C9E9A20C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AB7B-4001-4CFC-9044-7A1C2795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2C35-FF69-4BC3-A43E-E4ABDEEE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B886-FB47-4818-8314-13C61FF6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C469-4071-47AE-AF2A-AE4F813C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BC4F-56B3-4E3C-B00A-1FD75DE9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B354-CADB-46EB-BEA9-3DAA1C45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D13-F95D-46FC-9910-3EE0C550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3A5A-A3E4-48D9-80B3-04A93EB9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E7F0-1EF1-4F9A-94ED-D8B6D153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8FB0-B466-429B-8988-BDAB907E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ED13-A48C-4E17-BC22-C3FEFBA1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6221-672B-43B4-BB2A-F659D5A8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D442-EF25-4BBE-9A11-77D592FB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E121-711E-4256-8B9C-E7968280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8B9A1-BF36-40AC-81B9-FA8B0CCB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94384-9163-48EC-B858-C130F3D1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C193A-ED23-414D-B0B8-F20129F2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3EE-2A09-426E-A66D-08835EEE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97A3B-AB2F-4BBC-B18C-E812F7D1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BB3C4-21D2-4402-904B-7DC279A8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F5672-CFEE-4290-96D1-5226704F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C7A8-F82D-430A-ADB9-21C40D8A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834B-2432-447C-A37F-8AD8F40F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8E8A9-6BDF-4EF6-8132-1514B621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F4C06-D84E-4848-B748-0188F9CC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30E0F-2F3B-4428-8436-C62C5294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4B60-9333-4319-A78D-33766B6E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47A59-EFA7-4364-90F8-4781F9FD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C48-C1BA-433F-960E-69C7B4DA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E08F7-FAEC-4BE4-B772-0FAC523A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A6151-87EE-44AB-94E0-B6042C14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7C1D-FA31-4A2E-AA8C-335836F2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ABCD6-AB2A-43D3-8D3C-9DA90B9C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F15E8-9FF6-4D18-AB54-836C9195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EF9A-868E-424C-AB0D-99DFFED7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FB257-0C4E-48D1-9140-2AFD28C6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93EE3-80DA-4BBA-863F-1D50ECD1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0BF6-06A5-451C-BAE9-0FA1A73C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5699E-DF44-4CD3-8120-BC9593B6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BE8-B88F-407A-9907-47ADCD60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AB8F3-13FE-4AF9-90E4-7B846416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8738C-8690-4C15-A8D1-84F7EDE7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7F1D2-D680-4868-BD5A-0A7E0676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E27B3-725D-403C-8484-483F821F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737EE-933D-4EFE-AFBB-CA8444FD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75896-17D4-40E3-823C-6095FC16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93405-2C2A-4970-B1B8-5EB10AF3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389B1-1C96-40EE-9655-C49EF448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88E9A-CE2B-455E-8D77-533184B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F55DD-C99D-48E6-BC52-32360600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D93-F2C3-4C3F-9F79-BC1B880A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D431B-71D2-447B-9E1A-E90F71B2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D9B5E-53E8-46B7-BD78-D5250A08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7CFA7-AD3C-4386-ACAB-11A0159A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9A620-7035-4E59-AA6F-FC440A16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4B1CA-7E42-49EA-87D0-2EBD3093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79C96-635B-4981-9254-DDB6B02D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69FB2-838B-4054-99A4-B49DFE2D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CFFCB-7DB8-4C24-BAC9-A963CA94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7C5E9-1C6E-4787-BB9F-73DE8295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0DCFD-01CC-4C2E-AE72-A10DA6AE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74D-7540-43ED-9E2A-770B4B5F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A5EBF-DBC7-4F93-8ABD-3C3728B2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3F3C0-1F08-4F3D-8AE8-0CA3C00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379B3-E903-40F0-B687-89C0D853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12A6B-C26C-4F73-A898-B3EE97CD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8AC73-449C-4015-92B3-2F92E08C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3FFF1-AE1F-4AC1-A997-F51D6CD4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3A9D5-5125-4DBD-9178-6F4EBBEC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343A8-14B7-45A8-A6CE-20F5B59B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7989B-0C64-445D-A77C-8D5C12D9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BD67C-1B9B-4194-B64D-31240162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E3C-2044-4048-8342-D67146F2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25598-D98B-417E-89FB-C5FF64B3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DC9BD-8D16-40B3-8EC7-B1EB23D4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BFBC1-DDF4-46AD-BB67-3E28F3D5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F95B8-D96E-47D6-B26E-32C080B5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314FB-61B4-4DA5-8C65-DDA9D905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28C4A-0173-4208-915D-26FFFDE6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99C57-9383-4BDF-803D-2ECA4F5D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C1AF7-0C18-46A3-AF2D-F023E4A9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3203E-DB93-45D8-9B6D-1FF22AB1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8051F-723C-4923-B0F2-3D70BF7A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8FCD-43A0-411F-BEB5-D962945C5D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3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3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679acd"/>
                </a:gs>
                <a:gs pos="50000">
                  <a:srgbClr val="ccecff"/>
                </a:gs>
                <a:gs pos="100000">
                  <a:srgbClr val="679a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679acd"/>
                </a:gs>
                <a:gs pos="100000">
                  <a:srgbClr val="3e3e5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79a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4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EAE9-00B2-4CDB-91D8-6AEF22C5A29E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0bcb6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C64E-E6D0-48F0-8DEC-7C390B853E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ccff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9669-4C39-42E5-B1D4-A06AD89476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46E3-E3CB-4018-98AF-43E3161FD2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38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e3e5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e3e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41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FA61-4D92-48E5-9A68-F61340658123}" type="slidenum">
              <a:rPr b="0" lang="ru-RU" sz="10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4A58-8700-458E-8828-8BB825EE19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33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0bcb6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3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8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9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6CEE-9D44-4E92-9629-4999FD8AB1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ccff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3B4A-FB49-4467-B1B4-6963388761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8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ccff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4E44-AA36-49CD-9DA9-15AD11F262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ременный урок  английского языка на разных этапах обуч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, содержание, технолог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 развития речевых ум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удиров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440" y="1980720"/>
            <a:ext cx="3808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прослуш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684360" y="3048120"/>
            <a:ext cx="365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250920" y="5257800"/>
            <a:ext cx="371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рослуш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4952880" y="1752480"/>
            <a:ext cx="37339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ружение в контек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ятие языковых труд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дирование с пониманием основного содержания, нужной информа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лным пониманием</a:t>
            </a:r>
            <a:r>
              <a:rPr b="0" i="1" lang="ru-RU" sz="2400" spc="-1" strike="noStrike">
                <a:solidFill>
                  <a:srgbClr val="00a8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других видов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468360" y="30178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я прослуш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1371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формирования языковых навык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матических// лексиче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ъя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ров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ичное 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мбинированный Ур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066680" y="243828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1066680" y="289548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1066680" y="335268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3733920" y="411480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3733920" y="33526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3733920" y="35812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3733920" y="3733920"/>
            <a:ext cx="259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0"/>
          <p:cNvSpPr/>
          <p:nvPr/>
        </p:nvSpPr>
        <p:spPr>
          <a:xfrm>
            <a:off x="6324480" y="38098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1"/>
          <p:cNvSpPr/>
          <p:nvPr/>
        </p:nvSpPr>
        <p:spPr>
          <a:xfrm>
            <a:off x="6324480" y="42670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6324480" y="4648320"/>
            <a:ext cx="259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3"/>
          <p:cNvSpPr/>
          <p:nvPr/>
        </p:nvSpPr>
        <p:spPr>
          <a:xfrm>
            <a:off x="1828800" y="1676520"/>
            <a:ext cx="259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чало у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4"/>
          <p:cNvSpPr/>
          <p:nvPr/>
        </p:nvSpPr>
        <p:spPr>
          <a:xfrm>
            <a:off x="1908000" y="5300640"/>
            <a:ext cx="2590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лючительный этап у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5"/>
          <p:cNvSpPr/>
          <p:nvPr/>
        </p:nvSpPr>
        <p:spPr>
          <a:xfrm>
            <a:off x="1066680" y="335268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6"/>
          <p:cNvSpPr/>
          <p:nvPr/>
        </p:nvSpPr>
        <p:spPr>
          <a:xfrm>
            <a:off x="3733920" y="3352680"/>
            <a:ext cx="2590560" cy="1371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ение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о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6172200" y="3886200"/>
            <a:ext cx="2590920" cy="137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зыковые навы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екси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8"/>
          <p:cNvSpPr/>
          <p:nvPr/>
        </p:nvSpPr>
        <p:spPr>
          <a:xfrm>
            <a:off x="1143000" y="2514600"/>
            <a:ext cx="2590920" cy="1371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удирование и гово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ивные форм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экску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теле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сорев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праз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музыкальный 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типы урока иностранного язы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чевой ур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бучен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удированию, говорению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ению, письм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овой уро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работ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 фонетикой, орфографие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лиграфией, лексикой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мматико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мбинированный речев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четание работы над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чевыми умениями и языковыми навы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762120" y="5181480"/>
            <a:ext cx="784836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й удельный вес  вполне оправданно принадлежит  комбинированным речевым уро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ирование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440" y="2362320"/>
            <a:ext cx="3809880" cy="76176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чем? Для чег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47960" y="2362320"/>
            <a:ext cx="38098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цель об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"/>
          <p:cNvSpPr/>
          <p:nvPr/>
        </p:nvSpPr>
        <p:spPr>
          <a:xfrm>
            <a:off x="685800" y="3048120"/>
            <a:ext cx="3809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609480" y="4419720"/>
            <a:ext cx="3810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685800" y="3276720"/>
            <a:ext cx="3809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685800" y="1295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е понятия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609480" y="3429000"/>
            <a:ext cx="396252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? О чем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4648320" y="34290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держание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685800" y="4572000"/>
            <a:ext cx="3809880" cy="7621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? О чем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572000" y="457200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ы, техн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ланировании урока учитывается: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О.З.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Якушиной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муникатив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минант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ова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ина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идактическа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ина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ическа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ина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мин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ащ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урока учебными средств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этапы уро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ностранного язы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440" y="152352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оян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71640" y="15238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685800" y="2133720"/>
            <a:ext cx="373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чало урок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строй на работу, установка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вая/языковая част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к основа урока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ец урок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дведение итогов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572000" y="2133720"/>
            <a:ext cx="4114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ы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я, объяснения, закрепления и творческ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 изучаемого материа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ые педагогические технолог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уроке иностранного язы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ходим из новых условий жизни: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12952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онятия 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педагогическ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Жизнь как постоянное учение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1981080" y="2971800"/>
            <a:ext cx="678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меть учиться)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685800" y="3505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Жизнь рядом с другими людьми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057400" y="39625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взаимодействоват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685800" y="4419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Жить, чтобы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мосовершенствоваться: в профессии,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кружающей среде, в душе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2133720" y="5410080"/>
            <a:ext cx="6781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меть думать, размышлять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нципы построения урока иностранн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ивиду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евая направленность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ту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з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ая ситуация, новая задача, новый собеседник, новые формы об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еда, диспут, интервью, ролевая игра, драматизация, игра, защит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ая технологи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нимается  как способ  (совокупность приемов, метод-способ), позволяющий  стимулировать самостоятельную активную познавательную деятельность каждого ученика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2819160"/>
            <a:ext cx="7848720" cy="10666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яти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о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ов-подходов-направл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не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609480" y="4038480"/>
            <a:ext cx="8153640" cy="22100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-подх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, аудиовизуальный, интенсивный, сознательно-сопоставительный, коммуникативно-когнитивны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-способ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вокупность приемов, технолог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ейшие понятия, выдвинутые отечественными ученым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зона ближайшего развития» -  Л.С.  Выготск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развивающее обучение» Л.В. За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поэтапное формирование умственных действий» - П.Я. Гальпер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ые педагогические техно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именимые к личностно-  ориентированному обучению в условиях классно-урочной системы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ение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трудниче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ноуровневое обу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тфель учен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пытаемся сделать это экономно с точки зрения затрат уч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304920" y="4191120"/>
            <a:ext cx="8458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 перечисленных технология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лизуютс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и дифференцированный подход в обучению, создаются возможности для рефлекс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должна создать условия для формирования личности как за сч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я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 и за счет новых педагогически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й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ение в сотрудничеств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отличительные черты)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53316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имеет одно задание на вс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ы не соревнуются, а стараются подтянуть каждого на доступный ему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ы примерно равны по составу (девочки-мальчики, сильные-слаб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ый в группе несет персональную ответственность за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оценивается  на всех одинаково, каждый должен знать о том, что сделано группой в целом (спросить могут каждог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ивая работу в сотрудничестве учитель может говорить о том, как умеют слушать друг друга, как помогают друг другу, как подбадривают, как делятся информацие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ая схема анализа урока 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урока в цепочке уроков по данно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60948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атривается ли взаимосвязь с другими уроками в цепочк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о назначение урока (вводный, тренировочный, обобщающий, контрольный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685800" y="3581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609480" y="41911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уются ли они с задач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ыдущего/последующего уро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 стороны учебного процесса охвачены (обучение, воспитание, развит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мы  ли (недостаточны / избыточны ) задачи в рамках отведенного време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ние  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6840" y="8377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воляет ли содержание выполнить поставленные задачи  ( в первую очередь, формировать/развивать умения общаться на 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остью ли используется потенциал УМ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стно ли отобран  основной и дополнительный матер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ветствует ли материал возрасту, подготовке и интересам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914400" y="3581280"/>
            <a:ext cx="7696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  уро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457200" y="3962520"/>
            <a:ext cx="84582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ли содержание выполнить поставленные задачи  ( в первую очередь, формировать/развивать умения общаться на 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стью ли используется потенциал УМ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но ли отобран  основной и дополнительный 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ли материал возрасту, подготовке и интересам учащих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нение урока, организация  учебной деятельности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52280" y="11430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чно ли используются: разные педагогические  технологии/при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жимы взаимодействия учащихся между собой, смена   деятельности учащихся на уроке и д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балансирована ли  работа над речевыми  умениями, языковыми навы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ются ли условия для самостоятельной и творческой работы учащихся, формирования крит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ются ли индивидуальные особенности и уровень языковой   подготовки    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ивно ли оценивается деятельность учащихся, организуется   контроль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контроль/взаимоконтроль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ессионально ли поведение учителя (владение языком, четкая речь, умение общаться, тактичность, открытость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ивность, умение создавать мотивац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ощрять 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ладывается ли урок  в запланирова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исок качеств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ые важны для учителя иностранного язы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иваться, чтобы дети получали удовольствие от занятий иностранным  язы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ть терпимым и терпели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вать четкие инструкции по ходу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ть глубокие знания по предм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ть хорошим ак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ть ответы на любые вопросы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ть лид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ть хорошие манеры, приобретенные вами созн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увствовать себя ответственным за результат обучения и реализовывать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етко планировать учебн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ть желание постоянно уч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хорошо объяснять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ти четкий контроль сво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ть педагогическое чут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ть требовательным к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нумеруйте эти  качества  в порядке их важности (1- самое важно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371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к – главное звено педагогическ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о единство обучающей, развивающей, воспитывающей и контролирующей функций ур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6840" y="1752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тельная ценность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го содерж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учебные материалы, упраж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и потенциала каждого  учащегося с учетом его индивидуальных особен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ении взаимодействию с партне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нии дружелюбного отношения к представителям других стран в контексте межкультурного общения, расширении кругозора учащего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тивированности оценк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е учителя как человека делового, организованного, знающего, доброжела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ющая ценность у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и речевых/коммуникативных способностей учащегося, внимания, мышления, памяти, во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и критического мышления учащего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особенно на среднем и старшем этап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и мотивации к дальнейшему овладению иностранным язы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и умения самостоятельно добывать зна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равоч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ая ценность ур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09480" y="167616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  формировании   умения    общаться    на    ИЯ то есть формировании коммуникативной компетенции в единстве всех ее составляющих: речевой, языковой и социокульту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балансированном обучении всем коммуникативным умен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истематическом обучении всем  языковым навыкам (произносительным, лексическим и грамматически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60948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685800" y="4800600"/>
            <a:ext cx="7848720" cy="1447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 ценность урока проявляется в  разнице между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овым и достигнут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ями обученности школьников с учетом поставленной задач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ирующая функция у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ся посред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остижений учащихся в овладении иностранным языком (текущий,  промежуточный, итоговый контрол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ивно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ценки уровня обученности ИЯ (в частности, через шкалы оценивания достижений ученика по каждому их коммуникативных ум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зможности для взаимооцен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оценк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Yoursel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вень обученности определяется различными способам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 регулярного наблюдения учителем на уроке до целенаправленного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оценивания учителем д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анализа и самооценки (характерно для личностно-ориентированного обуч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Courier New"/>
              </a:rPr>
              <a:t>Основные тип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урока</a:t>
            </a:r>
            <a:r>
              <a:rPr b="1" lang="ru-RU" sz="32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иностранного язы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ипы урок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990720" y="1676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обучения речевым умени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4952880" y="16002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к обучения языковым навык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1371600" y="457200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уд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о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сь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5181480" y="4648320"/>
            <a:ext cx="3276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мма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кс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е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990720" y="2708280"/>
            <a:ext cx="36576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еспечить практику для развития коммуникативных ум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4876920" y="2637000"/>
            <a:ext cx="35049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еспечить практику в использовании языковых знаний в продуктивной 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4:07:11Z</dcterms:created>
  <dc:creator>Бабушис Лена</dc:creator>
  <dc:description/>
  <dc:language>en-US</dc:language>
  <cp:lastModifiedBy>Елена Юрьевна</cp:lastModifiedBy>
  <dcterms:modified xsi:type="dcterms:W3CDTF">2019-11-22T20:49:10Z</dcterms:modified>
  <cp:revision>12</cp:revision>
  <dc:subject/>
  <dc:title>Урок – главное звено педагогического процесса  Важно единство обучающей, развивающей, воспитывающей и контролирующей функций урока. </dc:title>
</cp:coreProperties>
</file>