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 type="sldNum" idx="3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4E27-3E06-48AA-A588-E16885077A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9A5F-38BA-4996-A8A7-ACF2E4525F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нашла  ЕЕ3  урок 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938A-605C-4E9B-9442-2762CD71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2CE-FA92-47E4-9D8C-4CE5A0F5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6D498-469B-4EC7-927A-F0061776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C75F8-53BE-4C35-9BCA-BF15BCDC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7474F-4BA6-430E-8F36-3BA26788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09E33-8119-4D01-B58B-2F71A82F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A1B00-FC8E-4854-AB83-DEA3A477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2FCD6-857A-4463-8077-52A06AFD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86D04-BE89-45F3-AD8C-F6A1F819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AAE17-72EE-4210-B3EA-9E81B34C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87F00-E08E-4627-A388-D532F452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D2E24-A2BC-4310-B60E-DAAB6327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224-AE97-4D3E-9638-97B8BEF0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44B3C-C1C6-4FE1-B22C-304D794E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2FCB8-DACD-465C-B739-9501D27D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7C084-1D36-47F7-AFF3-A37896C2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712B4-437A-4C1F-AFF0-B7085DA7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62B2F-A220-4901-954F-F31B6F0A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383DB-A59C-4B4F-BA40-1EEF3885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E81D6-8293-4497-B910-62BC2875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3029D-285E-4A17-9EAB-62871CF4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E217F-DEDB-4684-ADFA-70A24770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926C6-C7F5-4EA6-9EFD-3A1FDD9D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DD0-50EE-42D9-8885-10087A4E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4974B-BC5B-474C-8027-8FF4E120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6098-96DD-4B56-88B3-946CA9FF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1D36-7D58-4D59-9C77-E50AC193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226D-C171-496C-9DB4-8B1C9E91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F23A-3ADC-42B4-B343-45C82EDA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D992-B8D1-48F6-9142-345C0B81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A687-5C1B-4FC2-AA7E-10399880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CD6A-B68B-47D9-A240-62FDFBAA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99C5-4FB2-420C-B79A-CA1C3625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10AE-FBEE-4E37-9F62-03AC69D4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FC50-665F-4F4E-9EAE-5E133EE3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5564-8BE5-4D01-9B3A-E83BF6A9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E1CB-5388-4A35-B032-27E035BC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1BA7-3889-4A00-BC43-68DC26D6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127B6-8190-4556-A353-59745789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4B6EA-2568-4A1E-AF20-705428BF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993C9-02DC-4309-88C8-0F096211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A80EA-EC9C-4A3E-8A7A-AA8718F4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F787A-34D1-4A4F-AAC8-78C42A6F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9B2-73BD-45FD-97BA-72B56C08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82543-F20E-4810-A4C8-24BFDD2A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A8D6-64DD-4E9D-BB73-0408A17D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ED8E5-DD02-47DE-BA38-AD8CBB46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99143-F5BD-4F6B-A306-57B2A2ED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72268-8767-4698-B4AB-777E33EA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230F6-EF61-46C9-8789-3FD715E2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943F2-DE25-4D3C-95FD-F3C1870B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9F190-9C12-407B-854A-B1A395B0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01239-EE0D-4254-9C2D-62889A2B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4EA9F-4FD5-47E9-A242-604A1E7A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BCB9-0D9D-4674-B9B5-A12C2747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594A8-4AD6-4FCB-B4C7-90181CBC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B8942-376B-417C-9444-03D4A643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2AAC1-1810-470D-B474-F160CFD9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02093-3B24-420B-85D0-EE7A273B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B4D76-3245-4DE5-96FB-C709A048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C9F05-CCCD-4790-8F82-C1CFA86C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63B90-341B-4093-A12C-BEDA6C98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2A4CF-256B-41E4-BA06-D7F6A17A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99DCA-7D6F-4EAA-B853-11739377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EAE79-25B0-4EA0-96BB-8E4E9332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794-E5D1-4C30-BCD6-FA94B01F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A6C99-4F4B-4D2A-A0B0-90DA7F74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B01B2-C92D-4349-A17F-51F2AE71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59F7F-BF5A-4177-893D-E6C57923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E89A0-DF99-426C-8C81-B1982F4E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03985-0607-4D3A-AFC1-0875BFD5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15919-EC3B-419A-A469-4CA2C397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4C677-316D-4443-B09A-E79AFA9C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915E1-8134-451E-991B-C74D5C4B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0ADF1-4771-429C-8F3E-0BF257E3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F2825-F67E-44A3-8437-AC80EEE1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E05-85FE-4608-908D-B40789B2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57855-863C-4B45-AA60-D3BC289B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43E69-74DA-4C68-9361-8EA0FD23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E81F8-2901-4797-A14E-C5907728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40864-A33A-4314-82F5-92D787E0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60FEF-E770-46E2-8905-185E3B77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33684-661D-454B-A021-24001AC1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36979-8C51-40A4-8BEE-5AC865B8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0F1B0-8081-4B3B-A03F-BD51489F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B847F-B5C3-4834-B222-F8D5C509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58D0A-D568-4A58-A14B-84DF428B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C4AB-B851-49CB-AE12-E9A90B28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EDD15-44E1-4A97-8498-D06B7D23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6836F-C255-40DC-AF02-3C01788E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319C6-C605-4F85-BE77-A72FDB7B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ED0F3-5FD6-4F91-B74E-DA415C4D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9F70C-892D-49FD-AF78-006DFA96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43CFE-7A3F-4FD4-BE9C-D3B3B8C9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2822A-21A6-44D3-83D8-799C2697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89C3E-D8C4-441B-83D9-9A1D776A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C766D-5CF4-498A-ADAF-9DE4CD90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09D55-3CD6-40F6-A5A1-69095E16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00F-C4E9-4FFF-9ADB-33686DA0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D2AD0-4B5F-436B-B1F3-AA17874B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A6404-E480-47F1-8658-C0D16C77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B20DD-A082-4807-BCAE-4E56569B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DDCC2-9770-4B8C-8AD7-52CC13B4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1F3EF-68C8-46F0-8490-D6D0CA72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C7DD3-5089-4CEB-A298-230D85E7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31FAB-42F7-48A2-B17D-365682D5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1CFFF-6019-4FB9-9CAA-23DBA40D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87B6F-16F5-4494-824D-B2C8EB9D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1C8F0-DAFD-47F3-8B01-8A456D5A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72F-92CF-484E-81BF-4D41118E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A480C-AC88-4FE9-A5BE-2506AEDC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08ABA-AB0D-4CF0-B9B4-0ADB93AC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6F4DB-F482-4BA6-8003-A7610658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624D9-CEC4-49A7-AA80-B557759C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A56F1-B64F-457E-9109-F9917EC2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ACBB2-32EF-4528-AE29-E58373B9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000E3-5E5F-465B-A5B8-52C26AF7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3546F-1020-49D4-932C-ADC9F2A3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88CA2-E6AA-401C-95B4-5E2E3FB4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359E4-C62C-4601-8ADD-EDFC8760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BD0E-825E-4E40-B3D8-47317D9F9F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3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3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3e3e5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3e3e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679acd"/>
                </a:gs>
                <a:gs pos="50000">
                  <a:srgbClr val="ccecff"/>
                </a:gs>
                <a:gs pos="100000">
                  <a:srgbClr val="679ac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679acd"/>
                </a:gs>
                <a:gs pos="100000">
                  <a:srgbClr val="3e3e5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79a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43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3e3e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99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100000">
                    <a:srgbClr val="3e3e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679ac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50000">
                    <a:srgbClr val="ccecff"/>
                  </a:gs>
                  <a:gs pos="100000">
                    <a:srgbClr val="679ac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2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FFBA-DB44-492B-820A-4D4E685520A3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c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f0bcb6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f0bcb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f0bcb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bcb6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0bc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bcb6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0bc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D8C8-2F7A-4A0B-B642-BF3587F5B4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8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66ccff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fb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de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95F7-106A-47F8-ACB8-53EE60554FB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6271-65DB-4A63-8493-EAEE9E501E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38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e3e5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e3e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41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3e3e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99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100000">
                    <a:srgbClr val="3e3e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679ac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50000">
                    <a:srgbClr val="ccecff"/>
                  </a:gs>
                  <a:gs pos="100000">
                    <a:srgbClr val="679ac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679ac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100000">
                    <a:srgbClr val="3e3e5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50000">
                    <a:srgbClr val="ccecff"/>
                  </a:gs>
                  <a:gs pos="100000">
                    <a:srgbClr val="679ac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0433-4A0C-41E2-8629-6310BF277C81}" type="slidenum">
              <a:rPr b="0" lang="ru-RU" sz="10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CCE0-EB70-473E-9B07-03D5EE0051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c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33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f0bcb6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35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47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66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84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f0bcb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f0bcb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1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92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bcb6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0bc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bcb6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0bc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DDE0-E30D-4472-9C25-6E69A70EA6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38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66ccff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fb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de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075A-E816-4FC4-AB16-7949C7B0A9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87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66ccff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fb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de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1B88-F473-4292-BC48-33942DD094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ременный урок  английского языка на разных этапах обуче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и, содержание, технолог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рок развития речевых умен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удирова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440" y="1980720"/>
            <a:ext cx="3808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прослуш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684360" y="3048120"/>
            <a:ext cx="3659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250920" y="5257800"/>
            <a:ext cx="371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прослуши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4952880" y="1752480"/>
            <a:ext cx="37339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ружение в контек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ятие языковых трудн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удирование с пониманием основного содержания, нужной информа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олным пониманием</a:t>
            </a:r>
            <a:r>
              <a:rPr b="0" i="1" lang="ru-RU" sz="2400" spc="-1" strike="noStrike">
                <a:solidFill>
                  <a:srgbClr val="00a8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других видов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468360" y="30178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 время прослуши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1371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формирования языковых навыко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мматических// лексиче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ъя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ниров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ичное приме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мбинированный Ур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1066680" y="2438280"/>
            <a:ext cx="762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lis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1066680" y="2895480"/>
            <a:ext cx="762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1066680" y="3352680"/>
            <a:ext cx="762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lis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3733920" y="411480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3733920" y="335268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3733920" y="358128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3733920" y="3733920"/>
            <a:ext cx="2590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10"/>
          <p:cNvSpPr/>
          <p:nvPr/>
        </p:nvSpPr>
        <p:spPr>
          <a:xfrm>
            <a:off x="6324480" y="38098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1"/>
          <p:cNvSpPr/>
          <p:nvPr/>
        </p:nvSpPr>
        <p:spPr>
          <a:xfrm>
            <a:off x="6324480" y="42670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2"/>
          <p:cNvSpPr/>
          <p:nvPr/>
        </p:nvSpPr>
        <p:spPr>
          <a:xfrm>
            <a:off x="6324480" y="4648320"/>
            <a:ext cx="259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3"/>
          <p:cNvSpPr/>
          <p:nvPr/>
        </p:nvSpPr>
        <p:spPr>
          <a:xfrm>
            <a:off x="1828800" y="1676520"/>
            <a:ext cx="259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чало уро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4"/>
          <p:cNvSpPr/>
          <p:nvPr/>
        </p:nvSpPr>
        <p:spPr>
          <a:xfrm>
            <a:off x="1908000" y="5300640"/>
            <a:ext cx="2590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ключительный этап уро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5"/>
          <p:cNvSpPr/>
          <p:nvPr/>
        </p:nvSpPr>
        <p:spPr>
          <a:xfrm>
            <a:off x="1066680" y="3352680"/>
            <a:ext cx="762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lis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6"/>
          <p:cNvSpPr/>
          <p:nvPr/>
        </p:nvSpPr>
        <p:spPr>
          <a:xfrm>
            <a:off x="3733920" y="3352680"/>
            <a:ext cx="2590560" cy="1371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ение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во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17"/>
          <p:cNvSpPr/>
          <p:nvPr/>
        </p:nvSpPr>
        <p:spPr>
          <a:xfrm>
            <a:off x="6172200" y="3886200"/>
            <a:ext cx="2590920" cy="1371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зыковые навы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Лекси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18"/>
          <p:cNvSpPr/>
          <p:nvPr/>
        </p:nvSpPr>
        <p:spPr>
          <a:xfrm>
            <a:off x="1143000" y="2514600"/>
            <a:ext cx="2590920" cy="1371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удирование и гово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ивные формы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-экскур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-теле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-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-соревн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-праз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-путеше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-музыкальный 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609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типы урока иностранного язы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чевой уро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бучен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удированию, говорению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ению, письм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зыковой урок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работ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д фонетикой, орфографией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ллиграфией, лексикой,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мматико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мбинированный речев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ро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четание работы над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чевыми умениями и языковыми навык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762120" y="5181480"/>
            <a:ext cx="784836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ий удельный вес  вполне оправданно принадлежит  комбинированным речевым урок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ирование у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85440" y="2362320"/>
            <a:ext cx="3809880" cy="76176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чем? Для чего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647960" y="2362320"/>
            <a:ext cx="38098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цель обу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"/>
          <p:cNvSpPr/>
          <p:nvPr/>
        </p:nvSpPr>
        <p:spPr>
          <a:xfrm>
            <a:off x="685800" y="3048120"/>
            <a:ext cx="3809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609480" y="4419720"/>
            <a:ext cx="3810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685800" y="3276720"/>
            <a:ext cx="3809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685800" y="1295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ые понятия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609480" y="3429000"/>
            <a:ext cx="396252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? О чем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4648320" y="342900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держание обуч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685800" y="4572000"/>
            <a:ext cx="3809880" cy="7621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? О чем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4572000" y="457200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ы, технолог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ланировании урока учитывается: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по О.З.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Якушиной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)  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муникатив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доминанта у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)  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языкова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ина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)  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идактическа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ина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)  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ическа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ина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)  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домина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)  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ащ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урока учебными средств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этапы урок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ностранного язы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440" y="152352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оян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571640" y="15238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н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685800" y="2133720"/>
            <a:ext cx="3733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чало урок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строй на работу, установка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чевая/языковая часть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к основа урока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ец урок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дведение итогов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572000" y="2133720"/>
            <a:ext cx="4114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ы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я, объяснения, закрепления и творческого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я изучаемого материа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овые педагогические технолог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уроке иностранного язы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68580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ходим из новых условий жизни: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457200" y="12952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понятия 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педагогически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6858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Жизнь как постоянное учение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1981080" y="2971800"/>
            <a:ext cx="678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меть учиться)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685800" y="3505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Жизнь рядом с другими людьми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2057400" y="39625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взаимодействоват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10"/>
          <p:cNvSpPr/>
          <p:nvPr/>
        </p:nvSpPr>
        <p:spPr>
          <a:xfrm>
            <a:off x="685800" y="4419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Жить, чтобы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с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мосовершенствоваться: в профессии,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кружающей среде, в душе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11"/>
          <p:cNvSpPr/>
          <p:nvPr/>
        </p:nvSpPr>
        <p:spPr>
          <a:xfrm>
            <a:off x="2133720" y="5410080"/>
            <a:ext cx="6781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меть думать, размышлять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нципы построения урока иностранного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дивиду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евая направленность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ту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из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ая ситуация, новая задача, новый собеседник, новые формы общ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еда, диспут, интервью, ролевая игра, драматизация, игра, защит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133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ая технологи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нимается  как способ  (совокупность приемов, метод-способ), позволяющий  стимулировать самостоятельную активную познавательную деятельность каждого ученика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85800" y="2819160"/>
            <a:ext cx="7848720" cy="10666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яти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о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ов-подходов-направл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не сов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609480" y="4038480"/>
            <a:ext cx="8153640" cy="22100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-подх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, аудиовизуальный, интенсивный, сознательно-сопоставительный, коммуникативно-когнитивны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-способ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овокупность приемов, технолог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ажнейшие понятия, выдвинутые отечественными ученым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зона ближайшего развития» -  Л.С.  Выготски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развивающее обучение» Л.В. За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поэтапное формирование умственных действий» - П.Я. Гальпер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овые педагогические техноло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именимые к личностно-  ориентированному обучению в условиях классно-урочной системы: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ение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трудниче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про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ноуровневое обу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тфель учени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пытаемся сделать это экономно с точки зрения затрат уч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304920" y="4191120"/>
            <a:ext cx="84582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 перечисленных технология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лизуютс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и дифференцированный подход в обучению, создаются возможности для рефлекс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должна создать условия для формирования личности как за сче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я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 и за счет новых педагогических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й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ение в сотрудничеств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отличительные черты):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533160" y="12193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имеет одно задание на вс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ы не соревнуются, а стараются подтянуть каждого на доступный ему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ы примерно равны по составу (девочки-мальчики, сильные-слаб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ждый в группе несет персональную ответственность за вс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 оценивается  на всех одинаково, каждый должен знать о том, что сделано группой в целом (спросить могут каждог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ивая работу в сотрудничестве учитель может говорить о том, как умеют слушать друг друга, как помогают друг другу, как подбадривают, как делятся информацие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ная схема анализа урока 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о урока в цепочке уроков по данной тем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609480" y="175248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атривается ли взаимосвязь с другими уроками в цепочке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о назначение урока (вводный, тренировочный, обобщающий, контрольный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5"/>
          <p:cNvSpPr/>
          <p:nvPr/>
        </p:nvSpPr>
        <p:spPr>
          <a:xfrm>
            <a:off x="685800" y="3581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6"/>
          <p:cNvSpPr/>
          <p:nvPr/>
        </p:nvSpPr>
        <p:spPr>
          <a:xfrm>
            <a:off x="609480" y="41911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уются ли они с задач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ыдущего/последующего уро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 стороны учебного процесса охвачены (обучение, воспитание, развит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мы  ли (недостаточны / избыточны ) задачи в рамках отведенного време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держание   у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6840" y="8377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зволяет ли содержание выполнить поставленные задачи  ( в первую очередь, формировать/развивать умения общаться на 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остью ли используется потенциал УМ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стно ли отобран  основной и дополнительный матери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ответствует ли материал возрасту, подготовке и интересам уча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914400" y="3581280"/>
            <a:ext cx="7696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  уро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457200" y="3962520"/>
            <a:ext cx="84582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ли содержание выполнить поставленные задачи  ( в первую очередь, формировать/развивать умения общаться на 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стью ли используется потенциал УМ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стно ли отобран  основной и дополнительный 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ли материал возрасту, подготовке и интересам учащих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нение урока, организация  учебной деятельности учащих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152280" y="11430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дачно ли используются: разные педагогические  технологии/прием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жимы взаимодействия учащихся между собой, смена   деятельности учащихся на уроке и др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балансирована ли  работа над речевыми  умениями, языковыми навы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ются ли условия для самостоятельной и творческой работы учащихся, формирования критическ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ываются ли индивидуальные особенности и уровень языковой   подготовки    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ктивно ли оценивается деятельность учащихся, организуется   контроль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контроль/взаимоконтроль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фессионально ли поведение учителя (владение языком, четкая речь, умение общаться, тактичность, открытость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ктивность, умение создавать мотивац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ощрять 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ладывается ли урок  в запланирован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писок качеств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орые важны для учителя иностранного язы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6858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обиваться, чтобы дети получали удовольствие от занятий иностранным  язы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ыть терпимым и терпелив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авать четкие инструкции по ходу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ть глубокие знания по предме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ыть хорошим акт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ть ответы на любые вопросы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ыть лид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ть хорошие манеры, приобретенные вами созна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увствовать себя ответственным за результат обучения и реализовывать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етко планировать учебны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ть желание постоянно учи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ть хорошо объяснять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ти четкий контроль свое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ть педагогическое чут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ыть требовательным к с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нумеруйте эти  качества  в порядке их важности (1- самое важно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371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рок – главное звено педагогического процес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жно единство обучающей, развивающей, воспитывающей и контролирующей функций уро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6840" y="17524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ательная ценность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го содержа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учебные материалы, упраж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ении потенциала каждого  учащегося с учетом его индивидуальных особен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ении взаимодействию с партне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ании дружелюбного отношения к представителям других стран в контексте межкультурного общения, расширении кругозора учащего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тивированности оценки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е учителя как человека делового, организованного, знающего, доброжела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" dur="500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вающая ценность уро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и речевых/коммуникативных способностей учащегося, внимания, мышления, памяти, вооб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и критического мышления учащего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особенно на среднем и старшем этап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и мотивации к дальнейшему овладению иностранным язы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и умения самостоятельно добывать знан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справочные материа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ающая ценность уро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09480" y="167616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  формировании   умения    общаться    на    ИЯ то есть формировании коммуникативной компетенции в единстве всех ее составляющих: речевой, языковой и социокультур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балансированном обучении всем коммуникативным умени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истематическом обучении всем  языковым навыкам (произносительным, лексическим и грамматически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609480" y="44956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685800" y="4800600"/>
            <a:ext cx="7848720" cy="1447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ая ценность урока проявляется в  разнице между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овым и достигнут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внями обученности школьников с учетом поставленной задач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ирующая функция уро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уется посред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достижений учащихся в овладении иностранным языком (текущий,  промежуточный, итоговый контрол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ктивно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оценки уровня обученности ИЯ (в частности, через шкалы оценивания достижений ученика по каждому их коммуникативных ум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озможности для взаимооценк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оценк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eck Yoursel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ровень обученности определяется различными способам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т регулярного наблюдения учителем на уроке до целенаправленного контро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оценивания учителем д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анализа и самооценки (характерно для личностно-ориентированного обуч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Courier New"/>
              </a:rPr>
              <a:t>Основные тип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урока</a:t>
            </a:r>
            <a:r>
              <a:rPr b="1" lang="ru-RU" sz="32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иностранного язы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ипы урок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990720" y="1676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к обучения речевым умени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4952880" y="1600200"/>
            <a:ext cx="3505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к обучения языковым навык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1371600" y="4572000"/>
            <a:ext cx="3276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уд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во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сьм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5181480" y="4648320"/>
            <a:ext cx="3276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амма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кс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не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990720" y="2708280"/>
            <a:ext cx="36576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еспечить практику для развития коммуникативных ум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8"/>
          <p:cNvSpPr/>
          <p:nvPr/>
        </p:nvSpPr>
        <p:spPr>
          <a:xfrm>
            <a:off x="4876920" y="2637000"/>
            <a:ext cx="35049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еспечить практику в использовании языковых знаний в продуктивной ре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3T14:07:11Z</dcterms:created>
  <dc:creator>Бабушис Лена</dc:creator>
  <dc:description/>
  <dc:language>en-US</dc:language>
  <cp:lastModifiedBy>Елена Юрьевна</cp:lastModifiedBy>
  <dcterms:modified xsi:type="dcterms:W3CDTF">2019-11-22T20:49:10Z</dcterms:modified>
  <cp:revision>12</cp:revision>
  <dc:subject/>
  <dc:title>Урок – главное звено педагогического процесса  Важно единство обучающей, развивающей, воспитывающей и контролирующей функций урока. </dc:title>
</cp:coreProperties>
</file>