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EB4A-5A86-4724-B2C3-348D18D684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51AC-C6CD-461E-A9C0-E729E29AE7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884760" y="86835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A4180-760A-456F-B070-97B74C33A58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"/>
          <p:cNvSpPr/>
          <p:nvPr/>
        </p:nvSpPr>
        <p:spPr>
          <a:xfrm>
            <a:off x="942840" y="685800"/>
            <a:ext cx="49723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CD43-AE4D-47AF-A23E-BA186D34EA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884760" y="86835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B717C-FC52-42F4-BDE3-5548C02B412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942840" y="685800"/>
            <a:ext cx="49723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7D0-9310-45D4-82CE-79FC7AF4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76E-5F33-43C7-A079-FB7B6708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852-685F-4433-A59B-33D50885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113-D4BB-4865-B5A4-4B11F291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4D1-680F-462A-A10B-4ACD5ADC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705-E4DB-4CA8-BE2E-ABB63917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316-5C9C-4A0F-81A9-C9740376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956-C9AD-404E-860C-AC2F56AF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EB3-0E21-4076-8EB7-2AE2F34C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C3E-FD24-4591-A426-C31FE05F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7DC-56F3-4C44-B9AA-0BC072E3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8D6-DE0F-4989-AA6D-27171AA6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8B89-E58F-4434-8916-3F8CB7ACC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212840" y="609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НТРАСТНЫЙ ПЕЙЗА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rcRect l="3083" t="24555" r="3083" b="24096"/>
          <a:stretch/>
        </p:blipFill>
        <p:spPr>
          <a:xfrm>
            <a:off x="304920" y="2362320"/>
            <a:ext cx="852156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4648320" y="1346040"/>
            <a:ext cx="417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гимназия №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. Н.З. Поповичевой г. Липец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шкова Татья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3170882cb979735fd5837bf4418876be"/>
          <p:cNvPicPr/>
          <p:nvPr/>
        </p:nvPicPr>
        <p:blipFill>
          <a:blip r:embed="rId1"/>
          <a:stretch/>
        </p:blipFill>
        <p:spPr>
          <a:xfrm>
            <a:off x="685800" y="324000"/>
            <a:ext cx="784872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10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304858782_wildlife-photos-by-ben-hall-16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e0784ecd416b8096a250992672916c06"/>
          <p:cNvPicPr/>
          <p:nvPr/>
        </p:nvPicPr>
        <p:blipFill>
          <a:blip r:embed="rId1"/>
          <a:stretch/>
        </p:blipFill>
        <p:spPr>
          <a:xfrm>
            <a:off x="228600" y="533520"/>
            <a:ext cx="4189320" cy="5486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117485_80"/>
          <p:cNvPicPr/>
          <p:nvPr/>
        </p:nvPicPr>
        <p:blipFill>
          <a:blip r:embed="rId2"/>
          <a:stretch/>
        </p:blipFill>
        <p:spPr>
          <a:xfrm>
            <a:off x="4927680" y="533520"/>
            <a:ext cx="37274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_9aad1_2de31c85_XL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ЖИВОПИСЕЦ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-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Художн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занимающийся живопис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ЖИВОПИС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Изобразительное искусство – создание художественных образов с помощью кра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С. И. Оже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">
            <a:hlinkClick r:id="rId1" action="ppaction://hlinksldjump"/>
          </p:cNvPr>
          <p:cNvSpPr/>
          <p:nvPr/>
        </p:nvSpPr>
        <p:spPr>
          <a:xfrm>
            <a:off x="831708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7493"/>
                </a:moveTo>
                <a:lnTo>
                  <a:pt x="8644" y="7493"/>
                </a:lnTo>
                <a:lnTo>
                  <a:pt x="8644" y="12828"/>
                </a:lnTo>
                <a:cubicBezTo>
                  <a:pt x="8644" y="13751"/>
                  <a:pt x="9444" y="14482"/>
                  <a:pt x="10480" y="14482"/>
                </a:cubicBezTo>
                <a:lnTo>
                  <a:pt x="12142" y="14482"/>
                </a:lnTo>
                <a:cubicBezTo>
                  <a:pt x="13178" y="14482"/>
                  <a:pt x="13979" y="13751"/>
                  <a:pt x="13979" y="12828"/>
                </a:cubicBezTo>
                <a:lnTo>
                  <a:pt x="13979" y="7493"/>
                </a:lnTo>
                <a:lnTo>
                  <a:pt x="12142" y="7493"/>
                </a:lnTo>
                <a:lnTo>
                  <a:pt x="15650" y="3985"/>
                </a:lnTo>
                <a:lnTo>
                  <a:pt x="19323" y="7493"/>
                </a:lnTo>
                <a:lnTo>
                  <a:pt x="17486" y="7493"/>
                </a:lnTo>
                <a:lnTo>
                  <a:pt x="17486" y="12828"/>
                </a:lnTo>
                <a:cubicBezTo>
                  <a:pt x="17486" y="15596"/>
                  <a:pt x="14910" y="18155"/>
                  <a:pt x="12142" y="18155"/>
                </a:cubicBezTo>
                <a:lnTo>
                  <a:pt x="10480" y="18155"/>
                </a:lnTo>
                <a:cubicBezTo>
                  <a:pt x="7712" y="18155"/>
                  <a:pt x="5136" y="15596"/>
                  <a:pt x="5136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ПЕЙЗАЖИС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Художн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рисующий пейза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ПЕЙЗАЖ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Рисунок, картина, изображающая виды природы, а также описание природы в литературном произве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С. И. Оже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">
            <a:hlinkClick r:id="rId1" action="ppaction://hlinksldjump"/>
          </p:cNvPr>
          <p:cNvSpPr/>
          <p:nvPr/>
        </p:nvSpPr>
        <p:spPr>
          <a:xfrm>
            <a:off x="831708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7493"/>
                </a:moveTo>
                <a:lnTo>
                  <a:pt x="8644" y="7493"/>
                </a:lnTo>
                <a:lnTo>
                  <a:pt x="8644" y="12828"/>
                </a:lnTo>
                <a:cubicBezTo>
                  <a:pt x="8644" y="13751"/>
                  <a:pt x="9444" y="14482"/>
                  <a:pt x="10480" y="14482"/>
                </a:cubicBezTo>
                <a:lnTo>
                  <a:pt x="12142" y="14482"/>
                </a:lnTo>
                <a:cubicBezTo>
                  <a:pt x="13178" y="14482"/>
                  <a:pt x="13979" y="13751"/>
                  <a:pt x="13979" y="12828"/>
                </a:cubicBezTo>
                <a:lnTo>
                  <a:pt x="13979" y="7493"/>
                </a:lnTo>
                <a:lnTo>
                  <a:pt x="12142" y="7493"/>
                </a:lnTo>
                <a:lnTo>
                  <a:pt x="15650" y="3985"/>
                </a:lnTo>
                <a:lnTo>
                  <a:pt x="19323" y="7493"/>
                </a:lnTo>
                <a:lnTo>
                  <a:pt x="17486" y="7493"/>
                </a:lnTo>
                <a:lnTo>
                  <a:pt x="17486" y="12828"/>
                </a:lnTo>
                <a:cubicBezTo>
                  <a:pt x="17486" y="15596"/>
                  <a:pt x="14910" y="18155"/>
                  <a:pt x="12142" y="18155"/>
                </a:cubicBezTo>
                <a:lnTo>
                  <a:pt x="10480" y="18155"/>
                </a:lnTo>
                <a:cubicBezTo>
                  <a:pt x="7712" y="18155"/>
                  <a:pt x="5136" y="15596"/>
                  <a:pt x="5136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1066680" y="457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астные ц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419720" y="2171880"/>
            <a:ext cx="4468680" cy="2628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914400" y="457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аст черного и цвет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114800" cy="2314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626000" y="380880"/>
            <a:ext cx="4228920" cy="2819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4721400" y="3352680"/>
            <a:ext cx="4038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ok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anywalls"/>
          <p:cNvPicPr/>
          <p:nvPr/>
        </p:nvPicPr>
        <p:blipFill>
          <a:blip r:embed="rId1"/>
          <a:stretch/>
        </p:blipFill>
        <p:spPr>
          <a:xfrm>
            <a:off x="380880" y="28584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wallpaper_50516_1920x1200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20 кабинет</dc:creator>
  <dc:description/>
  <dc:language>en-US</dc:language>
  <cp:lastModifiedBy>Usr</cp:lastModifiedBy>
  <dcterms:modified xsi:type="dcterms:W3CDTF">2019-11-29T11:03:2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