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CBAD-342D-474B-84E5-13176971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4111-361A-48B6-8A53-8EC590B2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9DF-8BFB-4C39-89B0-99CF9702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37FE-D8D4-463F-9AC9-83D3F38A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457-813B-49DA-97EF-9617AF3B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9F4-E9F4-4989-8AB3-E9BB3774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B45B-8336-4E76-930B-B42A210C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188-54D5-4B75-B2AF-683CD03D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B19-915D-4F71-B70D-3D5371A4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1389-2F85-4580-B52E-4A4A71C5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96A2-04DD-4294-9AFD-5FBB18C8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FA0-FF28-4DF2-8216-D8CE1093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AF852A-44A3-4EE6-BA86-F65C579AC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59280" y="1916280"/>
            <a:ext cx="5000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Изображать можно то, что невидимо. Настроение.»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87640" y="1341000"/>
            <a:ext cx="514368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рок ИЗО в 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967920" y="546588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Arial"/>
              </a:rPr>
              <a:t>2019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3419640" y="3500280"/>
            <a:ext cx="464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ГБОУ лицей 5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Приморский район г. Санкт 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Учитель ИЗО : Копылова Ульяна Юр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488880" y="1093680"/>
            <a:ext cx="816624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784080" y="692280"/>
            <a:ext cx="7575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833400" y="333360"/>
            <a:ext cx="74106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rcRect l="0" t="0" r="-1720" b="0"/>
          <a:stretch/>
        </p:blipFill>
        <p:spPr>
          <a:xfrm>
            <a:off x="1025640" y="981000"/>
            <a:ext cx="70927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901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rcRect l="-48333" t="-3079" r="0" b="0"/>
          <a:stretch/>
        </p:blipFill>
        <p:spPr>
          <a:xfrm>
            <a:off x="-181080" y="549360"/>
            <a:ext cx="756144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9405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6626160" cy="51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ф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8160" cy="452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онфеты4"/>
          <p:cNvPicPr/>
          <p:nvPr/>
        </p:nvPicPr>
        <p:blipFill>
          <a:blip r:embed="rId2"/>
          <a:stretch/>
        </p:blipFill>
        <p:spPr>
          <a:xfrm>
            <a:off x="179280" y="130320"/>
            <a:ext cx="878544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амостоятельн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исуйте зап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выбрать запах, который вы будете рис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подобрать ц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Выполнить работу в цв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324000" y="246240"/>
            <a:ext cx="835164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000000"/>
              </a:solidFill>
              <a:latin typeface="EanGnivc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0" y="530532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С каждым поделись радостью своей …»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От Улыбки станет всем теплей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457200" y="692280"/>
            <a:ext cx="634680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ю вам закончить наш урок продолжив эти фраз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знал(а)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учился(ась)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получилось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запомнилось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 каким настроением вы заканчиваете ур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468360" y="307800"/>
            <a:ext cx="770400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307800" y="115920"/>
            <a:ext cx="85284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271440" y="184320"/>
            <a:ext cx="8601120" cy="64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235080" y="115920"/>
            <a:ext cx="867384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06:45Z</dcterms:created>
  <dc:creator>Учитель</dc:creator>
  <dc:description/>
  <dc:language>en-US</dc:language>
  <cp:lastModifiedBy>Пользователь</cp:lastModifiedBy>
  <dcterms:modified xsi:type="dcterms:W3CDTF">2019-11-29T17:13:43Z</dcterms:modified>
  <cp:revision>44</cp:revision>
  <dc:subject/>
  <dc:title>Слайд 1</dc:title>
</cp:coreProperties>
</file>