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7CB-EDD0-4FFE-8BD4-FD198C59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B06-94E9-490F-94BB-EEDD2FEE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6140-5B53-4605-BF68-30833507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CDB-694A-42BB-8A2B-03890E9C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733-DA1C-40D7-84C6-0BA8B620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03D-E747-4E29-85CE-7B28EF1F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A3F6-2D6A-4D9B-9341-E7387B5D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58B-491C-4654-9C5B-7EE5F755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133-CFD7-4ABB-A0A3-EB057C0D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5FA-8FA4-4FA7-A643-2F362768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F7B-3FC5-43BA-A4E0-1086AFA2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F8CE-2F6E-4EF3-8C81-03306C9B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C4E80F-D611-4A77-9A77-B6879CEB66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59280" y="1916280"/>
            <a:ext cx="5000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Изображать можно то, что невидимо. Настроение.»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87640" y="1341000"/>
            <a:ext cx="51436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рок ИЗО в 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967920" y="546588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</a:rPr>
              <a:t>2019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3419640" y="3500280"/>
            <a:ext cx="464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ГБОУ лицей 5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Приморский район г. Санкт 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Учитель ИЗО : Копылова Ульяна Юр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488880" y="1093680"/>
            <a:ext cx="816624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784080" y="692280"/>
            <a:ext cx="7575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833400" y="333360"/>
            <a:ext cx="74106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rcRect l="0" t="0" r="-1720" b="0"/>
          <a:stretch/>
        </p:blipFill>
        <p:spPr>
          <a:xfrm>
            <a:off x="1025640" y="981000"/>
            <a:ext cx="70927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901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rcRect l="-48333" t="-3079" r="0" b="0"/>
          <a:stretch/>
        </p:blipFill>
        <p:spPr>
          <a:xfrm>
            <a:off x="-181080" y="549360"/>
            <a:ext cx="756144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9405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6626160" cy="51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ф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8160" cy="452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онфеты4"/>
          <p:cNvPicPr/>
          <p:nvPr/>
        </p:nvPicPr>
        <p:blipFill>
          <a:blip r:embed="rId2"/>
          <a:stretch/>
        </p:blipFill>
        <p:spPr>
          <a:xfrm>
            <a:off x="179280" y="130320"/>
            <a:ext cx="878544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амостоятельн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исуйте зап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выбрать запах, который вы будете рис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подобрать ц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Выполнить работу в цв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324000" y="246240"/>
            <a:ext cx="835164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000000"/>
              </a:solidFill>
              <a:latin typeface="EanGnivc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0" y="530532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С каждым поделись радостью своей …»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От Улыбки станет всем теплей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457200" y="692280"/>
            <a:ext cx="634680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ю вам закончить наш урок продолжив эти фраз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знал(а)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учился(ась)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получилось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запомнилось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 каким настроением вы заканчиваете ур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468360" y="307800"/>
            <a:ext cx="770400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307800" y="115920"/>
            <a:ext cx="85284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271440" y="184320"/>
            <a:ext cx="8601120" cy="64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235080" y="115920"/>
            <a:ext cx="867384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06:45Z</dcterms:created>
  <dc:creator>Учитель</dc:creator>
  <dc:description/>
  <dc:language>en-US</dc:language>
  <cp:lastModifiedBy>Пользователь</cp:lastModifiedBy>
  <dcterms:modified xsi:type="dcterms:W3CDTF">2019-11-29T17:13:43Z</dcterms:modified>
  <cp:revision>44</cp:revision>
  <dc:subject/>
  <dc:title>Слайд 1</dc:title>
</cp:coreProperties>
</file>