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899E22F-16F5-42C2-AAA3-7BFD2691A70C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F1CAD2E-D868-452A-8ABE-DBBE52CB819B}">
      <dgm:prSet phldrT="[Текст]"/>
      <dgm:spPr>
        <a:solidFill>
          <a:srgbClr val="FFC000"/>
        </a:solidFill>
      </dgm:spPr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Комплексности</a:t>
          </a:r>
          <a:endParaRPr lang="ru-RU" dirty="0">
            <a:solidFill>
              <a:schemeClr val="tx1"/>
            </a:solidFill>
          </a:endParaRPr>
        </a:p>
      </dgm:t>
    </dgm:pt>
    <dgm:pt modelId="{0CF40A7E-DBE7-4B5C-A9C5-DC6565D8E37D}" type="parTrans" cxnId="{0A774ABE-81C0-4C09-8FE3-16EE2DB96AFB}">
      <dgm:prSet/>
      <dgm:spPr/>
      <dgm:t>
        <a:bodyPr/>
        <a:lstStyle/>
        <a:p>
          <a:endParaRPr lang="ru-RU"/>
        </a:p>
      </dgm:t>
    </dgm:pt>
    <dgm:pt modelId="{30C7C4AC-03AD-4E81-9E1A-828C45BCE680}" type="sibTrans" cxnId="{0A774ABE-81C0-4C09-8FE3-16EE2DB96AFB}">
      <dgm:prSet/>
      <dgm:spPr/>
      <dgm:t>
        <a:bodyPr/>
        <a:lstStyle/>
        <a:p>
          <a:endParaRPr lang="ru-RU"/>
        </a:p>
      </dgm:t>
    </dgm:pt>
    <dgm:pt modelId="{D446E2DF-BD0C-4FEC-8AA9-2D0BCBD7B8C0}">
      <dgm:prSet phldrT="[Текст]"/>
      <dgm:spPr>
        <a:solidFill>
          <a:srgbClr val="FFC000"/>
        </a:solidFill>
      </dgm:spPr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Научности</a:t>
          </a:r>
          <a:endParaRPr lang="ru-RU" dirty="0">
            <a:solidFill>
              <a:schemeClr val="tx1"/>
            </a:solidFill>
          </a:endParaRPr>
        </a:p>
      </dgm:t>
    </dgm:pt>
    <dgm:pt modelId="{F2FE72C2-4547-4109-BA96-AE0D6DD73B98}" type="parTrans" cxnId="{A63F140C-815C-41A4-8322-F3EBB7AF6EF0}">
      <dgm:prSet/>
      <dgm:spPr/>
      <dgm:t>
        <a:bodyPr/>
        <a:lstStyle/>
        <a:p>
          <a:endParaRPr lang="ru-RU"/>
        </a:p>
      </dgm:t>
    </dgm:pt>
    <dgm:pt modelId="{3CD9EE73-8065-476A-B298-0396FF26C927}" type="sibTrans" cxnId="{A63F140C-815C-41A4-8322-F3EBB7AF6EF0}">
      <dgm:prSet/>
      <dgm:spPr/>
      <dgm:t>
        <a:bodyPr/>
        <a:lstStyle/>
        <a:p>
          <a:endParaRPr lang="ru-RU"/>
        </a:p>
      </dgm:t>
    </dgm:pt>
    <dgm:pt modelId="{C55A7982-2292-412F-AA4F-B04CA6010691}">
      <dgm:prSet phldrT="[Текст]"/>
      <dgm:spPr>
        <a:solidFill>
          <a:srgbClr val="FFC000"/>
        </a:solidFill>
      </dgm:spPr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Систематичности</a:t>
          </a:r>
          <a:endParaRPr lang="ru-RU" dirty="0">
            <a:solidFill>
              <a:schemeClr val="tx1"/>
            </a:solidFill>
          </a:endParaRPr>
        </a:p>
      </dgm:t>
    </dgm:pt>
    <dgm:pt modelId="{74840E12-EB51-4C3E-BB8F-C614D7CD4C5C}" type="parTrans" cxnId="{3ED2749B-4AF9-4620-9345-9B688A439FCA}">
      <dgm:prSet/>
      <dgm:spPr/>
      <dgm:t>
        <a:bodyPr/>
        <a:lstStyle/>
        <a:p>
          <a:endParaRPr lang="ru-RU"/>
        </a:p>
      </dgm:t>
    </dgm:pt>
    <dgm:pt modelId="{C2CF7689-B6FA-49F7-B6E3-EA5390739A80}" type="sibTrans" cxnId="{3ED2749B-4AF9-4620-9345-9B688A439FCA}">
      <dgm:prSet/>
      <dgm:spPr/>
      <dgm:t>
        <a:bodyPr/>
        <a:lstStyle/>
        <a:p>
          <a:endParaRPr lang="ru-RU"/>
        </a:p>
      </dgm:t>
    </dgm:pt>
    <dgm:pt modelId="{C6385FF3-0CCD-4133-8D14-19FEABF00362}">
      <dgm:prSet/>
      <dgm:spPr>
        <a:solidFill>
          <a:srgbClr val="FFC000"/>
        </a:solidFill>
      </dgm:spPr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Связь теории с практикой</a:t>
          </a:r>
          <a:endParaRPr lang="ru-RU" dirty="0">
            <a:solidFill>
              <a:schemeClr val="tx1"/>
            </a:solidFill>
          </a:endParaRPr>
        </a:p>
      </dgm:t>
    </dgm:pt>
    <dgm:pt modelId="{E8917F80-C317-43BF-A630-8F25E7B77FBB}" type="parTrans" cxnId="{3BB6DE3A-E656-485F-8A73-3E45D111C2FF}">
      <dgm:prSet/>
      <dgm:spPr/>
    </dgm:pt>
    <dgm:pt modelId="{BA951AA7-DC6C-433D-948F-42CFCBACC9AA}" type="sibTrans" cxnId="{3BB6DE3A-E656-485F-8A73-3E45D111C2FF}">
      <dgm:prSet/>
      <dgm:spPr/>
    </dgm:pt>
    <dgm:pt modelId="{95E2BD3B-F652-4F94-8A87-E8839161DA79}" type="pres">
      <dgm:prSet presAssocID="{5899E22F-16F5-42C2-AAA3-7BFD2691A70C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A6884078-D518-4534-9CDB-7EE725DA16DD}" type="pres">
      <dgm:prSet presAssocID="{4F1CAD2E-D868-452A-8ABE-DBBE52CB819B}" presName="parentLin" presStyleCnt="0"/>
      <dgm:spPr/>
    </dgm:pt>
    <dgm:pt modelId="{D83C115B-1C14-4304-99E3-0F23B23D1131}" type="pres">
      <dgm:prSet presAssocID="{4F1CAD2E-D868-452A-8ABE-DBBE52CB819B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3C9BBF94-DA34-4B49-BFA6-013DCC915AD3}" type="pres">
      <dgm:prSet presAssocID="{4F1CAD2E-D868-452A-8ABE-DBBE52CB819B}" presName="parentText" presStyleLbl="node1" presStyleIdx="0" presStyleCnt="4" custLinFactNeighborX="7512" custLinFactNeighborY="-459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CA060E5-21A0-4E3F-AAD6-CDFBD40495C1}" type="pres">
      <dgm:prSet presAssocID="{4F1CAD2E-D868-452A-8ABE-DBBE52CB819B}" presName="negativeSpace" presStyleCnt="0"/>
      <dgm:spPr/>
    </dgm:pt>
    <dgm:pt modelId="{BC6EF6D2-B0F6-492A-A48C-1078F4C990A4}" type="pres">
      <dgm:prSet presAssocID="{4F1CAD2E-D868-452A-8ABE-DBBE52CB819B}" presName="childText" presStyleLbl="conFgAcc1" presStyleIdx="0" presStyleCnt="4">
        <dgm:presLayoutVars>
          <dgm:bulletEnabled val="1"/>
        </dgm:presLayoutVars>
      </dgm:prSet>
      <dgm:spPr>
        <a:solidFill>
          <a:schemeClr val="accent6">
            <a:lumMod val="60000"/>
            <a:lumOff val="40000"/>
            <a:alpha val="90000"/>
          </a:schemeClr>
        </a:solidFill>
      </dgm:spPr>
    </dgm:pt>
    <dgm:pt modelId="{2C53EE9D-E436-4AA4-A7BA-54A5E7A532ED}" type="pres">
      <dgm:prSet presAssocID="{30C7C4AC-03AD-4E81-9E1A-828C45BCE680}" presName="spaceBetweenRectangles" presStyleCnt="0"/>
      <dgm:spPr/>
    </dgm:pt>
    <dgm:pt modelId="{9AE0AED8-B76C-4D07-BA19-FD68FFBC7396}" type="pres">
      <dgm:prSet presAssocID="{D446E2DF-BD0C-4FEC-8AA9-2D0BCBD7B8C0}" presName="parentLin" presStyleCnt="0"/>
      <dgm:spPr/>
    </dgm:pt>
    <dgm:pt modelId="{A24DAB98-9FC4-431D-8619-7276E36A195A}" type="pres">
      <dgm:prSet presAssocID="{D446E2DF-BD0C-4FEC-8AA9-2D0BCBD7B8C0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6110EABB-94C7-4774-9C73-A1BCE79529EC}" type="pres">
      <dgm:prSet presAssocID="{D446E2DF-BD0C-4FEC-8AA9-2D0BCBD7B8C0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4CF056-0F55-4E21-83DE-6C1CF2BACAEC}" type="pres">
      <dgm:prSet presAssocID="{D446E2DF-BD0C-4FEC-8AA9-2D0BCBD7B8C0}" presName="negativeSpace" presStyleCnt="0"/>
      <dgm:spPr/>
    </dgm:pt>
    <dgm:pt modelId="{1433F71B-DFCA-4D42-BB63-835FD5CACF1D}" type="pres">
      <dgm:prSet presAssocID="{D446E2DF-BD0C-4FEC-8AA9-2D0BCBD7B8C0}" presName="childText" presStyleLbl="conFgAcc1" presStyleIdx="1" presStyleCnt="4">
        <dgm:presLayoutVars>
          <dgm:bulletEnabled val="1"/>
        </dgm:presLayoutVars>
      </dgm:prSet>
      <dgm:spPr>
        <a:solidFill>
          <a:schemeClr val="accent6">
            <a:lumMod val="60000"/>
            <a:lumOff val="40000"/>
            <a:alpha val="90000"/>
          </a:schemeClr>
        </a:solidFill>
      </dgm:spPr>
    </dgm:pt>
    <dgm:pt modelId="{4B5C20BF-1146-4D4F-B995-BF0574D5AEC7}" type="pres">
      <dgm:prSet presAssocID="{3CD9EE73-8065-476A-B298-0396FF26C927}" presName="spaceBetweenRectangles" presStyleCnt="0"/>
      <dgm:spPr/>
    </dgm:pt>
    <dgm:pt modelId="{9AB2BDFB-A10B-4A8F-8BFC-3786923D80B8}" type="pres">
      <dgm:prSet presAssocID="{C55A7982-2292-412F-AA4F-B04CA6010691}" presName="parentLin" presStyleCnt="0"/>
      <dgm:spPr/>
    </dgm:pt>
    <dgm:pt modelId="{7B844246-0DD0-4689-888A-79C29FE6FBBB}" type="pres">
      <dgm:prSet presAssocID="{C55A7982-2292-412F-AA4F-B04CA6010691}" presName="parentLeftMargin" presStyleLbl="node1" presStyleIdx="1" presStyleCnt="4"/>
      <dgm:spPr/>
      <dgm:t>
        <a:bodyPr/>
        <a:lstStyle/>
        <a:p>
          <a:endParaRPr lang="ru-RU"/>
        </a:p>
      </dgm:t>
    </dgm:pt>
    <dgm:pt modelId="{1D638F11-534D-4D89-97C6-AD763D4BE14C}" type="pres">
      <dgm:prSet presAssocID="{C55A7982-2292-412F-AA4F-B04CA6010691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07EC070-58CA-4A75-9F94-3DCE9EF4F4A1}" type="pres">
      <dgm:prSet presAssocID="{C55A7982-2292-412F-AA4F-B04CA6010691}" presName="negativeSpace" presStyleCnt="0"/>
      <dgm:spPr/>
    </dgm:pt>
    <dgm:pt modelId="{9EF0B79F-8520-4446-AEE0-976E131A3375}" type="pres">
      <dgm:prSet presAssocID="{C55A7982-2292-412F-AA4F-B04CA6010691}" presName="childText" presStyleLbl="conFgAcc1" presStyleIdx="2" presStyleCnt="4" custLinFactY="-2476" custLinFactNeighborX="126" custLinFactNeighborY="-100000">
        <dgm:presLayoutVars>
          <dgm:bulletEnabled val="1"/>
        </dgm:presLayoutVars>
      </dgm:prSet>
      <dgm:spPr>
        <a:solidFill>
          <a:schemeClr val="accent6">
            <a:lumMod val="60000"/>
            <a:lumOff val="40000"/>
            <a:alpha val="90000"/>
          </a:schemeClr>
        </a:solidFill>
      </dgm:spPr>
    </dgm:pt>
    <dgm:pt modelId="{B8696507-1E51-444B-B9F0-604ACC2BE4A5}" type="pres">
      <dgm:prSet presAssocID="{C2CF7689-B6FA-49F7-B6E3-EA5390739A80}" presName="spaceBetweenRectangles" presStyleCnt="0"/>
      <dgm:spPr/>
    </dgm:pt>
    <dgm:pt modelId="{FE573379-2B77-40BF-A6F3-C04B73D6C6D4}" type="pres">
      <dgm:prSet presAssocID="{C6385FF3-0CCD-4133-8D14-19FEABF00362}" presName="parentLin" presStyleCnt="0"/>
      <dgm:spPr/>
    </dgm:pt>
    <dgm:pt modelId="{A13E48D0-E4D7-41BC-B9AA-AE4E86C7C29B}" type="pres">
      <dgm:prSet presAssocID="{C6385FF3-0CCD-4133-8D14-19FEABF00362}" presName="parentLeftMargin" presStyleLbl="node1" presStyleIdx="2" presStyleCnt="4"/>
      <dgm:spPr/>
      <dgm:t>
        <a:bodyPr/>
        <a:lstStyle/>
        <a:p>
          <a:endParaRPr lang="ru-RU"/>
        </a:p>
      </dgm:t>
    </dgm:pt>
    <dgm:pt modelId="{4806C507-8367-4D0B-908C-BA857E571484}" type="pres">
      <dgm:prSet presAssocID="{C6385FF3-0CCD-4133-8D14-19FEABF00362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CF5A101-E53D-4C72-BBA0-7FC1571A5B13}" type="pres">
      <dgm:prSet presAssocID="{C6385FF3-0CCD-4133-8D14-19FEABF00362}" presName="negativeSpace" presStyleCnt="0"/>
      <dgm:spPr/>
    </dgm:pt>
    <dgm:pt modelId="{C1F43D13-E328-4603-8540-965DEA9A5274}" type="pres">
      <dgm:prSet presAssocID="{C6385FF3-0CCD-4133-8D14-19FEABF00362}" presName="childText" presStyleLbl="conFgAcc1" presStyleIdx="3" presStyleCnt="4">
        <dgm:presLayoutVars>
          <dgm:bulletEnabled val="1"/>
        </dgm:presLayoutVars>
      </dgm:prSet>
      <dgm:spPr>
        <a:solidFill>
          <a:schemeClr val="accent6">
            <a:lumMod val="60000"/>
            <a:lumOff val="40000"/>
            <a:alpha val="90000"/>
          </a:schemeClr>
        </a:solidFill>
      </dgm:spPr>
    </dgm:pt>
  </dgm:ptLst>
  <dgm:cxnLst>
    <dgm:cxn modelId="{43AEB069-2A38-425B-9438-43711B01CA4D}" type="presOf" srcId="{C6385FF3-0CCD-4133-8D14-19FEABF00362}" destId="{4806C507-8367-4D0B-908C-BA857E571484}" srcOrd="1" destOrd="0" presId="urn:microsoft.com/office/officeart/2005/8/layout/list1"/>
    <dgm:cxn modelId="{D9255095-CCF5-49D1-A520-C4A4A7D7D1CE}" type="presOf" srcId="{C6385FF3-0CCD-4133-8D14-19FEABF00362}" destId="{A13E48D0-E4D7-41BC-B9AA-AE4E86C7C29B}" srcOrd="0" destOrd="0" presId="urn:microsoft.com/office/officeart/2005/8/layout/list1"/>
    <dgm:cxn modelId="{19FE913F-FDD3-4C6A-BF22-84BA1F229D4F}" type="presOf" srcId="{5899E22F-16F5-42C2-AAA3-7BFD2691A70C}" destId="{95E2BD3B-F652-4F94-8A87-E8839161DA79}" srcOrd="0" destOrd="0" presId="urn:microsoft.com/office/officeart/2005/8/layout/list1"/>
    <dgm:cxn modelId="{5A6A3E12-99EF-4B92-B487-09F34D1860AF}" type="presOf" srcId="{4F1CAD2E-D868-452A-8ABE-DBBE52CB819B}" destId="{D83C115B-1C14-4304-99E3-0F23B23D1131}" srcOrd="0" destOrd="0" presId="urn:microsoft.com/office/officeart/2005/8/layout/list1"/>
    <dgm:cxn modelId="{3ED2749B-4AF9-4620-9345-9B688A439FCA}" srcId="{5899E22F-16F5-42C2-AAA3-7BFD2691A70C}" destId="{C55A7982-2292-412F-AA4F-B04CA6010691}" srcOrd="2" destOrd="0" parTransId="{74840E12-EB51-4C3E-BB8F-C614D7CD4C5C}" sibTransId="{C2CF7689-B6FA-49F7-B6E3-EA5390739A80}"/>
    <dgm:cxn modelId="{3BB6DE3A-E656-485F-8A73-3E45D111C2FF}" srcId="{5899E22F-16F5-42C2-AAA3-7BFD2691A70C}" destId="{C6385FF3-0CCD-4133-8D14-19FEABF00362}" srcOrd="3" destOrd="0" parTransId="{E8917F80-C317-43BF-A630-8F25E7B77FBB}" sibTransId="{BA951AA7-DC6C-433D-948F-42CFCBACC9AA}"/>
    <dgm:cxn modelId="{CF93970F-68E0-4D1B-B0E3-D797C2AD3202}" type="presOf" srcId="{C55A7982-2292-412F-AA4F-B04CA6010691}" destId="{1D638F11-534D-4D89-97C6-AD763D4BE14C}" srcOrd="1" destOrd="0" presId="urn:microsoft.com/office/officeart/2005/8/layout/list1"/>
    <dgm:cxn modelId="{A63F140C-815C-41A4-8322-F3EBB7AF6EF0}" srcId="{5899E22F-16F5-42C2-AAA3-7BFD2691A70C}" destId="{D446E2DF-BD0C-4FEC-8AA9-2D0BCBD7B8C0}" srcOrd="1" destOrd="0" parTransId="{F2FE72C2-4547-4109-BA96-AE0D6DD73B98}" sibTransId="{3CD9EE73-8065-476A-B298-0396FF26C927}"/>
    <dgm:cxn modelId="{0A774ABE-81C0-4C09-8FE3-16EE2DB96AFB}" srcId="{5899E22F-16F5-42C2-AAA3-7BFD2691A70C}" destId="{4F1CAD2E-D868-452A-8ABE-DBBE52CB819B}" srcOrd="0" destOrd="0" parTransId="{0CF40A7E-DBE7-4B5C-A9C5-DC6565D8E37D}" sibTransId="{30C7C4AC-03AD-4E81-9E1A-828C45BCE680}"/>
    <dgm:cxn modelId="{050ECBD8-FA1A-449C-9EC4-90C5BD9E79DD}" type="presOf" srcId="{C55A7982-2292-412F-AA4F-B04CA6010691}" destId="{7B844246-0DD0-4689-888A-79C29FE6FBBB}" srcOrd="0" destOrd="0" presId="urn:microsoft.com/office/officeart/2005/8/layout/list1"/>
    <dgm:cxn modelId="{82133C59-3D6D-4951-9027-74CB878D04C1}" type="presOf" srcId="{4F1CAD2E-D868-452A-8ABE-DBBE52CB819B}" destId="{3C9BBF94-DA34-4B49-BFA6-013DCC915AD3}" srcOrd="1" destOrd="0" presId="urn:microsoft.com/office/officeart/2005/8/layout/list1"/>
    <dgm:cxn modelId="{6445A680-D527-4F40-93BA-9F2F5C32A699}" type="presOf" srcId="{D446E2DF-BD0C-4FEC-8AA9-2D0BCBD7B8C0}" destId="{6110EABB-94C7-4774-9C73-A1BCE79529EC}" srcOrd="1" destOrd="0" presId="urn:microsoft.com/office/officeart/2005/8/layout/list1"/>
    <dgm:cxn modelId="{74A5C8E1-E53C-4103-9FD1-B2024B9C5AF7}" type="presOf" srcId="{D446E2DF-BD0C-4FEC-8AA9-2D0BCBD7B8C0}" destId="{A24DAB98-9FC4-431D-8619-7276E36A195A}" srcOrd="0" destOrd="0" presId="urn:microsoft.com/office/officeart/2005/8/layout/list1"/>
    <dgm:cxn modelId="{9C3D8004-C77F-4AF6-8767-98920D28476B}" type="presParOf" srcId="{95E2BD3B-F652-4F94-8A87-E8839161DA79}" destId="{A6884078-D518-4534-9CDB-7EE725DA16DD}" srcOrd="0" destOrd="0" presId="urn:microsoft.com/office/officeart/2005/8/layout/list1"/>
    <dgm:cxn modelId="{5D7A6C57-9E91-4FFC-A9F5-4ED68E8DD2D0}" type="presParOf" srcId="{A6884078-D518-4534-9CDB-7EE725DA16DD}" destId="{D83C115B-1C14-4304-99E3-0F23B23D1131}" srcOrd="0" destOrd="0" presId="urn:microsoft.com/office/officeart/2005/8/layout/list1"/>
    <dgm:cxn modelId="{BED7D70E-346F-41B8-BD73-68C83890FEDA}" type="presParOf" srcId="{A6884078-D518-4534-9CDB-7EE725DA16DD}" destId="{3C9BBF94-DA34-4B49-BFA6-013DCC915AD3}" srcOrd="1" destOrd="0" presId="urn:microsoft.com/office/officeart/2005/8/layout/list1"/>
    <dgm:cxn modelId="{EA42C78E-485A-416F-9731-3E459AF479B5}" type="presParOf" srcId="{95E2BD3B-F652-4F94-8A87-E8839161DA79}" destId="{4CA060E5-21A0-4E3F-AAD6-CDFBD40495C1}" srcOrd="1" destOrd="0" presId="urn:microsoft.com/office/officeart/2005/8/layout/list1"/>
    <dgm:cxn modelId="{9A64CF19-8293-4139-B003-5717D61AB3EF}" type="presParOf" srcId="{95E2BD3B-F652-4F94-8A87-E8839161DA79}" destId="{BC6EF6D2-B0F6-492A-A48C-1078F4C990A4}" srcOrd="2" destOrd="0" presId="urn:microsoft.com/office/officeart/2005/8/layout/list1"/>
    <dgm:cxn modelId="{825BC1EE-E9CC-4234-96FC-6CB4DA734349}" type="presParOf" srcId="{95E2BD3B-F652-4F94-8A87-E8839161DA79}" destId="{2C53EE9D-E436-4AA4-A7BA-54A5E7A532ED}" srcOrd="3" destOrd="0" presId="urn:microsoft.com/office/officeart/2005/8/layout/list1"/>
    <dgm:cxn modelId="{C90344C7-DBF9-43E0-98A6-FDE85F3DB5EA}" type="presParOf" srcId="{95E2BD3B-F652-4F94-8A87-E8839161DA79}" destId="{9AE0AED8-B76C-4D07-BA19-FD68FFBC7396}" srcOrd="4" destOrd="0" presId="urn:microsoft.com/office/officeart/2005/8/layout/list1"/>
    <dgm:cxn modelId="{2791A995-D955-4049-9015-9BF6FB819F5F}" type="presParOf" srcId="{9AE0AED8-B76C-4D07-BA19-FD68FFBC7396}" destId="{A24DAB98-9FC4-431D-8619-7276E36A195A}" srcOrd="0" destOrd="0" presId="urn:microsoft.com/office/officeart/2005/8/layout/list1"/>
    <dgm:cxn modelId="{661A8B7E-9997-4689-8716-7E304C775E9B}" type="presParOf" srcId="{9AE0AED8-B76C-4D07-BA19-FD68FFBC7396}" destId="{6110EABB-94C7-4774-9C73-A1BCE79529EC}" srcOrd="1" destOrd="0" presId="urn:microsoft.com/office/officeart/2005/8/layout/list1"/>
    <dgm:cxn modelId="{E3359E68-190D-4526-B2C2-B2EFBEBCB74C}" type="presParOf" srcId="{95E2BD3B-F652-4F94-8A87-E8839161DA79}" destId="{404CF056-0F55-4E21-83DE-6C1CF2BACAEC}" srcOrd="5" destOrd="0" presId="urn:microsoft.com/office/officeart/2005/8/layout/list1"/>
    <dgm:cxn modelId="{98539B3A-A381-410F-9112-08109C63167F}" type="presParOf" srcId="{95E2BD3B-F652-4F94-8A87-E8839161DA79}" destId="{1433F71B-DFCA-4D42-BB63-835FD5CACF1D}" srcOrd="6" destOrd="0" presId="urn:microsoft.com/office/officeart/2005/8/layout/list1"/>
    <dgm:cxn modelId="{FAABD767-A815-4504-8F88-32FAE8644716}" type="presParOf" srcId="{95E2BD3B-F652-4F94-8A87-E8839161DA79}" destId="{4B5C20BF-1146-4D4F-B995-BF0574D5AEC7}" srcOrd="7" destOrd="0" presId="urn:microsoft.com/office/officeart/2005/8/layout/list1"/>
    <dgm:cxn modelId="{41E7B2EC-947E-41F4-B9A6-275853276810}" type="presParOf" srcId="{95E2BD3B-F652-4F94-8A87-E8839161DA79}" destId="{9AB2BDFB-A10B-4A8F-8BFC-3786923D80B8}" srcOrd="8" destOrd="0" presId="urn:microsoft.com/office/officeart/2005/8/layout/list1"/>
    <dgm:cxn modelId="{67156E9B-A712-45D9-AF11-7A8F4906D537}" type="presParOf" srcId="{9AB2BDFB-A10B-4A8F-8BFC-3786923D80B8}" destId="{7B844246-0DD0-4689-888A-79C29FE6FBBB}" srcOrd="0" destOrd="0" presId="urn:microsoft.com/office/officeart/2005/8/layout/list1"/>
    <dgm:cxn modelId="{F334B3B3-DE9E-44C4-AFFE-9A23CDBB3A2C}" type="presParOf" srcId="{9AB2BDFB-A10B-4A8F-8BFC-3786923D80B8}" destId="{1D638F11-534D-4D89-97C6-AD763D4BE14C}" srcOrd="1" destOrd="0" presId="urn:microsoft.com/office/officeart/2005/8/layout/list1"/>
    <dgm:cxn modelId="{AD3154ED-17AC-4387-8038-D52B3B03777A}" type="presParOf" srcId="{95E2BD3B-F652-4F94-8A87-E8839161DA79}" destId="{207EC070-58CA-4A75-9F94-3DCE9EF4F4A1}" srcOrd="9" destOrd="0" presId="urn:microsoft.com/office/officeart/2005/8/layout/list1"/>
    <dgm:cxn modelId="{A44F0164-69D6-4AE8-A648-1FAC65AE5D23}" type="presParOf" srcId="{95E2BD3B-F652-4F94-8A87-E8839161DA79}" destId="{9EF0B79F-8520-4446-AEE0-976E131A3375}" srcOrd="10" destOrd="0" presId="urn:microsoft.com/office/officeart/2005/8/layout/list1"/>
    <dgm:cxn modelId="{A1E9BEE2-199F-45F0-9344-AF05A223968E}" type="presParOf" srcId="{95E2BD3B-F652-4F94-8A87-E8839161DA79}" destId="{B8696507-1E51-444B-B9F0-604ACC2BE4A5}" srcOrd="11" destOrd="0" presId="urn:microsoft.com/office/officeart/2005/8/layout/list1"/>
    <dgm:cxn modelId="{87EF470F-44CB-4D80-9188-9BDD2AA73211}" type="presParOf" srcId="{95E2BD3B-F652-4F94-8A87-E8839161DA79}" destId="{FE573379-2B77-40BF-A6F3-C04B73D6C6D4}" srcOrd="12" destOrd="0" presId="urn:microsoft.com/office/officeart/2005/8/layout/list1"/>
    <dgm:cxn modelId="{0D9B6122-0027-4262-8840-0C80AD60FBCD}" type="presParOf" srcId="{FE573379-2B77-40BF-A6F3-C04B73D6C6D4}" destId="{A13E48D0-E4D7-41BC-B9AA-AE4E86C7C29B}" srcOrd="0" destOrd="0" presId="urn:microsoft.com/office/officeart/2005/8/layout/list1"/>
    <dgm:cxn modelId="{625427AA-2FA0-4E90-84A2-7111219E03E2}" type="presParOf" srcId="{FE573379-2B77-40BF-A6F3-C04B73D6C6D4}" destId="{4806C507-8367-4D0B-908C-BA857E571484}" srcOrd="1" destOrd="0" presId="urn:microsoft.com/office/officeart/2005/8/layout/list1"/>
    <dgm:cxn modelId="{B0EFF926-3750-4CCE-8865-B6F168E0FEA9}" type="presParOf" srcId="{95E2BD3B-F652-4F94-8A87-E8839161DA79}" destId="{0CF5A101-E53D-4C72-BBA0-7FC1571A5B13}" srcOrd="13" destOrd="0" presId="urn:microsoft.com/office/officeart/2005/8/layout/list1"/>
    <dgm:cxn modelId="{116F7A83-D6B7-4C1D-8068-C5A3F0F6D518}" type="presParOf" srcId="{95E2BD3B-F652-4F94-8A87-E8839161DA79}" destId="{C1F43D13-E328-4603-8540-965DEA9A5274}" srcOrd="14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4E7599-8C04-4DD8-BB8F-73F1F208A146}" type="doc">
      <dgm:prSet loTypeId="urn:microsoft.com/office/officeart/2005/8/layout/cycle7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F522094D-CE25-445F-9A4A-8FEBA9231B09}">
      <dgm:prSet phldrT="[Текст]"/>
      <dgm:spPr/>
      <dgm:t>
        <a:bodyPr/>
        <a:lstStyle/>
        <a:p>
          <a:r>
            <a:rPr lang="ru-RU" b="1" dirty="0" smtClean="0"/>
            <a:t>ГИБДД</a:t>
          </a:r>
          <a:endParaRPr lang="ru-RU" b="1" dirty="0"/>
        </a:p>
      </dgm:t>
    </dgm:pt>
    <dgm:pt modelId="{6636F367-4ADA-4559-91B9-4B83E0A3784D}" type="parTrans" cxnId="{F6B6E4C4-CE3A-4DDA-8C3E-3DF928585E3C}">
      <dgm:prSet/>
      <dgm:spPr/>
      <dgm:t>
        <a:bodyPr/>
        <a:lstStyle/>
        <a:p>
          <a:endParaRPr lang="ru-RU"/>
        </a:p>
      </dgm:t>
    </dgm:pt>
    <dgm:pt modelId="{1B7F18AF-5557-4481-B5AB-638A4325F7CE}" type="sibTrans" cxnId="{F6B6E4C4-CE3A-4DDA-8C3E-3DF928585E3C}">
      <dgm:prSet/>
      <dgm:spPr/>
      <dgm:t>
        <a:bodyPr/>
        <a:lstStyle/>
        <a:p>
          <a:endParaRPr lang="ru-RU"/>
        </a:p>
      </dgm:t>
    </dgm:pt>
    <dgm:pt modelId="{DE61BA4A-CC0E-4CB8-B6CF-ED53C5EDB551}">
      <dgm:prSet phldrT="[Текст]"/>
      <dgm:spPr/>
      <dgm:t>
        <a:bodyPr/>
        <a:lstStyle/>
        <a:p>
          <a:r>
            <a:rPr lang="ru-RU" b="1" dirty="0" smtClean="0"/>
            <a:t>МБОУ СОШ №190</a:t>
          </a:r>
          <a:endParaRPr lang="ru-RU" b="1" dirty="0"/>
        </a:p>
      </dgm:t>
    </dgm:pt>
    <dgm:pt modelId="{F2AA8E00-328E-4614-9440-B0C5B6FDE528}" type="parTrans" cxnId="{68F45D91-36C7-4CCA-8B82-72954BA73A09}">
      <dgm:prSet/>
      <dgm:spPr/>
      <dgm:t>
        <a:bodyPr/>
        <a:lstStyle/>
        <a:p>
          <a:endParaRPr lang="ru-RU"/>
        </a:p>
      </dgm:t>
    </dgm:pt>
    <dgm:pt modelId="{23EB5868-0D3E-4271-968E-6041333C1484}" type="sibTrans" cxnId="{68F45D91-36C7-4CCA-8B82-72954BA73A09}">
      <dgm:prSet/>
      <dgm:spPr/>
      <dgm:t>
        <a:bodyPr/>
        <a:lstStyle/>
        <a:p>
          <a:endParaRPr lang="ru-RU"/>
        </a:p>
      </dgm:t>
    </dgm:pt>
    <dgm:pt modelId="{733BB2D1-C614-4055-95D5-C120FD3BAEEA}">
      <dgm:prSet phldrT="[Текст]"/>
      <dgm:spPr/>
      <dgm:t>
        <a:bodyPr/>
        <a:lstStyle/>
        <a:p>
          <a:r>
            <a:rPr lang="ru-RU" b="1" dirty="0" smtClean="0"/>
            <a:t>Родители воспитанников</a:t>
          </a:r>
          <a:endParaRPr lang="ru-RU" b="1" dirty="0"/>
        </a:p>
      </dgm:t>
    </dgm:pt>
    <dgm:pt modelId="{022AF8A8-C46C-47DB-BE66-C9C9AE032EBD}" type="parTrans" cxnId="{30E275DD-8976-453E-98CD-1133A4259675}">
      <dgm:prSet/>
      <dgm:spPr/>
      <dgm:t>
        <a:bodyPr/>
        <a:lstStyle/>
        <a:p>
          <a:endParaRPr lang="ru-RU"/>
        </a:p>
      </dgm:t>
    </dgm:pt>
    <dgm:pt modelId="{530DD893-7352-4A38-844B-3AD9C1C63FE5}" type="sibTrans" cxnId="{30E275DD-8976-453E-98CD-1133A4259675}">
      <dgm:prSet/>
      <dgm:spPr/>
      <dgm:t>
        <a:bodyPr/>
        <a:lstStyle/>
        <a:p>
          <a:endParaRPr lang="ru-RU"/>
        </a:p>
      </dgm:t>
    </dgm:pt>
    <dgm:pt modelId="{DD87AECA-761F-468E-9CDB-BE50B9D56AA9}">
      <dgm:prSet phldrT="[Текст]"/>
      <dgm:spPr/>
      <dgm:t>
        <a:bodyPr/>
        <a:lstStyle/>
        <a:p>
          <a:r>
            <a:rPr lang="ru-RU" b="1" dirty="0" smtClean="0">
              <a:solidFill>
                <a:schemeClr val="bg1"/>
              </a:solidFill>
            </a:rPr>
            <a:t>МКДОУ </a:t>
          </a:r>
          <a:r>
            <a:rPr lang="ru-RU" b="1" dirty="0" err="1" smtClean="0">
              <a:solidFill>
                <a:schemeClr val="bg1"/>
              </a:solidFill>
            </a:rPr>
            <a:t>д</a:t>
          </a:r>
          <a:r>
            <a:rPr lang="ru-RU" b="1" dirty="0" smtClean="0">
              <a:solidFill>
                <a:schemeClr val="bg1"/>
              </a:solidFill>
            </a:rPr>
            <a:t>/с №452 «Теремок»</a:t>
          </a:r>
          <a:endParaRPr lang="ru-RU" b="1" dirty="0">
            <a:solidFill>
              <a:schemeClr val="bg1"/>
            </a:solidFill>
          </a:endParaRPr>
        </a:p>
      </dgm:t>
    </dgm:pt>
    <dgm:pt modelId="{CA5A93F6-11D6-46E7-B0D3-F7D0ECD8456F}" type="parTrans" cxnId="{E747E7EB-6687-4371-92EC-7F1A8452CC42}">
      <dgm:prSet/>
      <dgm:spPr/>
      <dgm:t>
        <a:bodyPr/>
        <a:lstStyle/>
        <a:p>
          <a:endParaRPr lang="ru-RU"/>
        </a:p>
      </dgm:t>
    </dgm:pt>
    <dgm:pt modelId="{E2BC682B-2D0E-4A02-B560-8A98126A7029}" type="sibTrans" cxnId="{E747E7EB-6687-4371-92EC-7F1A8452CC42}">
      <dgm:prSet/>
      <dgm:spPr/>
      <dgm:t>
        <a:bodyPr/>
        <a:lstStyle/>
        <a:p>
          <a:endParaRPr lang="ru-RU"/>
        </a:p>
      </dgm:t>
    </dgm:pt>
    <dgm:pt modelId="{CF37E3EA-71F3-4DEE-99FD-A70589057290}" type="pres">
      <dgm:prSet presAssocID="{1B4E7599-8C04-4DD8-BB8F-73F1F208A146}" presName="Name0" presStyleCnt="0">
        <dgm:presLayoutVars>
          <dgm:dir/>
          <dgm:resizeHandles val="exact"/>
        </dgm:presLayoutVars>
      </dgm:prSet>
      <dgm:spPr/>
    </dgm:pt>
    <dgm:pt modelId="{3574D7FA-E7CC-44AB-938D-F2D042491D41}" type="pres">
      <dgm:prSet presAssocID="{F522094D-CE25-445F-9A4A-8FEBA9231B09}" presName="node" presStyleLbl="node1" presStyleIdx="0" presStyleCnt="4">
        <dgm:presLayoutVars>
          <dgm:bulletEnabled val="1"/>
        </dgm:presLayoutVars>
      </dgm:prSet>
      <dgm:spPr/>
    </dgm:pt>
    <dgm:pt modelId="{15814C35-641F-4EE6-867E-55818A116B5A}" type="pres">
      <dgm:prSet presAssocID="{1B7F18AF-5557-4481-B5AB-638A4325F7CE}" presName="sibTrans" presStyleLbl="sibTrans2D1" presStyleIdx="0" presStyleCnt="4"/>
      <dgm:spPr/>
    </dgm:pt>
    <dgm:pt modelId="{6C6EF25A-6128-4082-B112-61CEBE6F8FCB}" type="pres">
      <dgm:prSet presAssocID="{1B7F18AF-5557-4481-B5AB-638A4325F7CE}" presName="connectorText" presStyleLbl="sibTrans2D1" presStyleIdx="0" presStyleCnt="4"/>
      <dgm:spPr/>
    </dgm:pt>
    <dgm:pt modelId="{B5BF9CC5-1457-470A-AFED-01F5DD616FFE}" type="pres">
      <dgm:prSet presAssocID="{DE61BA4A-CC0E-4CB8-B6CF-ED53C5EDB551}" presName="node" presStyleLbl="node1" presStyleIdx="1" presStyleCnt="4">
        <dgm:presLayoutVars>
          <dgm:bulletEnabled val="1"/>
        </dgm:presLayoutVars>
      </dgm:prSet>
      <dgm:spPr/>
    </dgm:pt>
    <dgm:pt modelId="{50CC54B3-735A-4DAA-8EC0-3C60907045BB}" type="pres">
      <dgm:prSet presAssocID="{23EB5868-0D3E-4271-968E-6041333C1484}" presName="sibTrans" presStyleLbl="sibTrans2D1" presStyleIdx="1" presStyleCnt="4"/>
      <dgm:spPr/>
    </dgm:pt>
    <dgm:pt modelId="{BBFF16AF-F18A-4047-9EE4-6068A55FA196}" type="pres">
      <dgm:prSet presAssocID="{23EB5868-0D3E-4271-968E-6041333C1484}" presName="connectorText" presStyleLbl="sibTrans2D1" presStyleIdx="1" presStyleCnt="4"/>
      <dgm:spPr/>
    </dgm:pt>
    <dgm:pt modelId="{B0DBD990-032B-40DE-967F-1513464F4B41}" type="pres">
      <dgm:prSet presAssocID="{733BB2D1-C614-4055-95D5-C120FD3BAEEA}" presName="node" presStyleLbl="node1" presStyleIdx="2" presStyleCnt="4">
        <dgm:presLayoutVars>
          <dgm:bulletEnabled val="1"/>
        </dgm:presLayoutVars>
      </dgm:prSet>
      <dgm:spPr/>
    </dgm:pt>
    <dgm:pt modelId="{34E728EA-246A-4714-A764-7DF7E878BF64}" type="pres">
      <dgm:prSet presAssocID="{530DD893-7352-4A38-844B-3AD9C1C63FE5}" presName="sibTrans" presStyleLbl="sibTrans2D1" presStyleIdx="2" presStyleCnt="4"/>
      <dgm:spPr/>
    </dgm:pt>
    <dgm:pt modelId="{8CB4BE57-C63F-4941-9FFF-B353A51737D1}" type="pres">
      <dgm:prSet presAssocID="{530DD893-7352-4A38-844B-3AD9C1C63FE5}" presName="connectorText" presStyleLbl="sibTrans2D1" presStyleIdx="2" presStyleCnt="4"/>
      <dgm:spPr/>
    </dgm:pt>
    <dgm:pt modelId="{DE0B0C90-CB14-41AB-9809-9138FF2C043B}" type="pres">
      <dgm:prSet presAssocID="{DD87AECA-761F-468E-9CDB-BE50B9D56AA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B08FACA-CFFF-40A4-A8E4-A8A52A4D06AC}" type="pres">
      <dgm:prSet presAssocID="{E2BC682B-2D0E-4A02-B560-8A98126A7029}" presName="sibTrans" presStyleLbl="sibTrans2D1" presStyleIdx="3" presStyleCnt="4"/>
      <dgm:spPr/>
    </dgm:pt>
    <dgm:pt modelId="{32D4050C-E462-4E33-8729-D9CCD4DEB13C}" type="pres">
      <dgm:prSet presAssocID="{E2BC682B-2D0E-4A02-B560-8A98126A7029}" presName="connectorText" presStyleLbl="sibTrans2D1" presStyleIdx="3" presStyleCnt="4"/>
      <dgm:spPr/>
    </dgm:pt>
  </dgm:ptLst>
  <dgm:cxnLst>
    <dgm:cxn modelId="{9EF4DE03-7377-451F-B507-7F3ABC5B8A58}" type="presOf" srcId="{530DD893-7352-4A38-844B-3AD9C1C63FE5}" destId="{34E728EA-246A-4714-A764-7DF7E878BF64}" srcOrd="0" destOrd="0" presId="urn:microsoft.com/office/officeart/2005/8/layout/cycle7"/>
    <dgm:cxn modelId="{A0E47AC1-E310-419C-BCB3-F513022D95CD}" type="presOf" srcId="{1B7F18AF-5557-4481-B5AB-638A4325F7CE}" destId="{6C6EF25A-6128-4082-B112-61CEBE6F8FCB}" srcOrd="1" destOrd="0" presId="urn:microsoft.com/office/officeart/2005/8/layout/cycle7"/>
    <dgm:cxn modelId="{E82EF49B-64FD-44EE-A901-B1096DCB6D51}" type="presOf" srcId="{F522094D-CE25-445F-9A4A-8FEBA9231B09}" destId="{3574D7FA-E7CC-44AB-938D-F2D042491D41}" srcOrd="0" destOrd="0" presId="urn:microsoft.com/office/officeart/2005/8/layout/cycle7"/>
    <dgm:cxn modelId="{F6B6E4C4-CE3A-4DDA-8C3E-3DF928585E3C}" srcId="{1B4E7599-8C04-4DD8-BB8F-73F1F208A146}" destId="{F522094D-CE25-445F-9A4A-8FEBA9231B09}" srcOrd="0" destOrd="0" parTransId="{6636F367-4ADA-4559-91B9-4B83E0A3784D}" sibTransId="{1B7F18AF-5557-4481-B5AB-638A4325F7CE}"/>
    <dgm:cxn modelId="{E747E7EB-6687-4371-92EC-7F1A8452CC42}" srcId="{1B4E7599-8C04-4DD8-BB8F-73F1F208A146}" destId="{DD87AECA-761F-468E-9CDB-BE50B9D56AA9}" srcOrd="3" destOrd="0" parTransId="{CA5A93F6-11D6-46E7-B0D3-F7D0ECD8456F}" sibTransId="{E2BC682B-2D0E-4A02-B560-8A98126A7029}"/>
    <dgm:cxn modelId="{6B424D4E-BBD7-4361-AE02-0BFAC9818D3B}" type="presOf" srcId="{530DD893-7352-4A38-844B-3AD9C1C63FE5}" destId="{8CB4BE57-C63F-4941-9FFF-B353A51737D1}" srcOrd="1" destOrd="0" presId="urn:microsoft.com/office/officeart/2005/8/layout/cycle7"/>
    <dgm:cxn modelId="{E6324080-8811-4F8A-B9F1-BEFCD896F25A}" type="presOf" srcId="{1B4E7599-8C04-4DD8-BB8F-73F1F208A146}" destId="{CF37E3EA-71F3-4DEE-99FD-A70589057290}" srcOrd="0" destOrd="0" presId="urn:microsoft.com/office/officeart/2005/8/layout/cycle7"/>
    <dgm:cxn modelId="{D6557862-730D-4745-905D-6FB4E728902B}" type="presOf" srcId="{733BB2D1-C614-4055-95D5-C120FD3BAEEA}" destId="{B0DBD990-032B-40DE-967F-1513464F4B41}" srcOrd="0" destOrd="0" presId="urn:microsoft.com/office/officeart/2005/8/layout/cycle7"/>
    <dgm:cxn modelId="{97EA73C5-0F40-4151-B507-A5761F41828B}" type="presOf" srcId="{1B7F18AF-5557-4481-B5AB-638A4325F7CE}" destId="{15814C35-641F-4EE6-867E-55818A116B5A}" srcOrd="0" destOrd="0" presId="urn:microsoft.com/office/officeart/2005/8/layout/cycle7"/>
    <dgm:cxn modelId="{DA781381-48D2-483E-BC08-746F3AF70A67}" type="presOf" srcId="{DE61BA4A-CC0E-4CB8-B6CF-ED53C5EDB551}" destId="{B5BF9CC5-1457-470A-AFED-01F5DD616FFE}" srcOrd="0" destOrd="0" presId="urn:microsoft.com/office/officeart/2005/8/layout/cycle7"/>
    <dgm:cxn modelId="{361FBFDA-F4DA-403F-9E38-F1867E36F1BE}" type="presOf" srcId="{23EB5868-0D3E-4271-968E-6041333C1484}" destId="{BBFF16AF-F18A-4047-9EE4-6068A55FA196}" srcOrd="1" destOrd="0" presId="urn:microsoft.com/office/officeart/2005/8/layout/cycle7"/>
    <dgm:cxn modelId="{D3EA5F37-C395-4AC6-9E6F-D0C58F251B9F}" type="presOf" srcId="{E2BC682B-2D0E-4A02-B560-8A98126A7029}" destId="{5B08FACA-CFFF-40A4-A8E4-A8A52A4D06AC}" srcOrd="0" destOrd="0" presId="urn:microsoft.com/office/officeart/2005/8/layout/cycle7"/>
    <dgm:cxn modelId="{981186AB-8204-433D-B51E-BA9BD9EF2D57}" type="presOf" srcId="{E2BC682B-2D0E-4A02-B560-8A98126A7029}" destId="{32D4050C-E462-4E33-8729-D9CCD4DEB13C}" srcOrd="1" destOrd="0" presId="urn:microsoft.com/office/officeart/2005/8/layout/cycle7"/>
    <dgm:cxn modelId="{440584CB-E98A-4E3E-AD43-FC4CC5CF9482}" type="presOf" srcId="{DD87AECA-761F-468E-9CDB-BE50B9D56AA9}" destId="{DE0B0C90-CB14-41AB-9809-9138FF2C043B}" srcOrd="0" destOrd="0" presId="urn:microsoft.com/office/officeart/2005/8/layout/cycle7"/>
    <dgm:cxn modelId="{30E275DD-8976-453E-98CD-1133A4259675}" srcId="{1B4E7599-8C04-4DD8-BB8F-73F1F208A146}" destId="{733BB2D1-C614-4055-95D5-C120FD3BAEEA}" srcOrd="2" destOrd="0" parTransId="{022AF8A8-C46C-47DB-BE66-C9C9AE032EBD}" sibTransId="{530DD893-7352-4A38-844B-3AD9C1C63FE5}"/>
    <dgm:cxn modelId="{7BC26DFC-891C-45EB-84C9-4BCC8195525D}" type="presOf" srcId="{23EB5868-0D3E-4271-968E-6041333C1484}" destId="{50CC54B3-735A-4DAA-8EC0-3C60907045BB}" srcOrd="0" destOrd="0" presId="urn:microsoft.com/office/officeart/2005/8/layout/cycle7"/>
    <dgm:cxn modelId="{68F45D91-36C7-4CCA-8B82-72954BA73A09}" srcId="{1B4E7599-8C04-4DD8-BB8F-73F1F208A146}" destId="{DE61BA4A-CC0E-4CB8-B6CF-ED53C5EDB551}" srcOrd="1" destOrd="0" parTransId="{F2AA8E00-328E-4614-9440-B0C5B6FDE528}" sibTransId="{23EB5868-0D3E-4271-968E-6041333C1484}"/>
    <dgm:cxn modelId="{F0464DA8-3D76-4CFF-88D2-34C098967872}" type="presParOf" srcId="{CF37E3EA-71F3-4DEE-99FD-A70589057290}" destId="{3574D7FA-E7CC-44AB-938D-F2D042491D41}" srcOrd="0" destOrd="0" presId="urn:microsoft.com/office/officeart/2005/8/layout/cycle7"/>
    <dgm:cxn modelId="{39DEC810-F2D6-42B6-80FD-E60A903231FD}" type="presParOf" srcId="{CF37E3EA-71F3-4DEE-99FD-A70589057290}" destId="{15814C35-641F-4EE6-867E-55818A116B5A}" srcOrd="1" destOrd="0" presId="urn:microsoft.com/office/officeart/2005/8/layout/cycle7"/>
    <dgm:cxn modelId="{D0BC399C-6C3A-4E97-8048-72FC4B28446D}" type="presParOf" srcId="{15814C35-641F-4EE6-867E-55818A116B5A}" destId="{6C6EF25A-6128-4082-B112-61CEBE6F8FCB}" srcOrd="0" destOrd="0" presId="urn:microsoft.com/office/officeart/2005/8/layout/cycle7"/>
    <dgm:cxn modelId="{65B60772-8883-4073-8ADA-6191D4EACC32}" type="presParOf" srcId="{CF37E3EA-71F3-4DEE-99FD-A70589057290}" destId="{B5BF9CC5-1457-470A-AFED-01F5DD616FFE}" srcOrd="2" destOrd="0" presId="urn:microsoft.com/office/officeart/2005/8/layout/cycle7"/>
    <dgm:cxn modelId="{77288919-9A82-4BD4-8A5E-B5C39E297A29}" type="presParOf" srcId="{CF37E3EA-71F3-4DEE-99FD-A70589057290}" destId="{50CC54B3-735A-4DAA-8EC0-3C60907045BB}" srcOrd="3" destOrd="0" presId="urn:microsoft.com/office/officeart/2005/8/layout/cycle7"/>
    <dgm:cxn modelId="{C172D9A6-32BA-4F0F-B390-FC7666C2CAAA}" type="presParOf" srcId="{50CC54B3-735A-4DAA-8EC0-3C60907045BB}" destId="{BBFF16AF-F18A-4047-9EE4-6068A55FA196}" srcOrd="0" destOrd="0" presId="urn:microsoft.com/office/officeart/2005/8/layout/cycle7"/>
    <dgm:cxn modelId="{6B171EFB-62A9-494E-A48D-45760E2CA020}" type="presParOf" srcId="{CF37E3EA-71F3-4DEE-99FD-A70589057290}" destId="{B0DBD990-032B-40DE-967F-1513464F4B41}" srcOrd="4" destOrd="0" presId="urn:microsoft.com/office/officeart/2005/8/layout/cycle7"/>
    <dgm:cxn modelId="{81576E18-C278-4330-8ADF-6F8FBD87A655}" type="presParOf" srcId="{CF37E3EA-71F3-4DEE-99FD-A70589057290}" destId="{34E728EA-246A-4714-A764-7DF7E878BF64}" srcOrd="5" destOrd="0" presId="urn:microsoft.com/office/officeart/2005/8/layout/cycle7"/>
    <dgm:cxn modelId="{1094E2DE-729F-45BC-868B-CF5E2BBD05A8}" type="presParOf" srcId="{34E728EA-246A-4714-A764-7DF7E878BF64}" destId="{8CB4BE57-C63F-4941-9FFF-B353A51737D1}" srcOrd="0" destOrd="0" presId="urn:microsoft.com/office/officeart/2005/8/layout/cycle7"/>
    <dgm:cxn modelId="{5EDEAED7-AB4D-4A63-B83C-808A3CFC6DF3}" type="presParOf" srcId="{CF37E3EA-71F3-4DEE-99FD-A70589057290}" destId="{DE0B0C90-CB14-41AB-9809-9138FF2C043B}" srcOrd="6" destOrd="0" presId="urn:microsoft.com/office/officeart/2005/8/layout/cycle7"/>
    <dgm:cxn modelId="{3F43B97A-3247-4A1D-9D33-3A119F25FDEC}" type="presParOf" srcId="{CF37E3EA-71F3-4DEE-99FD-A70589057290}" destId="{5B08FACA-CFFF-40A4-A8E4-A8A52A4D06AC}" srcOrd="7" destOrd="0" presId="urn:microsoft.com/office/officeart/2005/8/layout/cycle7"/>
    <dgm:cxn modelId="{13F321C3-9DBD-4608-A4AB-E1D8DE7A8FF2}" type="presParOf" srcId="{5B08FACA-CFFF-40A4-A8E4-A8A52A4D06AC}" destId="{32D4050C-E462-4E33-8729-D9CCD4DEB13C}" srcOrd="0" destOrd="0" presId="urn:microsoft.com/office/officeart/2005/8/layout/cycle7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3C723E5C-A75B-4D03-983C-2D155497ABED}" type="doc">
      <dgm:prSet loTypeId="urn:microsoft.com/office/officeart/2005/8/layout/gear1" loCatId="cycle" qsTypeId="urn:microsoft.com/office/officeart/2005/8/quickstyle/simple1" qsCatId="simple" csTypeId="urn:microsoft.com/office/officeart/2005/8/colors/accent1_2" csCatId="accent1" phldr="1"/>
      <dgm:spPr/>
    </dgm:pt>
    <dgm:pt modelId="{0CBE6C90-B993-430A-B4E4-31EC6B954C71}">
      <dgm:prSet phldrT="[Текст]" custT="1"/>
      <dgm:spPr>
        <a:solidFill>
          <a:srgbClr val="00B050"/>
        </a:solidFill>
      </dgm:spPr>
      <dgm:t>
        <a:bodyPr/>
        <a:lstStyle/>
        <a:p>
          <a:r>
            <a:rPr lang="ru-RU" sz="2000" b="1" dirty="0" smtClean="0"/>
            <a:t>Руководитель и административный персонал</a:t>
          </a:r>
          <a:endParaRPr lang="ru-RU" sz="2000" b="1" dirty="0"/>
        </a:p>
      </dgm:t>
    </dgm:pt>
    <dgm:pt modelId="{271CAC4F-3A47-4968-B0DD-A5DEEF9D2AD3}" type="parTrans" cxnId="{55C5313B-E904-4DBF-968C-C3B08BC825BF}">
      <dgm:prSet/>
      <dgm:spPr/>
      <dgm:t>
        <a:bodyPr/>
        <a:lstStyle/>
        <a:p>
          <a:endParaRPr lang="ru-RU"/>
        </a:p>
      </dgm:t>
    </dgm:pt>
    <dgm:pt modelId="{1C2B6441-8764-470E-B93D-ACA74EAF7615}" type="sibTrans" cxnId="{55C5313B-E904-4DBF-968C-C3B08BC825BF}">
      <dgm:prSet/>
      <dgm:spPr>
        <a:solidFill>
          <a:srgbClr val="FFC000"/>
        </a:solidFill>
      </dgm:spPr>
      <dgm:t>
        <a:bodyPr/>
        <a:lstStyle/>
        <a:p>
          <a:endParaRPr lang="ru-RU"/>
        </a:p>
      </dgm:t>
    </dgm:pt>
    <dgm:pt modelId="{C227E34B-C215-44CE-B45F-D5AF3539A1C7}">
      <dgm:prSet phldrT="[Текст]" custT="1"/>
      <dgm:spPr>
        <a:solidFill>
          <a:srgbClr val="00B050"/>
        </a:solidFill>
      </dgm:spPr>
      <dgm:t>
        <a:bodyPr/>
        <a:lstStyle/>
        <a:p>
          <a:r>
            <a:rPr lang="ru-RU" sz="2000" b="1" dirty="0" smtClean="0">
              <a:latin typeface="Times New Roman" pitchFamily="18" charset="0"/>
              <a:cs typeface="Times New Roman" pitchFamily="18" charset="0"/>
            </a:rPr>
            <a:t>Педагогический </a:t>
          </a:r>
          <a:r>
            <a:rPr lang="ru-RU" sz="2000" b="1" dirty="0" smtClean="0">
              <a:latin typeface="Times New Roman" pitchFamily="18" charset="0"/>
              <a:cs typeface="Times New Roman" pitchFamily="18" charset="0"/>
            </a:rPr>
            <a:t>персонал</a:t>
          </a:r>
          <a:endParaRPr lang="ru-RU" sz="2000" b="1" dirty="0">
            <a:latin typeface="Times New Roman" pitchFamily="18" charset="0"/>
            <a:cs typeface="Times New Roman" pitchFamily="18" charset="0"/>
          </a:endParaRPr>
        </a:p>
      </dgm:t>
    </dgm:pt>
    <dgm:pt modelId="{59639593-FFEC-4D81-8208-556CB737C149}" type="parTrans" cxnId="{24B3DCDE-FB8E-4C47-9958-1B3E4370EF95}">
      <dgm:prSet/>
      <dgm:spPr/>
      <dgm:t>
        <a:bodyPr/>
        <a:lstStyle/>
        <a:p>
          <a:endParaRPr lang="ru-RU"/>
        </a:p>
      </dgm:t>
    </dgm:pt>
    <dgm:pt modelId="{C666EA37-7CDB-4489-9CBF-4865FA1FEB2F}" type="sibTrans" cxnId="{24B3DCDE-FB8E-4C47-9958-1B3E4370EF95}">
      <dgm:prSet/>
      <dgm:spPr>
        <a:solidFill>
          <a:srgbClr val="FFC000"/>
        </a:solidFill>
      </dgm:spPr>
      <dgm:t>
        <a:bodyPr/>
        <a:lstStyle/>
        <a:p>
          <a:endParaRPr lang="ru-RU"/>
        </a:p>
      </dgm:t>
    </dgm:pt>
    <dgm:pt modelId="{58CC98F8-B5FB-4B1C-9328-4271F80F90A4}">
      <dgm:prSet phldrT="[Текст]" custT="1"/>
      <dgm:spPr>
        <a:solidFill>
          <a:srgbClr val="00B050"/>
        </a:solidFill>
      </dgm:spPr>
      <dgm:t>
        <a:bodyPr/>
        <a:lstStyle/>
        <a:p>
          <a:r>
            <a:rPr lang="ru-RU" sz="1800" b="1" dirty="0" smtClean="0"/>
            <a:t>Родители воспитанников, окружающий социум</a:t>
          </a:r>
          <a:endParaRPr lang="ru-RU" sz="1800" b="1" dirty="0"/>
        </a:p>
      </dgm:t>
    </dgm:pt>
    <dgm:pt modelId="{FCEDCE2B-8D23-4572-BD7F-D3A7F71FAB98}" type="parTrans" cxnId="{A8EDE6B0-2952-47E5-B116-BF8CA5FB8B78}">
      <dgm:prSet/>
      <dgm:spPr/>
      <dgm:t>
        <a:bodyPr/>
        <a:lstStyle/>
        <a:p>
          <a:endParaRPr lang="ru-RU"/>
        </a:p>
      </dgm:t>
    </dgm:pt>
    <dgm:pt modelId="{CB7EEE26-5516-4E54-A6D3-1CF28114536F}" type="sibTrans" cxnId="{A8EDE6B0-2952-47E5-B116-BF8CA5FB8B78}">
      <dgm:prSet/>
      <dgm:spPr>
        <a:solidFill>
          <a:srgbClr val="FFC000"/>
        </a:solidFill>
      </dgm:spPr>
      <dgm:t>
        <a:bodyPr/>
        <a:lstStyle/>
        <a:p>
          <a:endParaRPr lang="ru-RU"/>
        </a:p>
      </dgm:t>
    </dgm:pt>
    <dgm:pt modelId="{6DB9985D-5CBD-4E8F-85DA-ACEEC7CD5D8A}" type="pres">
      <dgm:prSet presAssocID="{3C723E5C-A75B-4D03-983C-2D155497ABED}" presName="composite" presStyleCnt="0">
        <dgm:presLayoutVars>
          <dgm:chMax val="3"/>
          <dgm:animLvl val="lvl"/>
          <dgm:resizeHandles val="exact"/>
        </dgm:presLayoutVars>
      </dgm:prSet>
      <dgm:spPr/>
    </dgm:pt>
    <dgm:pt modelId="{1BDFC280-A668-4531-BB71-CF6C248AAD5E}" type="pres">
      <dgm:prSet presAssocID="{0CBE6C90-B993-430A-B4E4-31EC6B954C71}" presName="gear1" presStyleLbl="node1" presStyleIdx="0" presStyleCnt="3" custScaleX="119600" custScaleY="104871" custLinFactNeighborX="17945" custLinFactNeighborY="-6962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EBBA213-2725-4319-8673-375A92813287}" type="pres">
      <dgm:prSet presAssocID="{0CBE6C90-B993-430A-B4E4-31EC6B954C71}" presName="gear1srcNode" presStyleLbl="node1" presStyleIdx="0" presStyleCnt="3"/>
      <dgm:spPr/>
      <dgm:t>
        <a:bodyPr/>
        <a:lstStyle/>
        <a:p>
          <a:endParaRPr lang="ru-RU"/>
        </a:p>
      </dgm:t>
    </dgm:pt>
    <dgm:pt modelId="{CC581836-15AE-41DA-B631-364E5CF388BA}" type="pres">
      <dgm:prSet presAssocID="{0CBE6C90-B993-430A-B4E4-31EC6B954C71}" presName="gear1dstNode" presStyleLbl="node1" presStyleIdx="0" presStyleCnt="3"/>
      <dgm:spPr/>
      <dgm:t>
        <a:bodyPr/>
        <a:lstStyle/>
        <a:p>
          <a:endParaRPr lang="ru-RU"/>
        </a:p>
      </dgm:t>
    </dgm:pt>
    <dgm:pt modelId="{B28E5DF1-133D-427C-8F4E-9246DCA745DB}" type="pres">
      <dgm:prSet presAssocID="{C227E34B-C215-44CE-B45F-D5AF3539A1C7}" presName="gear2" presStyleLbl="node1" presStyleIdx="1" presStyleCnt="3" custScaleX="161754" custScaleY="116623" custLinFactNeighborX="-9496" custLinFactNeighborY="-6065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DDEACDC-23FD-4CF2-9087-C4411E7B02B2}" type="pres">
      <dgm:prSet presAssocID="{C227E34B-C215-44CE-B45F-D5AF3539A1C7}" presName="gear2srcNode" presStyleLbl="node1" presStyleIdx="1" presStyleCnt="3"/>
      <dgm:spPr/>
      <dgm:t>
        <a:bodyPr/>
        <a:lstStyle/>
        <a:p>
          <a:endParaRPr lang="ru-RU"/>
        </a:p>
      </dgm:t>
    </dgm:pt>
    <dgm:pt modelId="{7193FD3B-5C1B-4676-A904-54E56AB9DFFF}" type="pres">
      <dgm:prSet presAssocID="{C227E34B-C215-44CE-B45F-D5AF3539A1C7}" presName="gear2dstNode" presStyleLbl="node1" presStyleIdx="1" presStyleCnt="3"/>
      <dgm:spPr/>
      <dgm:t>
        <a:bodyPr/>
        <a:lstStyle/>
        <a:p>
          <a:endParaRPr lang="ru-RU"/>
        </a:p>
      </dgm:t>
    </dgm:pt>
    <dgm:pt modelId="{7529DF96-C896-4C55-B241-CCB9188CFBE5}" type="pres">
      <dgm:prSet presAssocID="{58CC98F8-B5FB-4B1C-9328-4271F80F90A4}" presName="gear3" presStyleLbl="node1" presStyleIdx="2" presStyleCnt="3" custScaleX="147480" custScaleY="134589" custLinFactNeighborX="-15803" custLinFactNeighborY="94419"/>
      <dgm:spPr/>
      <dgm:t>
        <a:bodyPr/>
        <a:lstStyle/>
        <a:p>
          <a:endParaRPr lang="ru-RU"/>
        </a:p>
      </dgm:t>
    </dgm:pt>
    <dgm:pt modelId="{D52D3237-A82E-48C0-AD77-86362DA60E96}" type="pres">
      <dgm:prSet presAssocID="{58CC98F8-B5FB-4B1C-9328-4271F80F90A4}" presName="gear3tx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722B263-A4B9-45D0-93A9-125C78C980C4}" type="pres">
      <dgm:prSet presAssocID="{58CC98F8-B5FB-4B1C-9328-4271F80F90A4}" presName="gear3srcNode" presStyleLbl="node1" presStyleIdx="2" presStyleCnt="3"/>
      <dgm:spPr/>
      <dgm:t>
        <a:bodyPr/>
        <a:lstStyle/>
        <a:p>
          <a:endParaRPr lang="ru-RU"/>
        </a:p>
      </dgm:t>
    </dgm:pt>
    <dgm:pt modelId="{880DE1C5-A238-409D-B9A7-71082BF23FEA}" type="pres">
      <dgm:prSet presAssocID="{58CC98F8-B5FB-4B1C-9328-4271F80F90A4}" presName="gear3dstNode" presStyleLbl="node1" presStyleIdx="2" presStyleCnt="3"/>
      <dgm:spPr/>
      <dgm:t>
        <a:bodyPr/>
        <a:lstStyle/>
        <a:p>
          <a:endParaRPr lang="ru-RU"/>
        </a:p>
      </dgm:t>
    </dgm:pt>
    <dgm:pt modelId="{117423EE-0FF8-4CB4-A115-3B63B19F97DF}" type="pres">
      <dgm:prSet presAssocID="{1C2B6441-8764-470E-B93D-ACA74EAF7615}" presName="connector1" presStyleLbl="sibTrans2D1" presStyleIdx="0" presStyleCnt="3" custLinFactNeighborX="15028" custLinFactNeighborY="-51662"/>
      <dgm:spPr/>
      <dgm:t>
        <a:bodyPr/>
        <a:lstStyle/>
        <a:p>
          <a:endParaRPr lang="ru-RU"/>
        </a:p>
      </dgm:t>
    </dgm:pt>
    <dgm:pt modelId="{21FE6BB9-9FAE-44AC-B8FB-38FA81D84B6F}" type="pres">
      <dgm:prSet presAssocID="{C666EA37-7CDB-4489-9CBF-4865FA1FEB2F}" presName="connector2" presStyleLbl="sibTrans2D1" presStyleIdx="1" presStyleCnt="3" custAng="11065896" custLinFactNeighborX="49910" custLinFactNeighborY="40249"/>
      <dgm:spPr/>
      <dgm:t>
        <a:bodyPr/>
        <a:lstStyle/>
        <a:p>
          <a:endParaRPr lang="ru-RU"/>
        </a:p>
      </dgm:t>
    </dgm:pt>
    <dgm:pt modelId="{A3116998-6001-48D0-B603-6B20313D450C}" type="pres">
      <dgm:prSet presAssocID="{CB7EEE26-5516-4E54-A6D3-1CF28114536F}" presName="connector3" presStyleLbl="sibTrans2D1" presStyleIdx="2" presStyleCnt="3" custAng="2983659" custLinFactNeighborX="-32587" custLinFactNeighborY="7362"/>
      <dgm:spPr/>
      <dgm:t>
        <a:bodyPr/>
        <a:lstStyle/>
        <a:p>
          <a:endParaRPr lang="ru-RU"/>
        </a:p>
      </dgm:t>
    </dgm:pt>
  </dgm:ptLst>
  <dgm:cxnLst>
    <dgm:cxn modelId="{A8EDE6B0-2952-47E5-B116-BF8CA5FB8B78}" srcId="{3C723E5C-A75B-4D03-983C-2D155497ABED}" destId="{58CC98F8-B5FB-4B1C-9328-4271F80F90A4}" srcOrd="2" destOrd="0" parTransId="{FCEDCE2B-8D23-4572-BD7F-D3A7F71FAB98}" sibTransId="{CB7EEE26-5516-4E54-A6D3-1CF28114536F}"/>
    <dgm:cxn modelId="{1E9B7B86-A59A-4BB2-9169-29168580B646}" type="presOf" srcId="{3C723E5C-A75B-4D03-983C-2D155497ABED}" destId="{6DB9985D-5CBD-4E8F-85DA-ACEEC7CD5D8A}" srcOrd="0" destOrd="0" presId="urn:microsoft.com/office/officeart/2005/8/layout/gear1"/>
    <dgm:cxn modelId="{55C5313B-E904-4DBF-968C-C3B08BC825BF}" srcId="{3C723E5C-A75B-4D03-983C-2D155497ABED}" destId="{0CBE6C90-B993-430A-B4E4-31EC6B954C71}" srcOrd="0" destOrd="0" parTransId="{271CAC4F-3A47-4968-B0DD-A5DEEF9D2AD3}" sibTransId="{1C2B6441-8764-470E-B93D-ACA74EAF7615}"/>
    <dgm:cxn modelId="{4B4663F5-3592-4615-B9EC-945E627788D7}" type="presOf" srcId="{0CBE6C90-B993-430A-B4E4-31EC6B954C71}" destId="{2EBBA213-2725-4319-8673-375A92813287}" srcOrd="1" destOrd="0" presId="urn:microsoft.com/office/officeart/2005/8/layout/gear1"/>
    <dgm:cxn modelId="{10E338C2-BDC5-49CF-BAC0-F01CCB94BFFE}" type="presOf" srcId="{C227E34B-C215-44CE-B45F-D5AF3539A1C7}" destId="{7193FD3B-5C1B-4676-A904-54E56AB9DFFF}" srcOrd="2" destOrd="0" presId="urn:microsoft.com/office/officeart/2005/8/layout/gear1"/>
    <dgm:cxn modelId="{85E1E35C-3DA5-44B8-9DB2-D2D1FCF5C4C9}" type="presOf" srcId="{58CC98F8-B5FB-4B1C-9328-4271F80F90A4}" destId="{D52D3237-A82E-48C0-AD77-86362DA60E96}" srcOrd="1" destOrd="0" presId="urn:microsoft.com/office/officeart/2005/8/layout/gear1"/>
    <dgm:cxn modelId="{88E0B428-7B72-41B0-A314-F78F5536C626}" type="presOf" srcId="{C227E34B-C215-44CE-B45F-D5AF3539A1C7}" destId="{B28E5DF1-133D-427C-8F4E-9246DCA745DB}" srcOrd="0" destOrd="0" presId="urn:microsoft.com/office/officeart/2005/8/layout/gear1"/>
    <dgm:cxn modelId="{80E3F33B-6068-402B-82EE-85DD934BB64C}" type="presOf" srcId="{1C2B6441-8764-470E-B93D-ACA74EAF7615}" destId="{117423EE-0FF8-4CB4-A115-3B63B19F97DF}" srcOrd="0" destOrd="0" presId="urn:microsoft.com/office/officeart/2005/8/layout/gear1"/>
    <dgm:cxn modelId="{B7CA231D-6D40-4E84-987D-467F3FDA83D9}" type="presOf" srcId="{58CC98F8-B5FB-4B1C-9328-4271F80F90A4}" destId="{7529DF96-C896-4C55-B241-CCB9188CFBE5}" srcOrd="0" destOrd="0" presId="urn:microsoft.com/office/officeart/2005/8/layout/gear1"/>
    <dgm:cxn modelId="{B5F8B8FD-0590-4FF1-BB18-96D33A768B06}" type="presOf" srcId="{0CBE6C90-B993-430A-B4E4-31EC6B954C71}" destId="{1BDFC280-A668-4531-BB71-CF6C248AAD5E}" srcOrd="0" destOrd="0" presId="urn:microsoft.com/office/officeart/2005/8/layout/gear1"/>
    <dgm:cxn modelId="{9CC92164-8BBE-43E5-A048-C0E1D8AEC97A}" type="presOf" srcId="{0CBE6C90-B993-430A-B4E4-31EC6B954C71}" destId="{CC581836-15AE-41DA-B631-364E5CF388BA}" srcOrd="2" destOrd="0" presId="urn:microsoft.com/office/officeart/2005/8/layout/gear1"/>
    <dgm:cxn modelId="{24D7BCB2-67BA-4038-9B22-B0A55B3DDF29}" type="presOf" srcId="{58CC98F8-B5FB-4B1C-9328-4271F80F90A4}" destId="{880DE1C5-A238-409D-B9A7-71082BF23FEA}" srcOrd="3" destOrd="0" presId="urn:microsoft.com/office/officeart/2005/8/layout/gear1"/>
    <dgm:cxn modelId="{24B3DCDE-FB8E-4C47-9958-1B3E4370EF95}" srcId="{3C723E5C-A75B-4D03-983C-2D155497ABED}" destId="{C227E34B-C215-44CE-B45F-D5AF3539A1C7}" srcOrd="1" destOrd="0" parTransId="{59639593-FFEC-4D81-8208-556CB737C149}" sibTransId="{C666EA37-7CDB-4489-9CBF-4865FA1FEB2F}"/>
    <dgm:cxn modelId="{B0E47B04-0127-45E8-B79A-D723C64728EA}" type="presOf" srcId="{C227E34B-C215-44CE-B45F-D5AF3539A1C7}" destId="{CDDEACDC-23FD-4CF2-9087-C4411E7B02B2}" srcOrd="1" destOrd="0" presId="urn:microsoft.com/office/officeart/2005/8/layout/gear1"/>
    <dgm:cxn modelId="{D53A12A0-7B34-42DF-8C86-5033A43CFE04}" type="presOf" srcId="{58CC98F8-B5FB-4B1C-9328-4271F80F90A4}" destId="{0722B263-A4B9-45D0-93A9-125C78C980C4}" srcOrd="2" destOrd="0" presId="urn:microsoft.com/office/officeart/2005/8/layout/gear1"/>
    <dgm:cxn modelId="{4632CEB4-786A-41D6-A7E8-AF1F58F96214}" type="presOf" srcId="{CB7EEE26-5516-4E54-A6D3-1CF28114536F}" destId="{A3116998-6001-48D0-B603-6B20313D450C}" srcOrd="0" destOrd="0" presId="urn:microsoft.com/office/officeart/2005/8/layout/gear1"/>
    <dgm:cxn modelId="{089EBF4D-E5C6-4033-8AE4-B66A4E101E12}" type="presOf" srcId="{C666EA37-7CDB-4489-9CBF-4865FA1FEB2F}" destId="{21FE6BB9-9FAE-44AC-B8FB-38FA81D84B6F}" srcOrd="0" destOrd="0" presId="urn:microsoft.com/office/officeart/2005/8/layout/gear1"/>
    <dgm:cxn modelId="{05EC9E75-FFF5-4F5E-8A30-96D9610AAE1B}" type="presParOf" srcId="{6DB9985D-5CBD-4E8F-85DA-ACEEC7CD5D8A}" destId="{1BDFC280-A668-4531-BB71-CF6C248AAD5E}" srcOrd="0" destOrd="0" presId="urn:microsoft.com/office/officeart/2005/8/layout/gear1"/>
    <dgm:cxn modelId="{99EF7DF2-EE38-412B-9339-54D2AE46812C}" type="presParOf" srcId="{6DB9985D-5CBD-4E8F-85DA-ACEEC7CD5D8A}" destId="{2EBBA213-2725-4319-8673-375A92813287}" srcOrd="1" destOrd="0" presId="urn:microsoft.com/office/officeart/2005/8/layout/gear1"/>
    <dgm:cxn modelId="{717E2EA6-CAAE-460C-9667-A98E5952D862}" type="presParOf" srcId="{6DB9985D-5CBD-4E8F-85DA-ACEEC7CD5D8A}" destId="{CC581836-15AE-41DA-B631-364E5CF388BA}" srcOrd="2" destOrd="0" presId="urn:microsoft.com/office/officeart/2005/8/layout/gear1"/>
    <dgm:cxn modelId="{611AF7F1-9635-40CF-A83F-C5B0743AC355}" type="presParOf" srcId="{6DB9985D-5CBD-4E8F-85DA-ACEEC7CD5D8A}" destId="{B28E5DF1-133D-427C-8F4E-9246DCA745DB}" srcOrd="3" destOrd="0" presId="urn:microsoft.com/office/officeart/2005/8/layout/gear1"/>
    <dgm:cxn modelId="{8F0EBD78-B16F-46DD-B1F7-90EF4219C362}" type="presParOf" srcId="{6DB9985D-5CBD-4E8F-85DA-ACEEC7CD5D8A}" destId="{CDDEACDC-23FD-4CF2-9087-C4411E7B02B2}" srcOrd="4" destOrd="0" presId="urn:microsoft.com/office/officeart/2005/8/layout/gear1"/>
    <dgm:cxn modelId="{5241F853-F07B-4190-A9A5-B6DA2722E981}" type="presParOf" srcId="{6DB9985D-5CBD-4E8F-85DA-ACEEC7CD5D8A}" destId="{7193FD3B-5C1B-4676-A904-54E56AB9DFFF}" srcOrd="5" destOrd="0" presId="urn:microsoft.com/office/officeart/2005/8/layout/gear1"/>
    <dgm:cxn modelId="{7D90E313-511A-491B-84EA-51F9F32693F8}" type="presParOf" srcId="{6DB9985D-5CBD-4E8F-85DA-ACEEC7CD5D8A}" destId="{7529DF96-C896-4C55-B241-CCB9188CFBE5}" srcOrd="6" destOrd="0" presId="urn:microsoft.com/office/officeart/2005/8/layout/gear1"/>
    <dgm:cxn modelId="{80165A38-2E45-4596-A3EC-D09431CA5981}" type="presParOf" srcId="{6DB9985D-5CBD-4E8F-85DA-ACEEC7CD5D8A}" destId="{D52D3237-A82E-48C0-AD77-86362DA60E96}" srcOrd="7" destOrd="0" presId="urn:microsoft.com/office/officeart/2005/8/layout/gear1"/>
    <dgm:cxn modelId="{AD450E37-A071-4200-B0B0-22332895D95E}" type="presParOf" srcId="{6DB9985D-5CBD-4E8F-85DA-ACEEC7CD5D8A}" destId="{0722B263-A4B9-45D0-93A9-125C78C980C4}" srcOrd="8" destOrd="0" presId="urn:microsoft.com/office/officeart/2005/8/layout/gear1"/>
    <dgm:cxn modelId="{685C8C6A-5BA8-4A8A-8778-9C0321381E08}" type="presParOf" srcId="{6DB9985D-5CBD-4E8F-85DA-ACEEC7CD5D8A}" destId="{880DE1C5-A238-409D-B9A7-71082BF23FEA}" srcOrd="9" destOrd="0" presId="urn:microsoft.com/office/officeart/2005/8/layout/gear1"/>
    <dgm:cxn modelId="{08D4A27C-0610-4DCA-B44A-05FC4035B90E}" type="presParOf" srcId="{6DB9985D-5CBD-4E8F-85DA-ACEEC7CD5D8A}" destId="{117423EE-0FF8-4CB4-A115-3B63B19F97DF}" srcOrd="10" destOrd="0" presId="urn:microsoft.com/office/officeart/2005/8/layout/gear1"/>
    <dgm:cxn modelId="{780D2252-16EB-48DC-840F-43F472B4391F}" type="presParOf" srcId="{6DB9985D-5CBD-4E8F-85DA-ACEEC7CD5D8A}" destId="{21FE6BB9-9FAE-44AC-B8FB-38FA81D84B6F}" srcOrd="11" destOrd="0" presId="urn:microsoft.com/office/officeart/2005/8/layout/gear1"/>
    <dgm:cxn modelId="{51EB9261-F40B-4428-BD4D-B585A7D87884}" type="presParOf" srcId="{6DB9985D-5CBD-4E8F-85DA-ACEEC7CD5D8A}" destId="{A3116998-6001-48D0-B603-6B20313D450C}" srcOrd="12" destOrd="0" presId="urn:microsoft.com/office/officeart/2005/8/layout/gear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C6EF6D2-B0F6-492A-A48C-1078F4C990A4}">
      <dsp:nvSpPr>
        <dsp:cNvPr id="0" name=""/>
        <dsp:cNvSpPr/>
      </dsp:nvSpPr>
      <dsp:spPr>
        <a:xfrm>
          <a:off x="0" y="431481"/>
          <a:ext cx="8229600" cy="630000"/>
        </a:xfrm>
        <a:prstGeom prst="rect">
          <a:avLst/>
        </a:prstGeom>
        <a:solidFill>
          <a:schemeClr val="accent6">
            <a:lumMod val="60000"/>
            <a:lumOff val="40000"/>
            <a:alpha val="9000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C9BBF94-DA34-4B49-BFA6-013DCC915AD3}">
      <dsp:nvSpPr>
        <dsp:cNvPr id="0" name=""/>
        <dsp:cNvSpPr/>
      </dsp:nvSpPr>
      <dsp:spPr>
        <a:xfrm>
          <a:off x="442390" y="28599"/>
          <a:ext cx="5760720" cy="738000"/>
        </a:xfrm>
        <a:prstGeom prst="roundRect">
          <a:avLst/>
        </a:prstGeom>
        <a:solidFill>
          <a:srgbClr val="FFC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>
              <a:solidFill>
                <a:schemeClr val="tx1"/>
              </a:solidFill>
            </a:rPr>
            <a:t>Комплексности</a:t>
          </a:r>
          <a:endParaRPr lang="ru-RU" sz="2500" kern="1200" dirty="0">
            <a:solidFill>
              <a:schemeClr val="tx1"/>
            </a:solidFill>
          </a:endParaRPr>
        </a:p>
      </dsp:txBody>
      <dsp:txXfrm>
        <a:off x="442390" y="28599"/>
        <a:ext cx="5760720" cy="738000"/>
      </dsp:txXfrm>
    </dsp:sp>
    <dsp:sp modelId="{1433F71B-DFCA-4D42-BB63-835FD5CACF1D}">
      <dsp:nvSpPr>
        <dsp:cNvPr id="0" name=""/>
        <dsp:cNvSpPr/>
      </dsp:nvSpPr>
      <dsp:spPr>
        <a:xfrm>
          <a:off x="0" y="1565481"/>
          <a:ext cx="8229600" cy="630000"/>
        </a:xfrm>
        <a:prstGeom prst="rect">
          <a:avLst/>
        </a:prstGeom>
        <a:solidFill>
          <a:schemeClr val="accent6">
            <a:lumMod val="60000"/>
            <a:lumOff val="40000"/>
            <a:alpha val="9000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6110EABB-94C7-4774-9C73-A1BCE79529EC}">
      <dsp:nvSpPr>
        <dsp:cNvPr id="0" name=""/>
        <dsp:cNvSpPr/>
      </dsp:nvSpPr>
      <dsp:spPr>
        <a:xfrm>
          <a:off x="411480" y="1196481"/>
          <a:ext cx="5760720" cy="738000"/>
        </a:xfrm>
        <a:prstGeom prst="roundRect">
          <a:avLst/>
        </a:prstGeom>
        <a:solidFill>
          <a:srgbClr val="FFC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>
              <a:solidFill>
                <a:schemeClr val="tx1"/>
              </a:solidFill>
            </a:rPr>
            <a:t>Научности</a:t>
          </a:r>
          <a:endParaRPr lang="ru-RU" sz="2500" kern="1200" dirty="0">
            <a:solidFill>
              <a:schemeClr val="tx1"/>
            </a:solidFill>
          </a:endParaRPr>
        </a:p>
      </dsp:txBody>
      <dsp:txXfrm>
        <a:off x="411480" y="1196481"/>
        <a:ext cx="5760720" cy="738000"/>
      </dsp:txXfrm>
    </dsp:sp>
    <dsp:sp modelId="{9EF0B79F-8520-4446-AEE0-976E131A3375}">
      <dsp:nvSpPr>
        <dsp:cNvPr id="0" name=""/>
        <dsp:cNvSpPr/>
      </dsp:nvSpPr>
      <dsp:spPr>
        <a:xfrm>
          <a:off x="0" y="2548882"/>
          <a:ext cx="8229600" cy="630000"/>
        </a:xfrm>
        <a:prstGeom prst="rect">
          <a:avLst/>
        </a:prstGeom>
        <a:solidFill>
          <a:schemeClr val="accent6">
            <a:lumMod val="60000"/>
            <a:lumOff val="40000"/>
            <a:alpha val="9000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D638F11-534D-4D89-97C6-AD763D4BE14C}">
      <dsp:nvSpPr>
        <dsp:cNvPr id="0" name=""/>
        <dsp:cNvSpPr/>
      </dsp:nvSpPr>
      <dsp:spPr>
        <a:xfrm>
          <a:off x="411480" y="2330481"/>
          <a:ext cx="5760720" cy="738000"/>
        </a:xfrm>
        <a:prstGeom prst="roundRect">
          <a:avLst/>
        </a:prstGeom>
        <a:solidFill>
          <a:srgbClr val="FFC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>
              <a:solidFill>
                <a:schemeClr val="tx1"/>
              </a:solidFill>
            </a:rPr>
            <a:t>Систематичности</a:t>
          </a:r>
          <a:endParaRPr lang="ru-RU" sz="2500" kern="1200" dirty="0">
            <a:solidFill>
              <a:schemeClr val="tx1"/>
            </a:solidFill>
          </a:endParaRPr>
        </a:p>
      </dsp:txBody>
      <dsp:txXfrm>
        <a:off x="411480" y="2330481"/>
        <a:ext cx="5760720" cy="738000"/>
      </dsp:txXfrm>
    </dsp:sp>
    <dsp:sp modelId="{C1F43D13-E328-4603-8540-965DEA9A5274}">
      <dsp:nvSpPr>
        <dsp:cNvPr id="0" name=""/>
        <dsp:cNvSpPr/>
      </dsp:nvSpPr>
      <dsp:spPr>
        <a:xfrm>
          <a:off x="0" y="3833481"/>
          <a:ext cx="8229600" cy="630000"/>
        </a:xfrm>
        <a:prstGeom prst="rect">
          <a:avLst/>
        </a:prstGeom>
        <a:solidFill>
          <a:schemeClr val="accent6">
            <a:lumMod val="60000"/>
            <a:lumOff val="40000"/>
            <a:alpha val="9000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806C507-8367-4D0B-908C-BA857E571484}">
      <dsp:nvSpPr>
        <dsp:cNvPr id="0" name=""/>
        <dsp:cNvSpPr/>
      </dsp:nvSpPr>
      <dsp:spPr>
        <a:xfrm>
          <a:off x="411480" y="3464481"/>
          <a:ext cx="5760720" cy="738000"/>
        </a:xfrm>
        <a:prstGeom prst="roundRect">
          <a:avLst/>
        </a:prstGeom>
        <a:solidFill>
          <a:srgbClr val="FFC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>
              <a:solidFill>
                <a:schemeClr val="tx1"/>
              </a:solidFill>
            </a:rPr>
            <a:t>Связь теории с практикой</a:t>
          </a:r>
          <a:endParaRPr lang="ru-RU" sz="2500" kern="1200" dirty="0">
            <a:solidFill>
              <a:schemeClr val="tx1"/>
            </a:solidFill>
          </a:endParaRPr>
        </a:p>
      </dsp:txBody>
      <dsp:txXfrm>
        <a:off x="411480" y="3464481"/>
        <a:ext cx="5760720" cy="738000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574D7FA-E7CC-44AB-938D-F2D042491D41}">
      <dsp:nvSpPr>
        <dsp:cNvPr id="0" name=""/>
        <dsp:cNvSpPr/>
      </dsp:nvSpPr>
      <dsp:spPr>
        <a:xfrm>
          <a:off x="3539643" y="984"/>
          <a:ext cx="1633681" cy="8168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b="1" kern="1200" dirty="0" smtClean="0"/>
            <a:t>ГИБДД</a:t>
          </a:r>
          <a:endParaRPr lang="ru-RU" sz="1500" b="1" kern="1200" dirty="0"/>
        </a:p>
      </dsp:txBody>
      <dsp:txXfrm>
        <a:off x="3539643" y="984"/>
        <a:ext cx="1633681" cy="816840"/>
      </dsp:txXfrm>
    </dsp:sp>
    <dsp:sp modelId="{15814C35-641F-4EE6-867E-55818A116B5A}">
      <dsp:nvSpPr>
        <dsp:cNvPr id="0" name=""/>
        <dsp:cNvSpPr/>
      </dsp:nvSpPr>
      <dsp:spPr>
        <a:xfrm rot="2700000">
          <a:off x="4715379" y="1051865"/>
          <a:ext cx="853024" cy="285894"/>
        </a:xfrm>
        <a:prstGeom prst="left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200" kern="1200"/>
        </a:p>
      </dsp:txBody>
      <dsp:txXfrm rot="2700000">
        <a:off x="4715379" y="1051865"/>
        <a:ext cx="853024" cy="285894"/>
      </dsp:txXfrm>
    </dsp:sp>
    <dsp:sp modelId="{B5BF9CC5-1457-470A-AFED-01F5DD616FFE}">
      <dsp:nvSpPr>
        <dsp:cNvPr id="0" name=""/>
        <dsp:cNvSpPr/>
      </dsp:nvSpPr>
      <dsp:spPr>
        <a:xfrm>
          <a:off x="5110458" y="1571799"/>
          <a:ext cx="1633681" cy="8168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b="1" kern="1200" dirty="0" smtClean="0"/>
            <a:t>МБОУ СОШ №190</a:t>
          </a:r>
          <a:endParaRPr lang="ru-RU" sz="1500" b="1" kern="1200" dirty="0"/>
        </a:p>
      </dsp:txBody>
      <dsp:txXfrm>
        <a:off x="5110458" y="1571799"/>
        <a:ext cx="1633681" cy="816840"/>
      </dsp:txXfrm>
    </dsp:sp>
    <dsp:sp modelId="{50CC54B3-735A-4DAA-8EC0-3C60907045BB}">
      <dsp:nvSpPr>
        <dsp:cNvPr id="0" name=""/>
        <dsp:cNvSpPr/>
      </dsp:nvSpPr>
      <dsp:spPr>
        <a:xfrm rot="8100000">
          <a:off x="4715379" y="2622680"/>
          <a:ext cx="853024" cy="285894"/>
        </a:xfrm>
        <a:prstGeom prst="left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200" kern="1200"/>
        </a:p>
      </dsp:txBody>
      <dsp:txXfrm rot="8100000">
        <a:off x="4715379" y="2622680"/>
        <a:ext cx="853024" cy="285894"/>
      </dsp:txXfrm>
    </dsp:sp>
    <dsp:sp modelId="{B0DBD990-032B-40DE-967F-1513464F4B41}">
      <dsp:nvSpPr>
        <dsp:cNvPr id="0" name=""/>
        <dsp:cNvSpPr/>
      </dsp:nvSpPr>
      <dsp:spPr>
        <a:xfrm>
          <a:off x="3539643" y="3142614"/>
          <a:ext cx="1633681" cy="8168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b="1" kern="1200" dirty="0" smtClean="0"/>
            <a:t>Родители воспитанников</a:t>
          </a:r>
          <a:endParaRPr lang="ru-RU" sz="1500" b="1" kern="1200" dirty="0"/>
        </a:p>
      </dsp:txBody>
      <dsp:txXfrm>
        <a:off x="3539643" y="3142614"/>
        <a:ext cx="1633681" cy="816840"/>
      </dsp:txXfrm>
    </dsp:sp>
    <dsp:sp modelId="{34E728EA-246A-4714-A764-7DF7E878BF64}">
      <dsp:nvSpPr>
        <dsp:cNvPr id="0" name=""/>
        <dsp:cNvSpPr/>
      </dsp:nvSpPr>
      <dsp:spPr>
        <a:xfrm rot="13500000">
          <a:off x="3144563" y="2622680"/>
          <a:ext cx="853024" cy="285894"/>
        </a:xfrm>
        <a:prstGeom prst="left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200" kern="1200"/>
        </a:p>
      </dsp:txBody>
      <dsp:txXfrm rot="13500000">
        <a:off x="3144563" y="2622680"/>
        <a:ext cx="853024" cy="285894"/>
      </dsp:txXfrm>
    </dsp:sp>
    <dsp:sp modelId="{DE0B0C90-CB14-41AB-9809-9138FF2C043B}">
      <dsp:nvSpPr>
        <dsp:cNvPr id="0" name=""/>
        <dsp:cNvSpPr/>
      </dsp:nvSpPr>
      <dsp:spPr>
        <a:xfrm>
          <a:off x="1968827" y="1571799"/>
          <a:ext cx="1633681" cy="8168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b="1" kern="1200" dirty="0" smtClean="0">
              <a:solidFill>
                <a:schemeClr val="bg1"/>
              </a:solidFill>
            </a:rPr>
            <a:t>МКДОУ </a:t>
          </a:r>
          <a:r>
            <a:rPr lang="ru-RU" sz="1500" b="1" kern="1200" dirty="0" err="1" smtClean="0">
              <a:solidFill>
                <a:schemeClr val="bg1"/>
              </a:solidFill>
            </a:rPr>
            <a:t>д</a:t>
          </a:r>
          <a:r>
            <a:rPr lang="ru-RU" sz="1500" b="1" kern="1200" dirty="0" smtClean="0">
              <a:solidFill>
                <a:schemeClr val="bg1"/>
              </a:solidFill>
            </a:rPr>
            <a:t>/с №452 «Теремок»</a:t>
          </a:r>
          <a:endParaRPr lang="ru-RU" sz="1500" b="1" kern="1200" dirty="0">
            <a:solidFill>
              <a:schemeClr val="bg1"/>
            </a:solidFill>
          </a:endParaRPr>
        </a:p>
      </dsp:txBody>
      <dsp:txXfrm>
        <a:off x="1968827" y="1571799"/>
        <a:ext cx="1633681" cy="816840"/>
      </dsp:txXfrm>
    </dsp:sp>
    <dsp:sp modelId="{5B08FACA-CFFF-40A4-A8E4-A8A52A4D06AC}">
      <dsp:nvSpPr>
        <dsp:cNvPr id="0" name=""/>
        <dsp:cNvSpPr/>
      </dsp:nvSpPr>
      <dsp:spPr>
        <a:xfrm rot="18900000">
          <a:off x="3144563" y="1051865"/>
          <a:ext cx="853024" cy="285894"/>
        </a:xfrm>
        <a:prstGeom prst="left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200" kern="1200"/>
        </a:p>
      </dsp:txBody>
      <dsp:txXfrm rot="18900000">
        <a:off x="3144563" y="1051865"/>
        <a:ext cx="853024" cy="285894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1BDFC280-A668-4531-BB71-CF6C248AAD5E}">
      <dsp:nvSpPr>
        <dsp:cNvPr id="0" name=""/>
        <dsp:cNvSpPr/>
      </dsp:nvSpPr>
      <dsp:spPr>
        <a:xfrm>
          <a:off x="4070198" y="490720"/>
          <a:ext cx="3647248" cy="3198081"/>
        </a:xfrm>
        <a:prstGeom prst="gear9">
          <a:avLst/>
        </a:prstGeom>
        <a:solidFill>
          <a:srgbClr val="00B05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/>
            <a:t>Руководитель и административный персонал</a:t>
          </a:r>
          <a:endParaRPr lang="ru-RU" sz="2000" b="1" kern="1200" dirty="0"/>
        </a:p>
      </dsp:txBody>
      <dsp:txXfrm>
        <a:off x="4070198" y="490720"/>
        <a:ext cx="3647248" cy="3198081"/>
      </dsp:txXfrm>
    </dsp:sp>
    <dsp:sp modelId="{B28E5DF1-133D-427C-8F4E-9246DCA745DB}">
      <dsp:nvSpPr>
        <dsp:cNvPr id="0" name=""/>
        <dsp:cNvSpPr/>
      </dsp:nvSpPr>
      <dsp:spPr>
        <a:xfrm>
          <a:off x="1152125" y="437820"/>
          <a:ext cx="3587455" cy="2586519"/>
        </a:xfrm>
        <a:prstGeom prst="gear6">
          <a:avLst/>
        </a:prstGeom>
        <a:solidFill>
          <a:srgbClr val="00B05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latin typeface="Times New Roman" pitchFamily="18" charset="0"/>
              <a:cs typeface="Times New Roman" pitchFamily="18" charset="0"/>
            </a:rPr>
            <a:t>Педагогический </a:t>
          </a:r>
          <a:r>
            <a:rPr lang="ru-RU" sz="2000" b="1" kern="1200" dirty="0" smtClean="0">
              <a:latin typeface="Times New Roman" pitchFamily="18" charset="0"/>
              <a:cs typeface="Times New Roman" pitchFamily="18" charset="0"/>
            </a:rPr>
            <a:t>персонал</a:t>
          </a:r>
          <a:endParaRPr lang="ru-RU" sz="2000" b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1152125" y="437820"/>
        <a:ext cx="3587455" cy="2586519"/>
      </dsp:txXfrm>
    </dsp:sp>
    <dsp:sp modelId="{7529DF96-C896-4C55-B241-CCB9188CFBE5}">
      <dsp:nvSpPr>
        <dsp:cNvPr id="0" name=""/>
        <dsp:cNvSpPr/>
      </dsp:nvSpPr>
      <dsp:spPr>
        <a:xfrm rot="20700000">
          <a:off x="2302027" y="2342562"/>
          <a:ext cx="3307327" cy="2822135"/>
        </a:xfrm>
        <a:prstGeom prst="gear6">
          <a:avLst/>
        </a:prstGeom>
        <a:solidFill>
          <a:srgbClr val="00B05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860" tIns="22860" rIns="22860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/>
            <a:t>Родители воспитанников, окружающий социум</a:t>
          </a:r>
          <a:endParaRPr lang="ru-RU" sz="1800" b="1" kern="1200" dirty="0"/>
        </a:p>
      </dsp:txBody>
      <dsp:txXfrm>
        <a:off x="3056199" y="2932760"/>
        <a:ext cx="1798983" cy="1641737"/>
      </dsp:txXfrm>
    </dsp:sp>
    <dsp:sp modelId="{117423EE-0FF8-4CB4-A115-3B63B19F97DF}">
      <dsp:nvSpPr>
        <dsp:cNvPr id="0" name=""/>
        <dsp:cNvSpPr/>
      </dsp:nvSpPr>
      <dsp:spPr>
        <a:xfrm>
          <a:off x="4189032" y="202690"/>
          <a:ext cx="3903409" cy="3903409"/>
        </a:xfrm>
        <a:prstGeom prst="circularArrow">
          <a:avLst>
            <a:gd name="adj1" fmla="val 4687"/>
            <a:gd name="adj2" fmla="val 299029"/>
            <a:gd name="adj3" fmla="val 2541147"/>
            <a:gd name="adj4" fmla="val 15808474"/>
            <a:gd name="adj5" fmla="val 5469"/>
          </a:avLst>
        </a:prstGeom>
        <a:solidFill>
          <a:srgbClr val="FFC00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1FE6BB9-9FAE-44AC-B8FB-38FA81D84B6F}">
      <dsp:nvSpPr>
        <dsp:cNvPr id="0" name=""/>
        <dsp:cNvSpPr/>
      </dsp:nvSpPr>
      <dsp:spPr>
        <a:xfrm rot="11065896">
          <a:off x="3070243" y="2612250"/>
          <a:ext cx="2836071" cy="2836071"/>
        </a:xfrm>
        <a:prstGeom prst="leftCircularArrow">
          <a:avLst>
            <a:gd name="adj1" fmla="val 6452"/>
            <a:gd name="adj2" fmla="val 429999"/>
            <a:gd name="adj3" fmla="val 10489124"/>
            <a:gd name="adj4" fmla="val 14837806"/>
            <a:gd name="adj5" fmla="val 7527"/>
          </a:avLst>
        </a:prstGeom>
        <a:solidFill>
          <a:srgbClr val="FFC00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A3116998-6001-48D0-B603-6B20313D450C}">
      <dsp:nvSpPr>
        <dsp:cNvPr id="0" name=""/>
        <dsp:cNvSpPr/>
      </dsp:nvSpPr>
      <dsp:spPr>
        <a:xfrm rot="2983659">
          <a:off x="1790647" y="180540"/>
          <a:ext cx="3057855" cy="3057855"/>
        </a:xfrm>
        <a:prstGeom prst="circularArrow">
          <a:avLst>
            <a:gd name="adj1" fmla="val 5984"/>
            <a:gd name="adj2" fmla="val 394124"/>
            <a:gd name="adj3" fmla="val 13313824"/>
            <a:gd name="adj4" fmla="val 10508221"/>
            <a:gd name="adj5" fmla="val 6981"/>
          </a:avLst>
        </a:prstGeom>
        <a:solidFill>
          <a:srgbClr val="FFC00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7">
  <dgm:title val=""/>
  <dgm:desc val=""/>
  <dgm:catLst>
    <dgm:cat type="cycle" pri="6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cycle">
          <dgm:param type="stAng" val="0"/>
          <dgm:param type="spanAng" val="360"/>
        </dgm:alg>
      </dgm:if>
      <dgm:else name="Name3">
        <dgm:alg type="cycle">
          <dgm:param type="stAng" val="0"/>
          <dgm:param type="spanAng" val="-360"/>
        </dgm:alg>
      </dgm:else>
    </dgm:choose>
    <dgm:shape xmlns:r="http://schemas.openxmlformats.org/officeDocument/2006/relationships" r:blip="">
      <dgm:adjLst/>
    </dgm:shape>
    <dgm:presOf/>
    <dgm:constrLst>
      <dgm:constr type="diam" refType="w"/>
      <dgm:constr type="w" for="ch" ptType="node" refType="w"/>
      <dgm:constr type="primFontSz" for="ch" ptType="node" op="equ" val="65"/>
      <dgm:constr type="w" for="ch" forName="sibTrans" refType="w" refFor="ch" refPtType="node" op="equ" fact="0.35"/>
      <dgm:constr type="connDist" for="ch" forName="sibTrans" op="equ"/>
      <dgm:constr type="primFontSz" for="des" forName="connectorText" op="equ" val="55"/>
      <dgm:constr type="primFontSz" for="des" forName="connectorText" refType="primFontSz" refFor="ch" refPtType="node" op="lte" fact="0.8"/>
      <dgm:constr type="sibSp" refType="w" refFor="ch" refPtType="node" op="equ" fact="0.65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4">
        <dgm:if name="Name5" axis="par ch" ptType="doc node" func="cnt" op="gt" val="1">
          <dgm:forEach name="sibTransForEach" axis="followSib" ptType="sibTrans" hideLastTrans="0" cnt="1">
            <dgm:layoutNode name="sibTrans">
              <dgm:choose name="Name6">
                <dgm:if name="Name7" axis="par ch" ptType="doc node" func="posEven" op="equ" val="1">
                  <dgm:alg type="conn">
                    <dgm:param type="begPts" val="radial"/>
                    <dgm:param type="endPts" val="radial"/>
                    <dgm:param type="begSty" val="arr"/>
                    <dgm:param type="endSty" val="arr"/>
                  </dgm:alg>
                </dgm:if>
                <dgm:else name="Name8">
                  <dgm:alg type="conn">
                    <dgm:param type="begPts" val="auto"/>
                    <dgm:param type="endPts" val="auto"/>
                    <dgm:param type="begSty" val="arr"/>
                    <dgm:param type="endSty" val="arr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5"/>
                <dgm:constr type="connDist"/>
                <dgm:constr type="begPad" refType="connDist" fact="0.1"/>
                <dgm:constr type="endPad" refType="connDist" fact="0.1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9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8D8-7DA4-456F-B07D-747785B3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A9C-21CD-4A4B-8B2A-A767C273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1D4-C9A3-4F68-9D30-28C9CBF9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6CE-CB69-4F89-AAB2-A845B053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F268-63A6-434D-891E-102D7BAF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A3C-9C5B-4713-8FE7-7972E128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524-9EBD-4CC6-9B05-6AB02836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F727-7C70-413D-9222-231A97C5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4368-2807-4423-92D8-47C3323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6F46-A90D-435D-87F4-7140D79A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0ABA-4BF9-44A3-8080-58908179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D6F-A9A2-47AE-88BB-C8E10D8B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6A53-3801-423F-B867-2EED58C8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1A2B-54E0-467D-99A7-4B1E1C79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C7B0-3378-4870-8E9A-A518C45E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BD3C-1035-4E9D-BED1-6B23A0D5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0C1C-4C5C-4538-92F1-DFF84946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8D5-A736-4A22-9ACA-87B18807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705-3CAE-4D21-9560-2C510052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F7C-5DDE-429D-B908-F1538EB3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D00-51CB-41C4-9B70-8DF32E2A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34D-3CB2-404F-9BAF-6B784C7F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9FA-D0A5-4A83-893B-A3E89CFA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B17-9410-4FB8-B36A-DB02368D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F3615D-952C-4613-83E0-07508FDA781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4973AE-5107-4E37-A7BD-01EB529B040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7640" y="836640"/>
            <a:ext cx="8229240" cy="158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Создание условий по предупреждению детского дорожно- транспортного травматизма в ДО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9640" y="2709000"/>
            <a:ext cx="82292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744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ила: заведующа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КДОУ д/с №452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Теремок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знецова Наталья Петров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475640" y="836640"/>
            <a:ext cx="6819840" cy="58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Родители воспитанник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окружающий соци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Принимают участие в совместных мероприятиях с ДО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Участвуют в выставках, экскурсия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Участие в подготовке и проведении занятий по ПД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редупреждение дорожно-транспортного травматизма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верждение планов работы с воспитанниками по предупреждению детского дорожно-транспортного травматизм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ление плана месячника по безопасности дорожного движ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программы по предупреждению травматизма среди воспитанников и работников на год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месячника по безопасности дорожного движ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640" y="764640"/>
            <a:ext cx="85320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 u="sng">
                <a:solidFill>
                  <a:srgbClr val="002060"/>
                </a:solidFill>
                <a:uFillTx/>
                <a:latin typeface="Times New Roman"/>
              </a:rPr>
              <a:t>Цель работы по воспитанию навыков безопасного поведения у детей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</a:rPr>
              <a:t> – дать каждому ребенку основные понятия опасных для жизни ситуаций и особенностей поведения в них. Для этого необходимо сделать следующее: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одержание работы по проблеме обучения детей основам безопасности в окружающем мир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ть формы организации деятельности с детьми, родителями, педагогам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ть и подготовить наглядно-дидактический материал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ть систему планирова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еспечить методическое сопровождение данного направления рабо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м самым добиваемся следующих результат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Дети стремятся расширить свой кругозор по данной тем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У детей появилась потребность утвердиться в своем отношении к окружающей действительности, следовать правилам поведения в определенных ситуация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лан работы по профилактике дорожно- транспортного травматизм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держание работ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1.Организационная рабо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1.1. Помощь воспитателям в составлении планов по профилактике безопасности дорожного движени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1.2. Оформление уголков безопасности в группах, холлах и на территории учрежде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1.3.Консультация для педагогов «Формирование у дошкольников сознательного отношения к вопросам личной безопасности и безопасности окружающих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043640" y="980640"/>
            <a:ext cx="763236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Метод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1.Оформление выставки по ПДД в методическом каби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2.Пополнение методического кабинета и групп методической, детской литературой и наглядными пособиями по ПД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3. Контроль организации работы с детьми по теме  «Ознакомление детей с ПД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4.Обсуждение проблемы дорожно- транспортного травматизма на педагогическом со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5.Открытый просмотр занятия в подготовительных группах «Путешествие  на дорог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6. Конкурс детских работ «Наш друг светоф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7. Праздник по ПДД «Путешествие со Светофор Светофорыч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899640" y="980640"/>
            <a:ext cx="792036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Работа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1. Целевые прогу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2. Игры (подвижные, дидактические , сюжетно- ролевые, театрализова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3. Тематические вст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.4. Занятия в группах по ПД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5. Чтение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6. Чтение и заучивание стихов по 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7. Загадывание детям загадок о порядке на доро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8. Просмотр мультфильмов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683640" y="1340640"/>
            <a:ext cx="792036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Работа с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1. Общее родительское собрание по профилактике дорожно- транспорт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2. оформление папки- передвижки «Правила дорожные детям знать положе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3. Участие родителей в подготовке и проведении занятий по правилам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1475640" y="980640"/>
            <a:ext cx="64803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Связь с соци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 Привлечение школьников- выпускников ДОУ к изготовлению атрибутов к играм и проведению тематических мероприятий и праз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2.Совместные конкурсы, праздники, развлечения по профилактике дорожно- транспортного травмат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3. Круглый стол с учителями школы по теме:» Обмен опытом работы по профилактике дорожно- транспортного травмат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ыво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создании условий по обеспечению безопасности в ДОУ необходимо использовать не только теоретический. Но и практический опыт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боту должны быть включены все участники воспитательно-образовательного процесса: дети, сотрудники, родители, социум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беспечивать безопасность в ДОУ п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дупреждение дорожно-транспортного травматиз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овременная жизнь доказала необходимость обеспечения безопасной жизнедеятельности, потребовала обучения сотрудников ДОУ, родителей и детей безопасному образу жизни в сложных условиях социального, техногенного, природного и экологического неблагополучия. Данная ситуация поставила перед необходимостью систематизации работы по трем направлениям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предвидеть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научить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уберечь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егодня реальность такова, что в современном мире никто не застрахован ни от социальных потрясений, ни от стихийных бедствий. Особую тревогу мы испытываем за маленьких граждан – дошколят. С первых лет жизни любознательность ребенка, его активность в вопросах познания окружающего, поощряемая взрослыми, порой становится весьма небезопасной для него. 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ринци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48551204"/>
              </p:ext>
            </p:extLst>
          </p:nvPr>
        </p:nvGraphicFramePr>
        <p:xfrm>
          <a:off x="457200" y="160020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абота ДОУ с окружающим социумом по предупреждению детского дорожного травматиз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114847112"/>
              </p:ext>
            </p:extLst>
          </p:nvPr>
        </p:nvGraphicFramePr>
        <p:xfrm>
          <a:off x="179640" y="2637000"/>
          <a:ext cx="8712720" cy="3960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2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326880" indent="0" algn="ctr">
              <a:lnSpc>
                <a:spcPct val="100000"/>
              </a:lnSpc>
              <a:spcBef>
                <a:spcPts val="1959"/>
              </a:spcBef>
              <a:buNone/>
              <a:tabLst>
                <a:tab algn="l" pos="0"/>
              </a:tabLst>
            </a:pPr>
            <a:r>
              <a:rPr b="1" lang="ru-RU" sz="9800" spc="-1" strike="noStrike" u="sng">
                <a:solidFill>
                  <a:srgbClr val="000000"/>
                </a:solidFill>
                <a:uFillTx/>
                <a:latin typeface="Times New Roman"/>
              </a:rPr>
              <a:t>Законодательная база по охране жизни и здоровья детей: </a:t>
            </a:r>
            <a:endParaRPr b="0" lang="ru-RU" sz="9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Конвенция по правам ребенка, ст. 6, п. 1,2, ст.19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Конституция РФ, ст. 41, п. 3, ст.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Федеральный закон «Об основных гарантиях прав ребенка в РФ» 24.07.98 № 124-ФЗ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Гражданский кодекс РФ, гл. 59, ст. 1064 «Общие основания ответственности за причинение вреда», ст.1065 «Предупреждение причинения вреда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Семейный кодекс РФ, раздел 4, гл. 12, ст. 63, 65 «Права родителей по воспитанию и образованию детей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Закон РФ «Об образовании», ст. 32, п. 22.3 «Компетентность и ответственность образовательного учреждения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Приказ Минобразования РФ от 15.01.02 № 76 «О создании безопасных условий жизнедеятельности обучающихся в образовательных учреждениях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Приказ Минобразования РФ от 07.08.2000 № 2414 и Письмо Минобразования РФ от 12.07.2000 № 22-06.788 «О принятии дополнительных мер по предотвращению несчастных случаев с обучающимися и работниками образовательных учреждений 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Приказ Минобразования РФ от 26.04.02 № 29/2084-6 «О всероссийской диспансеризации детей в 2002 г.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Инструктивно-методическое письмо Минобразования РФ от 14.03.2000 № 65 «О гигиенических требованиях к максимальной нагрузке на детей дошкольного возраста в организованных формах обучения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0640"/>
            <a:ext cx="8229240" cy="58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Внутренние локальные акты:  приказы и инструкции по охране жизни и здоровья детей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аз «О создании комиссии по охране жизни и здоровья детей»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аз «Об организации экскурсий»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аз «О дежурных администраторах»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струкция для воспитателей по охране жизни и здоровья детей, по организации экскурсий, прогулок за пределы детского сад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струкция по охране жизни и здоровья детей в летний, зимний, осенний и весенний период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струкция по охране жизни и здоровья детей раннего возрас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Распределение обязанностей по обеспечению безопас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541164233"/>
              </p:ext>
            </p:extLst>
          </p:nvPr>
        </p:nvGraphicFramePr>
        <p:xfrm>
          <a:off x="395640" y="1052640"/>
          <a:ext cx="8496720" cy="554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уководитель ДО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640" y="134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ет персональную ответственность за обеспечение охраны жизни и здоровья воспитанников во время образовательного процесс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имает меры по разработке и утверждению локальных актов для обеспечения безопас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дагогический персонал ДО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яют основные направления своей деятельности по обеспечению безопасности детей при организации воспитательно-образовательного процесс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водят с воспитанниками беседы по основам безопасности жизнедеятельности (объясняют правила безопасности на дороге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уществляют прогнозирование, анализ и пресечение угроз, которые могут повлиять на безопасность жизнедеятельности дет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  <Words>723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с</cp:lastModifiedBy>
  <dcterms:modified xsi:type="dcterms:W3CDTF">2014-10-28T09:47:48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