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1352-2422-4539-BDE6-BF1FC0C1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7B52-8F33-4BB8-A09C-85B5A2C6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D382-B8FA-47FE-8A75-78426F2E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E999-F9E6-45EF-A6BD-8D61A018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796-DB7C-4289-8DAC-BA5D262F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E53-2BF3-4140-BF9C-C860B01F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627A-D685-4DA4-9B09-1C063F08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B78E-E906-41F0-947E-25EFCA56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2C60-540C-426A-B428-A6EB9FFE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E15F-73AB-4D61-8E31-858650AF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C304-E06C-42CB-953A-102E4637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79D2-396F-4854-9442-9C49968A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1D3F-5BF8-44D4-951A-F46FDF57F4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е занятие для детей среднего дошкольного возраста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ме «ВЕСНА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воспитатель первой категории Должникова Е.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 от солнечных луч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ращается в … (ручей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ttp://detskie-stihi.com/wp-content/uploads/2017/06/vesna.jpg"/>
          <p:cNvPicPr/>
          <p:nvPr/>
        </p:nvPicPr>
        <p:blipFill>
          <a:blip r:embed="rId2"/>
          <a:stretch/>
        </p:blipFill>
        <p:spPr>
          <a:xfrm>
            <a:off x="1403280" y="1592280"/>
            <a:ext cx="640872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а тонкие иголки зеленеют на пригорке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, выросши едва, к солнцу тянется … (трава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s://ds03.infourok.ru/uploads/ex/0a17/00028e9e-09a39955/72/hello_html_m44a0a98a.png"/>
          <p:cNvPicPr/>
          <p:nvPr/>
        </p:nvPicPr>
        <p:blipFill>
          <a:blip r:embed="rId2"/>
          <a:stretch/>
        </p:blipFill>
        <p:spPr>
          <a:xfrm>
            <a:off x="395280" y="2421000"/>
            <a:ext cx="812160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есной проталинке вырос цветик маленьки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чется в валежник  беленький … (подснежник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s://i.pinimg.com/736x/ed/93/3a/ed933a03b525f4d0a95afbe20a680f2f--lapbook-jars.jpg"/>
          <p:cNvPicPr/>
          <p:nvPr/>
        </p:nvPicPr>
        <p:blipFill>
          <a:blip r:embed="rId2"/>
          <a:stretch/>
        </p:blipFill>
        <p:spPr>
          <a:xfrm>
            <a:off x="3132000" y="1628640"/>
            <a:ext cx="2880000" cy="43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и погожие не редки, греются на солнце ветк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как маленькие точки, на ветвях набухли … (почк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s://chastnosti.com/wp-content/uploads/2017/06/berezovye-pochki-1.jpg"/>
          <p:cNvPicPr/>
          <p:nvPr/>
        </p:nvPicPr>
        <p:blipFill>
          <a:blip r:embed="rId2"/>
          <a:stretch/>
        </p:blipFill>
        <p:spPr>
          <a:xfrm>
            <a:off x="1835280" y="1916280"/>
            <a:ext cx="52578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рилетает каждый год  туда, где домик его жде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сни звонко запев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Весну зазывает, на шесте дворец ,  во дворце певец а зовут его  (Скворец)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773000"/>
            <a:ext cx="8229600" cy="4352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s://i.pinimg.com/736x/f7/e8/35/f7e835812d2e3ff86bc570c139bd2d51--jars.jpg"/>
          <p:cNvPicPr/>
          <p:nvPr/>
        </p:nvPicPr>
        <p:blipFill>
          <a:blip r:embed="rId2"/>
          <a:stretch/>
        </p:blipFill>
        <p:spPr>
          <a:xfrm>
            <a:off x="3132000" y="1844640"/>
            <a:ext cx="280836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стика для глаз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лнечный зайчик»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ечный мой заинька (вытягивать вперёд ладошк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гни на ладошку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ечный мой заинька (ставить на ладонь указательный палец другой руки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ий как крош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г на носик, на плеч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, как стало горячо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г на лобик и опя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лече давай скакать (следить взглядом за движениями пальца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закрыли мы глаза (ладонями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олнышко играет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ёчки тёплыми лучам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но согревает (широко раскрыть глаз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3T02:40:38Z</dcterms:created>
  <dc:creator>Анастасия</dc:creator>
  <dc:description/>
  <dc:language>en-US</dc:language>
  <cp:lastModifiedBy>Анастасия</cp:lastModifiedBy>
  <dcterms:modified xsi:type="dcterms:W3CDTF">2019-04-03T03:23:44Z</dcterms:modified>
  <cp:revision>5</cp:revision>
  <dc:subject/>
  <dc:title>Познавательное занятие для детей среднего дошкольного возраста  по теме «ВЕСНА»</dc:title>
</cp:coreProperties>
</file>