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2BE-261C-473E-A3F5-CEE2BA0B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B0C-02C9-430D-987C-8C80993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146-F485-4B74-B1FB-6E3B00A6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BBC-4D6D-4421-B8D4-9C502025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B9C-18B0-4DF3-8211-AD0092A4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3B7-0BAF-4C24-9B84-5DEED91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0C0-D000-4D18-8C95-7DD64CDD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53E-0597-439F-A602-FDA96FD8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E15-B200-4887-812F-0BA331E4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384-A294-4677-BBBE-AE56CA7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1AA-F39B-40E8-91A0-78C648B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462-E76C-4461-9964-9680EB5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8C0-53BB-43BD-8EE7-F604D4258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занятие для детей среднего дошкольного возраста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 «ВЕСН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первой категории Должникова Е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от солнечных л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ется в … (руче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detskie-stihi.com/wp-content/uploads/2017/06/vesna.jpg"/>
          <p:cNvPicPr/>
          <p:nvPr/>
        </p:nvPicPr>
        <p:blipFill>
          <a:blip r:embed="rId2"/>
          <a:stretch/>
        </p:blipFill>
        <p:spPr>
          <a:xfrm>
            <a:off x="1403280" y="1592280"/>
            <a:ext cx="64087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тонкие иголки зеленеют на пригорк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выросши едва, к солнцу тянется … (трав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ds03.infourok.ru/uploads/ex/0a17/00028e9e-09a39955/72/hello_html_m44a0a98a.png"/>
          <p:cNvPicPr/>
          <p:nvPr/>
        </p:nvPicPr>
        <p:blipFill>
          <a:blip r:embed="rId2"/>
          <a:stretch/>
        </p:blipFill>
        <p:spPr>
          <a:xfrm>
            <a:off x="395280" y="2421000"/>
            <a:ext cx="81216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проталинке вырос цветик малень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ется в валежник  беленький … (подснежник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i.pinimg.com/736x/ed/93/3a/ed933a03b525f4d0a95afbe20a680f2f--lapbook-jars.jpg"/>
          <p:cNvPicPr/>
          <p:nvPr/>
        </p:nvPicPr>
        <p:blipFill>
          <a:blip r:embed="rId2"/>
          <a:stretch/>
        </p:blipFill>
        <p:spPr>
          <a:xfrm>
            <a:off x="3132000" y="1628640"/>
            <a:ext cx="288000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погожие не редки, греются на солнце вет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ак маленькие точки, на ветвях набухли … (по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chastnosti.com/wp-content/uploads/2017/06/berezovye-pochki-1.jpg"/>
          <p:cNvPicPr/>
          <p:nvPr/>
        </p:nvPicPr>
        <p:blipFill>
          <a:blip r:embed="rId2"/>
          <a:stretch/>
        </p:blipFill>
        <p:spPr>
          <a:xfrm>
            <a:off x="1835280" y="19162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летает каждый год  туда, где домик его жд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ни звонко запев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Весну зазывает, на шесте дворец ,  во дворце певец а зовут его  (Скворец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773000"/>
            <a:ext cx="8229600" cy="435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i.pinimg.com/736x/f7/e8/35/f7e835812d2e3ff86bc570c139bd2d51--jars.jpg"/>
          <p:cNvPicPr/>
          <p:nvPr/>
        </p:nvPicPr>
        <p:blipFill>
          <a:blip r:embed="rId2"/>
          <a:stretch/>
        </p:blipFill>
        <p:spPr>
          <a:xfrm>
            <a:off x="3132000" y="1844640"/>
            <a:ext cx="2808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ечный зайчик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мой заинька (вытягивать вперёд ладош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ни на ладош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мой заинька (ставить на ладонь указательный палец другой руки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как крош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носик, на плеч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как стало горячо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 на лобик и опя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ече давай скакать (следить взглядом за движениями пальц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закрыли мы глаза (ладонями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олнышко игр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ёчки тёплыми луч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о согревает (широко раскрыть глаз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3T02:40:38Z</dcterms:created>
  <dc:creator>Анастасия</dc:creator>
  <dc:description/>
  <dc:language>en-US</dc:language>
  <cp:lastModifiedBy>Анастасия</cp:lastModifiedBy>
  <dcterms:modified xsi:type="dcterms:W3CDTF">2019-04-03T03:23:44Z</dcterms:modified>
  <cp:revision>5</cp:revision>
  <dc:subject/>
  <dc:title>Познавательное занятие для детей среднего дошкольного возраста  по теме «ВЕСНА»</dc:title>
</cp:coreProperties>
</file>