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2BF-F4B3-43ED-B117-AAA12300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8E4-FE72-462C-8856-08AF6DC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DAB-2C3B-4541-BF68-1CE1632A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C98-BD86-450A-969B-DB52634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C2DE-2C38-4915-BA77-52F09746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0D0-A543-4D54-9095-A84C2E2D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09E6-E441-43DF-B5AA-F047C51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0A2D-B3FA-4CC7-9947-7322668E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F1E-DE0B-41A4-80ED-5C8A98D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9074-9FFC-446B-A302-D2229C8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2B5-26D5-4BB5-8A93-37D65F8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E1A-BA0F-4181-BD2F-20F0818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B72-23A0-49ED-8F58-090700E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708-692F-4A50-853A-340474C5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D206-8C94-4820-A8AF-F0934CC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805-82D9-4490-8FA4-848AFA28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76E2-9E72-4CEE-8E27-C6A98A4B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0CC-7BC5-4411-BA07-F5F4E35C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FC8-FCD7-419E-B11F-6696D89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C71-ECB4-4532-A407-8FBFF996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02C-B228-4FA6-9EDF-4EA6F336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961-8D0B-48B6-AD88-48F05E1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333-93BD-4764-9392-E7E276A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075-63B0-4311-9DBE-4183735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B93-37C4-4C90-927C-F066A202755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B54-C048-4B7D-825C-85AF3E8F079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6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985-7055-446D-831F-C9C7DC1B530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14600" y="1599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ирование научного мировоззрения учащихся в процессе обучения физике в комплексе с другими естественно-научным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сципли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590920" y="396216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ГОСУДАРСТВЕННОЕ БЮДЖЕТНОЕ ПРОФЕССИОНАЛЬНОЕ ОБРАЗОВАТЕЛЬНОЕ УЧРЕЖДЕНИЕ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«ВЕРХНЕУРАЛЬСКИЙ АГРОТЕХНОЛОГИЧЕСКИЙ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ТЕХНИКУМ- КАЗАЧИЙ КАДЕТСКИЙ КОРПУС»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90920" y="317520"/>
            <a:ext cx="5790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Харин Александр Евгенье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241-7A7B-4F20-A36E-1B5DF804AB3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789200" y="116640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основать принципы формирования научного мировоззрения у учащихся при обучении физике и других на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этапы формирования научного мировоззрения у учащихся в курсе естественных на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меры противодействия формированию искаженного, антинаучного мировозз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F00-C66A-4E34-8F67-E402C2E2B83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789200" y="106416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эффективные формы и методы формирования научного мировоззрения учащихся при обучении естественным нау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работать программу курса внеурочной деятельности по естественнонаучным  дисциплин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7C03-82A9-4C7C-B1DE-262B41F9637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ешения поставленных задач использовались следу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66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теоретические: анализ, синтез, сравнение и обобщение; моделирование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 - экспериментальные: прямое и косвенное педагогическое наблюдение, беседа, 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E91-46C1-4FE8-AC2C-C68A7950A3F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1828800" y="914400"/>
            <a:ext cx="66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4a16"/>
                </a:solidFill>
                <a:latin typeface="Times New Roman"/>
              </a:rPr>
              <a:t>Гуманитаризация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4a16"/>
                </a:solidFill>
                <a:latin typeface="Times New Roman"/>
              </a:rPr>
              <a:t>(т. е. реализация интегративного подхода) призвана помочь осуществить в характере мышления человека столь необходимый поворот от фрагментарного к целостному восприятию мира в широком культурном кон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785-AA99-41B2-9CC1-FEC431E73E0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1752480" y="53352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1d09"/>
                </a:solidFill>
                <a:latin typeface="Times New Roman"/>
              </a:rPr>
              <a:t>Именно интегрированный характер курсов «физика» и других естественно- научных дисциплин, в содержании которых должно рассматриваться многообразие природного мира, научные методы и пути познания человеком природы и человека, позволит сформировать так называемое </a:t>
            </a:r>
            <a:r>
              <a:rPr b="1" lang="ru-RU" sz="2800" spc="-1" strike="noStrike" u="sng">
                <a:solidFill>
                  <a:srgbClr val="993300"/>
                </a:solidFill>
                <a:uFillTx/>
                <a:latin typeface="Times New Roman"/>
              </a:rPr>
              <a:t>экологическое мировоззрение</a:t>
            </a:r>
            <a:r>
              <a:rPr b="1" lang="ru-RU" sz="2800" spc="-1" strike="noStrike">
                <a:solidFill>
                  <a:srgbClr val="231d09"/>
                </a:solidFill>
                <a:latin typeface="Times New Roman"/>
              </a:rPr>
              <a:t>, способное выстроить поведение каждог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5B3-5B3E-4EB5-9639-2FC37C8F02F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133720" y="838080"/>
            <a:ext cx="6019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Интегрированный курс физики, химии, биологии, географии, астрономии гармонично вписывается в структуру дисциплин современной образовательной системы в соответствии с базовым уровнем федерального компонента Государственного стандарта среднего (полного) общего образования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F43D-8D37-4EB8-8A7D-7BC7CEFFDD6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828800" y="762120"/>
            <a:ext cx="66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а курса состоит в том, чтобы сформировать основы естественнонаучной культуры и как можно более наглядно показать, какую роль играют естественные науки в развитии цивилизации, формировании нашего материального окружения, знании человека о самом себе а, в целом, - формирование мировоззр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AFE-FE7B-485D-9254-89A6075EF7F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828800" y="68580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Разработанная нами программа внеурочной деятельности «Мир вокруг нас» носит интегративный характер и объ­единяет темы из области не только естественно-научных дис­циплин (физики, биологии, географии, химии), но и предметов гума­нитарно-эстетического цикла, что соответствует современным интегративным тенденциям в нау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9EC5-60EB-4513-A23E-7F04EEA2514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981080" y="609480"/>
            <a:ext cx="617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Данная программа будет являться дополнительной содержательной основой для формирования научного мировоззрения  учащихся технику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Подводя итог нашей работы, можно сказать, что поставленные нами задачи реализованы, гипотеза исследования подтвержд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491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Автор работы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арин Александр Евгеньевич,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преподаватель физики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высшей категории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ГБПОУ «ВАТТ-ККК»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Снежненский филиал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39E-E5D0-49F5-AA8D-308AA85A6FF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295C-7E6C-47A5-BE22-93650B3FE19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1752480" y="1143000"/>
            <a:ext cx="685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"Конечная цель курса физики и естествознания в общеобразовательных заведениях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привести учащегося к правильному мировоззрени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согласному с современным состоянием естественных наук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6a600"/>
                </a:solidFill>
                <a:latin typeface="Times New Roman"/>
              </a:rPr>
              <a:t>А.Я. Гер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CAB-4212-4246-B17C-239E4BF71D0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600200" y="22860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j0300840"/>
          <p:cNvPicPr/>
          <p:nvPr/>
        </p:nvPicPr>
        <p:blipFill>
          <a:blip r:embed="rId1"/>
          <a:stretch/>
        </p:blipFill>
        <p:spPr>
          <a:xfrm>
            <a:off x="3429000" y="3048120"/>
            <a:ext cx="3816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9D4-0AA5-4D3E-9D74-06A2738B9A0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3623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Актуальность темы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676520" y="1646280"/>
            <a:ext cx="685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сегодняшний день в методике обучения естественным наукам в образовании сложились противореч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ежду появлением новых требований к развитию личности учащегося, потребностью общества в гражданах, обладающих развитым научным мировоззрением, и современным состоянием проблемы формирования мировоззрения в теории и методике обучения естественным наукам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ежду социально-педагогическими требованиями усиления мировоззренческой функции образования и отсутствием научно обоснованной методики формирования научного мировоззрения у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760-0D9E-4F97-9046-A239AEE6456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23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Проблема исслед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665360" y="182880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заключается в объективной необходимости создания теоретически обоснованной </a:t>
            </a:r>
            <a:r>
              <a:rPr b="1" lang="ru-RU" sz="3200" spc="-1" strike="noStrike">
                <a:solidFill>
                  <a:srgbClr val="666600"/>
                </a:solidFill>
                <a:latin typeface="Times New Roman"/>
              </a:rPr>
              <a:t>методики формирования научного мировоззрения </a:t>
            </a: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у учащихся при обучении физике и другим предметам естественно-математическ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2676-5F58-4A58-8D3C-4D85AFF126D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Цель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00200" y="1126440"/>
            <a:ext cx="7315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6100"/>
                </a:solidFill>
                <a:latin typeface="Times New Roman"/>
              </a:rPr>
              <a:t>заключается в повышении эффективности процесса формирования научного мировоззрения учащихся в разделе «ФИЗИКА« и других естественных наук при помощи курса урочной и внеурочной деятельности как средства формирования научного мировоззр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6FF-010F-45A9-B013-40CB8410E3F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Объект исследования –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учебно-воспитательный процесс по естественнонаучным дисциплинам как средство формирования научного мировоззрения у учащихся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1984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редмет исследования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 методика формирования научного мировоззрения у  учащихся в процессе изучения предметов естественноматематического цикла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6B9-E5F9-44C0-BC52-27E9D858DCB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5696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B61-56F8-43E0-8992-72F2AFD9243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893960" y="609480"/>
            <a:ext cx="7010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процесс формирования научного мировоззрения у учащихся в разделе «ФИЗИКА" будет эффективным, ес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выявлен мировоззренческий компонент содержания  кур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определены формы и методы, содействующие формированию научного мировоззрения у уча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разработан и проведён курс внеурочной деятельности, направленный на выполнение индивидуального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1D2-C3E1-4C72-98F3-3439B08B72A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803240" y="785160"/>
            <a:ext cx="7086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 основе теоретического анализа уточнить и конкретизировать применительно к профессионально-техническому образованию сущность категории "научное мировоззрение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ить состояние проблемы формирования научного мировоззрения у учащихся в теории и методике обучения естественных нау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ить состояние проблемы формирования научного мировоззрения у учащихся в практике 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8-04-05T10:14:30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