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B9C-3A32-4D92-9F50-2439E4B1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6A-DBA9-458B-A1D0-8410859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3A3-41AF-4128-8747-E9618A2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B81-BE62-47F3-BCD8-5E84B6C5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0C1-9BA6-4424-A64A-D096E995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7E7B-A5F5-4097-A773-942CE62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45B8-9C69-47EC-86BC-C86A535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471-75BC-4715-8EBE-5623C2D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23D7-C240-41BC-A7F4-5A20E5E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0907-9133-49BC-8500-C1721F6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3E84-9D9F-4D14-8CA7-C6F12A02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2E2-EB93-4DD0-8C2D-F6D8515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7A9-F4EA-4A49-8679-0941EA0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95F7-522B-4750-94B0-28E29A79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243F-D7FC-48D4-8461-CE83C327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D4D1-9CC6-4EAA-8F05-D1457BE8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4C6-0D66-481B-9890-DCA5863E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1EB-A7DD-484B-B535-3FE3B4C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547-2141-4677-8CD4-BF1BE39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E01-FA69-40F7-A4D8-8D124B69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7B7-6FFD-455B-990A-81F266D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992-D7AF-4818-ABE5-CB803F9E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81F-C89D-4997-B100-43DE308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392-56EC-4EBE-952B-E3C49C58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FD91-BF3D-461D-8DFD-27D699FD7C0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8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6E1-541F-48E3-ADB8-947E66CFCD4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6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3E04-99D2-4416-A854-EC450359931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14600" y="1599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ирование научного мировоззрения учащихся в процессе обучения физике в комплексе с другими естественно-научным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сципли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590920" y="396216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ГОСУДАРСТВЕННОЕ БЮДЖЕТНОЕ ПРОФЕССИОНАЛЬНОЕ ОБРАЗОВАТЕЛЬНОЕ УЧРЕЖДЕНИЕ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«ВЕРХНЕУРАЛЬСКИЙ АГРОТЕХНОЛОГИЧЕСКИЙ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b8b00"/>
                </a:solidFill>
                <a:latin typeface="Times New Roman"/>
              </a:rPr>
              <a:t>ТЕХНИКУМ- КАЗАЧИЙ КАДЕТСКИЙ КОРПУС»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90920" y="317520"/>
            <a:ext cx="5790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Харин Александр Евгенье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77B-3CDF-4381-A78A-4BACC6A1686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789200" y="116640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босновать принципы формирования научного мировоззрения у учащихся при обучении физике и других на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этапы формирования научного мировоззрения у учащихся в курсе естественных нау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меры противодействия формированию искаженного, антинаучного мировозз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9F0-090B-4FA5-8EDB-9A878B93209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789200" y="106416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Определить эффективные формы и методы формирования научного мировоззрения учащихся при обучении естественным нау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азработать программу курса внеурочной деятельности по естественнонаучным  дисциплин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52D8-8A7D-4E9C-B970-CC962A66AD3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ешения поставленных задач использовались следу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66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теоретические: анализ, синтез, сравнение и обобщение; моделирование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 - экспериментальные: прямое и косвенное педагогическое наблюдение, беседа, 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276E-D445-4E3E-A1CC-8BCFCC1A741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1"/>
          <p:cNvSpPr/>
          <p:nvPr/>
        </p:nvSpPr>
        <p:spPr>
          <a:xfrm>
            <a:off x="1828800" y="914400"/>
            <a:ext cx="66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4a16"/>
                </a:solidFill>
                <a:latin typeface="Times New Roman"/>
              </a:rPr>
              <a:t>Гуманитаризация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4a16"/>
                </a:solidFill>
                <a:latin typeface="Times New Roman"/>
              </a:rPr>
              <a:t>(т. е. реализация интегративного подхода) призвана помочь осуществить в характере мышления человека столь необходимый поворот от фрагментарного к целостному восприятию мира в широком культурном контек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719-6A0C-41FC-B815-FD82E40A4AA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1752480" y="53352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1d09"/>
                </a:solidFill>
                <a:latin typeface="Times New Roman"/>
              </a:rPr>
              <a:t>Именно интегрированный характер курсов «физика» и других естественно- научных дисциплин, в содержании которых должно рассматриваться многообразие природного мира, научные методы и пути познания человеком природы и человека, позволит сформировать так называемое </a:t>
            </a:r>
            <a:r>
              <a:rPr b="1" lang="ru-RU" sz="2800" spc="-1" strike="noStrike" u="sng">
                <a:solidFill>
                  <a:srgbClr val="993300"/>
                </a:solidFill>
                <a:uFillTx/>
                <a:latin typeface="Times New Roman"/>
              </a:rPr>
              <a:t>экологическое мировоззрение</a:t>
            </a:r>
            <a:r>
              <a:rPr b="1" lang="ru-RU" sz="2800" spc="-1" strike="noStrike">
                <a:solidFill>
                  <a:srgbClr val="231d09"/>
                </a:solidFill>
                <a:latin typeface="Times New Roman"/>
              </a:rPr>
              <a:t>, способное выстроить поведение каждог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642-8D50-407E-9714-7C442287544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133720" y="838080"/>
            <a:ext cx="6019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Интегрированный курс физики, химии, биологии, географии, астрономии гармонично вписывается в структуру дисциплин современной образовательной системы в соответствии с базовым уровнем федерального компонента Государственного стандарта среднего (полного) общего образования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A5E-D1B1-487D-BFCB-A7CF3AE3D4C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1828800" y="762120"/>
            <a:ext cx="6629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а курса состоит в том, чтобы сформировать основы естественнонаучной культуры и как можно более наглядно показать, какую роль играют естественные науки в развитии цивилизации, формировании нашего материального окружения, знании человека о самом себе а, в целом, - формирование мировоззр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477-9D29-471A-8AC0-85558EB6EF33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828800" y="68580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Разработанная нами программа внеурочной деятельности «Мир вокруг нас» носит интегративный характер и объ­единяет темы из области не только естественно-научных дис­циплин (физики, биологии, географии, химии), но и предметов гума­нитарно-эстетического цикла, что соответствует современным интегративным тенденциям в нау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F761-507F-4EE5-A02D-7F44BAE5478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981080" y="609480"/>
            <a:ext cx="6172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Данная программа будет являться дополнительной содержательной основой для формирования научного мировоззрения  учащихся технику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Подводя итог нашей работы, можно сказать, что поставленные нами задачи реализованы, гипотеза исследования подтвержд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491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Автор работы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арин Александр Евгеньевич,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преподаватель физики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высшей категории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ГБПОУ «ВАТТ-ККК»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Снежненский филиал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EF9-A6AE-4838-BC66-2C4969371D0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4AD-63B3-418C-9C38-8454B342E8E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1"/>
          <p:cNvSpPr/>
          <p:nvPr/>
        </p:nvSpPr>
        <p:spPr>
          <a:xfrm>
            <a:off x="1752480" y="1143000"/>
            <a:ext cx="685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"Конечная цель курса физики и естествознания в общеобразовательных заведениях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привести учащегося к правильному мировоззрени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6100"/>
                </a:solidFill>
                <a:latin typeface="Times New Roman"/>
              </a:rPr>
              <a:t>согласному с современным состоянием естественных наук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6a600"/>
                </a:solidFill>
                <a:latin typeface="Times New Roman"/>
              </a:rPr>
              <a:t>А.Я. Гер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B26C-1624-4043-8FF7-737CD095074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СПАСИБО </a:t>
            </a: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600200" y="22860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j0300840"/>
          <p:cNvPicPr/>
          <p:nvPr/>
        </p:nvPicPr>
        <p:blipFill>
          <a:blip r:embed="rId1"/>
          <a:stretch/>
        </p:blipFill>
        <p:spPr>
          <a:xfrm>
            <a:off x="3429000" y="3048120"/>
            <a:ext cx="3816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EE6-BA06-45C5-A524-94C8E07B6746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3623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Актуальность темы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676520" y="1646280"/>
            <a:ext cx="685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сегодняшний день в методике обучения естественным наукам в образовании сложились противореч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ежду появлением новых требований к развитию личности учащегося, потребностью общества в гражданах, обладающих развитым научным мировоззрением, и современным состоянием проблемы формирования мировоззрения в теории и методике обучения естественным наукам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ежду социально-педагогическими требованиями усиления мировоззренческой функции образования и отсутствием научно обоснованной методики формирования научного мировоззрения у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E14-17FC-479A-BBF1-62965F262CD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676520" y="3141720"/>
            <a:ext cx="716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2320" y="533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Проблема исслед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665360" y="182880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заключается в объективной необходимости создания теоретически обоснованной </a:t>
            </a:r>
            <a:r>
              <a:rPr b="1" lang="ru-RU" sz="3200" spc="-1" strike="noStrike">
                <a:solidFill>
                  <a:srgbClr val="666600"/>
                </a:solidFill>
                <a:latin typeface="Times New Roman"/>
              </a:rPr>
              <a:t>методики формирования научного мировоззрения </a:t>
            </a:r>
            <a:r>
              <a:rPr b="0" lang="ru-RU" sz="3200" spc="-1" strike="noStrike">
                <a:solidFill>
                  <a:srgbClr val="666600"/>
                </a:solidFill>
                <a:latin typeface="Times New Roman"/>
              </a:rPr>
              <a:t>у учащихся при обучении физике и другим предметам естественно-математического ци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AB2-1F6C-40C5-A6C4-EEA50B7A972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Цель исслед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600200" y="1126440"/>
            <a:ext cx="7315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6100"/>
                </a:solidFill>
                <a:latin typeface="Times New Roman"/>
              </a:rPr>
              <a:t>заключается в повышении эффективности процесса формирования научного мировоззрения учащихся в разделе «ФИЗИКА« и других естественных наук при помощи курса урочной и внеурочной деятельности как средства формирования научного мировоззр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BD0-7F82-44B7-8140-DC41B7396AD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imes New Roman"/>
              </a:rPr>
              <a:t>Объект исследования –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учебно-воспитательный процесс по естественнонаучным дисциплинам как средство формирования научного мировоззрения у учащихся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1984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Предмет исследования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 методика формирования научного мировоззрения у  учащихся в процессе изучения предметов естественноматематического цикла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228C-DA7B-43B1-AD90-6B9095A6830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5696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266-B61C-4AFB-B792-F8F403F47AB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893960" y="609480"/>
            <a:ext cx="7010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процесс формирования научного мировоззрения у учащихся в разделе «ФИЗИКА" будет эффективным, ес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выявлен мировоззренческий компонент содержания  кур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определены формы и методы, содействующие формированию научного мировоззрения у уча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95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5900"/>
                </a:solidFill>
                <a:latin typeface="Times New Roman"/>
              </a:rPr>
              <a:t>разработан и проведён курс внеурочной деятельности, направленный на выполнение индивидуального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656-3EC7-4DED-B5E9-63C6F3203C2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803240" y="785160"/>
            <a:ext cx="7086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 основе теоретического анализа уточнить и конкретизировать применительно к профессионально-техническому образованию сущность категории "научное мировоззрение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ить состояние проблемы формирования научного мировоззрения у учащихся в теории и методике обучения естественных нау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зучить состояние проблемы формирования научного мировоззрения у учащихся в практике профессионального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8-04-05T10:14:30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