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3BF-4AF9-4671-8E81-883730C0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B95-0133-496C-A048-7C0A522D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B2E-B4F7-4F0F-A9EB-F7E88798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A43-8FB4-4B28-BFD4-F92F41EF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B24-A432-4F6E-B15A-836C6E4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1AE9-105E-468E-95F0-B1AFC3F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820-29B2-47F2-90AE-3B51D997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5CE4-9BC7-4B16-9590-ABC1D85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DD38-9A58-480F-9858-1BD3EBFE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455-2075-47BC-B15E-BC52E3E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EBC9-F2F6-4C6D-9B20-366F8BC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71A-AECF-4457-92CE-F596E3AD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962A-5F70-4599-832D-0597174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444-A433-42C6-8B2D-5A3F4E8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5C20-6C14-4FFA-BEF8-B0F4AEA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935-0E01-4F93-B1D1-D77312B4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E37-816D-4835-850C-A762F418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C52B-D6F8-4D1C-A843-E51F73EF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B410-C62A-45F5-9F8E-8463589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4EF7-5569-465F-8DB2-0ED33372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33B1-F4C9-4967-BB03-1456F74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902E-4E77-4CDB-B08A-5CE83D8E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B2B-2D7C-4609-8DC0-641A714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42D6-F442-428B-BCE5-1F36644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ED82-EE6D-4025-A763-573641C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BEF5-D0CA-4B0F-A280-B2A141F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5BA7-D38B-43A0-A120-59B89A9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7603-74CF-4143-9236-513B8D6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43A0-FC4E-46AE-96BB-ADDFDB27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3057-4A2D-4CA1-A7A9-BA1CB8D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F46-846E-42B7-972E-DA736A37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C7C-65E1-4417-ADEF-45FB726B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332-F74E-43EB-9E11-62C2B36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185-5D9D-4084-A4A2-7299CC27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575-88D8-4A08-ABF4-0B224F9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755-F175-4E3D-8A4E-32A8348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4A24A1-0DDB-4D94-ACDB-C4227587C4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59F73-FFD6-48C7-BEC8-B3FF537D6A9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5C1698-F991-4470-9FF6-D5C6927043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040" cy="360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 «Детский сад «Сказка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uk-UA" sz="3600" spc="-1" strike="noStrike">
                <a:solidFill>
                  <a:srgbClr val="ffff00"/>
                </a:solidFill>
                <a:latin typeface="Calibri Light"/>
              </a:rPr>
              <a:t>ПРОЕКТ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libri Light"/>
              </a:rPr>
              <a:t>«Делаем вместе с детьми»</a:t>
            </a:r>
            <a:br>
              <a:rPr sz="18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5383440"/>
            <a:ext cx="7807320" cy="12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кова И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ло Самбург, 2018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-541080"/>
            <a:ext cx="7886520" cy="3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18880"/>
            <a:ext cx="7886520" cy="59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творчеств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реализац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месяц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роект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местная деятельность родителей и дет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числу участников: дети 4-5 лет (25), воспитатели, родители воспитанник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8192880" cy="588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15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чить родителей вместе с детьми изготавливать поделки из разных видов материалов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у родителей правильное отношение к воспитанию и образованию своего ребёнка. </a:t>
            </a:r>
            <a:br>
              <a:rPr sz="2700"/>
            </a:br>
            <a:br>
              <a:rPr sz="28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365040"/>
            <a:ext cx="8448120" cy="62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влекать родителей в образовательный процес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чь  родителям понять значимость проблемы детского досуга, побудить к активному взаимодействию с педагогами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овать стремлению родителей взаимодействовать со своим ребёнком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оздавать поделки с опорой на заданную тем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звать у детей и взрослых положительный отклик от участия в совмест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навыки, умения организовывать совместную деятельность с деть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общение взрослого и ребёнка, умение находить общие интересы.</a:t>
            </a:r>
            <a:br>
              <a:rPr sz="27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9240" y="102960"/>
            <a:ext cx="8216280" cy="65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в современном обществе многие родители оставляют воспитание, обучение и развитие своих детей на откуп общеобразовательным учреждениям. Зачастую, родители мало интересуются успехами своих детей. Заинтересовать их очень трудно, а привлечь к совместной деятельности практически невозможно. А ведь именно в совместной деятельности и происходит полноценное развитие ребенка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Дошкольный возраст – это период, очень восприимчивый ко всему, что происходит вокруг. Все, абсолютно все, что происходит с ребенком до 5 лет, оставляет свой след на всю его дальнейшую жизнь. Именно в этот период детям особенно необходимо внимание родителей. Упущенное в это время уже не восполнится никогда.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Работа с родителями является одним из условий в развитии творческих способностей у детей дошкольного возраста. Творческие задания для родителей, организация конкурсов, участие в проектной деятельности, совместные мероприятия, направленные на развитие творческих способностей детей – всё это способствует налаживанию доверительных отношений между детским садом и семьей, а также открывают возможности для родителей участвовать в образовательном процессе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3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родителям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Изготовление поделок, аппликации, рисун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торожно, огонь!», «Весна пришла», «Мой любимый цветок», «Насекомые», «Моя любимая птица», «День космонавтики», «Праздничный салют», «Воспоминание о лете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онсультаци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Аппликация. Хорошо или плохо?», «Нетрадиционные техники работы с бумагой», «Аппликация по ткани», «Бросовый материал в поделках детей», «Значение техники рисования и ее роль в создании изображения», «Что такое аппликация?»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25</TotalTime>
  <Application>LibreOffice/7.4.7.2$Linux_X86_64 LibreOffice_project/40$Build-2</Application>
  <AppVersion>15.0000</AppVersion>
  <Words>69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1</cp:lastModifiedBy>
  <dcterms:modified xsi:type="dcterms:W3CDTF">2018-05-03T09:14:56Z</dcterms:modified>
  <cp:revision>8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