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001-CCE0-4961-8AF1-378FFBEE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581-58B4-4FE7-BC0F-6741B28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602-85B3-4FA2-A0D8-A4C9C6C1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65B-5EFF-4AAB-8E69-562F6B54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9055-F29D-4301-B77C-2354E210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6C8-6450-45D4-BC28-A7EC2FC8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FFB-4B32-4479-91D9-40B205A0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39D5-34C7-4E59-90CD-0DC96083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DEEF-2B13-4F8A-92E1-05BAD47D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A84-2412-4139-BF6E-6118B549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22B6-F81C-4F75-9FD2-0E9F7E5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216-D2D1-4B2D-AAFA-98F0CE28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3855-95D3-4BBD-95F0-157A74DF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9B3D-6AE9-40C8-AFD7-120C9A6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E9C-0B54-42AD-B83A-1EA490C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29A-7949-4DAC-9D0D-5D20E703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E558-884D-48EB-B942-621A1FCC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2EA4-48AB-4996-A470-AE9F5F56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AC2F-4566-40BF-BBAC-77EB40C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2FEC-00C2-466E-BD1F-0D8AD89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98EA-EF13-47D9-A946-9F4645C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EA4B-CB51-4F4E-89E6-2A2E511E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5D6-66C6-43E6-8B41-836A7A5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C183-2765-422C-A27C-5F621C96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F64F-B5B7-489A-9AAE-50D7F7A4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7D1D-BA01-4B88-ABF7-C3D0AAD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5A3E-27E8-4CFA-B343-F9077B6B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10AE-C898-4DB7-B7C8-DF147492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FF07-E103-4596-96E5-827B975B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C3DB-8D53-4A89-A44C-3F45C099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DA2-B0B6-4D06-ABAA-644163AA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9CD-5BE4-436B-8CCD-E060F11C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629-7AEC-4CEC-9F9F-8AAF2E0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A76-B382-474D-93EE-EF49D0D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E9E-1FCA-4224-AA4A-C89BECF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6A8-4BDD-45BB-8701-790C234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05ACC4-1209-4774-AEF2-329766BE420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23973-4D8C-4FE5-89D5-03B793AC426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F2EE7-59FC-406D-B1E3-79699C6157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040" cy="360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 «Детский сад «Сказка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uk-UA" sz="3600" spc="-1" strike="noStrike">
                <a:solidFill>
                  <a:srgbClr val="ffff00"/>
                </a:solidFill>
                <a:latin typeface="Calibri Light"/>
              </a:rPr>
              <a:t>ПРОЕКТ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libri Light"/>
              </a:rPr>
              <a:t>«Делаем вместе с детьми»</a:t>
            </a:r>
            <a:br>
              <a:rPr sz="18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5383440"/>
            <a:ext cx="7807320" cy="12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веткова И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ло Самбург, 2018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-541080"/>
            <a:ext cx="7886520" cy="34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18880"/>
            <a:ext cx="7886520" cy="59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творчеств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 реализац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месяц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роект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местная деятельность родителей и дет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числу участников: дети 4-5 лет (25), воспитатели, родители воспитанник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8192880" cy="588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15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чить родителей вместе с детьми изготавливать поделки из разных видов материалов.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ть у родителей правильное отношение к воспитанию и образованию своего ребёнка. </a:t>
            </a:r>
            <a:br>
              <a:rPr sz="2700"/>
            </a:br>
            <a:br>
              <a:rPr sz="28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365040"/>
            <a:ext cx="8448120" cy="62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влекать родителей в образовательный процес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чь  родителям понять значимость проблемы детского досуга, побудить к активному взаимодействию с педагогами;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ствовать стремлению родителей взаимодействовать со своим ребёнком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создавать поделки с опорой на заданную тем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звать у детей и взрослых положительный отклик от участия в совмест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ть навыки, умения организовывать совместную деятельность с деть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общение взрослого и ребёнка, умение находить общие интересы.</a:t>
            </a:r>
            <a:br>
              <a:rPr sz="27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9240" y="102960"/>
            <a:ext cx="8216280" cy="65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в современном обществе многие родители оставляют воспитание, обучение и развитие своих детей на откуп общеобразовательным учреждениям. Зачастую, родители мало интересуются успехами своих детей. Заинтересовать их очень трудно, а привлечь к совместной деятельности практически невозможно. А ведь именно в совместной деятельности и происходит полноценное развитие ребенка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Дошкольный возраст – это период, очень восприимчивый ко всему, что происходит вокруг. Все, абсолютно все, что происходит с ребенком до 5 лет, оставляет свой след на всю его дальнейшую жизнь. Именно в этот период детям особенно необходимо внимание родителей. Упущенное в это время уже не восполнится никогда.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Работа с родителями является одним из условий в развитии творческих способностей у детей дошкольного возраста. Творческие задания для родителей, организация конкурсов, участие в проектной деятельности, совместные мероприятия, направленные на развитие творческих способностей детей – всё это способствует налаживанию доверительных отношений между детским садом и семьей, а также открывают возможности для родителей участвовать в образовательном процессе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3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родителям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Изготовление поделок, аппликации, рисун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сторожно, огонь!», «Весна пришла», «Мой любимый цветок», «Насекомые», «Моя любимая птица», «День космонавтики», «Праздничный салют», «Воспоминание о лете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онсультаци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Аппликация. Хорошо или плохо?», «Нетрадиционные техники работы с бумагой», «Аппликация по ткани», «Бросовый материал в поделках детей», «Значение техники рисования и ее роль в создании изображения», «Что такое аппликация?»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25</TotalTime>
  <Application>LibreOffice/7.4.7.2$Linux_X86_64 LibreOffice_project/40$Build-2</Application>
  <AppVersion>15.0000</AppVersion>
  <Words>69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0:12:37Z</dcterms:created>
  <dc:creator>Dmytro</dc:creator>
  <dc:description/>
  <dc:language>en-US</dc:language>
  <cp:lastModifiedBy>1</cp:lastModifiedBy>
  <dcterms:modified xsi:type="dcterms:W3CDTF">2018-05-03T09:14:56Z</dcterms:modified>
  <cp:revision>8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