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8.jpeg" ContentType="image/jpeg"/>
  <Override PartName="/ppt/media/image29.png" ContentType="image/png"/>
  <Override PartName="/ppt/media/image31.png" ContentType="image/pn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1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6B8-7FB7-4922-BC37-24A26E52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5C1-66C8-4EC9-8D04-7E5B3358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A8A-06AC-438C-82F7-21961FE8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9DF-31E8-41E0-AB11-A8C632D8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D15-F7E0-46F9-BC20-7C37428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6EF-6363-4701-B678-7A6EB065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D64-BA76-4FDC-A05A-34D5726A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89D-88C1-45A4-A6AE-AC722896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752-A30B-4EF0-8F28-B52ECBC4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702-861D-4DF1-951A-D820CD4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AD5-1225-4E3A-82A7-DD7EA070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60E-25FE-4E52-818B-8285DEA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55C-823E-4799-ACD3-50BC3EE45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2"/>
          <a:stretch/>
        </p:blipFill>
        <p:spPr>
          <a:xfrm>
            <a:off x="4114800" y="554040"/>
            <a:ext cx="2054160" cy="92088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3" descr=""/>
          <p:cNvPicPr/>
          <p:nvPr/>
        </p:nvPicPr>
        <p:blipFill>
          <a:blip r:embed="rId3"/>
          <a:stretch/>
        </p:blipFill>
        <p:spPr>
          <a:xfrm>
            <a:off x="1251000" y="1600200"/>
            <a:ext cx="66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5" descr=""/>
          <p:cNvPicPr/>
          <p:nvPr/>
        </p:nvPicPr>
        <p:blipFill>
          <a:blip r:embed="rId2"/>
          <a:stretch/>
        </p:blipFill>
        <p:spPr>
          <a:xfrm>
            <a:off x="4041720" y="554040"/>
            <a:ext cx="3218040" cy="920880"/>
          </a:xfrm>
          <a:prstGeom prst="rect">
            <a:avLst/>
          </a:prstGeom>
          <a:ln w="0">
            <a:noFill/>
          </a:ln>
        </p:spPr>
      </p:pic>
      <p:pic>
        <p:nvPicPr>
          <p:cNvPr id="71" name="Объект 3" descr=""/>
          <p:cNvPicPr/>
          <p:nvPr/>
        </p:nvPicPr>
        <p:blipFill>
          <a:blip r:embed="rId3"/>
          <a:stretch/>
        </p:blipFill>
        <p:spPr>
          <a:xfrm>
            <a:off x="1971720" y="1913040"/>
            <a:ext cx="520056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5" descr=""/>
          <p:cNvPicPr/>
          <p:nvPr/>
        </p:nvPicPr>
        <p:blipFill>
          <a:blip r:embed="rId2"/>
          <a:stretch/>
        </p:blipFill>
        <p:spPr>
          <a:xfrm>
            <a:off x="3870360" y="536400"/>
            <a:ext cx="3567240" cy="92088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" descr=""/>
          <p:cNvPicPr/>
          <p:nvPr/>
        </p:nvPicPr>
        <p:blipFill>
          <a:blip r:embed="rId3"/>
          <a:stretch/>
        </p:blipFill>
        <p:spPr>
          <a:xfrm>
            <a:off x="1971720" y="1913040"/>
            <a:ext cx="520056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2494080" y="274680"/>
            <a:ext cx="3681360" cy="1152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8148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we go by trai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we can/ No, we can’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go by ca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go by boa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got a nice family: my mother, my father, my little brother and me. My father and I like to travel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шествова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There are many kinds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вид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of transport: a bus, a boat, a car, a train, a ship. We have got a car. It’s big and fast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стра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It’s blue. We like to go by our car. My little brother has got a bicycle. The bicycle is red. My brother likes to go by bicycle. It is interesting. Let’s go by car together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2" descr=""/>
          <p:cNvPicPr/>
          <p:nvPr/>
        </p:nvPicPr>
        <p:blipFill>
          <a:blip r:embed="rId1"/>
          <a:stretch/>
        </p:blipFill>
        <p:spPr>
          <a:xfrm>
            <a:off x="228600" y="1782720"/>
            <a:ext cx="4343400" cy="2735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003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y favourite transport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My name is 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I like a c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It is big and fast. It is bl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I love  my c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4651200" cy="586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4579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549360"/>
            <a:ext cx="1950840" cy="919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3657600" y="542880"/>
            <a:ext cx="1700280" cy="920880"/>
          </a:xfrm>
          <a:prstGeom prst="rect">
            <a:avLst/>
          </a:prstGeom>
          <a:ln w="0">
            <a:noFill/>
          </a:ln>
        </p:spPr>
      </p:pic>
      <p:pic>
        <p:nvPicPr>
          <p:cNvPr id="44" name="Объект 6" descr=""/>
          <p:cNvPicPr/>
          <p:nvPr/>
        </p:nvPicPr>
        <p:blipFill>
          <a:blip r:embed="rId3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1146240" y="433440"/>
            <a:ext cx="1944720" cy="9255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3352680" y="384120"/>
            <a:ext cx="184176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Объект 4" descr=""/>
          <p:cNvPicPr/>
          <p:nvPr/>
        </p:nvPicPr>
        <p:blipFill>
          <a:blip r:embed="rId3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811080"/>
            <a:ext cx="1944720" cy="9208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4206960" y="762120"/>
            <a:ext cx="2041560" cy="920520"/>
          </a:xfrm>
          <a:prstGeom prst="rect">
            <a:avLst/>
          </a:prstGeom>
          <a:ln w="0">
            <a:noFill/>
          </a:ln>
        </p:spPr>
      </p:pic>
      <p:pic>
        <p:nvPicPr>
          <p:cNvPr id="50" name="Объект 4" descr=""/>
          <p:cNvPicPr/>
          <p:nvPr/>
        </p:nvPicPr>
        <p:blipFill>
          <a:blip r:embed="rId3"/>
          <a:stretch/>
        </p:blipFill>
        <p:spPr>
          <a:xfrm>
            <a:off x="1633680" y="1600200"/>
            <a:ext cx="587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84132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4114800" y="841320"/>
            <a:ext cx="2000160" cy="92088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/>
          <p:cNvPicPr/>
          <p:nvPr/>
        </p:nvPicPr>
        <p:blipFill>
          <a:blip r:embed="rId3"/>
          <a:stretch/>
        </p:blipFill>
        <p:spPr>
          <a:xfrm>
            <a:off x="2133720" y="2509920"/>
            <a:ext cx="48765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1755720" y="689040"/>
            <a:ext cx="194472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3889440" y="536400"/>
            <a:ext cx="2987640" cy="92088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6750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1828800" y="84132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4041720" y="768240"/>
            <a:ext cx="1871640" cy="92736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4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7180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2"/>
          <a:stretch/>
        </p:blipFill>
        <p:spPr>
          <a:xfrm>
            <a:off x="3998880" y="554040"/>
            <a:ext cx="2286000" cy="92088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2" descr=""/>
          <p:cNvPicPr/>
          <p:nvPr/>
        </p:nvPicPr>
        <p:blipFill>
          <a:blip r:embed="rId3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4" descr=""/>
          <p:cNvPicPr/>
          <p:nvPr/>
        </p:nvPicPr>
        <p:blipFill>
          <a:blip r:embed="rId1"/>
          <a:stretch/>
        </p:blipFill>
        <p:spPr>
          <a:xfrm>
            <a:off x="1828800" y="1146240"/>
            <a:ext cx="1951200" cy="9205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3889440" y="1146240"/>
            <a:ext cx="3597120" cy="92052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2" descr=""/>
          <p:cNvPicPr/>
          <p:nvPr/>
        </p:nvPicPr>
        <p:blipFill>
          <a:blip r:embed="rId3"/>
          <a:stretch/>
        </p:blipFill>
        <p:spPr>
          <a:xfrm>
            <a:off x="1743120" y="2033640"/>
            <a:ext cx="5114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12:56:46Z</dcterms:created>
  <dc:creator>User</dc:creator>
  <dc:description/>
  <dc:language>en-US</dc:language>
  <cp:lastModifiedBy>Олег Виктарович</cp:lastModifiedBy>
  <dcterms:modified xsi:type="dcterms:W3CDTF">2019-11-29T07:45:45Z</dcterms:modified>
  <cp:revision>26</cp:revision>
  <dc:subject/>
  <dc:title>My Family</dc:title>
</cp:coreProperties>
</file>