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55F-6A56-4E69-B448-7128E417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2BC-4249-4084-8F3E-741F0B4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2C1-5908-4780-82FC-EAA060EC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E68-2E05-439B-B0F4-3B377FD6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8565-D91C-44C7-BF3E-B2B3CBE3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89CC-4CC4-4236-9CC6-954C395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83B-D330-490F-BFF2-37420E1C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8AF9-A46E-4303-A3B2-86E8ECD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73CB-85B1-4711-A775-F1C3C19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67E-E6E2-4B3F-91BD-434A5935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8A9-D2C6-4F10-9638-69F02CB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4B8-9953-41ED-A1C0-F489B66F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3FE6-ABB8-483B-B93A-4EC3DA05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904-2B95-4158-AD1E-EFAFCA53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941A-5B73-4C2F-B529-2427372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EBC0-974C-4BAF-9F0E-53E21C84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60F6-80C2-4CFB-B77F-D2175F85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860-04CA-4C38-B8CD-30C5469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685-D2DD-4500-850B-F52C7CF7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C5A-F84B-4233-9B94-066DEE0E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41A-9BA6-4A82-89EE-73AD643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77B-81C5-471E-ADCC-B9D2B8A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4FE-DEA3-4DA3-A742-76E21C8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A1D-023C-4D50-94BF-988B05F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681-96D0-4EA2-A060-9E9552AA7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0" descr="9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A574-5726-4C92-8C53-D1C2F49B53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0" descr="10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87360"/>
            <a:ext cx="5472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 Трифо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Анастасия   Денисовна, 8б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Сердитова Т.Н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учитель физике, высшей категор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2565360"/>
            <a:ext cx="5761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осбережение в бы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-71280" y="500040"/>
            <a:ext cx="6951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Ш №1 г. Михайлов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590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экономии электро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4" descr="Kot1.jpg"/>
          <p:cNvPicPr/>
          <p:nvPr/>
        </p:nvPicPr>
        <p:blipFill>
          <a:blip r:embed="rId1"/>
          <a:stretch/>
        </p:blipFill>
        <p:spPr>
          <a:xfrm>
            <a:off x="250920" y="2133720"/>
            <a:ext cx="4163760" cy="307980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kot2.jpg"/>
          <p:cNvPicPr/>
          <p:nvPr/>
        </p:nvPicPr>
        <p:blipFill>
          <a:blip r:embed="rId2"/>
          <a:stretch/>
        </p:blipFill>
        <p:spPr>
          <a:xfrm>
            <a:off x="4572000" y="3573360"/>
            <a:ext cx="437184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kot3.jpg"/>
          <p:cNvPicPr/>
          <p:nvPr/>
        </p:nvPicPr>
        <p:blipFill>
          <a:blip r:embed="rId1"/>
          <a:stretch/>
        </p:blipFill>
        <p:spPr>
          <a:xfrm>
            <a:off x="324000" y="189000"/>
            <a:ext cx="4535280" cy="31827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5" descr="kot4.jpg"/>
          <p:cNvPicPr/>
          <p:nvPr/>
        </p:nvPicPr>
        <p:blipFill>
          <a:blip r:embed="rId2"/>
          <a:stretch/>
        </p:blipFill>
        <p:spPr>
          <a:xfrm>
            <a:off x="2556000" y="3500280"/>
            <a:ext cx="4968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kot5.jpg"/>
          <p:cNvPicPr/>
          <p:nvPr/>
        </p:nvPicPr>
        <p:blipFill>
          <a:blip r:embed="rId1"/>
          <a:stretch/>
        </p:blipFill>
        <p:spPr>
          <a:xfrm>
            <a:off x="611280" y="115920"/>
            <a:ext cx="4752720" cy="32860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kot6.jpg"/>
          <p:cNvPicPr/>
          <p:nvPr/>
        </p:nvPicPr>
        <p:blipFill>
          <a:blip r:embed="rId2"/>
          <a:stretch/>
        </p:blipFill>
        <p:spPr>
          <a:xfrm>
            <a:off x="2987640" y="3475080"/>
            <a:ext cx="4608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kot7.jpg"/>
          <p:cNvPicPr/>
          <p:nvPr/>
        </p:nvPicPr>
        <p:blipFill>
          <a:blip r:embed="rId1"/>
          <a:stretch/>
        </p:blipFill>
        <p:spPr>
          <a:xfrm>
            <a:off x="395280" y="98280"/>
            <a:ext cx="4753080" cy="32781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5" descr="kot8.jpg"/>
          <p:cNvPicPr/>
          <p:nvPr/>
        </p:nvPicPr>
        <p:blipFill>
          <a:blip r:embed="rId2"/>
          <a:stretch/>
        </p:blipFill>
        <p:spPr>
          <a:xfrm>
            <a:off x="2916360" y="3429000"/>
            <a:ext cx="4751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677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 замене ламп накаливания энергосберегающими лампами показал эффект снижения энергопотребления в пять ра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diod2.jpg"/>
          <p:cNvPicPr/>
          <p:nvPr/>
        </p:nvPicPr>
        <p:blipFill>
          <a:blip r:embed="rId1"/>
          <a:stretch/>
        </p:blipFill>
        <p:spPr>
          <a:xfrm>
            <a:off x="179280" y="1916280"/>
            <a:ext cx="4332240" cy="47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YULIA\Project_2016\diod3.jpg"/>
          <p:cNvPicPr/>
          <p:nvPr/>
        </p:nvPicPr>
        <p:blipFill>
          <a:blip r:embed="rId2"/>
          <a:stretch/>
        </p:blipFill>
        <p:spPr>
          <a:xfrm>
            <a:off x="4716360" y="1916280"/>
            <a:ext cx="1900440" cy="47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39640" y="857160"/>
            <a:ext cx="64278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2643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вопрос, как экономить на электричестве, и внедряя на практике различные способы сбережения энергии, мы заботимся о будущих поколениях, которые будут жить на нашей плане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5" descr="savingenergy.jpg"/>
          <p:cNvPicPr/>
          <p:nvPr/>
        </p:nvPicPr>
        <p:blipFill>
          <a:blip r:embed="rId1"/>
          <a:stretch/>
        </p:blipFill>
        <p:spPr>
          <a:xfrm>
            <a:off x="0" y="357336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71640" y="2349000"/>
            <a:ext cx="511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нижении потребления электроэнергии  всего лишь на 100 Вт, мы сохраняем невозобновляемые природ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 - 48 кил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 - 33 ли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 - 35 кубических мет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ам народ бога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энергию щадя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во всем царит расч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у известен сч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756144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я научилась: проводить измерения, составлять энергетический паспорт дома, проводить эксперименты и анализировать полученные данные, экономить энергию, соблюдая простые правила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знакомилась с видами электроламп, узнала о классах энергопотребления, о целях экономии энерги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маю, что каждый человек должен серьезно задумать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е экономии электроэнергии. Чем серьезнее подойти к этому вопросу, тем весомее будет результат. В условиях повышения государственных затрат на выработку энергии, каждый из нас должен внести свою часть в экономию государственных средств. Данное исследование помогло мне понять значимость темы, определить жизненную позицию. Я по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что сегодня необходимо беречь каждый киловат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%D0%A8%D0%BC%D0%B0%D0%BD%D0%BE%D0%B2%D0%B0-%D0%9E%D0%BA%D1%81%D0%B0%D0%BD%D0%B0"/>
          <p:cNvPicPr/>
          <p:nvPr/>
        </p:nvPicPr>
        <p:blipFill>
          <a:blip r:embed="rId1"/>
          <a:stretch/>
        </p:blipFill>
        <p:spPr>
          <a:xfrm>
            <a:off x="5148360" y="189000"/>
            <a:ext cx="34509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70578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осбережение  или разумное использ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х ресурсов является одной из ост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 человечества и играет ключевую роль 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твращении экологической катастроф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9" descr="pic1.jpg"/>
          <p:cNvPicPr/>
          <p:nvPr/>
        </p:nvPicPr>
        <p:blipFill>
          <a:blip r:embed="rId1"/>
          <a:stretch/>
        </p:blipFill>
        <p:spPr>
          <a:xfrm>
            <a:off x="468360" y="1268280"/>
            <a:ext cx="4599000" cy="30592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285840" y="1143000"/>
            <a:ext cx="6400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285840" y="71280"/>
            <a:ext cx="18572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6121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разумно использовать электроэнергию в быту с максимальной пользой и минимальными затратами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920" y="2997360"/>
            <a:ext cx="6842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об использовании электроэнергии в быту, зачем нужно ее экономить и какими методами это можно сдел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следовательской части проекта заполнить энергетический паспорт дома, измерить и проанализировать электропотребление, определить меры по снижению расходов электроэнер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6121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принципом работы современного дома является  экономия энерг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Energosberegai2.jpg"/>
          <p:cNvPicPr/>
          <p:nvPr/>
        </p:nvPicPr>
        <p:blipFill>
          <a:blip r:embed="rId1"/>
          <a:stretch/>
        </p:blipFill>
        <p:spPr>
          <a:xfrm>
            <a:off x="539640" y="2997360"/>
            <a:ext cx="61930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6202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экономить электроэнерги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4" descr="ecology.jpg"/>
          <p:cNvPicPr/>
          <p:nvPr/>
        </p:nvPicPr>
        <p:blipFill>
          <a:blip r:embed="rId1"/>
          <a:stretch/>
        </p:blipFill>
        <p:spPr>
          <a:xfrm>
            <a:off x="971640" y="1700280"/>
            <a:ext cx="4503600" cy="2814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23640" y="4868640"/>
            <a:ext cx="7127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лучаем электроэнергию от тепловых, атомных и гидроэлектростанций, которые вредят экологии. Экономить электроэнергию нужно для того, чтобы уменьшить вредное воздействие на окружающую сре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30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исследования</a:t>
            </a:r>
            <a:br>
              <a:rPr sz="2000"/>
            </a:b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приборы и средства освещ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дом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льная маш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лесо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Ч-печ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чайн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вон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цент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й компьютер (П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720" y="2204640"/>
            <a:ext cx="4402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ог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пы накал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минесцен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ди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tab3.png"/>
          <p:cNvPicPr/>
          <p:nvPr/>
        </p:nvPicPr>
        <p:blipFill>
          <a:blip r:embed="rId1"/>
          <a:stretch/>
        </p:blipFill>
        <p:spPr>
          <a:xfrm>
            <a:off x="179280" y="138240"/>
            <a:ext cx="7705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561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расход электроэнергии в сутки 8,164 кВт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76280"/>
            <a:ext cx="71391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 электроэнергии бытовыми приборами 6,705 кВт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 на освещение 1,459 кВт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большой расход электроэнерг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льная маш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чай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стра с галогенными ламп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349360"/>
            <a:ext cx="5483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приборы, которые включены, но не используются, а также используются в режиме ожидания, потребляют большое количество энергии  (5-10% от общего потребления)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8" descr="rozetka_jpg.jpg"/>
          <p:cNvPicPr/>
          <p:nvPr/>
        </p:nvPicPr>
        <p:blipFill>
          <a:blip r:embed="rId1"/>
          <a:stretch/>
        </p:blipFill>
        <p:spPr>
          <a:xfrm>
            <a:off x="755640" y="3500280"/>
            <a:ext cx="40752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04:59Z</dcterms:created>
  <dc:creator>Admin</dc:creator>
  <dc:description/>
  <dc:language>en-US</dc:language>
  <cp:lastModifiedBy>Татьяна</cp:lastModifiedBy>
  <dcterms:modified xsi:type="dcterms:W3CDTF">2019-04-04T09:25:42Z</dcterms:modified>
  <cp:revision>85</cp:revision>
  <dc:subject/>
  <dc:title>Логотип</dc:title>
</cp:coreProperties>
</file>