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606-5911-42C7-A92A-FD6B6643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50A-648A-42AB-828B-015CDEE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C7D-22AA-466C-ADBA-65BD61CB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2AF-DA73-4993-9DBE-937E062B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B48E-4C6C-41FD-B637-3C5986F3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F397-AF22-41BD-A528-E46391E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DB48-C8F8-4D98-AC2C-272D9601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C1A-8042-43A4-923A-9E00D6E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B33-B01A-45DD-9EB2-152B26D2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849-C5FD-4549-8B34-AB786373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B685-86BA-4FE7-8AC1-1AFBFCB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1E9-9127-4E6C-B8B3-D524EB9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7BA3-60B2-49D3-AF04-1691A6D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8627-B1AC-4746-98A3-D2E5FE3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80F5-C817-49F7-9910-AA1F2572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16F-AB80-40D3-A16A-A5A4D97F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033-CA07-4621-A785-47B9AB0E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799-073B-473F-BE23-FAA646B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FB9-B552-466D-83DE-57CC34D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B21-711A-4674-A2F8-F5D7A20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C35-A1D7-4CA2-BA70-EF16ACB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872-12E2-4BCA-9315-49203D8F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350-EFB3-406D-B180-4BAD7B08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8D7-8835-4E09-AAD5-7881B75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3DFA-2CC9-4DDF-8504-5356B03BB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0" descr="9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2E1-9E5C-4199-83A9-4EE105506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0" descr="10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87360"/>
            <a:ext cx="5472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 Трифо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Анастасия   Денисовна, 8б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Сердитова Т.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учитель физике, высшей категор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2565360"/>
            <a:ext cx="5761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осбережение в бы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-71280" y="500040"/>
            <a:ext cx="6951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Ш №1 г. Михайлов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экономии электро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Kot1.jpg"/>
          <p:cNvPicPr/>
          <p:nvPr/>
        </p:nvPicPr>
        <p:blipFill>
          <a:blip r:embed="rId1"/>
          <a:stretch/>
        </p:blipFill>
        <p:spPr>
          <a:xfrm>
            <a:off x="250920" y="2133720"/>
            <a:ext cx="4163760" cy="307980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kot2.jpg"/>
          <p:cNvPicPr/>
          <p:nvPr/>
        </p:nvPicPr>
        <p:blipFill>
          <a:blip r:embed="rId2"/>
          <a:stretch/>
        </p:blipFill>
        <p:spPr>
          <a:xfrm>
            <a:off x="4572000" y="3573360"/>
            <a:ext cx="437184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kot3.jpg"/>
          <p:cNvPicPr/>
          <p:nvPr/>
        </p:nvPicPr>
        <p:blipFill>
          <a:blip r:embed="rId1"/>
          <a:stretch/>
        </p:blipFill>
        <p:spPr>
          <a:xfrm>
            <a:off x="324000" y="189000"/>
            <a:ext cx="4535280" cy="31827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5" descr="kot4.jpg"/>
          <p:cNvPicPr/>
          <p:nvPr/>
        </p:nvPicPr>
        <p:blipFill>
          <a:blip r:embed="rId2"/>
          <a:stretch/>
        </p:blipFill>
        <p:spPr>
          <a:xfrm>
            <a:off x="2556000" y="3500280"/>
            <a:ext cx="4968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kot5.jpg"/>
          <p:cNvPicPr/>
          <p:nvPr/>
        </p:nvPicPr>
        <p:blipFill>
          <a:blip r:embed="rId1"/>
          <a:stretch/>
        </p:blipFill>
        <p:spPr>
          <a:xfrm>
            <a:off x="611280" y="115920"/>
            <a:ext cx="4752720" cy="32860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kot6.jpg"/>
          <p:cNvPicPr/>
          <p:nvPr/>
        </p:nvPicPr>
        <p:blipFill>
          <a:blip r:embed="rId2"/>
          <a:stretch/>
        </p:blipFill>
        <p:spPr>
          <a:xfrm>
            <a:off x="2987640" y="3475080"/>
            <a:ext cx="4608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kot7.jpg"/>
          <p:cNvPicPr/>
          <p:nvPr/>
        </p:nvPicPr>
        <p:blipFill>
          <a:blip r:embed="rId1"/>
          <a:stretch/>
        </p:blipFill>
        <p:spPr>
          <a:xfrm>
            <a:off x="395280" y="98280"/>
            <a:ext cx="4753080" cy="32781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5" descr="kot8.jpg"/>
          <p:cNvPicPr/>
          <p:nvPr/>
        </p:nvPicPr>
        <p:blipFill>
          <a:blip r:embed="rId2"/>
          <a:stretch/>
        </p:blipFill>
        <p:spPr>
          <a:xfrm>
            <a:off x="2916360" y="3429000"/>
            <a:ext cx="4751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677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 замене ламп накаливания энергосберегающими лампами показал эффект снижения энергопотребления в пять ра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diod2.jpg"/>
          <p:cNvPicPr/>
          <p:nvPr/>
        </p:nvPicPr>
        <p:blipFill>
          <a:blip r:embed="rId1"/>
          <a:stretch/>
        </p:blipFill>
        <p:spPr>
          <a:xfrm>
            <a:off x="179280" y="1916280"/>
            <a:ext cx="4332240" cy="47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YULIA\Project_2016\diod3.jpg"/>
          <p:cNvPicPr/>
          <p:nvPr/>
        </p:nvPicPr>
        <p:blipFill>
          <a:blip r:embed="rId2"/>
          <a:stretch/>
        </p:blipFill>
        <p:spPr>
          <a:xfrm>
            <a:off x="4716360" y="1916280"/>
            <a:ext cx="190044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39640" y="857160"/>
            <a:ext cx="64278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2643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вопрос, как экономить на электричестве, и внедряя на практике различные способы сбережения энергии, мы заботимся о будущих поколениях, которые будут жить на нашей плане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5" descr="savingenergy.jpg"/>
          <p:cNvPicPr/>
          <p:nvPr/>
        </p:nvPicPr>
        <p:blipFill>
          <a:blip r:embed="rId1"/>
          <a:stretch/>
        </p:blipFill>
        <p:spPr>
          <a:xfrm>
            <a:off x="0" y="357336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71640" y="2349000"/>
            <a:ext cx="511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нижении потребления электроэнергии  всего лишь на 100 Вт, мы сохраняем невозобновляемые природ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 - 48 кил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 - 33 ли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 - 35 кубических мет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ам народ бога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энергию щадя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во всем царит расч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у известен сч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756144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я научилась: проводить измерения, составлять энергетический паспорт дома, проводить эксперименты и анализировать полученные данные, экономить энергию, соблюдая простые правила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знакомилась с видами электроламп, узнала о классах энергопотребления, о целях экономии энерги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маю, что каждый человек должен серьезно задумать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е экономии электроэнергии. Чем серьезнее подойти к этому вопросу, тем весомее будет результат. В условиях повышения государственных затрат на выработку энергии, каждый из нас должен внести свою часть в экономию государственных средств. Данное исследование помогло мне понять значимость темы, определить жизненную позицию. Я по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что сегодня необходимо беречь каждый киловат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%D0%A8%D0%BC%D0%B0%D0%BD%D0%BE%D0%B2%D0%B0-%D0%9E%D0%BA%D1%81%D0%B0%D0%BD%D0%B0"/>
          <p:cNvPicPr/>
          <p:nvPr/>
        </p:nvPicPr>
        <p:blipFill>
          <a:blip r:embed="rId1"/>
          <a:stretch/>
        </p:blipFill>
        <p:spPr>
          <a:xfrm>
            <a:off x="5148360" y="189000"/>
            <a:ext cx="34509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7057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осбережение  или разумное использ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х ресурсов является одной из ост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 человечества и играет ключевую роль 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твращении экологической катастроф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9" descr="pic1.jpg"/>
          <p:cNvPicPr/>
          <p:nvPr/>
        </p:nvPicPr>
        <p:blipFill>
          <a:blip r:embed="rId1"/>
          <a:stretch/>
        </p:blipFill>
        <p:spPr>
          <a:xfrm>
            <a:off x="468360" y="1268280"/>
            <a:ext cx="4599000" cy="30592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285840" y="1143000"/>
            <a:ext cx="6400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285840" y="71280"/>
            <a:ext cx="18572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6121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разумно использовать электроэнергию в быту с максимальной пользой и минимальными затратами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920" y="2997360"/>
            <a:ext cx="68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об использовании электроэнергии в быту, зачем нужно ее экономить и какими методами это можно сдел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следовательской части проекта заполнить энергетический паспорт дома, измерить и проанализировать электропотребление, определить меры по снижению расходов электроэнер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6121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принципом работы современного дома является  экономия энерг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Energosberegai2.jpg"/>
          <p:cNvPicPr/>
          <p:nvPr/>
        </p:nvPicPr>
        <p:blipFill>
          <a:blip r:embed="rId1"/>
          <a:stretch/>
        </p:blipFill>
        <p:spPr>
          <a:xfrm>
            <a:off x="539640" y="2997360"/>
            <a:ext cx="61930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экономить электроэнерг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4" descr="ecology.jpg"/>
          <p:cNvPicPr/>
          <p:nvPr/>
        </p:nvPicPr>
        <p:blipFill>
          <a:blip r:embed="rId1"/>
          <a:stretch/>
        </p:blipFill>
        <p:spPr>
          <a:xfrm>
            <a:off x="971640" y="1700280"/>
            <a:ext cx="4503600" cy="2814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23640" y="4868640"/>
            <a:ext cx="7127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лучаем электроэнергию от тепловых, атомных и гидроэлектростанций, которые вредят экологии. Экономить электроэнергию нужно для того, чтобы уменьшить вредное воздействие на окружающую сре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30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исследования</a:t>
            </a:r>
            <a:br>
              <a:rPr sz="2000"/>
            </a:b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приборы и средства освещ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дом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льная маш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лесо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Ч-печ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чай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вон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цент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й компьютер (П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2204640"/>
            <a:ext cx="4402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ог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ы накал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минесцен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tab3.png"/>
          <p:cNvPicPr/>
          <p:nvPr/>
        </p:nvPicPr>
        <p:blipFill>
          <a:blip r:embed="rId1"/>
          <a:stretch/>
        </p:blipFill>
        <p:spPr>
          <a:xfrm>
            <a:off x="179280" y="138240"/>
            <a:ext cx="7705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561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расход электроэнергии в сутки 8,164 кВт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76280"/>
            <a:ext cx="71391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 электроэнергии бытовыми приборами 6,705 кВт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 на освещение 1,459 кВт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большой расход электроэнерг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льная маш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чай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стра с галогенными ламп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349360"/>
            <a:ext cx="5483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приборы, которые включены, но не используются, а также используются в режиме ожидания, потребляют большое количество энергии  (5-10% от общего потребления)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rozetka_jpg.jpg"/>
          <p:cNvPicPr/>
          <p:nvPr/>
        </p:nvPicPr>
        <p:blipFill>
          <a:blip r:embed="rId1"/>
          <a:stretch/>
        </p:blipFill>
        <p:spPr>
          <a:xfrm>
            <a:off x="755640" y="3500280"/>
            <a:ext cx="40752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04:59Z</dcterms:created>
  <dc:creator>Admin</dc:creator>
  <dc:description/>
  <dc:language>en-US</dc:language>
  <cp:lastModifiedBy>Татьяна</cp:lastModifiedBy>
  <dcterms:modified xsi:type="dcterms:W3CDTF">2019-04-04T09:25:42Z</dcterms:modified>
  <cp:revision>85</cp:revision>
  <dc:subject/>
  <dc:title>Логотип</dc:title>
</cp:coreProperties>
</file>