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9F0D-8D61-4236-A6E6-516583772A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FD42-D7DC-4228-BFE3-262B41F38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овосочета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ный 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вое слово "проблемный" означает, что на уроке изучения нового материала обязательно должны быть проработаны два звена: "постановка проблемы" и "поиск решения"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тановка п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этап формулирования темы урока или вопросов для исследова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этап формулирования нового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"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означает, что и постановку проблемы, и поиск решения должны выполнить ученики в специально организованном учителем диало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два вида диалог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буждающий и подводящ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и по-разному устроены, обеспечивают разную учебную деятельность и имеют разный развивающий эффек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FCF9-9D99-4FDD-9501-B783628602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9B0-1998-4DB3-9E35-8498D799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562-936F-4B25-88CD-F5FB52F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707-14BA-4463-84AF-CB3E6089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D21-0B3B-41FB-99CE-62863997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980D-BB00-4C40-BCEF-ED2708AB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C4B0-1F28-4E79-B061-B22F4A9A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8279-860C-45D0-A950-43B1959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3D01-47DD-4026-91CB-7990F80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6B7D-88F0-45DE-83E6-3279B897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C0B2-CA8A-4319-905D-C6DB7F39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A455-81EB-47FA-86DC-5FE2920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FC1-9F51-480F-B881-B5495440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A0BD-354E-4CD6-B991-B751FAB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3EDF-7451-4405-8661-3A45975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E0B9-B333-43E4-B503-18EF1CA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AB4A-32B3-454C-8CA8-A22CC490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E23F-1395-4626-91DA-0365D0AC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8C2C-6474-4C27-A145-9BD34216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5AD7-A098-4B57-8721-982F2218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92FC-BAC4-4412-991E-87B66E0A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D3E9-D57B-4C41-9E76-AA7B602E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3C07-FAA6-4654-878A-1FE24F27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AB5-627F-4F38-B34B-44747D2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BAD2-961C-4C5C-A09C-857B03D0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197F-E666-4132-8236-5A77629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F818-7551-44EF-9080-67E40C9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6340-75AA-434D-8D4A-6F26AA12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BF70-8815-420E-8C59-70364F9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7B8F-7EA9-41AC-ADD7-FF8AB8B4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0508-3592-47BB-9CDA-A106B296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9FFC4-4C6B-4F68-BA51-0C27AC07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6800E-206B-4512-BD38-D9FED51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EFF8-E913-4DB8-8D46-0E93584B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A1A-6613-44B5-90B5-EB91691C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9494-CCA8-4168-A0B1-E1BDED65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55E0-4927-4171-BFF3-336026BB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02D1-E827-4160-BFDA-3591DB3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EF95-B55C-478F-B299-662D067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91B4-3348-4F49-A831-78BBD696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AEA8-00C5-49DF-8871-9CB399C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6A203-7C6B-44D9-9D50-04357BD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4720-57E2-4298-9623-ED82C533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A5C2-A910-43B2-A562-C291AF2C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2BD1D-219B-4F9C-914E-0AE2B4DB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911-F7D9-4455-A0E5-5BE3EE0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670F7-1E0E-46BB-A5A8-1415EFF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56E4-52DA-487B-B43E-376B77A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45E9-0BDA-4A81-BA25-A62E547E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F84F-1297-4541-9FB2-3AF20290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6B5C-938B-4723-8C54-338E7BBE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429B-1312-427E-8CBD-13A68AE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A5DE-4D38-4AF6-809F-B8FE1F43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B15E-F579-4F81-81D6-256803B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04AA-F579-4F90-82F5-E77BB14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6224-D268-4DFF-9BFF-1B2C402A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314-009F-405A-A214-F2914042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96ED-2E5A-4FC2-B344-D18F918D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6774-F1E2-43FA-9B91-BECBA893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ED11-3F46-48A9-ABEA-DC8DD22D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B4F1-F67A-4B0D-90DE-A619C389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B498-98FF-45D3-B485-E53E1C46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A835B-2860-4A73-8748-CA7C3C2A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B992F-21F8-41D7-B8BD-090354C4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EB14-45B6-454E-82DB-DB2AD8E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864F-F9D7-420C-9362-648ABDB6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342A-C61C-4176-B11D-34EEA54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755-6C6E-493C-BCAA-236107C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93EBD-FBB6-4730-94DB-EA7DC34B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D4A70-271E-402A-BE7F-8868CE4D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9F6A-52C6-43B9-BEA3-F178A128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59713-8B25-4C46-886B-F74AEB3C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23AE3-7365-4A69-81F9-43C39637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17E6F-C630-4A7D-AD49-5B55F8E3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B616-C333-4123-B21B-9279B9B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F8862-2774-4651-87FC-5214EE28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AD574-683E-4618-960B-8C91A75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CF70E-6A2D-4B13-BA87-C8A1F15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A2C-3198-4D17-941B-ED521634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E738-EB03-464F-A2C1-2ECB2D99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C533-6536-4ED2-B087-9F5C6D9D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22DE-AEF3-47F8-AA25-20D25142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12850-CBE7-4F51-9703-0E098B5E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6398-957D-4969-A244-F795C9C7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342-41DE-4520-9892-C646575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CB75-ABA9-4E4A-A22F-FE37E429CD9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980-55AB-4921-9CAC-29AA127A208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CC66-69E4-47B9-AD8D-C3F69A0C6BB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A37-2E6D-4A59-93EF-D89F92E59F0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BCC4-9AB8-4C2D-AAA6-8E40394DABC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721D-DD80-40CC-A791-10A5449E3DF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75A9-4267-48EC-8806-44BFF22C8F8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3"/>
          <p:cNvSpPr/>
          <p:nvPr/>
        </p:nvSpPr>
        <p:spPr>
          <a:xfrm>
            <a:off x="1000080" y="35712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АОУ ВЫДР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МАРКА МЕТОДИЧЕСКИХ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8 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БЕЛЕВА Т.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 НА УРОКЕ ИСТОРИИ КАК СОСТАВНАЯ ЧАСТЬ ТЕХНОЛОГИИ СИСТЕМНО-ДЕЯТЕЛЬНОСТ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j0428113[1]"/>
          <p:cNvPicPr/>
          <p:nvPr/>
        </p:nvPicPr>
        <p:blipFill>
          <a:blip r:embed="rId1"/>
          <a:stretch/>
        </p:blipFill>
        <p:spPr>
          <a:xfrm>
            <a:off x="571680" y="3286080"/>
            <a:ext cx="2438280" cy="26319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429000" y="4575960"/>
            <a:ext cx="5286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706d"/>
                </a:solidFill>
                <a:latin typeface="Arial"/>
              </a:rPr>
              <a:t>«Человек глубоко постигает лишь то, до чего додумывается са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706d"/>
                </a:solidFill>
                <a:latin typeface="Arial"/>
              </a:rPr>
              <a:t>(Сокр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Сообщение темы с мотивирующим приемом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4" descr="D:\Администратор\Desktop\91378515.jpeg"/>
          <p:cNvPicPr/>
          <p:nvPr/>
        </p:nvPicPr>
        <p:blipFill>
          <a:blip r:embed="rId1"/>
          <a:stretch/>
        </p:blipFill>
        <p:spPr>
          <a:xfrm>
            <a:off x="2143080" y="2143080"/>
            <a:ext cx="53578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Одна из задач – вызвать эмоции!!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3" descr="D:\Администратор\Desktop\школа\IMG_20180316_123144.jpg"/>
          <p:cNvPicPr/>
          <p:nvPr/>
        </p:nvPicPr>
        <p:blipFill>
          <a:blip r:embed="rId1"/>
          <a:stretch/>
        </p:blipFill>
        <p:spPr>
          <a:xfrm>
            <a:off x="285840" y="1214280"/>
            <a:ext cx="5048280" cy="284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Администратор\Desktop\школа\IMG_20180316_123938.jpg"/>
          <p:cNvPicPr/>
          <p:nvPr/>
        </p:nvPicPr>
        <p:blipFill>
          <a:blip r:embed="rId2"/>
          <a:stretch/>
        </p:blipFill>
        <p:spPr>
          <a:xfrm>
            <a:off x="3857760" y="3429000"/>
            <a:ext cx="50482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дин из методов развития реч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Picture 2" descr="D:\Администратор\Pictures\2018-05-02 4\4 001.jpg"/>
          <p:cNvPicPr/>
          <p:nvPr/>
        </p:nvPicPr>
        <p:blipFill>
          <a:blip r:embed="rId1"/>
          <a:stretch/>
        </p:blipFill>
        <p:spPr>
          <a:xfrm>
            <a:off x="357120" y="1357200"/>
            <a:ext cx="4307040" cy="3214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D:\Администратор\Pictures\2018-05-02\001.jpg"/>
          <p:cNvPicPr/>
          <p:nvPr/>
        </p:nvPicPr>
        <p:blipFill>
          <a:blip r:embed="rId2"/>
          <a:stretch/>
        </p:blipFill>
        <p:spPr>
          <a:xfrm>
            <a:off x="4714920" y="1714680"/>
            <a:ext cx="4214880" cy="1757160"/>
          </a:xfrm>
          <a:prstGeom prst="rect">
            <a:avLst/>
          </a:prstGeom>
          <a:ln w="0">
            <a:noFill/>
          </a:ln>
        </p:spPr>
      </p:pic>
      <p:sp>
        <p:nvSpPr>
          <p:cNvPr id="375" name="Скругленный прямоугольник 5"/>
          <p:cNvSpPr/>
          <p:nvPr/>
        </p:nvSpPr>
        <p:spPr>
          <a:xfrm>
            <a:off x="1143000" y="4643280"/>
            <a:ext cx="7572240" cy="19288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ndara"/>
              </a:rPr>
              <a:t>Развитие монологической речи неразрывно вязано с методом применения технологии диалогового обучения, так как умение последовательно развивать свою мысль, строить связный, логический рассказ дает возможность в последующем: активно отстаивать свою точку зрения, вступать без боязни в диалог с учителем, учениками, развивать самостоятельность, развивать мышление, вести цивилизованную дискуссию и т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14240" y="1214280"/>
            <a:ext cx="79869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Значение объективной оценк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  оценивания учениками результатов своей работы, мы используем технологию оценивания учебных успехов - ТОУУ. Самооценка может проводиться или в конце урока, или после выполнения определенного задания. Ученик самостоятельно оценивает результат своих действий, находит и исправляет собственные ошибки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Критерии оценки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авильность отве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ргументированность отве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Логичность и «слаженность» отве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Наличие/отсутствие поправок учител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Выполнил полностью – «5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1-2 ошибки – «4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3-4 ошибки – «3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справился – «2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ndara"/>
              </a:rPr>
              <a:t>Критерии оценивания устного ответ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871560" y="1785960"/>
            <a:ext cx="7408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и самостоятельно ставить цель и предполагать способы ее разреш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мостоятельности в поиске учебного материа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тию мышления обучающихс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и высказывать и аргументировать свою позицию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и работать в группе, парах, выслушивать аргументы товарищей, вести цивилизованную дискуссию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вает образность мышл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8040" y="398880"/>
            <a:ext cx="8107920" cy="11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ехнология диалогического обучения способствует</a:t>
            </a:r>
            <a:r>
              <a:rPr b="1" lang="en-US" sz="2800" spc="-1" strike="noStrike">
                <a:solidFill>
                  <a:srgbClr val="000000"/>
                </a:solidFill>
                <a:latin typeface="Euphem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Скругленный прямоугольник 4"/>
          <p:cNvSpPr/>
          <p:nvPr/>
        </p:nvSpPr>
        <p:spPr>
          <a:xfrm>
            <a:off x="1143000" y="585792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a5d02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ndara"/>
              </a:rPr>
              <a:t>Приемы диалогового обучения можно использовать не только на уроках истории, но и на других предм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0560" y="5589720"/>
            <a:ext cx="87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21200"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4584d3"/>
                </a:solidFill>
                <a:latin typeface="Candara"/>
              </a:rPr>
              <a:t>Спасибо     за      </a:t>
            </a:r>
            <a:r>
              <a:rPr b="0" lang="ru-RU" sz="6200" spc="-1" strike="noStrike">
                <a:solidFill>
                  <a:srgbClr val="4584d3"/>
                </a:solidFill>
                <a:latin typeface="Candara"/>
              </a:rPr>
              <a:t>внимание!</a:t>
            </a:r>
            <a:endParaRPr b="0" lang="en-US" sz="6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1835280" y="1197000"/>
            <a:ext cx="5400720" cy="31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И как сказал русский философ М.М. Бахти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«Только в диалоге развивается способность мыслить. В беседе, спрашивании создаются условия для взаимодействия понимающих сознани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8242560" cy="1803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785520" y="1714320"/>
            <a:ext cx="45003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-первых, учащиеся теряют интерес к обучению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-вторых, при использовании традиционной методики с ее идеей максимальной помощи детям в процессе обучения происходит снижение уровня самостоятельности учени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7" name="Picture 4" descr="C:\Users\Анна\Downloads\za_partoy.gif"/>
          <p:cNvPicPr/>
          <p:nvPr/>
        </p:nvPicPr>
        <p:blipFill>
          <a:blip r:embed="rId2"/>
          <a:stretch/>
        </p:blipFill>
        <p:spPr>
          <a:xfrm>
            <a:off x="5276880" y="2362320"/>
            <a:ext cx="273852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26814"/>
                </a:solidFill>
                <a:latin typeface="Candara"/>
              </a:rPr>
              <a:t>Диалог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это разговор между двумя лицами, обмен репликами (толковый словарь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«</a:t>
            </a:r>
            <a:r>
              <a:rPr b="1" lang="ru-RU" sz="2600" spc="-1" strike="noStrike">
                <a:solidFill>
                  <a:srgbClr val="c00000"/>
                </a:solidFill>
                <a:latin typeface="Candara"/>
              </a:rPr>
              <a:t>Диалог на уроке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это тот мостик, на котором и учитель, и ученик встречаются как равноправные участники педагогического процесса, учебный диалог ставит ученика перед необходимостью мыслить»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(В. Н. Петрова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дагогическое сотрудничество, или Когда нравится учиться и учить, М.1999 г.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то такое диалог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Скругленный прямоугольник 4"/>
          <p:cNvSpPr/>
          <p:nvPr/>
        </p:nvSpPr>
        <p:spPr>
          <a:xfrm>
            <a:off x="928800" y="714240"/>
            <a:ext cx="74293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"/>
          <p:cNvSpPr/>
          <p:nvPr/>
        </p:nvSpPr>
        <p:spPr>
          <a:xfrm>
            <a:off x="1071720" y="642960"/>
            <a:ext cx="714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706d"/>
                </a:solidFill>
                <a:latin typeface="Arial"/>
              </a:rPr>
              <a:t>Проблемно-диалогическое обучение </a:t>
            </a:r>
            <a:r>
              <a:rPr b="0" lang="ru-RU" sz="2800" spc="-1" strike="noStrike">
                <a:solidFill>
                  <a:srgbClr val="03706d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3706d"/>
                </a:solidFill>
                <a:latin typeface="Arial"/>
              </a:rPr>
              <a:t>тип обучения, обеспечивающий творческое усвоение знаний учениками посредством специально организованного учителем диало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2"/>
          <p:cNvSpPr/>
          <p:nvPr/>
        </p:nvSpPr>
        <p:spPr>
          <a:xfrm>
            <a:off x="785880" y="3857760"/>
            <a:ext cx="3786120" cy="19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Arial"/>
              </a:rPr>
              <a:t>«проблем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становка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иск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5072040" y="3857760"/>
            <a:ext cx="3286080" cy="18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Arial"/>
              </a:rPr>
              <a:t>«диа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бужд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дводя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Заголовок 1"/>
          <p:cNvGrpSpPr/>
          <p:nvPr/>
        </p:nvGrpSpPr>
        <p:grpSpPr>
          <a:xfrm>
            <a:off x="450720" y="334800"/>
            <a:ext cx="8242560" cy="1262160"/>
            <a:chOff x="450720" y="334800"/>
            <a:chExt cx="8242560" cy="1262160"/>
          </a:xfrm>
        </p:grpSpPr>
        <p:pic>
          <p:nvPicPr>
            <p:cNvPr id="3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334800"/>
              <a:ext cx="8242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7200" y="338040"/>
              <a:ext cx="82296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  <a:ea typeface="BatangChe"/>
                </a:rPr>
                <a:t>Методы</a:t>
              </a:r>
              <a:r>
                <a:rPr b="0" i="1" lang="ru-RU" sz="40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 </a:t>
              </a: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  <a:ea typeface="BatangChe"/>
                </a:rPr>
                <a:t>постановки учебной проблем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Содержимое 3" descr=""/>
          <p:cNvPicPr/>
          <p:nvPr/>
        </p:nvPicPr>
        <p:blipFill>
          <a:blip r:embed="rId2"/>
          <a:stretch/>
        </p:blipFill>
        <p:spPr>
          <a:xfrm>
            <a:off x="378000" y="1706400"/>
            <a:ext cx="8369280" cy="451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Побуждающий диалог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D:\Администратор\Pictures\2018-05-01\001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42960" y="1571760"/>
            <a:ext cx="4991040" cy="4357440"/>
          </a:xfrm>
          <a:prstGeom prst="rect">
            <a:avLst/>
          </a:prstGeom>
          <a:ln w="0">
            <a:noFill/>
          </a:ln>
        </p:spPr>
      </p:pic>
      <p:pic>
        <p:nvPicPr>
          <p:cNvPr id="360" name="Схема 4" descr=""/>
          <p:cNvPicPr/>
          <p:nvPr/>
        </p:nvPicPr>
        <p:blipFill>
          <a:blip r:embed="rId2"/>
          <a:stretch/>
        </p:blipFill>
        <p:spPr>
          <a:xfrm>
            <a:off x="5705640" y="1706400"/>
            <a:ext cx="30970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57120" y="1213920"/>
            <a:ext cx="8058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ndara"/>
              </a:rPr>
              <a:t>Урок истории 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 5 классе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ndara"/>
              </a:rPr>
              <a:t>Тема: 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«Знать своих предков – знать историю»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ndara"/>
              </a:rPr>
              <a:t>Проблема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«Родные люди, родственники, род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От них произошел большой народ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Детей родили, городили города и край родимый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Полюбили навсегда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Имели родословную свою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И защищали Родину в бою…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Твой дом, село и улица твоя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Народ один и Родина одна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Ты будешь жив, пока жива она!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Мы все одною с ней судьбой живем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Земля родная – наш большой и светлый Дом!»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ndara"/>
              </a:rPr>
              <a:t>Вопросы: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Найдите в стихотворении однокоренные слова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Значение какого слова мы пока не можем объяснить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Надо ли знать свою родословную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 Как вы думаете, что мы должны делать, чтобы решить эту проблему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ndara"/>
              </a:rPr>
              <a:t>Подводящий диа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714240" y="1428840"/>
          <a:ext cx="8058240" cy="4302000"/>
        </p:xfrm>
        <a:graphic>
          <a:graphicData uri="http://schemas.openxmlformats.org/drawingml/2006/table">
            <a:tbl>
              <a:tblPr/>
              <a:tblGrid>
                <a:gridCol w="4029120"/>
                <a:gridCol w="4029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ч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04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чен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040"/>
                    </a:solidFill>
                  </a:tcPr>
                </a:tc>
              </a:tr>
              <a:tr h="43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 Изучите слова на дос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оведите АНАЛИЗ, КЛАССИФИК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акие 2 слова являются лишним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ДЕЛАЙ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 Над какой темой будем работ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итают: Петр 1, вервь, бороды, Великое посольство, Сенат, Синод, Полтава, Нар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 Они относятся к политике Петр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лтава и Нарва. Все остальные понятия относятся к внутренней политики Петра 1, тему эту мы уже изуч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ешняя политика Петра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ce"/>
                    </a:solidFill>
                  </a:tcPr>
                </a:tc>
              </a:tr>
            </a:tbl>
          </a:graphicData>
        </a:graphic>
      </p:graphicFrame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ndara"/>
              </a:rPr>
              <a:t>Подводящий диа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200" y="2143080"/>
            <a:ext cx="79153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Прием «</a:t>
            </a: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Яркое пятно»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Candara"/>
              </a:rPr>
              <a:t>Сообщение классу интригующего материала, захватывающего внимание учеников, но связанного с темой урок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Пример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Когда начал он подрастать лет в 12 начал сначала проливать кровь животных, швыряя их с большой высоты. А когда стало ему 15, тогда он начал и людей бросать, и собрав вокруг себя толпы молодежи из детей и родственников, стал разъезжать по улицам, бить и грабить простой люд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Основные методы этого царя: террор и насилие в отношении всех слоев населения, лишь бы сохранить самодержавие»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(В.О. Ключевский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Сообщение темы с мотивирующим приемом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52:38Z</dcterms:created>
  <dc:creator>user</dc:creator>
  <dc:description/>
  <dc:language>en-US</dc:language>
  <cp:lastModifiedBy>Пользователь Windows</cp:lastModifiedBy>
  <dcterms:modified xsi:type="dcterms:W3CDTF">2019-12-01T08:20:46Z</dcterms:modified>
  <cp:revision>45</cp:revision>
  <dc:subject/>
  <dc:title>Презентация PowerPoint</dc:title>
</cp:coreProperties>
</file>