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47EC-6D92-4AA8-ABB9-A597E81581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247-887D-4928-AA2F-D385E1D6D5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овосочета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ный 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вое слово "проблемный" означает, что на уроке изучения нового материала обязательно должны быть проработаны два звена: "постановка проблемы" и "поиск решения"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тановка п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этап формулирования темы урока или вопросов для исследова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этап формулирования нового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"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означает, что и постановку проблемы, и поиск решения должны выполнить ученики в специально организованном учителем диало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два вида диалог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буждающий и подводящ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и по-разному устроены, обеспечивают разную учебную деятельность и имеют разный развивающий эффек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118D-6EF7-4C76-8FCE-F4D957619B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E6A-D47F-45E2-988C-34E63B1F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18A-F2D5-4C8F-A34C-E24D4280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A39-CE3C-4EF9-A65E-13FF8052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DAF-72D6-47EE-B7CD-F5110556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11A0-19EF-4E4C-ACC2-C43B39AF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A909-D369-4C7A-9199-528662AA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E3B2-7830-489A-B64A-29E392A5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7461-81F7-442F-A6A1-F4B57D8F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7842-A228-4235-BFD5-13A3AE68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75C5-A38C-4409-B1F9-6F03CFF5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5F4E-DE93-49E7-98CF-249F564D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F90-7DBE-4D66-838A-353CE6A0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FB03-81AD-4F3B-A7A6-187ECFE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AD30-E8B9-4B2C-A4F2-1F986EF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5A60-703C-4510-8C6D-D0FE138F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7B0D-C0A4-4CA8-9872-F9A5ECD7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BE05-D587-4EF1-B9BE-C5CE476C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3DD8-811E-4BEF-91B0-2DE11805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469D-ACBA-420B-993D-B791183D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F2C3-557E-4C8E-9A0F-5409B45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C67D-0C76-4390-B19C-4C597951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627E-C949-49B6-8533-B1772BB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265-796C-4F4A-AEAE-BA5A908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8A5E-BEF8-4DCB-851C-83C04160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25C0-282E-4B24-9E5C-9B64BB1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3518-FEBC-4310-A5E0-EC8681A1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5B3F-CC1D-48E7-83EC-59E7727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1B55-0C4D-423D-8697-D62449E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64A2-2E57-449D-8A77-70B83A90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5C2E-3F68-4B53-A267-4E0E4CBA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321E-5C3B-4F4C-8996-FABE1CCA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D21EF-C77A-40FB-9945-A68F39C5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DEC6-A189-4F5D-9A86-08FF2B25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BB5-A82C-4236-B8EC-7AAA97D3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7B75-142E-40EC-A8A9-CFB17606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7734-23B2-4354-830F-0628A322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9F7A1-DD22-46F2-B055-514E9643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0EC76-22D7-49A5-9C23-6C9F0FF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98BD-1E87-431B-9278-CD7E02A5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C3FDD-072C-4AA1-A295-DF5EF23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3D84D-3CA0-449C-8D02-F289AA5C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CBB6-90C6-45C4-9914-2A818DB7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9670-F93F-44A6-8AA6-B646B0D6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BEC2D-5BA6-450C-A4C5-3378227A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2F4-BF9B-45C0-90CE-F79C53C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E4C96-9775-4998-8E2A-FA1FC4CC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45083-9E7D-4442-88DF-41069A29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DCC6E-8213-4560-B62E-3BB30798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B2541-95DC-4921-AEEB-BBEFF8FE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2AEC-8403-4661-94BA-2D7E9FBB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1617-83F1-4777-B532-CF10415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CA369-DF89-4F62-89B8-FB52C66E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6C27B-FBCD-497F-B93D-A7AC457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F8DC7-EB5F-4DF8-B522-BFA536C3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FCA4-6B75-408D-B97A-4A3EBA11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7AB-B017-4236-AFEA-8AB40469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FCDB-57E5-4209-B7E1-DEBCFF1D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020F-48F4-4EFB-9656-D7167FF4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AD73-B564-453A-8A98-32F3776A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AC56-470C-4B0A-9897-3BC93D2F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967D0-B5F0-4982-9CEC-6AF539C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D26F5-6ADD-44D0-B222-B2AE3836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4FBC-1DEB-4C8C-BCF3-F7319521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AA7F-516D-40F7-9B11-57AC1030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4BCD-DFD0-49CA-9DA8-1DBCDB77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7ED5-D267-4C96-9493-8B955FE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640-3D16-41FF-B36F-4410679C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BE2B-4F68-482D-B2C1-16529B20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5EAE1-1F2C-4CA0-A32E-1B765BC6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007E-9BB9-4B67-87FA-EF9C317A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4AF6-6A9B-4CEA-902D-809A051B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371C8-85DA-4D35-931C-4ADFE48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AC8B-7986-481F-BCAA-77DE8BD1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B7A25-4615-4351-8CB1-43E2173F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AF21-5846-4B8D-BE65-97C4B64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6A29A-2563-4FBA-919A-167D72F9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0AF60-3F81-4186-85C9-BABD7FC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E35-D273-4E5E-A3C3-59799B45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6B2BD-4790-435D-9CFC-0E45A93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0DA9A-34A2-4C0A-AB12-7195AC3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9D5B-BE7A-4354-91C2-B4EDA918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EF578-2E53-4D6F-A378-665EA3EA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9E28C-5765-4AF5-9B9D-F9914997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350-2AA5-4BE5-9A2D-0174670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75C9-ED73-4DE4-8705-4AF7B7E6833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556C-308F-444A-85D2-60979D9F358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1A81-4C85-435F-92CB-8EECE09C14D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D07F-47DA-41E0-A356-2863D5C77A3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E02-DCC8-4381-AF5D-46EAD4532D3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84E8-BB60-49A4-A229-0D69089AD65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5CEE-52BA-4960-91A7-8FFC625184A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3"/>
          <p:cNvSpPr/>
          <p:nvPr/>
        </p:nvSpPr>
        <p:spPr>
          <a:xfrm>
            <a:off x="1000080" y="357120"/>
            <a:ext cx="75726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АОУ ВЫДР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МАРКА МЕТОДИЧЕСКИХ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8 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БЕЛЕВА Т.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ЛОГ НА УРОКЕ ИСТОРИИ КАК СОСТАВНАЯ ЧАСТЬ ТЕХНОЛОГИИ СИСТЕМНО-ДЕЯТЕЛЬНОСТ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j0428113[1]"/>
          <p:cNvPicPr/>
          <p:nvPr/>
        </p:nvPicPr>
        <p:blipFill>
          <a:blip r:embed="rId1"/>
          <a:stretch/>
        </p:blipFill>
        <p:spPr>
          <a:xfrm>
            <a:off x="571680" y="3286080"/>
            <a:ext cx="2438280" cy="26319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3429000" y="4575960"/>
            <a:ext cx="5286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706d"/>
                </a:solidFill>
                <a:latin typeface="Arial"/>
              </a:rPr>
              <a:t>«Человек глубоко постигает лишь то, до чего додумывается са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706d"/>
                </a:solidFill>
                <a:latin typeface="Arial"/>
              </a:rPr>
              <a:t>(Сокр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Сообщение темы с мотивирующим приемом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4" descr="D:\Администратор\Desktop\91378515.jpeg"/>
          <p:cNvPicPr/>
          <p:nvPr/>
        </p:nvPicPr>
        <p:blipFill>
          <a:blip r:embed="rId1"/>
          <a:stretch/>
        </p:blipFill>
        <p:spPr>
          <a:xfrm>
            <a:off x="2143080" y="2143080"/>
            <a:ext cx="53578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Одна из задач – вызвать эмоции!!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3" descr="D:\Администратор\Desktop\школа\IMG_20180316_123144.jpg"/>
          <p:cNvPicPr/>
          <p:nvPr/>
        </p:nvPicPr>
        <p:blipFill>
          <a:blip r:embed="rId1"/>
          <a:stretch/>
        </p:blipFill>
        <p:spPr>
          <a:xfrm>
            <a:off x="285840" y="1214280"/>
            <a:ext cx="5048280" cy="284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D:\Администратор\Desktop\школа\IMG_20180316_123938.jpg"/>
          <p:cNvPicPr/>
          <p:nvPr/>
        </p:nvPicPr>
        <p:blipFill>
          <a:blip r:embed="rId2"/>
          <a:stretch/>
        </p:blipFill>
        <p:spPr>
          <a:xfrm>
            <a:off x="3857760" y="3429000"/>
            <a:ext cx="50482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дин из методов развития реч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Picture 2" descr="D:\Администратор\Pictures\2018-05-02 4\4 001.jpg"/>
          <p:cNvPicPr/>
          <p:nvPr/>
        </p:nvPicPr>
        <p:blipFill>
          <a:blip r:embed="rId1"/>
          <a:stretch/>
        </p:blipFill>
        <p:spPr>
          <a:xfrm>
            <a:off x="357120" y="1357200"/>
            <a:ext cx="4307040" cy="3214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D:\Администратор\Pictures\2018-05-02\001.jpg"/>
          <p:cNvPicPr/>
          <p:nvPr/>
        </p:nvPicPr>
        <p:blipFill>
          <a:blip r:embed="rId2"/>
          <a:stretch/>
        </p:blipFill>
        <p:spPr>
          <a:xfrm>
            <a:off x="4714920" y="1714680"/>
            <a:ext cx="4214880" cy="1757160"/>
          </a:xfrm>
          <a:prstGeom prst="rect">
            <a:avLst/>
          </a:prstGeom>
          <a:ln w="0">
            <a:noFill/>
          </a:ln>
        </p:spPr>
      </p:pic>
      <p:sp>
        <p:nvSpPr>
          <p:cNvPr id="375" name="Скругленный прямоугольник 5"/>
          <p:cNvSpPr/>
          <p:nvPr/>
        </p:nvSpPr>
        <p:spPr>
          <a:xfrm>
            <a:off x="1143000" y="4643280"/>
            <a:ext cx="7572240" cy="19288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ndara"/>
              </a:rPr>
              <a:t>Развитие монологической речи неразрывно вязано с методом применения технологии диалогового обучения, так как умение последовательно развивать свою мысль, строить связный, логический рассказ дает возможность в последующем: активно отстаивать свою точку зрения, вступать без боязни в диалог с учителем, учениками, развивать самостоятельность, развивать мышление, вести цивилизованную дискуссию и т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14240" y="1214280"/>
            <a:ext cx="79869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Значение объективной оценки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  оценивания учениками результатов своей работы, мы используем технологию оценивания учебных успехов - ТОУУ. Самооценка может проводиться или в конце урока, или после выполнения определенного задания. Ученик самостоятельно оценивает результат своих действий, находит и исправляет собственные ошибки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Критерии оценки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Правильность отве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ргументированность отве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Логичность и «слаженность» отве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Наличие/отсутствие поправок учител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Выполнил полностью – «5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1-2 ошибки – «4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3-4 ошибки – «3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Не справился – «2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ndara"/>
              </a:rPr>
              <a:t>Критерии оценивания устного ответ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871560" y="1785960"/>
            <a:ext cx="7408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пособности самостоятельно ставить цель и предполагать способы ее разреше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амостоятельности в поиске учебного материа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тию мышления обучающихс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пособности высказывать и аргументировать свою позицию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пособности работать в группе, парах, выслушивать аргументы товарищей, вести цивилизованную дискуссию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вивает образность мышл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8040" y="398880"/>
            <a:ext cx="8107920" cy="11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ехнология диалогического обучения способствует</a:t>
            </a:r>
            <a:r>
              <a:rPr b="1" lang="en-US" sz="2800" spc="-1" strike="noStrike">
                <a:solidFill>
                  <a:srgbClr val="000000"/>
                </a:solidFill>
                <a:latin typeface="Euphem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Скругленный прямоугольник 4"/>
          <p:cNvSpPr/>
          <p:nvPr/>
        </p:nvSpPr>
        <p:spPr>
          <a:xfrm>
            <a:off x="1143000" y="5857920"/>
            <a:ext cx="7286760" cy="785880"/>
          </a:xfrm>
          <a:prstGeom prst="roundRect">
            <a:avLst>
              <a:gd name="adj" fmla="val 16667"/>
            </a:avLst>
          </a:prstGeom>
          <a:solidFill>
            <a:srgbClr val="a5d02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ndara"/>
              </a:rPr>
              <a:t>Приемы диалогового обучения можно использовать не только на уроках истории, но и на других предме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50560" y="5589720"/>
            <a:ext cx="87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21200"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4584d3"/>
                </a:solidFill>
                <a:latin typeface="Candara"/>
              </a:rPr>
              <a:t>Спасибо     за      </a:t>
            </a:r>
            <a:r>
              <a:rPr b="0" lang="ru-RU" sz="6200" spc="-1" strike="noStrike">
                <a:solidFill>
                  <a:srgbClr val="4584d3"/>
                </a:solidFill>
                <a:latin typeface="Candara"/>
              </a:rPr>
              <a:t>внимание!</a:t>
            </a:r>
            <a:endParaRPr b="0" lang="en-US" sz="6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1835280" y="1197000"/>
            <a:ext cx="5400720" cy="31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И как сказал русский философ М.М. Бахти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«Только в диалоге развивается способность мыслить. В беседе, спрашивании создаются условия для взаимодействия понимающих сознани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8242560" cy="1803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785520" y="1714320"/>
            <a:ext cx="45003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-первых, учащиеся теряют интерес к обучению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-вторых, при использовании традиционной методики с ее идеей максимальной помощи детям в процессе обучения происходит снижение уровня самостоятельности учени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7" name="Picture 4" descr="C:\Users\Анна\Downloads\za_partoy.gif"/>
          <p:cNvPicPr/>
          <p:nvPr/>
        </p:nvPicPr>
        <p:blipFill>
          <a:blip r:embed="rId2"/>
          <a:stretch/>
        </p:blipFill>
        <p:spPr>
          <a:xfrm>
            <a:off x="5276880" y="2362320"/>
            <a:ext cx="273852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26814"/>
                </a:solidFill>
                <a:latin typeface="Candara"/>
              </a:rPr>
              <a:t>Диалог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это разговор между двумя лицами, обмен репликами (толковый словарь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«</a:t>
            </a:r>
            <a:r>
              <a:rPr b="1" lang="ru-RU" sz="2600" spc="-1" strike="noStrike">
                <a:solidFill>
                  <a:srgbClr val="c00000"/>
                </a:solidFill>
                <a:latin typeface="Candara"/>
              </a:rPr>
              <a:t>Диалог на уроке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это тот мостик, на котором и учитель, и ученик встречаются как равноправные участники педагогического процесса, учебный диалог ставит ученика перед необходимостью мыслить»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(В. Н. Петрова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дагогическое сотрудничество, или Когда нравится учиться и учить, М.1999 г.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Что такое диалог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Скругленный прямоугольник 4"/>
          <p:cNvSpPr/>
          <p:nvPr/>
        </p:nvSpPr>
        <p:spPr>
          <a:xfrm>
            <a:off x="928800" y="714240"/>
            <a:ext cx="74293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"/>
          <p:cNvSpPr/>
          <p:nvPr/>
        </p:nvSpPr>
        <p:spPr>
          <a:xfrm>
            <a:off x="1071720" y="642960"/>
            <a:ext cx="7143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706d"/>
                </a:solidFill>
                <a:latin typeface="Arial"/>
              </a:rPr>
              <a:t>Проблемно-диалогическое обучение </a:t>
            </a:r>
            <a:r>
              <a:rPr b="0" lang="ru-RU" sz="2800" spc="-1" strike="noStrike">
                <a:solidFill>
                  <a:srgbClr val="03706d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3706d"/>
                </a:solidFill>
                <a:latin typeface="Arial"/>
              </a:rPr>
              <a:t>тип обучения, обеспечивающий творческое усвоение знаний учениками посредством специально организованного учителем диало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2"/>
          <p:cNvSpPr/>
          <p:nvPr/>
        </p:nvSpPr>
        <p:spPr>
          <a:xfrm>
            <a:off x="785880" y="3857760"/>
            <a:ext cx="3786120" cy="19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Arial"/>
              </a:rPr>
              <a:t>«проблем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41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Arial"/>
              </a:rPr>
              <a:t>постановка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41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Arial"/>
              </a:rPr>
              <a:t>поиск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5072040" y="3857760"/>
            <a:ext cx="3286080" cy="18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Arial"/>
              </a:rPr>
              <a:t>«диал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41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Arial"/>
              </a:rPr>
              <a:t>побужд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41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Arial"/>
              </a:rPr>
              <a:t>подводя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Заголовок 1"/>
          <p:cNvGrpSpPr/>
          <p:nvPr/>
        </p:nvGrpSpPr>
        <p:grpSpPr>
          <a:xfrm>
            <a:off x="450720" y="334800"/>
            <a:ext cx="8242560" cy="1262160"/>
            <a:chOff x="450720" y="334800"/>
            <a:chExt cx="8242560" cy="1262160"/>
          </a:xfrm>
        </p:grpSpPr>
        <p:pic>
          <p:nvPicPr>
            <p:cNvPr id="3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334800"/>
              <a:ext cx="82425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7200" y="338040"/>
              <a:ext cx="82296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  <a:ea typeface="BatangChe"/>
                </a:rPr>
                <a:t>Методы</a:t>
              </a:r>
              <a:r>
                <a:rPr b="0" i="1" lang="ru-RU" sz="40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 </a:t>
              </a: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  <a:ea typeface="BatangChe"/>
                </a:rPr>
                <a:t>постановки учебной проблем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Содержимое 3" descr=""/>
          <p:cNvPicPr/>
          <p:nvPr/>
        </p:nvPicPr>
        <p:blipFill>
          <a:blip r:embed="rId2"/>
          <a:stretch/>
        </p:blipFill>
        <p:spPr>
          <a:xfrm>
            <a:off x="378000" y="1706400"/>
            <a:ext cx="8369280" cy="451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Побуждающий диалог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D:\Администратор\Pictures\2018-05-01\001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42960" y="1571760"/>
            <a:ext cx="4991040" cy="4357440"/>
          </a:xfrm>
          <a:prstGeom prst="rect">
            <a:avLst/>
          </a:prstGeom>
          <a:ln w="0">
            <a:noFill/>
          </a:ln>
        </p:spPr>
      </p:pic>
      <p:pic>
        <p:nvPicPr>
          <p:cNvPr id="360" name="Схема 4" descr=""/>
          <p:cNvPicPr/>
          <p:nvPr/>
        </p:nvPicPr>
        <p:blipFill>
          <a:blip r:embed="rId2"/>
          <a:stretch/>
        </p:blipFill>
        <p:spPr>
          <a:xfrm>
            <a:off x="5705640" y="1706400"/>
            <a:ext cx="30970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57120" y="1213920"/>
            <a:ext cx="8058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ndara"/>
              </a:rPr>
              <a:t>Урок истории 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в 5 классе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ndara"/>
              </a:rPr>
              <a:t>Тема: </a:t>
            </a: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«Знать своих предков – знать историю»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Candara"/>
              </a:rPr>
              <a:t>Проблема: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«Родные люди, родственники, род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От них произошел большой народ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Детей родили, городили города и край родимый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Полюбили навсегда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Имели родословную свою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И защищали Родину в бою…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Твой дом, село и улица твоя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Народ один и Родина одна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Ты будешь жив, пока жива она!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Мы все одною с ней судьбой живем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Земля родная – наш большой и светлый Дом!»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ndara"/>
              </a:rPr>
              <a:t>Вопросы: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-Найдите в стихотворении однокоренные слова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-Значение какого слова мы пока не можем объяснить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-Надо ли знать свою родословную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ndara"/>
              </a:rPr>
              <a:t>- Как вы думаете, что мы должны делать, чтобы решить эту проблему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ndara"/>
              </a:rPr>
              <a:t>Подводящий диал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714240" y="1428840"/>
          <a:ext cx="8058240" cy="4302000"/>
        </p:xfrm>
        <a:graphic>
          <a:graphicData uri="http://schemas.openxmlformats.org/drawingml/2006/table">
            <a:tbl>
              <a:tblPr/>
              <a:tblGrid>
                <a:gridCol w="4029120"/>
                <a:gridCol w="4029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ч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04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чен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040"/>
                    </a:solidFill>
                  </a:tcPr>
                </a:tc>
              </a:tr>
              <a:tr h="431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 Изучите слова на дос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оведите АНАЛИЗ, КЛАССИФИК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акие 2 слова являются лишним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ДЕЛАЙ 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 Над какой темой будем работ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итают: Петр 1, вервь, бороды, Великое посольство, Сенат, Синод, Полтава, Нар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 Они относятся к политике Петр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лтава и Нарва. Все остальные понятия относятся к внутренней политики Петра 1, тему эту мы уже изуч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нешняя политика Петра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ndar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ce"/>
                    </a:solidFill>
                  </a:tcPr>
                </a:tc>
              </a:tr>
            </a:tbl>
          </a:graphicData>
        </a:graphic>
      </p:graphicFrame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ndara"/>
              </a:rPr>
              <a:t>Подводящий диал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200" y="2143080"/>
            <a:ext cx="79153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Прием «</a:t>
            </a:r>
            <a:r>
              <a:rPr b="1" i="1" lang="ru-RU" sz="2000" spc="-1" strike="noStrike">
                <a:solidFill>
                  <a:srgbClr val="0d0d0d"/>
                </a:solidFill>
                <a:latin typeface="Candara"/>
              </a:rPr>
              <a:t>Яркое пятно»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Candara"/>
              </a:rPr>
              <a:t>Сообщение классу интригующего материала, захватывающего внимание учеников, но связанного с темой урок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ndara"/>
              </a:rPr>
              <a:t>Пример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Когда начал он подрастать лет в 12 начал сначала проливать кровь животных, швыряя их с большой высоты. А когда стало ему 15, тогда он начал и людей бросать, и собрав вокруг себя толпы молодежи из детей и родственников, стал разъезжать по улицам, бить и грабить простой люд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Основные методы этого царя: террор и насилие в отношении всех слоев населения, лишь бы сохранить самодержавие»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(В.О. Ключевский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Сообщение темы с мотивирующим приемом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(практика применения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52:38Z</dcterms:created>
  <dc:creator>user</dc:creator>
  <dc:description/>
  <dc:language>en-US</dc:language>
  <cp:lastModifiedBy>Пользователь Windows</cp:lastModifiedBy>
  <dcterms:modified xsi:type="dcterms:W3CDTF">2019-12-01T08:20:46Z</dcterms:modified>
  <cp:revision>45</cp:revision>
  <dc:subject/>
  <dc:title>Презентация PowerPoint</dc:title>
</cp:coreProperties>
</file>