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5B2-0E99-4C70-B345-A7EFCF41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F76-8666-4045-9470-312E753D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600-D904-4C2E-BBD5-3F61DB44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660-A8B9-4F99-AF91-7E70196D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829-E869-4C43-9A79-C23CB0A1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FEB-5F23-44FC-A3E2-3D50149D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7D1-0991-4ADB-8505-BFFDA7EF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755-4717-4BF6-A473-6B5CA9CB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169-DB59-4673-B306-2A8E2EAC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0B9-7B0C-422E-91F0-BDAC81B9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25B-2093-41E0-8848-0E33457A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190-2679-4D61-8AF8-9955A05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19DD-3274-4B8B-A778-3CA37B53C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chmet.ru/library/material/132841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2859-83C7-41F8-83D2-ABF4F7C62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5560" y="1642680"/>
            <a:ext cx="70722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ДЕРНЫЙ ПОДХОД В ОБУЧЕН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уроках литературы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F:\значки.jpg"/>
          <p:cNvPicPr/>
          <p:nvPr/>
        </p:nvPicPr>
        <p:blipFill>
          <a:blip r:embed="rId1"/>
          <a:stretch/>
        </p:blipFill>
        <p:spPr>
          <a:xfrm>
            <a:off x="317520" y="128520"/>
            <a:ext cx="2316240" cy="2316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4427640" y="326880"/>
            <a:ext cx="4608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3286080" y="4357800"/>
            <a:ext cx="5462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жиева Дулгар Лосолов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 ГБОУ «Республиканская Мариинская школа-интерна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нденции развития обществ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лабление традиционного разделения тру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менение гендерных культурных стереотип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нижение брачно-семейного статуса мужчи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еминизация образования: домашнего, дошкольного, школьного и вузовско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ореализация вне зависимости от половой принадлеж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14200" y="69840"/>
          <a:ext cx="8786880" cy="685008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НОШ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УШ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21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ОЛОГИЧЕСКИЙ УРОВЕН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9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ое восприятие зрительных образов, форм и структур предме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имущественно кратковременная памя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трактное мышл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ая адаптация к окружающей сред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яжёлое восприятие стрессовых ситуац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ивная само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ая регуляция речи и письм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имущественно долговременная памя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глядно-образное мышл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0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аптация к среде - через переживания, эмо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1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страя реабилитация в стрессовых ситу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2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бъективная само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ГНИТИВНЫЙ 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3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обобщать на рациональной основе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4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ая скорость концентрации вним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5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онность к диалогу и диску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6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онность к алгоритму, выполнению действия по шаблон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7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йность и четкость анализ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8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ость внимания ниже, чем у юнош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9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страстие к монолог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7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ВЕДЕНЧЕСКИ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0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тимистичны, открыты, доверчивы, прямолинейны, независи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1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ь гуманных отношений в совместной деятельности выш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2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ая способность демонстрировать социально одобряемые формы п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3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е четкое визуальное вос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4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ушны, приветливы, скрыт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5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ение своего образа глазами окружающих, стремление к идеал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6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 уровень чувствительности и социальной ответствен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7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риимчивость к одобр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8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е чёткое слуховое вос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ГОС ОО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ласть предметных результатов при изучении литерату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 частности «2)понимание литературы как одной из основных национально-культурных ценностей народа, как особого познания жизни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т 11.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ная область «Филолог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Женскому мышлению больше свойственны красота и стройность, тонкость анализа, глубокая интуиция и непосредственность. Мужское мышление более абстрактно, часто парадоксально и дерзко, оно отличается большим полетом фантази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огинов А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Мужчина и Женщин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С.ПУШКИН    «ДУБРОВСКИ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4200" y="642960"/>
          <a:ext cx="8715600" cy="5657760"/>
        </p:xfrm>
        <a:graphic>
          <a:graphicData uri="http://schemas.openxmlformats.org/drawingml/2006/table">
            <a:tbl>
              <a:tblPr/>
              <a:tblGrid>
                <a:gridCol w="4071960"/>
                <a:gridCol w="4643640"/>
              </a:tblGrid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ПРОСЫ ДЛЯ ДЕВО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ПОЛАГАЕМЫЕ ВОПРОСЫ ДЛЯ МАЛЬЧ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ите жанр произведения А.С.Пушкина «Дубровский», аргументируйте сво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едение  А.С.Пушкина «Дубровский» - роман. Докажите данное утвер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мы называем эпиграфом? Какова роль эпиграфа? Почему именно такой эпиграф выбирает автор к 4 главе своего роман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йте определение эпиграфа. Как вы понимаете эпиграф к 4 главе: «Где стол был яств, там гроб стоит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акой целью А.С.Пушкин вводит в 5 главе эпизод «Владимир Дубровский в Кистенёвской роще»? Как автор передаёт душевное состояние главного героя? Какие художественные средства использу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единившись в Кистенёвской роще, Дубровский предаётся грустным размышлениям о будущем. Зачитаем этот эпизод. Какие образы  и детали помогают передать состояние главного геро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им вы представляете себе Владимира Дубровског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 Дубровский испытывает три варианта жизненного жребия: расточительный и честолюбивый гвардейский офицер, скромный и мужественный Дефорж, грозный и честный разбойник. Цель этих попыток – изменить судьбу. Почему ему это не удалос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м состоянии была Марья Кирилловна перед венчанием? На что она надеялась до последней минуты? Почему отказалась следовать за Дубровским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означают слова Маши: « Нет, поздно, я обвенчана. Я ждала вас до последней минуты. Но теперь …теперь поздн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2920" y="285840"/>
          <a:ext cx="8786880" cy="6315120"/>
        </p:xfrm>
        <a:graphic>
          <a:graphicData uri="http://schemas.openxmlformats.org/drawingml/2006/table">
            <a:tbl>
              <a:tblPr/>
              <a:tblGrid>
                <a:gridCol w="4392720"/>
                <a:gridCol w="4394160"/>
              </a:tblGrid>
              <a:tr h="42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просы для девоч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просы для мальч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ите жанр произведения «…», аргументируйте свой отв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едение «…» принадлежит к ___ жанру. Докажите данное утвержд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мы называем эпиграфом? Какова роль эпиграфа? Почему именно такой эпиграф выбирает автор к этому произведени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йте определение эпиграфа. Как вы понимаете эпиграф: «…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6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акой целью автор вводит эпизод «…»? Как автор передаёт душевное состояние главного/ой героя/героини? Какие художественные средства использу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этом эпизоде речь идёт о …. Прочтём эпизод еще раз. Какие образы  и детали помогают передать состояние главного/ой героя/героин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им/ой вы представляете себе героя/героиню? Опишите его/её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й совершает следующие действия. Какова цель этих действий? Почему ему это удалось/не удалос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м состоянии был/а герой/героиня перед данным событием? Каковы были его/её чувства, мыс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означают слова:«…»? Какую мысль хотел/а выразить герой/героиня этой фраз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Юсупова М. В. Образование в гендерном измерении // Изв. Самар. науч. центра РАН. 2010. Т. 12, № 5. C. 90—9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. Кравцова Гендерный подход в обучении и воспитании.  – URL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uchmet.ru/library/material/132841/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Дата обращения 15.03.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тликина Л.С. Гендерный подход на уроках русского языка: проблемы, поиски, результаты // Дайджест журнала «Русский язык за рубежом» -2013 - № 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оссийской Федерации от 17 декабря 2010 г.№ 1897 «Об утверждении федерального государственного образовательного стандарта основного общего образования» //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|2010|12|19|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rstandart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k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2786040"/>
            <a:ext cx="76010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3T04:26:06Z</dcterms:created>
  <dc:creator>Дулгар Лосоловна</dc:creator>
  <dc:description/>
  <dc:language>en-US</dc:language>
  <cp:lastModifiedBy>Дулгар Лосоловна</cp:lastModifiedBy>
  <dcterms:modified xsi:type="dcterms:W3CDTF">2016-10-13T07:49:48Z</dcterms:modified>
  <cp:revision>19</cp:revision>
  <dc:subject/>
  <dc:title>ГЕНДЕРНЫЙ ПОДХОД В ОБУЧЕНИИ на уроках литературы </dc:title>
</cp:coreProperties>
</file>