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0A3-80A3-428C-8220-9988A0C8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098-FAE8-463F-B23B-A723B67F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D24-7BEA-4E72-95B3-0D6D69FF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726-948B-49E4-92CD-8AFF97F1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CB6-473F-42DB-BF3C-AB62F29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61F-5D76-438B-9CAD-6E465C01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28F-493B-4FCB-8EB5-5CDAB851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337-E301-4654-9044-2DCAD11A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196-AFD0-409C-9C14-AADCA6B7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09B-9351-4CD5-A7B5-FDD6731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440-046E-49EA-9588-9C1ED0E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CC1-8F72-4926-AC76-D366C72F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315B-0A61-4C90-A52E-F6DC01808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hmet.ru/library/material/132841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993-5A51-422A-BEC8-ACE4CE4D9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5560" y="1642680"/>
            <a:ext cx="70722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ДЕРНЫЙ ПОДХОД В ОБУЧЕН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уроках литературы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F:\значки.jpg"/>
          <p:cNvPicPr/>
          <p:nvPr/>
        </p:nvPicPr>
        <p:blipFill>
          <a:blip r:embed="rId1"/>
          <a:stretch/>
        </p:blipFill>
        <p:spPr>
          <a:xfrm>
            <a:off x="317520" y="128520"/>
            <a:ext cx="2316240" cy="2316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4427640" y="326880"/>
            <a:ext cx="4608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286080" y="4357800"/>
            <a:ext cx="546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жиева Дулгар Лосол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 ГБОУ «Республиканская Мариинская школа-интерна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нденции развития обществ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лабление традиционного разделения тру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ение гендерных культурных стереотип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нижение брачно-семейного статуса мужчи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еминизация образования: домашнего, дошкольного, школьного и вузовско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ореализация вне зависимости от половой принадлеж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14200" y="69840"/>
          <a:ext cx="8786880" cy="685008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УШ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21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Й УРОВЕН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9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ое восприятие зрительных образов, форм и структур предме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имущественно кратковременная памя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трактное мышл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ая адаптация к окружающей сред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яжёлое восприятие стрессовых ситу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ивная само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ая регуляция речи и письм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имущественно долговременная памя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глядно-образное мышл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аптация к среде - через переживания, эмо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1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ая реабилитация в стрессовых ситу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2"/>
                        </a:buBlip>
                        <a:tabLst>
                          <a:tab algn="l" pos="380880"/>
                          <a:tab algn="l" pos="47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бъективная само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ГНИТИВНЫЙ 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3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обобщать на рациональной основе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4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ая скорость концентрации вним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5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онность к диалогу и диску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6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онность к алгоритму, выполнению действия по шаблон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7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йность и четкость анали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8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ость внимания ниже, чем у юнош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SzPct val="102950"/>
                        <a:buBlip>
                          <a:blip r:embed="rId19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страстие к монолог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7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ВЕДЕНЧЕСКИ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0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тимистичны, открыты, доверчивы, прямолинейны, независи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1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ь гуманных отношений в совместной деятельности выш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2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ая способность демонстрировать социально одобряемые формы п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3"/>
                        </a:buBlip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е четкое визуальное вос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4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ушны, приветливы, скрыт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5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ение своего образа глазами окружающих, стремление к идеал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6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 уровень чувствительности и социальной ответствен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7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риимчивость к одобр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just">
                        <a:lnSpc>
                          <a:spcPct val="114000"/>
                        </a:lnSpc>
                        <a:buSzPct val="102950"/>
                        <a:buBlip>
                          <a:blip r:embed="rId28"/>
                        </a:buBlip>
                        <a:tabLst>
                          <a:tab algn="l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е чёткое слуховое вос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ГОС ОО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ласть предметных результатов при изучении литерату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частности «2)понимание литературы как одной из основных национально-культурных ценностей народа, как особого познания жизни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т 11.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ная область «Филолог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енскому мышлению больше свойственны красота и стройность, тонкость анализа, глубокая интуиция и непосредственность. Мужское мышление более абстрактно, часто парадоксально и дерзко, оно отличается большим полетом фантази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огинов А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Мужчина и Женщин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С.ПУШКИН    «ДУБРОВСКИ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642960"/>
          <a:ext cx="8715600" cy="5657760"/>
        </p:xfrm>
        <a:graphic>
          <a:graphicData uri="http://schemas.openxmlformats.org/drawingml/2006/table">
            <a:tbl>
              <a:tblPr/>
              <a:tblGrid>
                <a:gridCol w="4071960"/>
                <a:gridCol w="4643640"/>
              </a:tblGrid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ПРОСЫ ДЛЯ ДЕВО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ПОЛАГАЕМЫЕ ВОПРОСЫ ДЛЯ МАЛЬЧ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ите жанр произведения А.С.Пушкина «Дубровский», аргументируйте сво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едение  А.С.Пушкина «Дубровский» - роман. Докажите данное утвер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9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ы называем эпиграфом? Какова роль эпиграфа? Почему именно такой эпиграф выбирает автор к 4 главе своего роман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йте определение эпиграфа. Как вы понимаете эпиграф к 4 главе: «Где стол был яств, там гроб стоит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акой целью А.С.Пушкин вводит в 5 главе эпизод «Владимир Дубровский в Кистенёвской роще»? Как автор передаёт душевное состояние главного героя? Какие художественные средства использу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единившись в Кистенёвской роще, Дубровский предаётся грустным размышлениям о будущем. Зачитаем этот эпизод. Какие образы  и детали помогают передать состояние главного геро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м вы представляете себе Владимира Дубровског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 Дубровский испытывает три варианта жизненного жребия: расточительный и честолюбивый гвардейский офицер, скромный и мужественный Дефорж, грозный и честный разбойник. Цель этих попыток – изменить судьбу. Почему ему это не удалос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состоянии была Марья Кирилловна перед венчанием? На что она надеялась до последней минуты? Почему отказалась следовать за Дубровским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означают слова Маши: « Нет, поздно, я обвенчана. Я ждала вас до последней минуты. Но теперь …теперь поздн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2920" y="285840"/>
          <a:ext cx="8786880" cy="6315120"/>
        </p:xfrm>
        <a:graphic>
          <a:graphicData uri="http://schemas.openxmlformats.org/drawingml/2006/table">
            <a:tbl>
              <a:tblPr/>
              <a:tblGrid>
                <a:gridCol w="4392720"/>
                <a:gridCol w="4394160"/>
              </a:tblGrid>
              <a:tr h="42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просы для дево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просы для мальч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ите жанр произведения «…», аргументируйте свой отв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едение «…» принадлежит к ___ жанру. Докажите данное утвержд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ы называем эпиграфом? Какова роль эпиграфа? Почему именно такой эпиграф выбирает автор к этому произведени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йте определение эпиграфа. Как вы понимаете эпиграф: «…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акой целью автор вводит эпизод «…»? Как автор передаёт душевное состояние главного/ой героя/героини? Какие художественные средства использу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этом эпизоде речь идёт о …. Прочтём эпизод еще раз. Какие образы  и детали помогают передать состояние главного/ой героя/герои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им/ой вы представляете себе героя/героиню? Опишите его/её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ой совершает следующие действия. Какова цель этих действий? Почему ему это удалось/не удалос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состоянии был/а герой/героиня перед данным событием? Каковы были его/её чувства, мыс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270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означают слова:«…»? Какую мысль хотел/а выразить герой/героиня этой фраз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Юсупова М. В. Образование в гендерном измерении // Изв. Самар. науч. центра РАН. 2010. Т. 12, № 5. C. 90—9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. Кравцова Гендерный подход в обучении и воспитании.  – URL 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chmet.ru/library/material/132841/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Дата обращения 15.03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тликина Л.С. Гендерный подход на уроках русского языка: проблемы, поиски, результаты // Дайджест журнала «Русский язык за рубежом» -2013 - № 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оссийской Федерации от 17 декабря 2010 г.№ 1897 «Об утверждении федерального государственного образовательного стандарта основного общего образования» //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|2010|12|19|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rstandar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k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2786040"/>
            <a:ext cx="76010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3T04:26:06Z</dcterms:created>
  <dc:creator>Дулгар Лосоловна</dc:creator>
  <dc:description/>
  <dc:language>en-US</dc:language>
  <cp:lastModifiedBy>Дулгар Лосоловна</cp:lastModifiedBy>
  <dcterms:modified xsi:type="dcterms:W3CDTF">2016-10-13T07:49:48Z</dcterms:modified>
  <cp:revision>19</cp:revision>
  <dc:subject/>
  <dc:title>ГЕНДЕРНЫЙ ПОДХОД В ОБУЧЕНИИ на уроках литературы </dc:title>
</cp:coreProperties>
</file>