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516-3F2B-496D-A90C-C9F1C467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5F5-96DF-47F3-BD1D-5F3928A9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C44F7-07E9-4275-ACB8-62B059E9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EC90A-37A0-4EB8-BB98-E0809016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91470-E8A3-401E-B936-2D892246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45BDB-A8DC-4835-8F82-A9C94664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AAABC-FC77-4991-B297-4A4D8B5F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5A1F0-EC6E-4DBE-BA46-4B2E518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5A719-83E0-4B72-9349-2B9A92EB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06C06-35C9-4CBC-9D58-0C38CC53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C27E6-DD36-43CB-A2AD-F72915C3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8F5-FE24-4B74-A3B7-2C204845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2F1-4595-4BED-B576-74BE6E60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190A-C346-4A08-8ED9-EAD83F09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6AE3-8170-491E-A333-DC2DB56B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4728-0670-4902-9063-E21240E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24AF-7F1A-49AD-97DD-A2645BDA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DDE8-087B-46E2-A292-01E1293F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119E-9DA2-4597-83FF-094EC08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7289-FD4A-4776-947E-1778EE6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38A-411B-4B79-908B-16DAF0D3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A9E6-D250-4D7C-AE79-6D1DAC60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4C2D-819E-46D8-9AFA-BBD01A82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6594-4004-46F3-8951-F730AE8C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CF40-C3C2-41B3-B68D-F3C13CE7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3CA3-1DDB-4D08-B488-422608CC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ACD8-4F54-4A2A-9DAC-A28D6795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D7CC-BCA8-4577-A1AE-F5FBBEA7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AD45-02C0-4194-A2B0-D8E63AF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1ACE-294E-49C7-883A-7EC40729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A17D-08A0-438A-B627-DAAB5085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D78-5ABA-43B1-90D5-3025B8A3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C63F2-FD81-4AE0-9361-3AA30066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DAC1-7944-4A7F-B5CE-2E634B95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DBD2-7CC3-4565-807B-F62B09A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B087-BEB6-4F70-836F-537FD76B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2A51-A782-42B1-AF48-32EF437E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A363-4B35-4538-8286-B0B3F3EA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3AB4-FBFA-4832-9A28-49CFE0CA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620E-2295-40FC-9C13-9104DDBD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6777-8C87-4FB2-A441-8D257B89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091E-92BC-4CD7-84C7-27DDF2C8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507-1433-4852-B9EC-5CC8C375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1E99-9EFF-4CEB-9DAE-25903B8E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040D6-35B8-44B7-85F5-F606FBAF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9DCD8-99B9-462A-948F-EB825AF6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DC38-42B3-4084-8EEA-956E5A53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76A49-996C-462E-889E-8F06D30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589D-8470-495D-ADAF-7EEDA1D1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89D4-7B95-4EA1-9292-53E207A7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6389-F88D-4E7B-97C6-F8DEB4FA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E9CF-7AEE-450B-8282-D46B399E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8007B-7676-46D7-AA34-0B837796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359-6198-4B67-B3FD-C09034A3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25835-3F93-47DB-B8A9-5FEBF5DF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B8E3-05EA-470D-8F8A-54E4872E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6E82C-A262-4132-B49D-010BB08A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931F6-74A8-4D1B-9B37-32887F82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B824-51EE-4207-8C13-92D44B92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090C-8FCA-4AE2-82C1-2D807003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910FF-6C5E-4850-8757-24D27EB6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4211-0EA7-4D81-B679-8107FEB5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4A77-24DB-4977-B58A-E0D4FF84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5245-0A9D-4DAE-994E-728A89A3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43E-2425-488C-80B0-968A3F1E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AA47-DEEC-434A-97AF-7B813211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C2E4-EBE6-425F-AA50-BA6BC456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F470-ACA9-42CF-999E-EEB55551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8480-A3C3-4593-AB7E-92E53945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A405-91A1-462E-A11E-2FE819D2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7292-826E-40F8-9FA4-BBCBDB7F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B1FF1-3858-4979-8C52-465A7BCD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468B-95DB-463C-AEED-2AFF0E0F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8048-9CF3-4975-9569-136F364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9A317-6FDA-406A-8FE6-F485F3BC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1F9-9AE6-46E2-80F1-41D093C5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E774-C5DC-49C9-A221-0E217BEC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09DBF-D66D-4203-B4F8-B4049EFD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03AA4-07D5-4FBB-B91E-3C9368EB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5C44-CBEE-414D-9ADC-A4DF2198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13BAF-8568-4971-9102-77745EE3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FD170-C59A-4DAD-8150-BE750214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E762-BEC6-4F82-8710-7AEC8937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C618D-1B99-492E-9F91-25C602DA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872A8-F3F3-4F3C-9C91-2E651956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F035C-1A46-4129-BCE8-DF20441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340-96EB-45F8-89BB-10B62D26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54038-275F-4450-92F7-463DF1F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D982E-5D64-49C1-B2B5-3741940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534C3-C67A-4F89-9971-67753100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F72BE-0A1D-4ABA-A0A9-413FB950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F7CE2-F509-4A17-B817-B361C54F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E3349-F059-4023-99EC-4D124EA7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07BE2-CF52-420D-9207-4C543E40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B21F4-40A3-4A77-ADCD-0CCBB6D2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A8C7E-476C-4DFA-83AA-96ACE6B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2445A-BFB6-4ED2-9C6F-EF0C47FE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54F-BD9C-41A8-85AD-5805CC1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B1302-EB31-4CB4-B339-83AE41BE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266EF-1CA8-4907-8E88-41A8555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75EA8-3EBA-4F15-A613-2297D7EA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3BD5C-799A-47F6-9EF8-6B13ACFA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F0E1D-CFEA-4166-9BBB-4E6CCFA8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7293D-641B-4143-AFDB-AEB4F36E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712F8-8276-4B83-BFD2-4F442109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3E67A-DF7F-410E-94A7-0770C5D1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40F3D-FF13-42F5-BB33-382B4D5A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167D1-930D-4C8A-AFDD-B0628E8C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ACBA-7238-4425-88D8-FED7C124B6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4D2B-B8D7-4C3C-AB91-BE225140327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4F33-8C3E-4C72-BEB6-3CE8415259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1EA1-32FC-4B47-AA7A-29A0A8E5F1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9B71-59E7-4EDF-A9B8-A95A2291E6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93DF-9C63-415C-8102-0F49CD7BF3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1376-1584-4AC9-89D4-D7C9B7CB22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BEA7-EA50-4A1A-8319-4488054923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74DB-7288-4FEA-B9D7-C35EEC74BB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15920" y="249120"/>
            <a:ext cx="9120240" cy="5133960"/>
          </a:xfrm>
          <a:prstGeom prst="rect">
            <a:avLst/>
          </a:prstGeom>
          <a:ln w="0">
            <a:noFill/>
          </a:ln>
        </p:spPr>
      </p:pic>
      <p:sp>
        <p:nvSpPr>
          <p:cNvPr id="400" name="TextBox 4"/>
          <p:cNvSpPr/>
          <p:nvPr/>
        </p:nvSpPr>
        <p:spPr>
          <a:xfrm>
            <a:off x="714240" y="5786280"/>
            <a:ext cx="77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Работа ученицы 4 класса: Гомбоевой Александр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Руководитель : Доржиева В.В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52280" y="262080"/>
            <a:ext cx="8839440" cy="1036440"/>
          </a:xfrm>
          <a:prstGeom prst="rect">
            <a:avLst/>
          </a:prstGeom>
          <a:ln w="0">
            <a:noFill/>
          </a:ln>
        </p:spPr>
      </p:pic>
      <p:pic>
        <p:nvPicPr>
          <p:cNvPr id="416" name="Объект 3" descr=""/>
          <p:cNvPicPr/>
          <p:nvPr/>
        </p:nvPicPr>
        <p:blipFill>
          <a:blip r:embed="rId2"/>
          <a:stretch/>
        </p:blipFill>
        <p:spPr>
          <a:xfrm>
            <a:off x="2052720" y="1554120"/>
            <a:ext cx="5191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4"/>
          <p:cNvSpPr/>
          <p:nvPr/>
        </p:nvSpPr>
        <p:spPr>
          <a:xfrm>
            <a:off x="2643120" y="85716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aramond"/>
                <a:ea typeface="DejaVu Sans"/>
              </a:rPr>
              <a:t>«Сестры»   1978 г   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8" name="Рисунок 5" descr="http://ic.pics.livejournal.com/doc1084/77481023/47913/47913_600.jpg"/>
          <p:cNvPicPr/>
          <p:nvPr/>
        </p:nvPicPr>
        <p:blipFill>
          <a:blip r:embed="rId1"/>
          <a:stretch/>
        </p:blipFill>
        <p:spPr>
          <a:xfrm>
            <a:off x="1714680" y="1476360"/>
            <a:ext cx="5715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aramond"/>
                <a:ea typeface="DejaVu Sans"/>
              </a:rPr>
              <a:t>«Под зимним солнцем» 1997г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20" name="Group 2"/>
          <p:cNvGrpSpPr/>
          <p:nvPr/>
        </p:nvGrpSpPr>
        <p:grpSpPr>
          <a:xfrm>
            <a:off x="2101680" y="1600200"/>
            <a:ext cx="4938840" cy="4524480"/>
            <a:chOff x="2101680" y="1600200"/>
            <a:chExt cx="4938840" cy="4524480"/>
          </a:xfrm>
        </p:grpSpPr>
        <p:pic>
          <p:nvPicPr>
            <p:cNvPr id="421" name="Picture 3" descr=""/>
            <p:cNvPicPr/>
            <p:nvPr/>
          </p:nvPicPr>
          <p:blipFill>
            <a:blip r:embed="rId1"/>
            <a:stretch/>
          </p:blipFill>
          <p:spPr>
            <a:xfrm>
              <a:off x="2101680" y="1600200"/>
              <a:ext cx="493884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4"/>
            <p:cNvSpPr/>
            <p:nvPr/>
          </p:nvSpPr>
          <p:spPr>
            <a:xfrm>
              <a:off x="2101680" y="1600200"/>
              <a:ext cx="493884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aramond"/>
                <a:ea typeface="DejaVu Sans"/>
              </a:rPr>
              <a:t>«Сентябрь» 1997г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4" name="Picture 2" descr="http://ic.pics.livejournal.com/doc1084/77481023/112116/112116_600.jpg"/>
          <p:cNvPicPr/>
          <p:nvPr/>
        </p:nvPicPr>
        <p:blipFill>
          <a:blip r:embed="rId1"/>
          <a:stretch/>
        </p:blipFill>
        <p:spPr>
          <a:xfrm>
            <a:off x="1714680" y="1268280"/>
            <a:ext cx="571500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58680" y="300600"/>
            <a:ext cx="8799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ль исследовани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лечь внимание  к вопросам сохранения культурного наследия родного края.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2"/>
          <p:cNvSpPr/>
          <p:nvPr/>
        </p:nvSpPr>
        <p:spPr>
          <a:xfrm>
            <a:off x="714240" y="1071720"/>
            <a:ext cx="77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отез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изведения искусства Аллы Цыбиковой воспитывают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ловеке гуманные чувства, любовь к своей малой родине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214200" y="383760"/>
            <a:ext cx="871560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 личность художника,  влияет на отношение к окружающему миру, проблемам взаимоотношений природы и человека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творчеством Аллы Цыбиковой. 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3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969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214960" cy="32860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5"/>
          <p:cNvSpPr/>
          <p:nvPr/>
        </p:nvSpPr>
        <p:spPr>
          <a:xfrm>
            <a:off x="285840" y="5357880"/>
            <a:ext cx="814392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aramond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  <a:ea typeface="DejaVu Sans"/>
              </a:rPr>
              <a:t>Была единственным ребенком в семь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aramond"/>
                <a:ea typeface="DejaVu San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  <a:ea typeface="DejaVu Sans"/>
              </a:rPr>
              <a:t>Родители старались исполнить все её желания и капризы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-30240" y="255600"/>
            <a:ext cx="9021960" cy="14572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Занавес для театра «Ульгэр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Фреска «На земле Гэсэра»  в Бурятском академическом театре драм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Гобелен - триптих «Облачный край. Легенда. Первый снег» в читальном зале Центра чтения юношества имени Д. Батожаб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Гобелен «Игра на флейте» в республиканской детско-юношеской библиотек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Georgia"/>
                <a:ea typeface="Calibri"/>
              </a:rPr>
              <a:t>«Панорама сказки» в комнате матери и ребенка в аэропорту Улан-Удэ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839440" cy="100008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4" descr="http://ic.pics.livejournal.com/doc1084/77481023/66534/66534_600.jpg"/>
          <p:cNvPicPr/>
          <p:nvPr/>
        </p:nvPicPr>
        <p:blipFill>
          <a:blip r:embed="rId2"/>
          <a:stretch/>
        </p:blipFill>
        <p:spPr>
          <a:xfrm>
            <a:off x="2195640" y="1554120"/>
            <a:ext cx="431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52280" y="262080"/>
            <a:ext cx="8839440" cy="1036440"/>
          </a:xfrm>
          <a:prstGeom prst="rect">
            <a:avLst/>
          </a:prstGeom>
          <a:ln w="0">
            <a:noFill/>
          </a:ln>
        </p:spPr>
      </p:pic>
      <p:pic>
        <p:nvPicPr>
          <p:cNvPr id="412" name="Объект 3" descr=""/>
          <p:cNvPicPr/>
          <p:nvPr/>
        </p:nvPicPr>
        <p:blipFill>
          <a:blip r:embed="rId2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36440"/>
          </a:xfrm>
          <a:prstGeom prst="rect">
            <a:avLst/>
          </a:prstGeom>
          <a:ln w="0">
            <a:noFill/>
          </a:ln>
        </p:spPr>
      </p:pic>
      <p:pic>
        <p:nvPicPr>
          <p:cNvPr id="414" name="Объект 3" descr=""/>
          <p:cNvPicPr/>
          <p:nvPr/>
        </p:nvPicPr>
        <p:blipFill>
          <a:blip r:embed="rId2"/>
          <a:stretch/>
        </p:blipFill>
        <p:spPr>
          <a:xfrm>
            <a:off x="1442880" y="1554120"/>
            <a:ext cx="6410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1:31:32Z</dcterms:created>
  <dc:creator>1</dc:creator>
  <dc:description/>
  <dc:language>en-US</dc:language>
  <cp:lastModifiedBy>Хозяин</cp:lastModifiedBy>
  <dcterms:modified xsi:type="dcterms:W3CDTF">2019-11-30T11:32:55Z</dcterms:modified>
  <cp:revision>7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