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6.jpeg" ContentType="image/jpeg"/>
  <Override PartName="/ppt/media/image15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media/image7.jpeg" ContentType="image/jpeg"/>
  <Override PartName="/ppt/media/image1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A7AA-6EB7-457E-AF8F-4980202F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0779-9E39-429D-AAE3-64A7A306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BE2FC-EB03-4C63-AA1F-7083BDD7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23705-731A-4E72-A669-39322929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0E35D-7473-45B4-8081-6D78CFF1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49D60-FE0E-4CB8-8147-8DA4600B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D1912-C631-4729-81F2-BFD324B6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8E34A-82F8-492D-915A-603A3111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2C6EC-0088-4CEC-BD2B-71655284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7E2CD-8B46-48CB-A5FC-E9368332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9D1A1-C79B-4B2F-A533-80955011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2E9C-CECB-4C97-91D6-281DC144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8DF3-1592-456B-8CB2-48C489C4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9BFA-5614-4B04-8FB2-0B2C5E5E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8D86-1BE4-47F5-BB84-AE011B0A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AFAD-466D-4142-9E0C-6B8B2541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9481-93AE-46D7-966F-F2F2EE1E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E7CE-2F6E-41FB-8CBD-DD912A65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AEA9-8AAA-4A99-9CDC-B17DB8C8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432A-D6E7-450D-B741-1005DC45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D1AB-2E95-410C-B806-D15A8782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1EE6-90FC-4EC9-8E47-5F1987DC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EEA4-3857-40B5-B9EB-74D644D8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6E59-CAAF-4232-AC3D-D3A9E886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2F26-2D40-4B19-87F7-69726DFF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3453-BFA8-4974-92D7-3EAF5B2C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05980-CFC1-41BD-8881-CAE2F47C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73220-F792-473E-A4E9-AE689113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FB5DF-7B30-4B4C-BFCF-C8C94327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9C75D-AB42-4AE7-9C67-4A5EE0F3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93EDF-FB11-4BEF-8860-CAF8A65F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C8E5-765C-4F29-963C-8D38B2EE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D118F-221A-435D-845A-0BC86105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D38B9-DD35-408D-BEDD-A21567F1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2BC64-FFF9-48C3-A5DD-AEE33A6C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41CB5-3902-4D48-A743-A49C3091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36F6E-8344-4C9D-AD59-FF92A4FA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9D272-9423-48C2-A78D-7571B4BE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373AE-B337-4A98-A0CD-02F8ED44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11084-9687-4E21-B994-84BE2C1A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AC81B-BA55-4017-AEF2-4C995F45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B0833-E59C-46C3-9600-ADEF20F4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DC3F-7AFA-4B51-9E46-8C4E90E4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AF7C3-6C07-45E0-8C83-2407450F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73001-73CD-4D26-AEA0-8F1CF65F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93468-DC1E-4B2D-8BB1-4456941A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48EA3-88FF-4868-BD4C-23C3C3B1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7B9FF-BA01-46B9-B618-D40B412E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3CFA5-E55B-4431-982A-C5EB8FAC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93619-79A3-4D52-890E-BF54413B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5DB99-D171-4E1F-AB26-3D826349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28674-ACEA-4116-9B28-C25146FA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34295-EC43-4DA4-85CB-6A29FE4C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ADA0-034F-4043-A545-399DFA14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11E73-5CE0-4445-8E43-A1F3954E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2C772-EA39-44B0-AAFF-6E4D44C7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C9376-5BE9-4118-B8D6-6D5C1698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569C4-55B5-4C33-93E1-451AB6BD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85799-A6BE-4BFA-B73F-B58F63B6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10E1A-B296-4A85-8C24-F4135230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516A1-5EAE-4359-B0FC-02B8C72A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B23B4-F59F-447C-97F9-7305B476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05EB4-8920-4010-8786-62C42FE6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9FE5C-ACF2-4544-8B22-5E64001A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886D-5020-4269-8573-17D164FA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3B7EE-4BC4-4808-AB53-33B771E2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66DD4-9996-40E6-A9B4-E5170822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1D175-B047-4C71-AD84-E8006DE8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51EB1-8B0E-4594-90E4-436CC12A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56101-7AD4-49E3-B56F-44DE0F33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31A82-73EA-4553-9F38-6F2A1C19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4BFD3-10C2-4FA1-883D-ACF0B166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6F1E7-34C0-4A94-BAA7-3ACC853B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C3A79-91D8-4750-8E4B-D860A543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946D9-AFF9-43AB-9372-CCCC4A68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01F1-BCFC-46EA-BC94-EBF768C9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6FE0A-161A-4E97-9481-988B4ACF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1D120-727C-4D5E-B7D6-844CCD69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148DE-9138-4781-9787-28BC356D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185CB-272C-4576-B5D3-8DF4FFAE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3AD48-4210-46EF-9C26-2782C256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9D713-6442-4D43-A1A0-9AE1466B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AECDD-7168-4A7B-9D18-D920469B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AFE49-651E-432A-BF07-37D8753F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D72FD-FA0A-4386-A428-4BFD9B4A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DE3F3-A716-4F9A-9EF6-B2941DE4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647-5B8E-4CAF-8323-0A2B8EC5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E7F59-8C0D-4D0D-8CF8-2D853F08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561F4-923F-423C-8AFB-BC8DC9EC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5DA04-8CE1-4B82-99C9-0F04AFDA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F256B-A559-4B88-9A31-BB39B89D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2278C-91DB-4640-8D1D-7A218100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30856-3F8D-44D6-B617-17B5A755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2BEE8-17D0-48F5-962C-86626847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771DB-56F5-4EB5-985F-81F0BFFF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A2729-BEF7-4B67-80DB-05303FA9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987A6-0C08-4D06-906C-2C302EA2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251D-6BC9-49DD-A55C-B1D9CAF2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533BD-38F5-4BBD-9D28-FEC8839F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50BF4-31BE-4528-8620-60AD074C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FDE73-9A4D-484E-9A5C-A77E6D5F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36286-F146-42D9-94BA-9E9D4B5B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9035A-C713-4DBD-9D20-5C34262F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F3E2E-5E17-49D0-9BA8-4AC4F9C4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4F339-0569-4B33-A3A9-76B16960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9B7F1-30E6-47C0-BF47-F25525DA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98024-6845-43F7-A4A4-D4A40D48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F653C-3142-4165-A9D8-09BFA4B5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BFFC-C085-4CEB-A335-702377D6720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F37F-FA85-418E-8D9C-410278F37B5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1212-CA5A-4F41-925E-E330D259531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F40B-0758-4947-887A-DC6C627B3DB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095C-DEDB-46D1-BA83-C36FE480DAA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1E50-E3C2-4CD8-AADB-E24DE52E7E7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4031-6565-44DC-B23E-FB009D12A5C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9AE3-9074-4F8D-9E6E-0438276918F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5429-621D-4C7C-87FC-94CF26D6B64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115920" y="249120"/>
            <a:ext cx="9120240" cy="5133960"/>
          </a:xfrm>
          <a:prstGeom prst="rect">
            <a:avLst/>
          </a:prstGeom>
          <a:ln w="0">
            <a:noFill/>
          </a:ln>
        </p:spPr>
      </p:pic>
      <p:sp>
        <p:nvSpPr>
          <p:cNvPr id="400" name="TextBox 4"/>
          <p:cNvSpPr/>
          <p:nvPr/>
        </p:nvSpPr>
        <p:spPr>
          <a:xfrm>
            <a:off x="714240" y="5786280"/>
            <a:ext cx="771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Работа ученицы 4 класса: Гомбоевой Александр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Руководитель : Доржиева В.В</a:t>
            </a: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52280" y="262080"/>
            <a:ext cx="8839440" cy="1036440"/>
          </a:xfrm>
          <a:prstGeom prst="rect">
            <a:avLst/>
          </a:prstGeom>
          <a:ln w="0">
            <a:noFill/>
          </a:ln>
        </p:spPr>
      </p:pic>
      <p:pic>
        <p:nvPicPr>
          <p:cNvPr id="416" name="Объект 3" descr=""/>
          <p:cNvPicPr/>
          <p:nvPr/>
        </p:nvPicPr>
        <p:blipFill>
          <a:blip r:embed="rId2"/>
          <a:stretch/>
        </p:blipFill>
        <p:spPr>
          <a:xfrm>
            <a:off x="2052720" y="1554120"/>
            <a:ext cx="5191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4"/>
          <p:cNvSpPr/>
          <p:nvPr/>
        </p:nvSpPr>
        <p:spPr>
          <a:xfrm>
            <a:off x="2643120" y="857160"/>
            <a:ext cx="46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aramond"/>
                <a:ea typeface="DejaVu Sans"/>
              </a:rPr>
              <a:t>«Сестры»   1978 г  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18" name="Рисунок 5" descr="http://ic.pics.livejournal.com/doc1084/77481023/47913/47913_600.jpg"/>
          <p:cNvPicPr/>
          <p:nvPr/>
        </p:nvPicPr>
        <p:blipFill>
          <a:blip r:embed="rId1"/>
          <a:stretch/>
        </p:blipFill>
        <p:spPr>
          <a:xfrm>
            <a:off x="1714680" y="1476360"/>
            <a:ext cx="5715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aramond"/>
                <a:ea typeface="DejaVu Sans"/>
              </a:rPr>
              <a:t>«Под зимним солнцем» 1997г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20" name="Group 2"/>
          <p:cNvGrpSpPr/>
          <p:nvPr/>
        </p:nvGrpSpPr>
        <p:grpSpPr>
          <a:xfrm>
            <a:off x="2101680" y="1600200"/>
            <a:ext cx="4938840" cy="4524480"/>
            <a:chOff x="2101680" y="1600200"/>
            <a:chExt cx="4938840" cy="4524480"/>
          </a:xfrm>
        </p:grpSpPr>
        <p:pic>
          <p:nvPicPr>
            <p:cNvPr id="421" name="Picture 3" descr=""/>
            <p:cNvPicPr/>
            <p:nvPr/>
          </p:nvPicPr>
          <p:blipFill>
            <a:blip r:embed="rId1"/>
            <a:stretch/>
          </p:blipFill>
          <p:spPr>
            <a:xfrm>
              <a:off x="2101680" y="1600200"/>
              <a:ext cx="4938840" cy="45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Text Box 4"/>
            <p:cNvSpPr/>
            <p:nvPr/>
          </p:nvSpPr>
          <p:spPr>
            <a:xfrm>
              <a:off x="2101680" y="1600200"/>
              <a:ext cx="4938840" cy="45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aramond"/>
                <a:ea typeface="DejaVu Sans"/>
              </a:rPr>
              <a:t>«Сентябрь» 1997г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24" name="Picture 2" descr="http://ic.pics.livejournal.com/doc1084/77481023/112116/112116_600.jpg"/>
          <p:cNvPicPr/>
          <p:nvPr/>
        </p:nvPicPr>
        <p:blipFill>
          <a:blip r:embed="rId1"/>
          <a:stretch/>
        </p:blipFill>
        <p:spPr>
          <a:xfrm>
            <a:off x="1714680" y="1268280"/>
            <a:ext cx="5715000" cy="52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58680" y="300600"/>
            <a:ext cx="8799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ль исследования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влечь внимание  к вопросам сохранения культурного наследия родного края.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2"/>
          <p:cNvSpPr/>
          <p:nvPr/>
        </p:nvSpPr>
        <p:spPr>
          <a:xfrm>
            <a:off x="714240" y="1071720"/>
            <a:ext cx="7786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потеза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оизведения искусства Аллы Цыбиковой воспитывают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человеке гуманные чувства, любовь к своей малой родине.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"/>
          <p:cNvSpPr/>
          <p:nvPr/>
        </p:nvSpPr>
        <p:spPr>
          <a:xfrm>
            <a:off x="214200" y="383760"/>
            <a:ext cx="871560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, как личность художника,  влияет на отношение к окружающему миру, проблемам взаимоотношений природы и человека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 творчеством Аллы Цыбиковой. 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3" descr=""/>
          <p:cNvPicPr/>
          <p:nvPr/>
        </p:nvPicPr>
        <p:blipFill>
          <a:blip r:embed="rId1"/>
          <a:stretch/>
        </p:blipFill>
        <p:spPr>
          <a:xfrm>
            <a:off x="171360" y="328680"/>
            <a:ext cx="8820360" cy="969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2"/>
          <a:stretch/>
        </p:blipFill>
        <p:spPr>
          <a:xfrm>
            <a:off x="1643040" y="1643040"/>
            <a:ext cx="5214960" cy="3286080"/>
          </a:xfrm>
          <a:prstGeom prst="rect">
            <a:avLst/>
          </a:prstGeom>
          <a:ln w="0">
            <a:noFill/>
          </a:ln>
        </p:spPr>
      </p:pic>
      <p:sp>
        <p:nvSpPr>
          <p:cNvPr id="406" name="TextBox 5"/>
          <p:cNvSpPr/>
          <p:nvPr/>
        </p:nvSpPr>
        <p:spPr>
          <a:xfrm>
            <a:off x="285840" y="5357880"/>
            <a:ext cx="8143920" cy="10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aramond"/>
                <a:ea typeface="DejaVu Sans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  <a:ea typeface="DejaVu Sans"/>
              </a:rPr>
              <a:t>Была единственным ребенком в семье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aramond"/>
                <a:ea typeface="DejaVu Sans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  <a:ea typeface="DejaVu Sans"/>
              </a:rPr>
              <a:t>Родители старались исполнить все её желания и капризы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-30240" y="255600"/>
            <a:ext cx="9021960" cy="14572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Georgia"/>
                <a:ea typeface="Calibri"/>
              </a:rPr>
              <a:t>Занавес для театра «Ульгэр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Georgia"/>
                <a:ea typeface="Calibri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Georgia"/>
                <a:ea typeface="Calibri"/>
              </a:rPr>
              <a:t>Фреска «На земле Гэсэра»  в Бурятском академическом театре драм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Georgia"/>
                <a:ea typeface="Calibri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Georgia"/>
                <a:ea typeface="Calibri"/>
              </a:rPr>
              <a:t>Гобелен - триптих «Облачный край. Легенда. Первый снег» в читальном зале Центра чтения юношества имени Д. Батожаба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Georgia"/>
                <a:ea typeface="Calibri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Georgia"/>
                <a:ea typeface="Calibri"/>
              </a:rPr>
              <a:t>Гобелен «Игра на флейте» в республиканской детско-юношеской библиотеке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Georgia"/>
                <a:ea typeface="Calibri"/>
              </a:rPr>
              <a:t>«Панорама сказки» в комнате матери и ребенка в аэропорту Улан-Удэ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52280" y="298440"/>
            <a:ext cx="8839440" cy="1000080"/>
          </a:xfrm>
          <a:prstGeom prst="rect">
            <a:avLst/>
          </a:prstGeom>
          <a:ln w="0">
            <a:noFill/>
          </a:ln>
        </p:spPr>
      </p:pic>
      <p:pic>
        <p:nvPicPr>
          <p:cNvPr id="410" name="Объект 4" descr="http://ic.pics.livejournal.com/doc1084/77481023/66534/66534_600.jpg"/>
          <p:cNvPicPr/>
          <p:nvPr/>
        </p:nvPicPr>
        <p:blipFill>
          <a:blip r:embed="rId2"/>
          <a:stretch/>
        </p:blipFill>
        <p:spPr>
          <a:xfrm>
            <a:off x="2195640" y="1554120"/>
            <a:ext cx="4311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52280" y="262080"/>
            <a:ext cx="8839440" cy="1036440"/>
          </a:xfrm>
          <a:prstGeom prst="rect">
            <a:avLst/>
          </a:prstGeom>
          <a:ln w="0">
            <a:noFill/>
          </a:ln>
        </p:spPr>
      </p:pic>
      <p:pic>
        <p:nvPicPr>
          <p:cNvPr id="412" name="Объект 3" descr=""/>
          <p:cNvPicPr/>
          <p:nvPr/>
        </p:nvPicPr>
        <p:blipFill>
          <a:blip r:embed="rId2"/>
          <a:stretch/>
        </p:blipFill>
        <p:spPr>
          <a:xfrm>
            <a:off x="1630440" y="155412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036440"/>
          </a:xfrm>
          <a:prstGeom prst="rect">
            <a:avLst/>
          </a:prstGeom>
          <a:ln w="0">
            <a:noFill/>
          </a:ln>
        </p:spPr>
      </p:pic>
      <p:pic>
        <p:nvPicPr>
          <p:cNvPr id="414" name="Объект 3" descr=""/>
          <p:cNvPicPr/>
          <p:nvPr/>
        </p:nvPicPr>
        <p:blipFill>
          <a:blip r:embed="rId2"/>
          <a:stretch/>
        </p:blipFill>
        <p:spPr>
          <a:xfrm>
            <a:off x="1442880" y="1554120"/>
            <a:ext cx="6410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1:31:32Z</dcterms:created>
  <dc:creator>1</dc:creator>
  <dc:description/>
  <dc:language>en-US</dc:language>
  <cp:lastModifiedBy>Хозяин</cp:lastModifiedBy>
  <dcterms:modified xsi:type="dcterms:W3CDTF">2019-11-30T11:32:55Z</dcterms:modified>
  <cp:revision>7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