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9"/>
          </p:nvPr>
        </p:nvSpPr>
        <p:spPr>
          <a:xfrm>
            <a:off x="38811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11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F8104-6E88-4BF0-9E1C-6D2879C6D0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E7180-95AC-47C5-A04A-DD2AF7DF43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651FF-E579-4499-A2E2-E26A920203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DDB04-F74C-437C-8504-EBB54CF719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9CAD6-0C3C-408F-88F2-DCBE962EAA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43080-E11A-48F7-9727-C85A5C56B4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3DE8D-09DB-4D8F-BCA2-2D463F6A18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F30AA-15F6-41A0-9D08-DB20D7353B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2E08-8FDC-4BC7-BCF5-8B363DE1A1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3FC7-747C-4647-B9FB-A19489BF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6BE43-BBB0-47E6-A534-66664E99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9010-16BD-476F-B098-F714F71060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EA3CD-DC4E-46C5-B048-6ADE1CA614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2B0F0-3251-455D-B3B9-E8C6644D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8DEB0-0864-426A-B848-C96E6F84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A104E-03F6-4994-8AA9-79B3DD31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DA4D7-6734-4679-A635-5FC3E891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0A72C-7FCA-41B5-935E-4350C2C4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50033-F75F-4222-AC37-013892CD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DF2A-CCAD-469A-B79E-04802077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D9816-68E5-44C7-A90D-91228196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54546-C907-4BBD-9790-BCCA7EBB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A95CA-A50D-4A43-BE4A-FAB529CA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E5727-2EC5-4306-B88D-6A7325D1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11FFD-E3C8-45F2-8F01-A7ECB63218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1F8E-D528-4ACD-B359-63D5E17A0C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03EC-F1EC-4356-8589-A06CE02D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E9E8-6537-4EA5-99AF-EE0B37C5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C87E-0E16-4A82-8FBB-6914114F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095F-7D01-425A-8996-C999101F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BAE6-F359-4019-9242-F17A2BEC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93A9-C0DE-4DE5-8E7A-EAB1B2E0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F051-69B3-4823-9C0C-D9484228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D682-E724-4126-9AFC-BA08BA24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54FB-B688-4F2B-9304-71462E59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F2A2-96A8-4B88-A453-AF1AFFB5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678E-DDB3-411D-87A7-6C8E3168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83A5-1DAE-4932-9B58-21F8B811CB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611DD-0B00-4D06-B3CD-A46E0C5E09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30075-704C-47BC-AA47-E3C67542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618E9-4D16-4C8A-8390-351976FC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D939-2956-49DF-A9EA-7D244639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DA991-4574-4398-9C84-0881DDC9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D7DC5-E979-4C30-B654-70C37645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40E58-E7E5-4BC1-AC3A-F63029EE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4FC02-2254-4AD5-8339-C930AFEE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29C15-5937-4CD6-AE88-CBC52E76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59BDC-2564-4DE2-9A77-9745A74A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8092D-A9EF-4DD3-AFB0-BF9EE8E6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87F5A-3A76-4706-B218-60F0402F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A13BA-D4A3-435D-9AD4-56FC03F3C7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4F19-8AE2-457D-8A8E-9F90BA04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9B87-F542-4EE7-BCCA-E98CF9D5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F26C-5B5F-4E50-BE96-F74E3900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6EFCD-DBFA-48E3-A57F-3948A6B2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4768C-8A4D-4B21-88C8-46B28298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1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CD5448-55CC-44F4-8EA1-6E6B886D6330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1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F10D44-FA7D-418E-8084-48B00FA4C4CB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57040" indent="-257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1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D7B5C7-CEB3-49E4-818C-3676B06033EF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1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D5E2F1-A455-44F9-A04C-023FCA29750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457200" y="928800"/>
            <a:ext cx="822960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ОД в старшей групп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«Ай да картошечка!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артошка, картошечка, урожай богатый, Вкусную картошку любят все ребята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285920" y="214200"/>
            <a:ext cx="6478560" cy="63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картофеля производя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987640" y="4292640"/>
            <a:ext cx="2735280" cy="223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627280" y="1413000"/>
            <a:ext cx="3024360" cy="2550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6372360" y="4149720"/>
            <a:ext cx="2170080" cy="2408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108000" y="4292640"/>
            <a:ext cx="2287440" cy="2131920"/>
          </a:xfrm>
          <a:prstGeom prst="rect">
            <a:avLst/>
          </a:prstGeom>
          <a:ln w="0">
            <a:noFill/>
          </a:ln>
        </p:spPr>
      </p:pic>
      <p:cxnSp>
        <p:nvCxnSpPr>
          <p:cNvPr id="179" name="AutoShape 6"/>
          <p:cNvCxnSpPr/>
          <p:nvPr/>
        </p:nvCxnSpPr>
        <p:spPr>
          <a:xfrm>
            <a:off x="5075280" y="3645000"/>
            <a:ext cx="1513440" cy="721440"/>
          </a:xfrm>
          <a:prstGeom prst="bentConnector3">
            <a:avLst>
              <a:gd name="adj1" fmla="val 49988"/>
            </a:avLst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0" name="Rectangle 7"/>
          <p:cNvSpPr/>
          <p:nvPr/>
        </p:nvSpPr>
        <p:spPr>
          <a:xfrm>
            <a:off x="6948360" y="3645000"/>
            <a:ext cx="1295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х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68360" y="3932280"/>
            <a:ext cx="11509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и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3276720" y="3932280"/>
            <a:ext cx="1368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т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10"/>
          <p:cNvCxnSpPr/>
          <p:nvPr/>
        </p:nvCxnSpPr>
        <p:spPr>
          <a:xfrm flipV="1" rot="10800000">
            <a:off x="1617120" y="3644640"/>
            <a:ext cx="1011960" cy="6483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84" name="AutoShape 11"/>
          <p:cNvCxnSpPr/>
          <p:nvPr/>
        </p:nvCxnSpPr>
        <p:spPr>
          <a:xfrm rot="5400000">
            <a:off x="4210920" y="4219200"/>
            <a:ext cx="577080" cy="2520"/>
          </a:xfrm>
          <a:prstGeom prst="bentConnector2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503280" y="1440000"/>
            <a:ext cx="2987640" cy="2087280"/>
          </a:xfrm>
          <a:prstGeom prst="rect">
            <a:avLst/>
          </a:prstGeom>
          <a:ln w="190440">
            <a:solidFill>
              <a:srgbClr val="c8c6bd"/>
            </a:solidFill>
            <a:round/>
          </a:ln>
        </p:spPr>
      </p:pic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5364000" y="1917720"/>
            <a:ext cx="3024360" cy="2303280"/>
          </a:xfrm>
          <a:prstGeom prst="rect">
            <a:avLst/>
          </a:prstGeom>
          <a:ln w="190440">
            <a:solidFill>
              <a:srgbClr val="c8c6bd"/>
            </a:solidFill>
            <a:round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324000" y="4248000"/>
            <a:ext cx="3348000" cy="2448000"/>
          </a:xfrm>
          <a:prstGeom prst="rect">
            <a:avLst/>
          </a:prstGeom>
          <a:ln w="190440">
            <a:solidFill>
              <a:srgbClr val="c8c6bd"/>
            </a:solidFill>
            <a:round/>
          </a:ln>
        </p:spPr>
      </p:pic>
      <p:sp>
        <p:nvSpPr>
          <p:cNvPr id="188" name="Rectangle 4"/>
          <p:cNvSpPr/>
          <p:nvPr/>
        </p:nvSpPr>
        <p:spPr>
          <a:xfrm>
            <a:off x="1979640" y="2205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4"/>
          <a:stretch/>
        </p:blipFill>
        <p:spPr>
          <a:xfrm>
            <a:off x="5580000" y="0"/>
            <a:ext cx="3564000" cy="17715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6"/>
          <p:cNvSpPr/>
          <p:nvPr/>
        </p:nvSpPr>
        <p:spPr>
          <a:xfrm flipH="1">
            <a:off x="1547640" y="189000"/>
            <a:ext cx="4680000" cy="863640"/>
          </a:xfrm>
          <a:prstGeom prst="wedgeRoundRectCallout">
            <a:avLst>
              <a:gd name="adj1" fmla="val -399898"/>
              <a:gd name="adj2" fmla="val 164402"/>
              <a:gd name="adj3" fmla="val 16667"/>
            </a:avLst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РТОФЕЛЬ ИСПОЛЬЗУ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84360" y="1123920"/>
            <a:ext cx="2519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лечения желу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364000" y="1268280"/>
            <a:ext cx="1511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ожог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252360" y="3716280"/>
            <a:ext cx="34560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галяции при простудных заболева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"/>
          <p:cNvPicPr/>
          <p:nvPr/>
        </p:nvPicPr>
        <p:blipFill>
          <a:blip r:embed="rId5"/>
          <a:stretch/>
        </p:blipFill>
        <p:spPr>
          <a:xfrm>
            <a:off x="5435640" y="4724280"/>
            <a:ext cx="3095640" cy="2232000"/>
          </a:xfrm>
          <a:prstGeom prst="rect">
            <a:avLst/>
          </a:prstGeom>
          <a:ln w="190440">
            <a:solidFill>
              <a:srgbClr val="c8c6bd"/>
            </a:solidFill>
            <a:round/>
          </a:ln>
        </p:spPr>
      </p:pic>
      <p:sp>
        <p:nvSpPr>
          <p:cNvPr id="195" name="Rectangle 11"/>
          <p:cNvSpPr/>
          <p:nvPr/>
        </p:nvSpPr>
        <p:spPr>
          <a:xfrm>
            <a:off x="5940360" y="4292640"/>
            <a:ext cx="216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тательная м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ртофель содержи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г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ль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еле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тамины группы B, D, Е, К, Р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6732720" y="3860640"/>
            <a:ext cx="2160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н не только полезный, но и вкусны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977080" cy="4392720"/>
          </a:xfrm>
          <a:prstGeom prst="rect">
            <a:avLst/>
          </a:prstGeom>
          <a:ln w="22860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3264120" cy="2448000"/>
          </a:xfrm>
          <a:prstGeom prst="rect">
            <a:avLst/>
          </a:prstGeom>
          <a:ln w="228600">
            <a:solidFill>
              <a:srgbClr val="000000"/>
            </a:solidFill>
            <a:miter/>
          </a:ln>
        </p:spPr>
      </p:pic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5075280" y="115920"/>
            <a:ext cx="3868560" cy="2576520"/>
          </a:xfrm>
          <a:prstGeom prst="rect">
            <a:avLst/>
          </a:prstGeom>
          <a:ln w="228600">
            <a:solidFill>
              <a:srgbClr val="000000"/>
            </a:solidFill>
            <a:miter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252360" y="4437000"/>
            <a:ext cx="3456000" cy="2178000"/>
          </a:xfrm>
          <a:prstGeom prst="rect">
            <a:avLst/>
          </a:prstGeom>
          <a:ln w="228600">
            <a:solidFill>
              <a:srgbClr val="000000"/>
            </a:solidFill>
            <a:miter/>
          </a:ln>
        </p:spPr>
      </p:pic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5148360" y="4365720"/>
            <a:ext cx="3700440" cy="2205000"/>
          </a:xfrm>
          <a:prstGeom prst="rect">
            <a:avLst/>
          </a:prstGeom>
          <a:ln w="228600">
            <a:solidFill>
              <a:srgbClr val="000000"/>
            </a:solidFill>
            <a:miter/>
          </a:ln>
        </p:spPr>
      </p:pic>
      <p:pic>
        <p:nvPicPr>
          <p:cNvPr id="205" name="Picture 5" descr=""/>
          <p:cNvPicPr/>
          <p:nvPr/>
        </p:nvPicPr>
        <p:blipFill>
          <a:blip r:embed="rId5"/>
          <a:stretch/>
        </p:blipFill>
        <p:spPr>
          <a:xfrm>
            <a:off x="2340000" y="1989000"/>
            <a:ext cx="4176720" cy="2916360"/>
          </a:xfrm>
          <a:prstGeom prst="rect">
            <a:avLst/>
          </a:prstGeom>
          <a:ln w="63360">
            <a:solidFill>
              <a:srgbClr val="333333"/>
            </a:solidFill>
            <a:round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Home</cp:lastModifiedBy>
  <dcterms:modified xsi:type="dcterms:W3CDTF">2019-11-30T09:30:26Z</dcterms:modified>
  <cp:revision>2</cp:revision>
  <dc:subject/>
  <dc:title>Слайд 1</dc:title>
</cp:coreProperties>
</file>