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9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9F4BD-4EF7-4350-AD33-1ECCC84F4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3CCA0-4DF8-4368-9D4A-2A6B8FD96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03A14-3235-41CC-95A1-3DE72FF73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C1FD-0A15-4DAE-9620-19A6FFF43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9EE80-A3F4-4048-912B-379E87586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A65B-AE17-47CF-842E-43AB1746AD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FD9B4-015E-4375-8877-7A0D588E6B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88152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D6055-8293-449A-861F-C918036ADF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6C0A-BB57-4EC1-B459-534DDB2BF7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1BBB-E96C-4E11-B338-846AE2FC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C583-B54D-4977-BE38-20550B0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DDC9-9A19-4848-9BED-876C190A4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C617-E4C9-4F38-B512-CA3D01352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A163A-0759-4593-8235-E20764FF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6EF49-0962-4AD5-9D9C-99EAC9FC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BEF99-41C3-4796-B482-5A221C2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EB7AA-8510-449C-AD10-CF5F1339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77C7-E2A0-42D6-B21A-D447BE5C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16222-5AA7-4378-8ADC-DFC764F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B3D1-C748-48D0-826E-512F2D5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9FE7-9AC0-45F2-B616-74532829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57FB0-09C0-44F6-BFE6-4281DD7C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480F-15BF-4BC7-A2FF-DE59FF2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B8D7-EC07-47FB-A152-992B547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3B562-47DE-46CF-8E81-F2B33DB7A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6329-9CC4-453A-A491-1053E8089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EBB-5259-4152-8C5E-ADF18455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CB5E-60FB-4AD0-9272-073F3889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A971-5B2C-49BA-A145-CED695A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872F-D70E-49BF-AEFF-DF2FE5C3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ECB5-F364-4998-BCD5-EBF5AAAA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01C3-33B5-4D4F-8566-748FB545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87CF-08E3-48B5-A406-451EF70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54F6-9586-4903-A6C8-DFE16F5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BAC-04AC-4185-9C95-E91826DB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B677-FF56-4DCC-A581-C8582CC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4D04-7619-480C-8478-43C94D6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C937-B27D-43D6-B165-A8643BBEA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1C18F-372B-4622-ACD0-B7FD5E086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8F34F-1A9A-4913-B5D7-AF0ADF3C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AF516-BFFD-479F-A5BB-A991148C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A7A3-F957-45DD-B2B7-9E090983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23753-95B0-435B-B0BB-22A72A1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03540-4083-4CE1-89A5-676BD567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9F212-6748-40CC-8468-80F8C49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82DFB-6490-476C-A2E3-2702F9A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4BEA2-5E42-4F02-ABCA-3A8A30C4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5CDE6-7065-4707-A934-9A891CE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876B9-6CA7-4B97-B5ED-0FFA9F1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68D4A-E7A2-492C-8096-804F0BA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80237-17D1-4416-8E2D-D8BD4D795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635C-8D8D-4232-8F9E-485C8FBE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01F8-BD0B-4298-A9D8-D9F2B251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08D4-AFB7-46CC-A8DF-317BA903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5D28-BFD4-4D2A-8926-D0F688F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533F-EAF4-495A-A705-1B227C5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8BF89-BCE8-4258-9B8A-B118B6C1AD6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45A9B4-17A4-4C22-A7D9-E9B0A761209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57040" indent="-257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9988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1E810C-5133-4A33-B0A6-70D96842A82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1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C9C7F4-72E5-4F8F-AB58-7354C6274E8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928800"/>
            <a:ext cx="822960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ОД в старшей групп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Ай да картошечка!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артошка, картошечка, урожай богатый, Вкусную картошку любят все ребята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6478560" cy="63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картофеля производя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987640" y="429264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3024360" cy="255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2170080" cy="2408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108000" y="4292640"/>
            <a:ext cx="2287440" cy="2131920"/>
          </a:xfrm>
          <a:prstGeom prst="rect">
            <a:avLst/>
          </a:prstGeom>
          <a:ln w="0">
            <a:noFill/>
          </a:ln>
        </p:spPr>
      </p:pic>
      <p:cxnSp>
        <p:nvCxnSpPr>
          <p:cNvPr id="179" name="AutoShape 6"/>
          <p:cNvCxnSpPr/>
          <p:nvPr/>
        </p:nvCxnSpPr>
        <p:spPr>
          <a:xfrm>
            <a:off x="5075280" y="3645000"/>
            <a:ext cx="1513440" cy="721440"/>
          </a:xfrm>
          <a:prstGeom prst="bentConnector3">
            <a:avLst>
              <a:gd name="adj1" fmla="val 49988"/>
            </a:avLst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0" name="Rectangle 7"/>
          <p:cNvSpPr/>
          <p:nvPr/>
        </p:nvSpPr>
        <p:spPr>
          <a:xfrm>
            <a:off x="6948360" y="3645000"/>
            <a:ext cx="129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68360" y="3932280"/>
            <a:ext cx="1150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276720" y="3932280"/>
            <a:ext cx="1368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т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10"/>
          <p:cNvCxnSpPr/>
          <p:nvPr/>
        </p:nvCxnSpPr>
        <p:spPr>
          <a:xfrm flipV="1" rot="10800000">
            <a:off x="1617120" y="3644640"/>
            <a:ext cx="1011960" cy="6483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84" name="AutoShape 11"/>
          <p:cNvCxnSpPr/>
          <p:nvPr/>
        </p:nvCxnSpPr>
        <p:spPr>
          <a:xfrm rot="5400000">
            <a:off x="4210920" y="4219200"/>
            <a:ext cx="577080" cy="2520"/>
          </a:xfrm>
          <a:prstGeom prst="bentConnector2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503280" y="1440000"/>
            <a:ext cx="2987640" cy="208728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5364000" y="1917720"/>
            <a:ext cx="3024360" cy="230328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24000" y="4248000"/>
            <a:ext cx="3348000" cy="244800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sp>
        <p:nvSpPr>
          <p:cNvPr id="188" name="Rectangle 4"/>
          <p:cNvSpPr/>
          <p:nvPr/>
        </p:nvSpPr>
        <p:spPr>
          <a:xfrm>
            <a:off x="1979640" y="2205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4"/>
          <a:stretch/>
        </p:blipFill>
        <p:spPr>
          <a:xfrm>
            <a:off x="5580000" y="0"/>
            <a:ext cx="3564000" cy="17715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/>
          <p:cNvSpPr/>
          <p:nvPr/>
        </p:nvSpPr>
        <p:spPr>
          <a:xfrm flipH="1">
            <a:off x="1547640" y="189000"/>
            <a:ext cx="4680000" cy="863640"/>
          </a:xfrm>
          <a:prstGeom prst="wedgeRoundRectCallout">
            <a:avLst>
              <a:gd name="adj1" fmla="val -399898"/>
              <a:gd name="adj2" fmla="val 164402"/>
              <a:gd name="adj3" fmla="val 16667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ОФЕЛЬ ИСПОЛЬЗУ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84360" y="1123920"/>
            <a:ext cx="2519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лечения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64000" y="1268280"/>
            <a:ext cx="151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ож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52360" y="3716280"/>
            <a:ext cx="3456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галяции при простудных заболева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5"/>
          <a:stretch/>
        </p:blipFill>
        <p:spPr>
          <a:xfrm>
            <a:off x="5435640" y="4724280"/>
            <a:ext cx="3095640" cy="2232000"/>
          </a:xfrm>
          <a:prstGeom prst="rect">
            <a:avLst/>
          </a:prstGeom>
          <a:ln w="190440">
            <a:solidFill>
              <a:srgbClr val="c8c6bd"/>
            </a:solidFill>
            <a:round/>
          </a:ln>
        </p:spPr>
      </p:pic>
      <p:sp>
        <p:nvSpPr>
          <p:cNvPr id="195" name="Rectangle 11"/>
          <p:cNvSpPr/>
          <p:nvPr/>
        </p:nvSpPr>
        <p:spPr>
          <a:xfrm>
            <a:off x="5940360" y="4292640"/>
            <a:ext cx="216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тательная м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тофель содерж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г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ль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ы группы B, D, Е, К, 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6732720" y="3860640"/>
            <a:ext cx="2160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н не только полезный, но и вкусн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977080" cy="439272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264120" cy="2448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075280" y="115920"/>
            <a:ext cx="3868560" cy="257652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252360" y="4437000"/>
            <a:ext cx="3456000" cy="2178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3700440" cy="2205000"/>
          </a:xfrm>
          <a:prstGeom prst="rect">
            <a:avLst/>
          </a:prstGeom>
          <a:ln w="228600">
            <a:solidFill>
              <a:srgbClr val="000000"/>
            </a:solidFill>
            <a:miter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2340000" y="1989000"/>
            <a:ext cx="4176720" cy="2916360"/>
          </a:xfrm>
          <a:prstGeom prst="rect">
            <a:avLst/>
          </a:prstGeom>
          <a:ln w="63360">
            <a:solidFill>
              <a:srgbClr val="333333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9-11-30T09:30:26Z</dcterms:modified>
  <cp:revision>2</cp:revision>
  <dc:subject/>
  <dc:title>Слайд 1</dc:title>
</cp:coreProperties>
</file>