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1EBD-3F59-4D3E-A3A8-025D6EF5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D262-6203-412B-8F4B-05D8FDDC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CFCA-39F9-44E9-A326-DC95EEB0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345F-5374-40D9-8C34-2D4F169E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3356-2754-42B2-A9A7-8F0D689F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F6FE-B94F-491D-ABB1-5E1931E8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45E1-8C48-4DDF-B39C-E1FE382F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8C0E-9260-4DD9-B36D-91AA1C85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B399-EDD7-4372-8811-93C76996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7333-4487-4063-A455-4E05DFD7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1D50-35A5-405E-8446-EE84A68A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E8FD-120D-4498-B0F0-A1524DDA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A667-144D-4D3B-B447-3919B93F2F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</a:t>
            </a:r>
            <a:br>
              <a:rPr sz="9600"/>
            </a:b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й домик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5000"/>
              </a:lnSpc>
              <a:spcBef>
                <a:spcPts val="2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8T09:37:36Z</dcterms:created>
  <dc:creator>Home</dc:creator>
  <dc:description/>
  <dc:language>en-US</dc:language>
  <cp:lastModifiedBy>Home</cp:lastModifiedBy>
  <dcterms:modified xsi:type="dcterms:W3CDTF">2016-03-28T09:56:48Z</dcterms:modified>
  <cp:revision>2</cp:revision>
  <dc:subject/>
  <dc:title>Дидактическая игра «Чей домик?»</dc:title>
</cp:coreProperties>
</file>