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F90-1C17-421A-9F81-E7FFA71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C3E-902B-4345-A65C-244BA48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CF2-432F-4FFB-A451-0AEE82C4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CE9-979F-49D2-AB05-974DE85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BCE-2ECA-435A-9001-18EBEEC0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62C-57D8-4B49-8F0D-78316269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A56-23DB-4695-866A-DCB797DC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117-210D-4FBC-96F4-3625429E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37A-9715-4D78-A6F2-708BF5D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A8A-6FFD-4E8C-AE8F-5566400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2EC-17D3-45C1-AB48-6E5A6EF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45B-3782-43F9-B364-6FAEF2ED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83AE-2D83-4E02-9449-15B5E981B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й домик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9:37:36Z</dcterms:created>
  <dc:creator>Home</dc:creator>
  <dc:description/>
  <dc:language>en-US</dc:language>
  <cp:lastModifiedBy>Home</cp:lastModifiedBy>
  <dcterms:modified xsi:type="dcterms:W3CDTF">2016-03-28T09:56:48Z</dcterms:modified>
  <cp:revision>2</cp:revision>
  <dc:subject/>
  <dc:title>Дидактическая игра «Чей домик?»</dc:title>
</cp:coreProperties>
</file>