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643-24F0-42ED-9714-0E535A9B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DD1-A0BE-4F54-B5D0-8364CE5F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3EC-1F88-4D6D-9BC0-178E2C06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159-58B6-4441-8A1D-BB3AB8D4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93C-CAFA-486B-B1A1-29B0E00B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AE7-A4D6-490C-9058-EDF50FEF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4AB-3974-433D-813D-BACFC8F6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D3C-5BB6-459F-8932-CCFC1CCE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9BF-13C5-4A8E-9CAE-E53F3833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BD1-48A5-4A4B-AD2E-0B785A4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2A3-2692-4181-97AC-0709A2C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B7E-DEB4-4FFE-818E-FCD854A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69D7-A3BB-48DC-84BF-59D5528EA6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ве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avatars.mds.yandex.net/get-pdb/1525524/4fb6d886-d03f-4945-a7b6-01bb025f4c42/s1200"/>
          <p:cNvPicPr/>
          <p:nvPr/>
        </p:nvPicPr>
        <p:blipFill>
          <a:blip r:embed="rId1"/>
          <a:stretch/>
        </p:blipFill>
        <p:spPr>
          <a:xfrm>
            <a:off x="755640" y="1268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– это французское пятистишие, похожее на японские стихотвор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помогает пополнить словарный запа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учит краткому пересказ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учит находить и выделять в большом объеме информации главную мысл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чинение синквейна – процесс творческий. Это интересное занятие помогает самовыражению детей, через сочинение собственных нерифмованных стих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помогает развить речь и мышл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облегчает процесс усвоения понятий и их содерж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инквейн — это также способ контроля и самоконтроля (дети могут сравнить синквейны и оценивать их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19280" indent="-16192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вей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</a:t>
            </a: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о не простое стихотворение, а стихотворение, написанное по следующим правила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 строка – одно существительное, выражающее главную тему cинквей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 строка – два прилагательных, выражающих главную мысл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 строка – три глагола, описывающие действия в рамках те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 строка – фраза, несущая определенный смыс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 строка – заключение в форме существительного (ассоциация с первым слово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 ел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20"/>
          <p:cNvGrpSpPr/>
          <p:nvPr/>
        </p:nvGrpSpPr>
        <p:grpSpPr>
          <a:xfrm>
            <a:off x="2050920" y="1484280"/>
            <a:ext cx="5113440" cy="4248360"/>
            <a:chOff x="2050920" y="1484280"/>
            <a:chExt cx="5113440" cy="4248360"/>
          </a:xfrm>
        </p:grpSpPr>
        <p:grpSp>
          <p:nvGrpSpPr>
            <p:cNvPr id="48" name="Группа 23"/>
            <p:cNvGrpSpPr/>
            <p:nvPr/>
          </p:nvGrpSpPr>
          <p:grpSpPr>
            <a:xfrm>
              <a:off x="2050920" y="1484280"/>
              <a:ext cx="5113440" cy="3420360"/>
              <a:chOff x="2050920" y="1484280"/>
              <a:chExt cx="5113440" cy="3420360"/>
            </a:xfrm>
          </p:grpSpPr>
          <p:sp>
            <p:nvSpPr>
              <p:cNvPr id="49" name="Равнобедренный треугольник 6"/>
              <p:cNvSpPr/>
              <p:nvPr/>
            </p:nvSpPr>
            <p:spPr>
              <a:xfrm>
                <a:off x="5940360" y="404928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Равнобедренный треугольник 7"/>
              <p:cNvSpPr/>
              <p:nvPr/>
            </p:nvSpPr>
            <p:spPr>
              <a:xfrm>
                <a:off x="4578120" y="4049280"/>
                <a:ext cx="122724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Равнобедренный треугольник 8"/>
              <p:cNvSpPr/>
              <p:nvPr/>
            </p:nvSpPr>
            <p:spPr>
              <a:xfrm>
                <a:off x="3956040" y="1484280"/>
                <a:ext cx="122544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Равнобедренный треугольник 9"/>
              <p:cNvSpPr/>
              <p:nvPr/>
            </p:nvSpPr>
            <p:spPr>
              <a:xfrm>
                <a:off x="3409920" y="2339640"/>
                <a:ext cx="1227240" cy="85392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Равнобедренный треугольник 10"/>
              <p:cNvSpPr/>
              <p:nvPr/>
            </p:nvSpPr>
            <p:spPr>
              <a:xfrm>
                <a:off x="4637160" y="2339640"/>
                <a:ext cx="1225440" cy="85392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Равнобедренный треугольник 11"/>
              <p:cNvSpPr/>
              <p:nvPr/>
            </p:nvSpPr>
            <p:spPr>
              <a:xfrm>
                <a:off x="5316480" y="319356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Равнобедренный треугольник 12"/>
              <p:cNvSpPr/>
              <p:nvPr/>
            </p:nvSpPr>
            <p:spPr>
              <a:xfrm>
                <a:off x="3956040" y="3193560"/>
                <a:ext cx="122544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Равнобедренный треугольник 13"/>
              <p:cNvSpPr/>
              <p:nvPr/>
            </p:nvSpPr>
            <p:spPr>
              <a:xfrm>
                <a:off x="2731680" y="319356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Равнобедренный треугольник 14"/>
              <p:cNvSpPr/>
              <p:nvPr/>
            </p:nvSpPr>
            <p:spPr>
              <a:xfrm>
                <a:off x="2050920" y="404928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Равнобедренный треугольник 15"/>
              <p:cNvSpPr/>
              <p:nvPr/>
            </p:nvSpPr>
            <p:spPr>
              <a:xfrm>
                <a:off x="3274920" y="4049280"/>
                <a:ext cx="1224000" cy="85536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Равнобедренный треугольник 5"/>
            <p:cNvSpPr/>
            <p:nvPr/>
          </p:nvSpPr>
          <p:spPr>
            <a:xfrm>
              <a:off x="3941640" y="4876920"/>
              <a:ext cx="1224000" cy="85572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388360" cy="556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cdn1.ozone.ru/multimedia/1014161123.jpg"/>
          <p:cNvPicPr/>
          <p:nvPr/>
        </p:nvPicPr>
        <p:blipFill>
          <a:blip r:embed="rId2"/>
          <a:stretch/>
        </p:blipFill>
        <p:spPr>
          <a:xfrm>
            <a:off x="6156360" y="1125360"/>
            <a:ext cx="22431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388360" cy="556560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http://vpleny.ru/wp-content/uploads/2012/07/%D1%81%D0%BF%D0%B8%D1%81%D0%BE%D0%BA-%D0%BA%D0%BD%D0%B8%D0%B3-%D0%B4%D0%BB%D1%8F-%D1%87%D1%82%D0%B5%D0%BD%D0%B8%D1%8F.png"/>
          <p:cNvPicPr/>
          <p:nvPr/>
        </p:nvPicPr>
        <p:blipFill>
          <a:blip r:embed="rId2"/>
          <a:stretch/>
        </p:blipFill>
        <p:spPr>
          <a:xfrm>
            <a:off x="5867280" y="1125360"/>
            <a:ext cx="2521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324000" y="317520"/>
            <a:ext cx="8393040" cy="556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v.900igr.net:10/datai/okruzhajuschij-mir/Rastitelnyj-i-zhivotnyj-mir-Afriki/0001-002-Afrika.png"/>
          <p:cNvPicPr/>
          <p:nvPr/>
        </p:nvPicPr>
        <p:blipFill>
          <a:blip r:embed="rId2"/>
          <a:stretch/>
        </p:blipFill>
        <p:spPr>
          <a:xfrm>
            <a:off x="6443640" y="692280"/>
            <a:ext cx="1768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ртем</dc:creator>
  <dc:description/>
  <dc:language>en-US</dc:language>
  <cp:lastModifiedBy>1</cp:lastModifiedBy>
  <dcterms:modified xsi:type="dcterms:W3CDTF">2019-11-30T07:51:53Z</dcterms:modified>
  <cp:revision>18</cp:revision>
  <dc:subject/>
  <dc:title>Слайд 1</dc:title>
</cp:coreProperties>
</file>