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A41-12D2-44E2-AB3F-5D25E459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0BB-AC51-4D37-B494-2A18A1CA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144-06E6-4025-9F75-51CD765B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DBA-A70D-4863-8B9C-BE56A47B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F78-D7FB-49B6-9A1D-227CCC48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5E4-4C4D-40CE-87E0-5CD11F6B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8B0-48A3-42B8-A935-04940E3F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A1C-3CBE-4AA0-B44D-8273F3D2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ED1-EC9F-4012-80A8-287E66B7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813-C9D9-4D8E-A554-8E9247A8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410-C21C-4881-A304-0595D0FE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AB4-1A9C-43CB-8DE4-B6DE5BB9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F16F-FE37-4875-B683-6597668D82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кве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avatars.mds.yandex.net/get-pdb/1525524/4fb6d886-d03f-4945-a7b6-01bb025f4c42/s1200"/>
          <p:cNvPicPr/>
          <p:nvPr/>
        </p:nvPicPr>
        <p:blipFill>
          <a:blip r:embed="rId1"/>
          <a:stretch/>
        </p:blipFill>
        <p:spPr>
          <a:xfrm>
            <a:off x="755640" y="1268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– это французское пятистишие, похожее на японские стихотвор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помогает пополнить словарный запа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учит краткому пересказ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учит находить и выделять в большом объеме информации главную мысл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чинение синквейна – процесс творческий. Это интересное занятие помогает самовыражению детей, через сочинение собственных нерифмованных стих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помогает развить речь и мышл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облегчает процесс усвоения понятий и их содерж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— это также способ контроля и самоконтроля (дети могут сравнить синквейны и оценивать их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квей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</a:t>
            </a: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о не простое стихотворение, а стихотворение, написанное по следующим правилам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 строка – одно существительное, выражающее главную тему cинквей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 строка – два прилагательных, выражающих главную мысл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 строка – три глагола, описывающие действия в рамках тем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 строка – фраза, несущая определенный смыс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 строка – заключение в форме существительного (ассоциация с первым словом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 елоч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20"/>
          <p:cNvGrpSpPr/>
          <p:nvPr/>
        </p:nvGrpSpPr>
        <p:grpSpPr>
          <a:xfrm>
            <a:off x="2050920" y="1484280"/>
            <a:ext cx="5113440" cy="4248360"/>
            <a:chOff x="2050920" y="1484280"/>
            <a:chExt cx="5113440" cy="4248360"/>
          </a:xfrm>
        </p:grpSpPr>
        <p:grpSp>
          <p:nvGrpSpPr>
            <p:cNvPr id="48" name="Группа 23"/>
            <p:cNvGrpSpPr/>
            <p:nvPr/>
          </p:nvGrpSpPr>
          <p:grpSpPr>
            <a:xfrm>
              <a:off x="2050920" y="1484280"/>
              <a:ext cx="5113440" cy="3420360"/>
              <a:chOff x="2050920" y="1484280"/>
              <a:chExt cx="5113440" cy="3420360"/>
            </a:xfrm>
          </p:grpSpPr>
          <p:sp>
            <p:nvSpPr>
              <p:cNvPr id="49" name="Равнобедренный треугольник 6"/>
              <p:cNvSpPr/>
              <p:nvPr/>
            </p:nvSpPr>
            <p:spPr>
              <a:xfrm>
                <a:off x="5940360" y="404928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Равнобедренный треугольник 7"/>
              <p:cNvSpPr/>
              <p:nvPr/>
            </p:nvSpPr>
            <p:spPr>
              <a:xfrm>
                <a:off x="4578120" y="4049280"/>
                <a:ext cx="122724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Равнобедренный треугольник 8"/>
              <p:cNvSpPr/>
              <p:nvPr/>
            </p:nvSpPr>
            <p:spPr>
              <a:xfrm>
                <a:off x="3956040" y="1484280"/>
                <a:ext cx="122544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Равнобедренный треугольник 9"/>
              <p:cNvSpPr/>
              <p:nvPr/>
            </p:nvSpPr>
            <p:spPr>
              <a:xfrm>
                <a:off x="3409920" y="2339640"/>
                <a:ext cx="1227240" cy="85392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Равнобедренный треугольник 10"/>
              <p:cNvSpPr/>
              <p:nvPr/>
            </p:nvSpPr>
            <p:spPr>
              <a:xfrm>
                <a:off x="4637160" y="2339640"/>
                <a:ext cx="1225440" cy="85392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Равнобедренный треугольник 11"/>
              <p:cNvSpPr/>
              <p:nvPr/>
            </p:nvSpPr>
            <p:spPr>
              <a:xfrm>
                <a:off x="5316480" y="319356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Равнобедренный треугольник 12"/>
              <p:cNvSpPr/>
              <p:nvPr/>
            </p:nvSpPr>
            <p:spPr>
              <a:xfrm>
                <a:off x="3956040" y="3193560"/>
                <a:ext cx="122544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Равнобедренный треугольник 13"/>
              <p:cNvSpPr/>
              <p:nvPr/>
            </p:nvSpPr>
            <p:spPr>
              <a:xfrm>
                <a:off x="2731680" y="319356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Равнобедренный треугольник 14"/>
              <p:cNvSpPr/>
              <p:nvPr/>
            </p:nvSpPr>
            <p:spPr>
              <a:xfrm>
                <a:off x="2050920" y="404928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Равнобедренный треугольник 15"/>
              <p:cNvSpPr/>
              <p:nvPr/>
            </p:nvSpPr>
            <p:spPr>
              <a:xfrm>
                <a:off x="3274920" y="404928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Равнобедренный треугольник 5"/>
            <p:cNvSpPr/>
            <p:nvPr/>
          </p:nvSpPr>
          <p:spPr>
            <a:xfrm>
              <a:off x="3941640" y="4876920"/>
              <a:ext cx="1224000" cy="85572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388360" cy="556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cdn1.ozone.ru/multimedia/1014161123.jpg"/>
          <p:cNvPicPr/>
          <p:nvPr/>
        </p:nvPicPr>
        <p:blipFill>
          <a:blip r:embed="rId2"/>
          <a:stretch/>
        </p:blipFill>
        <p:spPr>
          <a:xfrm>
            <a:off x="6156360" y="1125360"/>
            <a:ext cx="22431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388360" cy="556560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http://vpleny.ru/wp-content/uploads/2012/07/%D1%81%D0%BF%D0%B8%D1%81%D0%BE%D0%BA-%D0%BA%D0%BD%D0%B8%D0%B3-%D0%B4%D0%BB%D1%8F-%D1%87%D1%82%D0%B5%D0%BD%D0%B8%D1%8F.png"/>
          <p:cNvPicPr/>
          <p:nvPr/>
        </p:nvPicPr>
        <p:blipFill>
          <a:blip r:embed="rId2"/>
          <a:stretch/>
        </p:blipFill>
        <p:spPr>
          <a:xfrm>
            <a:off x="5867280" y="1125360"/>
            <a:ext cx="2521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324000" y="317520"/>
            <a:ext cx="8393040" cy="556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v.900igr.net:10/datai/okruzhajuschij-mir/Rastitelnyj-i-zhivotnyj-mir-Afriki/0001-002-Afrika.png"/>
          <p:cNvPicPr/>
          <p:nvPr/>
        </p:nvPicPr>
        <p:blipFill>
          <a:blip r:embed="rId2"/>
          <a:stretch/>
        </p:blipFill>
        <p:spPr>
          <a:xfrm>
            <a:off x="6443640" y="692280"/>
            <a:ext cx="17683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ртем</dc:creator>
  <dc:description/>
  <dc:language>en-US</dc:language>
  <cp:lastModifiedBy>1</cp:lastModifiedBy>
  <dcterms:modified xsi:type="dcterms:W3CDTF">2019-11-30T07:51:53Z</dcterms:modified>
  <cp:revision>18</cp:revision>
  <dc:subject/>
  <dc:title>Слайд 1</dc:title>
</cp:coreProperties>
</file>