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D1C-0C47-4150-BC0C-33994043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2A8-96D4-4355-9DE2-824978B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6D8-28F2-4781-B3F4-6A27ADAE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A47-60F5-47DD-A517-519CD18E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F11-CC54-417B-B1E3-95E3BA81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6234-AC21-4FAB-A71B-48BA277F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029B-392F-46A9-A3A5-8CB5EF22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D3A-A04D-4510-B24C-F955228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746-B148-4BBC-8211-803F4F02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9A34-FCF8-44C3-BFF9-931447FD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BC9E-57D5-4375-B1DC-9A35902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265-AAF8-42CF-9EE4-5B36D19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1FAA-D9B0-4754-9B9C-0F81DFC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0F5D-BA59-4A8F-913B-A47818C6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BFC-FD34-4742-A631-532C782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1C79-E8AE-40BA-9885-07C81C6F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3886-B7C9-4108-8360-3646D4B8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4CC-E66D-4FBF-AA9D-CA7FEC3E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AF4-234D-4892-8311-3F3B712C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FE9-D6DC-45C9-83C8-7FD5200D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974-C2E8-4EFB-9783-C08D58CB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343-E3B5-41EC-8150-3C71EFEA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1D1-B0CF-4B6D-93AE-9C9B970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147-69C7-4110-8BCA-AE6C21C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EA7D-008C-43C5-9F44-9F2232052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8845-925B-47C9-B1F5-D453FC2B79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THE PART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рок-игра по английскому язы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ля 2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5770440" y="379440"/>
            <a:ext cx="70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Comic Sans MS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755640" y="22766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ff"/>
                </a:solidFill>
                <a:latin typeface="Comic Sans MS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236000" y="177336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80"/>
                </a:solidFill>
                <a:latin typeface="Comic Sans MS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7164360" y="5300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619280" y="551664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sCAJ7XXR8"/>
          <p:cNvPicPr/>
          <p:nvPr/>
        </p:nvPicPr>
        <p:blipFill>
          <a:blip r:embed="rId1"/>
          <a:stretch/>
        </p:blipFill>
        <p:spPr>
          <a:xfrm>
            <a:off x="1908000" y="1125360"/>
            <a:ext cx="588024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sCAWL3L8P"/>
          <p:cNvPicPr/>
          <p:nvPr/>
        </p:nvPicPr>
        <p:blipFill>
          <a:blip r:embed="rId1"/>
          <a:stretch/>
        </p:blipFill>
        <p:spPr>
          <a:xfrm>
            <a:off x="1763640" y="765000"/>
            <a:ext cx="6337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isCAFNFI4R"/>
          <p:cNvPicPr/>
          <p:nvPr/>
        </p:nvPicPr>
        <p:blipFill>
          <a:blip r:embed="rId1"/>
          <a:stretch/>
        </p:blipFill>
        <p:spPr>
          <a:xfrm>
            <a:off x="1692360" y="836640"/>
            <a:ext cx="6480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isCAQ7NZYJ"/>
          <p:cNvPicPr/>
          <p:nvPr/>
        </p:nvPicPr>
        <p:blipFill>
          <a:blip r:embed="rId1"/>
          <a:stretch/>
        </p:blipFill>
        <p:spPr>
          <a:xfrm>
            <a:off x="1042920" y="549360"/>
            <a:ext cx="7199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isCA1J6BXR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isCAI5FLTC"/>
          <p:cNvPicPr/>
          <p:nvPr/>
        </p:nvPicPr>
        <p:blipFill>
          <a:blip r:embed="rId1"/>
          <a:stretch/>
        </p:blipFill>
        <p:spPr>
          <a:xfrm>
            <a:off x="1835280" y="549360"/>
            <a:ext cx="590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isCAV0BLIP"/>
          <p:cNvPicPr/>
          <p:nvPr/>
        </p:nvPicPr>
        <p:blipFill>
          <a:blip r:embed="rId1"/>
          <a:stretch/>
        </p:blipFill>
        <p:spPr>
          <a:xfrm>
            <a:off x="1979640" y="260280"/>
            <a:ext cx="565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571320"/>
            <a:ext cx="7238880" cy="66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cc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cccccc"/>
                </a:solidFill>
                <a:latin typeface="Comic Sans MS"/>
              </a:rPr>
              <a:t>_</a:t>
            </a:r>
            <a:r>
              <a:rPr b="0" lang="en-US" sz="4400" spc="-1" strike="noStrike">
                <a:solidFill>
                  <a:srgbClr val="cccccc"/>
                </a:solidFill>
                <a:latin typeface="Comic Sans MS"/>
              </a:rPr>
              <a:t>_</a:t>
            </a: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ump, du__k, fo__, funn__, sin__, b__d, r__n, m__m, angr__, merr__, c__t, penc__l, gr__y, sev__n, r__bbit, t__n, sk__p, h__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50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 you sad? – Yes, 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im slim? – Yes, _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as Ann got a grey rabbit? – Yes, 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n Nick swim? – Yes, 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Alice nice? – Yes, _______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 they strong? – Yes, 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ave you got a red pen? – Yes, 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n Tricky run? – Yes, 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Дайте краткие ответы на вопро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13880" y="1214280"/>
            <a:ext cx="76964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красивая. __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 забавный. 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меня есть серый кот. 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и сильные. 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нее есть ручка. 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им умный. __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ты черные. _______________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ведите пред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85480" y="151920"/>
            <a:ext cx="8096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разных странах говорят на разных языках. В мире существует несколько тысяч языков. И все они для нас иностранные. Вот вы, ребята, какие знаете иностранные языки? (учащиеся называют несколько языков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ревности люди говорили на одном языке, все они жили дружно и счастливо. Однажды они решили построить башню до небес, чтобы прославить себя. Строили они эту башню не год, не два и даже не 10 лет. И вот когда высота этой башни была такой, что с земли не было видно ее конца, Бог разгневался на людей за то, что они так возгордились собой, и разрушил башню. А людей расселил по разным концам земли. Люди перестали общаться, забыли общий язык, и в разных местах стали говорить по-разному, по-иному. Так и появились иностранные язы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чтобы общаться с людьми из разных стран, нужно знать их языки. Мы с вами ребята начали изучать один из самых распространенных в мире, а самое главное - один из самых красивых языков - английский  язык. А эта книга написана на английском языке. И чтобы прочесть ее, надо познакомиться с буквами английского алфавита и научиться чита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Comic Sans MS"/>
              </a:rPr>
              <a:t>ИГРА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 F G A H J L C E M K I O N P Z X W S Y Q U T V R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2276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B R V T U Q Y S W X Z P N O I K M E C L J H A G F D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696040" y="501336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060960" y="494172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932960" y="29242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39640" y="105264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Comic Sans MS"/>
              </a:rPr>
              <a:t>БУКВА ПОТЕРЯЛА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717800" y="119700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Comic Sans MS"/>
              </a:rPr>
              <a:t>ЛИШНЯЯ БУК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ИГРА </a:t>
            </a: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ПОСТАВЬ В АЛФАВИТНОМ ПОРЯД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ff"/>
                </a:solidFill>
                <a:latin typeface="Comic Sans MS"/>
              </a:rPr>
              <a:t>J H K E A M 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4800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Comic Sans MS"/>
              </a:rPr>
              <a:t>B X V R O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Comic Sans MS"/>
              </a:rPr>
              <a:t>A F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359720" y="3860640"/>
            <a:ext cx="28414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A C E H J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K 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219640" y="4005360"/>
            <a:ext cx="30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omic Sans MS"/>
              </a:rPr>
              <a:t>A B F O R V X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643280" y="2276640"/>
            <a:ext cx="0" cy="3456000"/>
          </a:xfrm>
          <a:prstGeom prst="line">
            <a:avLst/>
          </a:prstGeom>
          <a:ln cap="rnd" w="25560">
            <a:solidFill>
              <a:srgbClr val="cc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ИГРА </a:t>
            </a: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ПОДБЕРИ ПАР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 c E g D f G a B e C b F 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 n S o R p Q t P s N q O 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386064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Comic Sans MS"/>
              </a:rPr>
              <a:t>Aa Bb Cc Dd Ee Ff G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859280" y="393372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Comic Sans MS"/>
              </a:rPr>
              <a:t>Nn Oo Pp Qq Rr Ss T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4500720" y="1916280"/>
            <a:ext cx="0" cy="3241440"/>
          </a:xfrm>
          <a:prstGeom prst="line">
            <a:avLst/>
          </a:prstGeom>
          <a:ln cap="rnd" w="22320">
            <a:solidFill>
              <a:srgbClr val="cc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11"/>
          <p:cNvPicPr/>
          <p:nvPr/>
        </p:nvPicPr>
        <p:blipFill>
          <a:blip r:embed="rId1"/>
          <a:stretch/>
        </p:blipFill>
        <p:spPr>
          <a:xfrm>
            <a:off x="2124000" y="1844640"/>
            <a:ext cx="5977080" cy="4435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061640" y="404640"/>
            <a:ext cx="58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КОТ В МЕШК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13"/>
          <p:cNvPicPr/>
          <p:nvPr/>
        </p:nvPicPr>
        <p:blipFill>
          <a:blip r:embed="rId1"/>
          <a:stretch/>
        </p:blipFill>
        <p:spPr>
          <a:xfrm>
            <a:off x="1332000" y="620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16"/>
          <p:cNvPicPr/>
          <p:nvPr/>
        </p:nvPicPr>
        <p:blipFill>
          <a:blip r:embed="rId1"/>
          <a:stretch/>
        </p:blipFill>
        <p:spPr>
          <a:xfrm>
            <a:off x="826920" y="692280"/>
            <a:ext cx="74170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isCA8JT54E"/>
          <p:cNvPicPr/>
          <p:nvPr/>
        </p:nvPicPr>
        <p:blipFill>
          <a:blip r:embed="rId1"/>
          <a:stretch/>
        </p:blipFill>
        <p:spPr>
          <a:xfrm>
            <a:off x="1908000" y="542880"/>
            <a:ext cx="61930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57:54Z</dcterms:created>
  <dc:creator>1</dc:creator>
  <dc:description/>
  <dc:language>en-US</dc:language>
  <cp:lastModifiedBy>Слава</cp:lastModifiedBy>
  <dcterms:modified xsi:type="dcterms:W3CDTF">2012-06-16T06:52:24Z</dcterms:modified>
  <cp:revision>4</cp:revision>
  <dc:subject/>
  <dc:title>THE ABC - PARTY</dc:title>
</cp:coreProperties>
</file>