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5DF-DEE8-4F7E-8EE6-53EFAB24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A24-78A5-4656-96E0-581FD1D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F98-77EE-4170-B027-62AD9FA7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9A2-D920-4860-BB3E-59731F79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5C4D-8D55-44BD-9C1C-D255A01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B34F-6190-41D8-8A3C-E1785B3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F1E-AB6F-4CA9-906F-4E4319F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942-79E4-4D3B-80CC-AED18139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B51B-DE52-4752-9592-197B9408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130-EA0E-43A9-B634-8F67747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8F0-4ECE-4451-AB07-BBF319A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883-0179-4792-AB4E-2840235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EC68-D5F6-4728-BD33-BA28493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8D5-42C0-433A-A9F3-6DF789B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F1A8-1797-41A9-BAC5-A9122883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356C-7F96-4C2E-B830-A8596B5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0BAB-BAB4-4713-BE95-9A39046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E6F-774F-4514-84AB-B6C853AA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01A-537F-44E4-9528-E9CFB8C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626-64F8-4315-93AF-1C751848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6C4-9C5D-4DD8-A13C-00139A3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D2E-307F-43F2-A116-FD96764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4A9-66BF-4D56-AC75-37F5B1DB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C17-0EB0-4491-B95C-2258F6D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25F-643C-4C28-AA3C-5ACAE1848D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AD9-168E-477F-82AB-96974DC34A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THE PART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рок-игра по английскому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ля 2 клас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5770440" y="379440"/>
            <a:ext cx="7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Comic Sans MS"/>
              </a:rPr>
              <a:t>F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755640" y="227664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ff"/>
                </a:solidFill>
                <a:latin typeface="Comic Sans MS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236000" y="177336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80"/>
                </a:solidFill>
                <a:latin typeface="Comic Sans MS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7164360" y="5300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619280" y="551664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sCAJ7XXR8"/>
          <p:cNvPicPr/>
          <p:nvPr/>
        </p:nvPicPr>
        <p:blipFill>
          <a:blip r:embed="rId1"/>
          <a:stretch/>
        </p:blipFill>
        <p:spPr>
          <a:xfrm>
            <a:off x="1908000" y="1125360"/>
            <a:ext cx="588024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sCAWL3L8P"/>
          <p:cNvPicPr/>
          <p:nvPr/>
        </p:nvPicPr>
        <p:blipFill>
          <a:blip r:embed="rId1"/>
          <a:stretch/>
        </p:blipFill>
        <p:spPr>
          <a:xfrm>
            <a:off x="1763640" y="765000"/>
            <a:ext cx="6337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isCAFNFI4R"/>
          <p:cNvPicPr/>
          <p:nvPr/>
        </p:nvPicPr>
        <p:blipFill>
          <a:blip r:embed="rId1"/>
          <a:stretch/>
        </p:blipFill>
        <p:spPr>
          <a:xfrm>
            <a:off x="1692360" y="836640"/>
            <a:ext cx="6480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isCAQ7NZYJ"/>
          <p:cNvPicPr/>
          <p:nvPr/>
        </p:nvPicPr>
        <p:blipFill>
          <a:blip r:embed="rId1"/>
          <a:stretch/>
        </p:blipFill>
        <p:spPr>
          <a:xfrm>
            <a:off x="1042920" y="549360"/>
            <a:ext cx="7199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isCA1J6BXR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isCAI5FLTC"/>
          <p:cNvPicPr/>
          <p:nvPr/>
        </p:nvPicPr>
        <p:blipFill>
          <a:blip r:embed="rId1"/>
          <a:stretch/>
        </p:blipFill>
        <p:spPr>
          <a:xfrm>
            <a:off x="1835280" y="549360"/>
            <a:ext cx="590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isCAV0BLIP"/>
          <p:cNvPicPr/>
          <p:nvPr/>
        </p:nvPicPr>
        <p:blipFill>
          <a:blip r:embed="rId1"/>
          <a:stretch/>
        </p:blipFill>
        <p:spPr>
          <a:xfrm>
            <a:off x="1979640" y="260280"/>
            <a:ext cx="5653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571320"/>
            <a:ext cx="7238880" cy="66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cc"/>
                </a:solidFill>
                <a:latin typeface="Comic Sans MS"/>
              </a:rPr>
              <a:t>  </a:t>
            </a:r>
            <a:r>
              <a:rPr b="0" lang="ru-RU" sz="4800" spc="-1" strike="noStrike">
                <a:solidFill>
                  <a:srgbClr val="cccccc"/>
                </a:solidFill>
                <a:latin typeface="Comic Sans MS"/>
              </a:rPr>
              <a:t>_</a:t>
            </a:r>
            <a:r>
              <a:rPr b="0" lang="en-US" sz="4400" spc="-1" strike="noStrike">
                <a:solidFill>
                  <a:srgbClr val="cccccc"/>
                </a:solidFill>
                <a:latin typeface="Comic Sans MS"/>
              </a:rPr>
              <a:t>_</a:t>
            </a:r>
            <a:r>
              <a:rPr b="0" lang="en-US" sz="4400" spc="-1" strike="noStrike">
                <a:solidFill>
                  <a:srgbClr val="0070c0"/>
                </a:solidFill>
                <a:latin typeface="Comic Sans MS"/>
              </a:rPr>
              <a:t>ump, du__k, fo__, funn__, sin__, b__d, r__n, m__m, angr__, merr__, c__t, penc__l, gr__y, sev__n, r__bbit, t__n, sk__p, h__n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50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you sad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im slim? – Yes, _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as Ann got a grey rabbit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n Nick swim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Alice nice? – Yes, _______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they strong? – Yes, 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ave you got a red pen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n Tricky run? – Yes, 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Дайте краткие ответы на вопрос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3880" y="1214280"/>
            <a:ext cx="76964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красивая. __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 забавный. 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меня есть серый кот. 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и сильные. 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 нее есть ручка. 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им умный. _____________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ты черные. _______________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ведите предло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85480" y="151920"/>
            <a:ext cx="8096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азных странах говорят на разных языках. В мире существует несколько тысяч языков. И все они для нас иностранные. Вот вы, ребята, какие знаете иностранные языки? (учащиеся называют несколько языков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ревности люди говорили на одном языке, все они жили дружно и счастливо. Однажды они решили построить башню до небес, чтобы прославить себя. Строили они эту башню не год, не два и даже не 10 лет. И вот когда высота этой башни была такой, что с земли не было видно ее конца, Бог разгневался на людей за то, что они так возгордились собой, и разрушил башню. А людей расселил по разным концам земли. Люди перестали общаться, забыли общий язык, и в разных местах стали говорить по-разному, по-иному. Так и появились иностранные язы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чтобы общаться с людьми из разных стран, нужно знать их языки. Мы с вами ребята начали изучать один из самых распространенных в мире, а самое главное - один из самых красивых языков - английский  язык. А эта книга написана на английском языке. И чтобы прочесть ее, надо познакомиться с буквами английского алфавита и научиться чит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Comic Sans MS"/>
              </a:rPr>
              <a:t>ИГРА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 F G A H J L C E M K I O N P Z X W S Y Q U T V R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B R V T U Q Y S W X Z P N O I K M E C L J H A G F D 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696040" y="501336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060960" y="494172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932960" y="292428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39640" y="105264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Comic Sans MS"/>
              </a:rPr>
              <a:t>БУКВА ПОТЕРЯЛА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717800" y="119700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Comic Sans MS"/>
              </a:rPr>
              <a:t>ЛИШНЯЯ БУК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ИГРА </a:t>
            </a: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ПОСТАВЬ В АЛФАВИТНОМ ПОРЯД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ff"/>
                </a:solidFill>
                <a:latin typeface="Comic Sans MS"/>
              </a:rPr>
              <a:t>J H K E A M 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800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B X V R 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A F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359720" y="3860640"/>
            <a:ext cx="28414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A C E H J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K 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219640" y="4005360"/>
            <a:ext cx="30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 Sans MS"/>
              </a:rPr>
              <a:t>A B F O R V X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643280" y="2276640"/>
            <a:ext cx="0" cy="3456000"/>
          </a:xfrm>
          <a:prstGeom prst="line">
            <a:avLst/>
          </a:prstGeom>
          <a:ln cap="rnd" w="25560">
            <a:solidFill>
              <a:srgbClr val="cc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ИГРА </a:t>
            </a:r>
            <a:r>
              <a:rPr b="0" lang="en-US" sz="4000" spc="-1" strike="noStrike">
                <a:solidFill>
                  <a:srgbClr val="cc0099"/>
                </a:solidFill>
                <a:latin typeface="Comic Sans MS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Comic Sans MS"/>
              </a:rPr>
              <a:t>ПОДБЕРИ ПАР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A c E g D f G a B e C b F 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T n S o R p Q t P s N q O 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386064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Comic Sans MS"/>
              </a:rPr>
              <a:t>Aa Bb Cc Dd Ee Ff G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859280" y="393372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Comic Sans MS"/>
              </a:rPr>
              <a:t>Nn Oo Pp Qq Rr Ss T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4500720" y="1916280"/>
            <a:ext cx="0" cy="3241440"/>
          </a:xfrm>
          <a:prstGeom prst="line">
            <a:avLst/>
          </a:prstGeom>
          <a:ln cap="rnd" w="22320">
            <a:solidFill>
              <a:srgbClr val="cc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11"/>
          <p:cNvPicPr/>
          <p:nvPr/>
        </p:nvPicPr>
        <p:blipFill>
          <a:blip r:embed="rId1"/>
          <a:stretch/>
        </p:blipFill>
        <p:spPr>
          <a:xfrm>
            <a:off x="2124000" y="1844640"/>
            <a:ext cx="5977080" cy="44355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061640" y="404640"/>
            <a:ext cx="58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dff"/>
                </a:solidFill>
                <a:latin typeface="Comic Sans MS"/>
              </a:rPr>
              <a:t>КОТ В МЕШК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13"/>
          <p:cNvPicPr/>
          <p:nvPr/>
        </p:nvPicPr>
        <p:blipFill>
          <a:blip r:embed="rId1"/>
          <a:stretch/>
        </p:blipFill>
        <p:spPr>
          <a:xfrm>
            <a:off x="1332000" y="620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16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isCA8JT54E"/>
          <p:cNvPicPr/>
          <p:nvPr/>
        </p:nvPicPr>
        <p:blipFill>
          <a:blip r:embed="rId1"/>
          <a:stretch/>
        </p:blipFill>
        <p:spPr>
          <a:xfrm>
            <a:off x="1908000" y="542880"/>
            <a:ext cx="61930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57:54Z</dcterms:created>
  <dc:creator>1</dc:creator>
  <dc:description/>
  <dc:language>en-US</dc:language>
  <cp:lastModifiedBy>Слава</cp:lastModifiedBy>
  <dcterms:modified xsi:type="dcterms:W3CDTF">2012-06-16T06:52:24Z</dcterms:modified>
  <cp:revision>4</cp:revision>
  <dc:subject/>
  <dc:title>THE ABC - PARTY</dc:title>
</cp:coreProperties>
</file>