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2AA-CF68-476F-93B1-A0C5213DC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4BBC-93F5-485C-ADC6-7DB7A1802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видеть ответ на третий вопрос необходимо нажимать на цветные овалы (красный, зелёный, си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E45-7908-455C-A3E1-F7E6EECF5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видеть ответ на второй вопрос необходимо нажимать на цветные овалы (красный, синий, зелё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0E1-D707-43CE-9E40-B5657097D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5D50-F142-46EB-BF51-BF44B3741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412-3576-46A2-A69E-FC47C9D2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45-7AC9-4EA9-AED5-1628C0C2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4F0-7505-4299-8953-FDE22A99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4AC-80AD-47D7-96F7-AD24DFA5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67-FAF6-4498-A211-E95BF43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8F3-4871-44D2-A6B4-DFD69078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9AA-76AE-4243-8743-9938320B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38F-DFBD-410A-BAE2-33FBA06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7F0-76BF-4495-99CC-062B26FC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0B5-8ECC-4809-AC39-358A97D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231-5354-46E9-AAF3-8279F0C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1CF-5B55-4FF4-BC75-26975DF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641-5036-4F80-A0FF-9E4A3C7C5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48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Какой формулой задаё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прямая пропорциональност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линейная функц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Что является графиком прямой пропорциональность и линейной функции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Сколько точек достаточно знать, чтобы построить прямую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Является ли линейной функция, заданная формул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у=3х-4              в)  у = х²+3          д) у = 6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у=10+5х            г)  у =⅝х – 1          е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1403280" y="189000"/>
            <a:ext cx="7489800" cy="1152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стройте в одной системе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1547640" y="1413000"/>
            <a:ext cx="2089080" cy="1114200"/>
            <a:chOff x="1547640" y="1413000"/>
            <a:chExt cx="2089080" cy="1114200"/>
          </a:xfrm>
        </p:grpSpPr>
        <p:sp>
          <p:nvSpPr>
            <p:cNvPr id="177" name="Rectangle 7"/>
            <p:cNvSpPr/>
            <p:nvPr/>
          </p:nvSpPr>
          <p:spPr>
            <a:xfrm>
              <a:off x="1547640" y="144612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8"/>
                <p:cNvSpPr txBox="1"/>
                <p:nvPr/>
              </p:nvSpPr>
              <p:spPr>
                <a:xfrm>
                  <a:off x="1979640" y="141300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Group 15"/>
          <p:cNvGrpSpPr/>
          <p:nvPr/>
        </p:nvGrpSpPr>
        <p:grpSpPr>
          <a:xfrm>
            <a:off x="4140360" y="1413000"/>
            <a:ext cx="2139480" cy="1114200"/>
            <a:chOff x="4140360" y="1413000"/>
            <a:chExt cx="2139480" cy="1114200"/>
          </a:xfrm>
        </p:grpSpPr>
        <p:sp>
          <p:nvSpPr>
            <p:cNvPr id="180" name="Rectangle 16"/>
            <p:cNvSpPr/>
            <p:nvPr/>
          </p:nvSpPr>
          <p:spPr>
            <a:xfrm>
              <a:off x="4140360" y="1446120"/>
              <a:ext cx="208872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Object 17"/>
                <p:cNvSpPr txBox="1"/>
                <p:nvPr/>
              </p:nvSpPr>
              <p:spPr>
                <a:xfrm>
                  <a:off x="4306680" y="1413000"/>
                  <a:ext cx="197316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Group 21"/>
          <p:cNvGrpSpPr/>
          <p:nvPr/>
        </p:nvGrpSpPr>
        <p:grpSpPr>
          <a:xfrm>
            <a:off x="6732720" y="1413000"/>
            <a:ext cx="2120400" cy="1114200"/>
            <a:chOff x="6732720" y="1413000"/>
            <a:chExt cx="2120400" cy="1114200"/>
          </a:xfrm>
        </p:grpSpPr>
        <p:sp>
          <p:nvSpPr>
            <p:cNvPr id="183" name="Rectangle 19"/>
            <p:cNvSpPr/>
            <p:nvPr/>
          </p:nvSpPr>
          <p:spPr>
            <a:xfrm>
              <a:off x="6732720" y="1446120"/>
              <a:ext cx="2089080" cy="107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20"/>
                <p:cNvSpPr txBox="1"/>
                <p:nvPr/>
              </p:nvSpPr>
              <p:spPr>
                <a:xfrm>
                  <a:off x="6804000" y="1413000"/>
                  <a:ext cx="2049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AutoShape 22"/>
          <p:cNvSpPr/>
          <p:nvPr/>
        </p:nvSpPr>
        <p:spPr>
          <a:xfrm>
            <a:off x="1403280" y="2637000"/>
            <a:ext cx="7489800" cy="57600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306000" y="3325680"/>
            <a:ext cx="87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Чему равен угловой коэффициент кажд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53440" y="407664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Каково взаимное расположение графиков фун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5240" y="486900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Каковы координаты точек пересечения кажд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афика с осями коорди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6">
            <a:hlinkClick r:id="" action="ppaction://hlinkshowjump?jump=nextslide"/>
          </p:cNvPr>
          <p:cNvSpPr/>
          <p:nvPr/>
        </p:nvSpPr>
        <p:spPr>
          <a:xfrm>
            <a:off x="6948360" y="6237360"/>
            <a:ext cx="2016360" cy="422280"/>
          </a:xfrm>
          <a:custGeom>
            <a:avLst/>
            <a:gdLst>
              <a:gd name="textAreaLeft" fmla="*/ 27360 w 2016360"/>
              <a:gd name="textAreaRight" fmla="*/ 1989000 w 2016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03069" h="21600">
                <a:moveTo>
                  <a:pt x="0" y="0"/>
                </a:moveTo>
                <a:lnTo>
                  <a:pt x="103069" y="0"/>
                </a:lnTo>
                <a:lnTo>
                  <a:pt x="103069" y="21600"/>
                </a:lnTo>
                <a:lnTo>
                  <a:pt x="0" y="21600"/>
                </a:lnTo>
                <a:close/>
              </a:path>
              <a:path fill="lightenLess" w="103069" h="21600">
                <a:moveTo>
                  <a:pt x="0" y="0"/>
                </a:moveTo>
                <a:lnTo>
                  <a:pt x="103069" y="0"/>
                </a:lnTo>
                <a:lnTo>
                  <a:pt x="101669" y="1400"/>
                </a:lnTo>
                <a:lnTo>
                  <a:pt x="1400" y="1400"/>
                </a:lnTo>
                <a:close/>
              </a:path>
              <a:path fill="darken" w="103069" h="21600">
                <a:moveTo>
                  <a:pt x="103069" y="0"/>
                </a:moveTo>
                <a:lnTo>
                  <a:pt x="103069" y="21600"/>
                </a:lnTo>
                <a:lnTo>
                  <a:pt x="101669" y="20200"/>
                </a:lnTo>
                <a:lnTo>
                  <a:pt x="101669" y="1400"/>
                </a:lnTo>
                <a:close/>
              </a:path>
              <a:path fill="darkenLess" w="103069" h="21600">
                <a:moveTo>
                  <a:pt x="10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69" y="20200"/>
                </a:lnTo>
                <a:close/>
              </a:path>
              <a:path fill="lighten" w="10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CRCTR142"/>
          <p:cNvPicPr/>
          <p:nvPr/>
        </p:nvPicPr>
        <p:blipFill>
          <a:blip r:embed="rId1"/>
          <a:stretch/>
        </p:blipFill>
        <p:spPr>
          <a:xfrm>
            <a:off x="7391520" y="4724280"/>
            <a:ext cx="17524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7"/>
          <p:cNvGrpSpPr/>
          <p:nvPr/>
        </p:nvGrpSpPr>
        <p:grpSpPr>
          <a:xfrm>
            <a:off x="6012000" y="333360"/>
            <a:ext cx="2089080" cy="1114200"/>
            <a:chOff x="6012000" y="333360"/>
            <a:chExt cx="2089080" cy="1114200"/>
          </a:xfrm>
        </p:grpSpPr>
        <p:sp>
          <p:nvSpPr>
            <p:cNvPr id="192" name="Rectangle 8"/>
            <p:cNvSpPr/>
            <p:nvPr/>
          </p:nvSpPr>
          <p:spPr>
            <a:xfrm>
              <a:off x="6012000" y="36648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9"/>
                <p:cNvSpPr txBox="1"/>
                <p:nvPr/>
              </p:nvSpPr>
              <p:spPr>
                <a:xfrm>
                  <a:off x="6444000" y="33336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10"/>
          <p:cNvGrpSpPr/>
          <p:nvPr/>
        </p:nvGrpSpPr>
        <p:grpSpPr>
          <a:xfrm>
            <a:off x="6012000" y="1557360"/>
            <a:ext cx="2139480" cy="1114200"/>
            <a:chOff x="6012000" y="1557360"/>
            <a:chExt cx="2139480" cy="1114200"/>
          </a:xfrm>
        </p:grpSpPr>
        <p:sp>
          <p:nvSpPr>
            <p:cNvPr id="195" name="Rectangle 11"/>
            <p:cNvSpPr/>
            <p:nvPr/>
          </p:nvSpPr>
          <p:spPr>
            <a:xfrm>
              <a:off x="6012000" y="1590480"/>
              <a:ext cx="208872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2"/>
                <p:cNvSpPr txBox="1"/>
                <p:nvPr/>
              </p:nvSpPr>
              <p:spPr>
                <a:xfrm>
                  <a:off x="6178320" y="1557360"/>
                  <a:ext cx="197316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Group 13"/>
          <p:cNvGrpSpPr/>
          <p:nvPr/>
        </p:nvGrpSpPr>
        <p:grpSpPr>
          <a:xfrm>
            <a:off x="6012000" y="2781360"/>
            <a:ext cx="2120400" cy="1114200"/>
            <a:chOff x="6012000" y="2781360"/>
            <a:chExt cx="2120400" cy="1114200"/>
          </a:xfrm>
        </p:grpSpPr>
        <p:sp>
          <p:nvSpPr>
            <p:cNvPr id="198" name="Rectangle 14"/>
            <p:cNvSpPr/>
            <p:nvPr/>
          </p:nvSpPr>
          <p:spPr>
            <a:xfrm>
              <a:off x="6012000" y="2814480"/>
              <a:ext cx="2089080" cy="107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15"/>
                <p:cNvSpPr txBox="1"/>
                <p:nvPr/>
              </p:nvSpPr>
              <p:spPr>
                <a:xfrm>
                  <a:off x="6083280" y="2781360"/>
                  <a:ext cx="2049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0" name="Object 16"/>
          <p:cNvGraphicFramePr/>
          <p:nvPr/>
        </p:nvGraphicFramePr>
        <p:xfrm>
          <a:off x="250920" y="260280"/>
          <a:ext cx="554508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5545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Oval 20"/>
          <p:cNvSpPr/>
          <p:nvPr/>
        </p:nvSpPr>
        <p:spPr>
          <a:xfrm>
            <a:off x="8244000" y="620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1"/>
          <p:cNvSpPr/>
          <p:nvPr/>
        </p:nvSpPr>
        <p:spPr>
          <a:xfrm>
            <a:off x="8244000" y="1844640"/>
            <a:ext cx="647640" cy="62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8244000" y="306864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2"/>
          <p:cNvGrpSpPr/>
          <p:nvPr/>
        </p:nvGrpSpPr>
        <p:grpSpPr>
          <a:xfrm>
            <a:off x="1258920" y="3860640"/>
            <a:ext cx="1224000" cy="1108080"/>
            <a:chOff x="1258920" y="3860640"/>
            <a:chExt cx="1224000" cy="1108080"/>
          </a:xfrm>
        </p:grpSpPr>
        <p:sp>
          <p:nvSpPr>
            <p:cNvPr id="206" name="Rectangle 24"/>
            <p:cNvSpPr/>
            <p:nvPr/>
          </p:nvSpPr>
          <p:spPr>
            <a:xfrm>
              <a:off x="1258920" y="3933720"/>
              <a:ext cx="1224000" cy="100800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5"/>
                <p:cNvSpPr txBox="1"/>
                <p:nvPr/>
              </p:nvSpPr>
              <p:spPr>
                <a:xfrm>
                  <a:off x="1330560" y="3860640"/>
                  <a:ext cx="109368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Oval 28"/>
          <p:cNvSpPr/>
          <p:nvPr/>
        </p:nvSpPr>
        <p:spPr>
          <a:xfrm>
            <a:off x="250920" y="407664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>
            <a:off x="3059280" y="407664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>
            <a:off x="250920" y="5084640"/>
            <a:ext cx="720720" cy="69876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7775640" y="3789360"/>
            <a:ext cx="1368360" cy="792000"/>
          </a:xfrm>
          <a:prstGeom prst="wedgeRoundRectCallout">
            <a:avLst>
              <a:gd name="adj1" fmla="val -33180"/>
              <a:gd name="adj2" fmla="val 99296"/>
              <a:gd name="adj3" fmla="val 16667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4067280" y="4076640"/>
            <a:ext cx="3168720" cy="677880"/>
          </a:xfrm>
          <a:prstGeom prst="rect">
            <a:avLst/>
          </a:prstGeom>
          <a:solidFill>
            <a:srgbClr val="ff99cc">
              <a:alpha val="54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1116000" y="5130720"/>
            <a:ext cx="6192720" cy="1322640"/>
            <a:chOff x="1116000" y="5130720"/>
            <a:chExt cx="6192720" cy="1322640"/>
          </a:xfrm>
        </p:grpSpPr>
        <p:sp>
          <p:nvSpPr>
            <p:cNvPr id="215" name="Rectangle 37"/>
            <p:cNvSpPr/>
            <p:nvPr/>
          </p:nvSpPr>
          <p:spPr>
            <a:xfrm>
              <a:off x="1116000" y="513072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39"/>
                <p:cNvSpPr txBox="1"/>
                <p:nvPr/>
              </p:nvSpPr>
              <p:spPr>
                <a:xfrm>
                  <a:off x="1835280" y="5229360"/>
                  <a:ext cx="143964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Group 42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18" name="Rectangle 43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3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44"/>
                <p:cNvSpPr txBox="1"/>
                <p:nvPr/>
              </p:nvSpPr>
              <p:spPr>
                <a:xfrm>
                  <a:off x="1593720" y="5183280"/>
                  <a:ext cx="1920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Group 45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21" name="Rectangle 46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-6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47"/>
                <p:cNvSpPr txBox="1"/>
                <p:nvPr/>
              </p:nvSpPr>
              <p:spPr>
                <a:xfrm>
                  <a:off x="1558800" y="5183280"/>
                  <a:ext cx="1992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параллельны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5"/>
          <p:cNvSpPr/>
          <p:nvPr/>
        </p:nvSpPr>
        <p:spPr>
          <a:xfrm>
            <a:off x="1403280" y="189000"/>
            <a:ext cx="7489800" cy="1152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стройте в одной системе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1763640" y="1413000"/>
            <a:ext cx="2089080" cy="614160"/>
            <a:chOff x="1763640" y="1413000"/>
            <a:chExt cx="2089080" cy="614160"/>
          </a:xfrm>
        </p:grpSpPr>
        <p:sp>
          <p:nvSpPr>
            <p:cNvPr id="229" name="Rectangle 7"/>
            <p:cNvSpPr/>
            <p:nvPr/>
          </p:nvSpPr>
          <p:spPr>
            <a:xfrm>
              <a:off x="1763640" y="1413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8"/>
                <p:cNvSpPr txBox="1"/>
                <p:nvPr/>
              </p:nvSpPr>
              <p:spPr>
                <a:xfrm>
                  <a:off x="1979640" y="1450800"/>
                  <a:ext cx="170640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AutoShape 15"/>
          <p:cNvSpPr/>
          <p:nvPr/>
        </p:nvSpPr>
        <p:spPr>
          <a:xfrm>
            <a:off x="1403280" y="2205000"/>
            <a:ext cx="7489800" cy="576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4110120" y="1413000"/>
            <a:ext cx="2198520" cy="614160"/>
            <a:chOff x="4110120" y="1413000"/>
            <a:chExt cx="2198520" cy="614160"/>
          </a:xfrm>
        </p:grpSpPr>
        <p:sp>
          <p:nvSpPr>
            <p:cNvPr id="233" name="Rectangle 18"/>
            <p:cNvSpPr/>
            <p:nvPr/>
          </p:nvSpPr>
          <p:spPr>
            <a:xfrm>
              <a:off x="4140000" y="1413000"/>
              <a:ext cx="208872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19"/>
                <p:cNvSpPr txBox="1"/>
                <p:nvPr/>
              </p:nvSpPr>
              <p:spPr>
                <a:xfrm>
                  <a:off x="4110120" y="1450800"/>
                  <a:ext cx="21985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Group 20"/>
          <p:cNvGrpSpPr/>
          <p:nvPr/>
        </p:nvGrpSpPr>
        <p:grpSpPr>
          <a:xfrm>
            <a:off x="6443640" y="1413000"/>
            <a:ext cx="2089080" cy="614160"/>
            <a:chOff x="6443640" y="1413000"/>
            <a:chExt cx="2089080" cy="614160"/>
          </a:xfrm>
        </p:grpSpPr>
        <p:sp>
          <p:nvSpPr>
            <p:cNvPr id="236" name="Rectangle 21"/>
            <p:cNvSpPr/>
            <p:nvPr/>
          </p:nvSpPr>
          <p:spPr>
            <a:xfrm>
              <a:off x="6443640" y="1413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22"/>
                <p:cNvSpPr txBox="1"/>
                <p:nvPr/>
              </p:nvSpPr>
              <p:spPr>
                <a:xfrm>
                  <a:off x="6848640" y="1450800"/>
                  <a:ext cx="132696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Text Box 23"/>
          <p:cNvSpPr/>
          <p:nvPr/>
        </p:nvSpPr>
        <p:spPr>
          <a:xfrm>
            <a:off x="342360" y="328464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Каково взаимное расположение графиков фун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28320" y="400536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Каковы координаты точек пересечения кажд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афика с осями коорди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>
            <a:hlinkClick r:id="" action="ppaction://hlinkshowjump?jump=nextslide"/>
          </p:cNvPr>
          <p:cNvSpPr/>
          <p:nvPr/>
        </p:nvSpPr>
        <p:spPr>
          <a:xfrm>
            <a:off x="6948360" y="6237360"/>
            <a:ext cx="2016360" cy="422280"/>
          </a:xfrm>
          <a:custGeom>
            <a:avLst/>
            <a:gdLst>
              <a:gd name="textAreaLeft" fmla="*/ 27360 w 2016360"/>
              <a:gd name="textAreaRight" fmla="*/ 1989000 w 2016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03069" h="21600">
                <a:moveTo>
                  <a:pt x="0" y="0"/>
                </a:moveTo>
                <a:lnTo>
                  <a:pt x="103069" y="0"/>
                </a:lnTo>
                <a:lnTo>
                  <a:pt x="103069" y="21600"/>
                </a:lnTo>
                <a:lnTo>
                  <a:pt x="0" y="21600"/>
                </a:lnTo>
                <a:close/>
              </a:path>
              <a:path fill="lightenLess" w="103069" h="21600">
                <a:moveTo>
                  <a:pt x="0" y="0"/>
                </a:moveTo>
                <a:lnTo>
                  <a:pt x="103069" y="0"/>
                </a:lnTo>
                <a:lnTo>
                  <a:pt x="101669" y="1400"/>
                </a:lnTo>
                <a:lnTo>
                  <a:pt x="1400" y="1400"/>
                </a:lnTo>
                <a:close/>
              </a:path>
              <a:path fill="darken" w="103069" h="21600">
                <a:moveTo>
                  <a:pt x="103069" y="0"/>
                </a:moveTo>
                <a:lnTo>
                  <a:pt x="103069" y="21600"/>
                </a:lnTo>
                <a:lnTo>
                  <a:pt x="101669" y="20200"/>
                </a:lnTo>
                <a:lnTo>
                  <a:pt x="101669" y="1400"/>
                </a:lnTo>
                <a:close/>
              </a:path>
              <a:path fill="darkenLess" w="103069" h="21600">
                <a:moveTo>
                  <a:pt x="10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69" y="20200"/>
                </a:lnTo>
                <a:close/>
              </a:path>
              <a:path fill="lighten" w="10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4"/>
          <p:cNvGraphicFramePr/>
          <p:nvPr/>
        </p:nvGraphicFramePr>
        <p:xfrm>
          <a:off x="179280" y="189000"/>
          <a:ext cx="60483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60483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6" descr="CRCTR142"/>
          <p:cNvPicPr/>
          <p:nvPr/>
        </p:nvPicPr>
        <p:blipFill>
          <a:blip r:embed="rId3"/>
          <a:stretch/>
        </p:blipFill>
        <p:spPr>
          <a:xfrm>
            <a:off x="7391520" y="4724280"/>
            <a:ext cx="17524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7"/>
          <p:cNvGrpSpPr/>
          <p:nvPr/>
        </p:nvGrpSpPr>
        <p:grpSpPr>
          <a:xfrm>
            <a:off x="6084720" y="765000"/>
            <a:ext cx="2089080" cy="614520"/>
            <a:chOff x="6084720" y="765000"/>
            <a:chExt cx="2089080" cy="614520"/>
          </a:xfrm>
        </p:grpSpPr>
        <p:sp>
          <p:nvSpPr>
            <p:cNvPr id="245" name="Rectangle 8"/>
            <p:cNvSpPr/>
            <p:nvPr/>
          </p:nvSpPr>
          <p:spPr>
            <a:xfrm>
              <a:off x="6084720" y="765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9"/>
                <p:cNvSpPr txBox="1"/>
                <p:nvPr/>
              </p:nvSpPr>
              <p:spPr>
                <a:xfrm>
                  <a:off x="6300720" y="803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Group 10"/>
          <p:cNvGrpSpPr/>
          <p:nvPr/>
        </p:nvGrpSpPr>
        <p:grpSpPr>
          <a:xfrm>
            <a:off x="6084720" y="1844640"/>
            <a:ext cx="2198880" cy="614520"/>
            <a:chOff x="6084720" y="1844640"/>
            <a:chExt cx="2198880" cy="614520"/>
          </a:xfrm>
        </p:grpSpPr>
        <p:sp>
          <p:nvSpPr>
            <p:cNvPr id="248" name="Rectangle 11"/>
            <p:cNvSpPr/>
            <p:nvPr/>
          </p:nvSpPr>
          <p:spPr>
            <a:xfrm>
              <a:off x="6114960" y="1844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12"/>
                <p:cNvSpPr txBox="1"/>
                <p:nvPr/>
              </p:nvSpPr>
              <p:spPr>
                <a:xfrm>
                  <a:off x="6084720" y="1882800"/>
                  <a:ext cx="21988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0" name="Group 13"/>
          <p:cNvGrpSpPr/>
          <p:nvPr/>
        </p:nvGrpSpPr>
        <p:grpSpPr>
          <a:xfrm>
            <a:off x="6084720" y="2852640"/>
            <a:ext cx="2089080" cy="614520"/>
            <a:chOff x="6084720" y="2852640"/>
            <a:chExt cx="2089080" cy="614520"/>
          </a:xfrm>
        </p:grpSpPr>
        <p:sp>
          <p:nvSpPr>
            <p:cNvPr id="251" name="Rectangle 14"/>
            <p:cNvSpPr/>
            <p:nvPr/>
          </p:nvSpPr>
          <p:spPr>
            <a:xfrm>
              <a:off x="6084720" y="2852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15"/>
                <p:cNvSpPr txBox="1"/>
                <p:nvPr/>
              </p:nvSpPr>
              <p:spPr>
                <a:xfrm>
                  <a:off x="6489720" y="2890800"/>
                  <a:ext cx="13269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3" name="Oval 16"/>
          <p:cNvSpPr/>
          <p:nvPr/>
        </p:nvSpPr>
        <p:spPr>
          <a:xfrm>
            <a:off x="8244000" y="620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8244000" y="2852640"/>
            <a:ext cx="647640" cy="62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8"/>
          <p:cNvSpPr/>
          <p:nvPr/>
        </p:nvSpPr>
        <p:spPr>
          <a:xfrm>
            <a:off x="8244000" y="177336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7775640" y="3789360"/>
            <a:ext cx="1368360" cy="792000"/>
          </a:xfrm>
          <a:prstGeom prst="wedgeRoundRectCallout">
            <a:avLst>
              <a:gd name="adj1" fmla="val -33180"/>
              <a:gd name="adj2" fmla="val 99296"/>
              <a:gd name="adj3" fmla="val 16667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250920" y="4221000"/>
            <a:ext cx="720720" cy="69876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1"/>
          <p:cNvSpPr/>
          <p:nvPr/>
        </p:nvSpPr>
        <p:spPr>
          <a:xfrm>
            <a:off x="250920" y="522936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1116000" y="4221000"/>
            <a:ext cx="6192720" cy="677880"/>
          </a:xfrm>
          <a:prstGeom prst="rect">
            <a:avLst/>
          </a:prstGeom>
          <a:solidFill>
            <a:srgbClr val="ff99cc">
              <a:alpha val="54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рафики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3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1" name="Rectangle 24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параллелен ос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5"/>
                <p:cNvSpPr txBox="1"/>
                <p:nvPr/>
              </p:nvSpPr>
              <p:spPr>
                <a:xfrm>
                  <a:off x="1908000" y="5457960"/>
                  <a:ext cx="12924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3" name="Group 26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4" name="Rectangle 27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4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28"/>
                <p:cNvSpPr txBox="1"/>
                <p:nvPr/>
              </p:nvSpPr>
              <p:spPr>
                <a:xfrm>
                  <a:off x="1724040" y="5457960"/>
                  <a:ext cx="16621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Group 29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7" name="Rectangle 30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-2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31"/>
                <p:cNvSpPr txBox="1"/>
                <p:nvPr/>
              </p:nvSpPr>
              <p:spPr>
                <a:xfrm>
                  <a:off x="1484280" y="5457960"/>
                  <a:ext cx="214164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пересекаются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≠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овпадают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ит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785880"/>
            <a:ext cx="7924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на функция у = 2,5х + 4 задайте формул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) функцию, график которой параллелен графику функц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)  функцию, график которой пересекается с графиком функции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) функцию , график которой совпадает с графиком данной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ройте в од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к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у = 2х+4;  б) у = - 2х+4;   в) у = 2х-4;    г) у = -2х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кажите пары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Постройте в од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к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у = 6х - 3  и у = -3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) у = 5х - 2  и у =  5х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графики пересекаются, то определите координаты точки пересечения. Проверьте результат вычис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ункции заданы формулам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-1,5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3 + 1,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делите те, из них котор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) Параллельны графику функции у = 0,5х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) Пересекают график функции у = -1,5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 изображены 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й. Укажите, какая форму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ответствует каждому  из 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5867280" y="2349360"/>
            <a:ext cx="2089080" cy="614520"/>
            <a:chOff x="5867280" y="2349360"/>
            <a:chExt cx="2089080" cy="614520"/>
          </a:xfrm>
        </p:grpSpPr>
        <p:sp>
          <p:nvSpPr>
            <p:cNvPr id="53" name="Rectangle 7"/>
            <p:cNvSpPr/>
            <p:nvPr/>
          </p:nvSpPr>
          <p:spPr>
            <a:xfrm>
              <a:off x="5867280" y="2349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8"/>
                <p:cNvSpPr txBox="1"/>
                <p:nvPr/>
              </p:nvSpPr>
              <p:spPr>
                <a:xfrm>
                  <a:off x="6291360" y="2387520"/>
                  <a:ext cx="12888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Group 9"/>
          <p:cNvGrpSpPr/>
          <p:nvPr/>
        </p:nvGrpSpPr>
        <p:grpSpPr>
          <a:xfrm>
            <a:off x="5867280" y="4005360"/>
            <a:ext cx="2089080" cy="614160"/>
            <a:chOff x="5867280" y="4005360"/>
            <a:chExt cx="2089080" cy="614160"/>
          </a:xfrm>
        </p:grpSpPr>
        <p:sp>
          <p:nvSpPr>
            <p:cNvPr id="56" name="Rectangle 10"/>
            <p:cNvSpPr/>
            <p:nvPr/>
          </p:nvSpPr>
          <p:spPr>
            <a:xfrm>
              <a:off x="5867280" y="400536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11"/>
                <p:cNvSpPr txBox="1"/>
                <p:nvPr/>
              </p:nvSpPr>
              <p:spPr>
                <a:xfrm>
                  <a:off x="6159600" y="4043160"/>
                  <a:ext cx="15541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Group 12"/>
          <p:cNvGrpSpPr/>
          <p:nvPr/>
        </p:nvGrpSpPr>
        <p:grpSpPr>
          <a:xfrm>
            <a:off x="5867280" y="5661000"/>
            <a:ext cx="2089080" cy="614520"/>
            <a:chOff x="5867280" y="5661000"/>
            <a:chExt cx="2089080" cy="614520"/>
          </a:xfrm>
        </p:grpSpPr>
        <p:sp>
          <p:nvSpPr>
            <p:cNvPr id="59" name="Rectangle 13"/>
            <p:cNvSpPr/>
            <p:nvPr/>
          </p:nvSpPr>
          <p:spPr>
            <a:xfrm>
              <a:off x="5867280" y="5661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14"/>
                <p:cNvSpPr txBox="1"/>
                <p:nvPr/>
              </p:nvSpPr>
              <p:spPr>
                <a:xfrm>
                  <a:off x="6083280" y="5699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1" name="Object 15"/>
          <p:cNvGraphicFramePr/>
          <p:nvPr/>
        </p:nvGraphicFramePr>
        <p:xfrm>
          <a:off x="611280" y="2170080"/>
          <a:ext cx="496872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0080"/>
                    <a:ext cx="4968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val 17"/>
          <p:cNvSpPr/>
          <p:nvPr/>
        </p:nvSpPr>
        <p:spPr>
          <a:xfrm>
            <a:off x="8172360" y="234936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8172360" y="400536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8172360" y="566100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) у = 0,5х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) у = 0,5х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3 + 1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1258920" y="189000"/>
            <a:ext cx="7705800" cy="2087640"/>
            <a:chOff x="1258920" y="189000"/>
            <a:chExt cx="7705800" cy="2087640"/>
          </a:xfrm>
        </p:grpSpPr>
        <p:sp>
          <p:nvSpPr>
            <p:cNvPr id="68" name="AutoShape 5"/>
            <p:cNvSpPr/>
            <p:nvPr/>
          </p:nvSpPr>
          <p:spPr>
            <a:xfrm>
              <a:off x="1258920" y="189000"/>
              <a:ext cx="7705800" cy="208764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5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На рисунке  изображены  прямые  с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угловыми  коэффициентами    ,       и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Укажите  угловой  коэффициент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каждой из  прямы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Object 6"/>
                <p:cNvSpPr txBox="1"/>
                <p:nvPr/>
              </p:nvSpPr>
              <p:spPr>
                <a:xfrm>
                  <a:off x="7164360" y="549360"/>
                  <a:ext cx="60948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8"/>
                <p:cNvSpPr txBox="1"/>
                <p:nvPr/>
              </p:nvSpPr>
              <p:spPr>
                <a:xfrm>
                  <a:off x="6659640" y="620640"/>
                  <a:ext cx="3380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1" name="Object 12"/>
          <p:cNvGraphicFramePr/>
          <p:nvPr/>
        </p:nvGraphicFramePr>
        <p:xfrm>
          <a:off x="539640" y="2333520"/>
          <a:ext cx="4753080" cy="44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333520"/>
                    <a:ext cx="47530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23"/>
          <p:cNvGrpSpPr/>
          <p:nvPr/>
        </p:nvGrpSpPr>
        <p:grpSpPr>
          <a:xfrm>
            <a:off x="5651640" y="2421000"/>
            <a:ext cx="2089080" cy="1112760"/>
            <a:chOff x="5651640" y="2421000"/>
            <a:chExt cx="2089080" cy="1112760"/>
          </a:xfrm>
        </p:grpSpPr>
        <p:sp>
          <p:nvSpPr>
            <p:cNvPr id="74" name="Rectangle 15"/>
            <p:cNvSpPr/>
            <p:nvPr/>
          </p:nvSpPr>
          <p:spPr>
            <a:xfrm>
              <a:off x="5651640" y="2421000"/>
              <a:ext cx="2089080" cy="104580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16"/>
                <p:cNvSpPr txBox="1"/>
                <p:nvPr/>
              </p:nvSpPr>
              <p:spPr>
                <a:xfrm>
                  <a:off x="5940360" y="2421000"/>
                  <a:ext cx="144000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24"/>
          <p:cNvGrpSpPr/>
          <p:nvPr/>
        </p:nvGrpSpPr>
        <p:grpSpPr>
          <a:xfrm>
            <a:off x="5651640" y="5516640"/>
            <a:ext cx="2089080" cy="1112760"/>
            <a:chOff x="5651640" y="5516640"/>
            <a:chExt cx="2089080" cy="1112760"/>
          </a:xfrm>
        </p:grpSpPr>
        <p:sp>
          <p:nvSpPr>
            <p:cNvPr id="77" name="Rectangle 25"/>
            <p:cNvSpPr/>
            <p:nvPr/>
          </p:nvSpPr>
          <p:spPr>
            <a:xfrm>
              <a:off x="5651640" y="5516640"/>
              <a:ext cx="2089080" cy="104580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6"/>
                <p:cNvSpPr txBox="1"/>
                <p:nvPr/>
              </p:nvSpPr>
              <p:spPr>
                <a:xfrm>
                  <a:off x="6091200" y="5516640"/>
                  <a:ext cx="113688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27"/>
          <p:cNvGrpSpPr/>
          <p:nvPr/>
        </p:nvGrpSpPr>
        <p:grpSpPr>
          <a:xfrm>
            <a:off x="5651640" y="3933720"/>
            <a:ext cx="2089080" cy="1046160"/>
            <a:chOff x="5651640" y="3933720"/>
            <a:chExt cx="2089080" cy="1046160"/>
          </a:xfrm>
        </p:grpSpPr>
        <p:sp>
          <p:nvSpPr>
            <p:cNvPr id="80" name="Rectangle 28"/>
            <p:cNvSpPr/>
            <p:nvPr/>
          </p:nvSpPr>
          <p:spPr>
            <a:xfrm>
              <a:off x="5651640" y="3933720"/>
              <a:ext cx="2089080" cy="1046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29"/>
                <p:cNvSpPr txBox="1"/>
                <p:nvPr/>
              </p:nvSpPr>
              <p:spPr>
                <a:xfrm>
                  <a:off x="6129360" y="4238640"/>
                  <a:ext cx="10620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Oval 30"/>
          <p:cNvSpPr/>
          <p:nvPr/>
        </p:nvSpPr>
        <p:spPr>
          <a:xfrm>
            <a:off x="7956720" y="4076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7956720" y="573408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7956720" y="256536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RCTR496"/>
          <p:cNvPicPr/>
          <p:nvPr/>
        </p:nvPicPr>
        <p:blipFill>
          <a:blip r:embed="rId1"/>
          <a:stretch/>
        </p:blipFill>
        <p:spPr>
          <a:xfrm flipH="1">
            <a:off x="324000" y="26028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403280" y="0"/>
            <a:ext cx="7489800" cy="62064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и  заданы  форму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684360" y="5805360"/>
            <a:ext cx="2089080" cy="614520"/>
            <a:chOff x="684360" y="5805360"/>
            <a:chExt cx="2089080" cy="614520"/>
          </a:xfrm>
        </p:grpSpPr>
        <p:sp>
          <p:nvSpPr>
            <p:cNvPr id="88" name="Rectangle 7"/>
            <p:cNvSpPr/>
            <p:nvPr/>
          </p:nvSpPr>
          <p:spPr>
            <a:xfrm>
              <a:off x="684360" y="5805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8"/>
                <p:cNvSpPr txBox="1"/>
                <p:nvPr/>
              </p:nvSpPr>
              <p:spPr>
                <a:xfrm>
                  <a:off x="957600" y="5843520"/>
                  <a:ext cx="1592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Group 9"/>
          <p:cNvGrpSpPr/>
          <p:nvPr/>
        </p:nvGrpSpPr>
        <p:grpSpPr>
          <a:xfrm>
            <a:off x="324000" y="2421000"/>
            <a:ext cx="2089080" cy="614160"/>
            <a:chOff x="324000" y="2421000"/>
            <a:chExt cx="2089080" cy="614160"/>
          </a:xfrm>
        </p:grpSpPr>
        <p:sp>
          <p:nvSpPr>
            <p:cNvPr id="91" name="Rectangle 10"/>
            <p:cNvSpPr/>
            <p:nvPr/>
          </p:nvSpPr>
          <p:spPr>
            <a:xfrm>
              <a:off x="324000" y="2421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1"/>
                <p:cNvSpPr txBox="1"/>
                <p:nvPr/>
              </p:nvSpPr>
              <p:spPr>
                <a:xfrm>
                  <a:off x="729000" y="2458800"/>
                  <a:ext cx="132696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" name="Group 12"/>
          <p:cNvGrpSpPr/>
          <p:nvPr/>
        </p:nvGrpSpPr>
        <p:grpSpPr>
          <a:xfrm>
            <a:off x="395280" y="4581360"/>
            <a:ext cx="2089080" cy="614520"/>
            <a:chOff x="395280" y="4581360"/>
            <a:chExt cx="2089080" cy="614520"/>
          </a:xfrm>
        </p:grpSpPr>
        <p:sp>
          <p:nvSpPr>
            <p:cNvPr id="94" name="Rectangle 13"/>
            <p:cNvSpPr/>
            <p:nvPr/>
          </p:nvSpPr>
          <p:spPr>
            <a:xfrm>
              <a:off x="395280" y="4581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14"/>
                <p:cNvSpPr txBox="1"/>
                <p:nvPr/>
              </p:nvSpPr>
              <p:spPr>
                <a:xfrm>
                  <a:off x="479520" y="4619520"/>
                  <a:ext cx="19699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Group 15"/>
          <p:cNvGrpSpPr/>
          <p:nvPr/>
        </p:nvGrpSpPr>
        <p:grpSpPr>
          <a:xfrm>
            <a:off x="3203640" y="2852640"/>
            <a:ext cx="2089080" cy="649440"/>
            <a:chOff x="3203640" y="2852640"/>
            <a:chExt cx="2089080" cy="649440"/>
          </a:xfrm>
        </p:grpSpPr>
        <p:sp>
          <p:nvSpPr>
            <p:cNvPr id="97" name="Rectangle 16"/>
            <p:cNvSpPr/>
            <p:nvPr/>
          </p:nvSpPr>
          <p:spPr>
            <a:xfrm>
              <a:off x="3203640" y="2852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17"/>
                <p:cNvSpPr txBox="1"/>
                <p:nvPr/>
              </p:nvSpPr>
              <p:spPr>
                <a:xfrm>
                  <a:off x="3532320" y="2855880"/>
                  <a:ext cx="147960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20"/>
          <p:cNvGrpSpPr/>
          <p:nvPr/>
        </p:nvGrpSpPr>
        <p:grpSpPr>
          <a:xfrm>
            <a:off x="2987640" y="4149720"/>
            <a:ext cx="2089080" cy="1114200"/>
            <a:chOff x="2987640" y="4149720"/>
            <a:chExt cx="2089080" cy="1114200"/>
          </a:xfrm>
        </p:grpSpPr>
        <p:sp>
          <p:nvSpPr>
            <p:cNvPr id="100" name="Rectangle 21"/>
            <p:cNvSpPr/>
            <p:nvPr/>
          </p:nvSpPr>
          <p:spPr>
            <a:xfrm>
              <a:off x="2987640" y="418284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2"/>
                <p:cNvSpPr txBox="1"/>
                <p:nvPr/>
              </p:nvSpPr>
              <p:spPr>
                <a:xfrm>
                  <a:off x="3419640" y="414972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Group 23"/>
          <p:cNvGrpSpPr/>
          <p:nvPr/>
        </p:nvGrpSpPr>
        <p:grpSpPr>
          <a:xfrm>
            <a:off x="971640" y="3213000"/>
            <a:ext cx="2089080" cy="1114200"/>
            <a:chOff x="971640" y="3213000"/>
            <a:chExt cx="2089080" cy="1114200"/>
          </a:xfrm>
        </p:grpSpPr>
        <p:sp>
          <p:nvSpPr>
            <p:cNvPr id="103" name="Rectangle 24"/>
            <p:cNvSpPr/>
            <p:nvPr/>
          </p:nvSpPr>
          <p:spPr>
            <a:xfrm>
              <a:off x="971640" y="324612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25"/>
                <p:cNvSpPr txBox="1"/>
                <p:nvPr/>
              </p:nvSpPr>
              <p:spPr>
                <a:xfrm>
                  <a:off x="1535400" y="3213000"/>
                  <a:ext cx="1176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Group 26"/>
          <p:cNvGrpSpPr/>
          <p:nvPr/>
        </p:nvGrpSpPr>
        <p:grpSpPr>
          <a:xfrm>
            <a:off x="3564000" y="5445000"/>
            <a:ext cx="2089080" cy="1185840"/>
            <a:chOff x="3564000" y="5445000"/>
            <a:chExt cx="2089080" cy="1185840"/>
          </a:xfrm>
        </p:grpSpPr>
        <p:sp>
          <p:nvSpPr>
            <p:cNvPr id="106" name="Rectangle 27"/>
            <p:cNvSpPr/>
            <p:nvPr/>
          </p:nvSpPr>
          <p:spPr>
            <a:xfrm>
              <a:off x="3564000" y="551304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28"/>
                <p:cNvSpPr txBox="1"/>
                <p:nvPr/>
              </p:nvSpPr>
              <p:spPr>
                <a:xfrm>
                  <a:off x="4033800" y="5445000"/>
                  <a:ext cx="13654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" name="Picture 29" descr="CRCTR142"/>
          <p:cNvPicPr/>
          <p:nvPr/>
        </p:nvPicPr>
        <p:blipFill>
          <a:blip r:embed="rId2"/>
          <a:stretch/>
        </p:blipFill>
        <p:spPr>
          <a:xfrm>
            <a:off x="6635880" y="3805200"/>
            <a:ext cx="2508120" cy="3052800"/>
          </a:xfrm>
          <a:prstGeom prst="rect">
            <a:avLst/>
          </a:prstGeom>
          <a:ln w="0">
            <a:noFill/>
          </a:ln>
        </p:spPr>
      </p:pic>
      <p:grpSp>
        <p:nvGrpSpPr>
          <p:cNvPr id="109" name="AutoShape 30"/>
          <p:cNvGrpSpPr/>
          <p:nvPr/>
        </p:nvGrpSpPr>
        <p:grpSpPr>
          <a:xfrm>
            <a:off x="5857920" y="2554200"/>
            <a:ext cx="2878200" cy="1567080"/>
            <a:chOff x="5857920" y="2554200"/>
            <a:chExt cx="2878200" cy="1567080"/>
          </a:xfrm>
        </p:grpSpPr>
        <p:pic>
          <p:nvPicPr>
            <p:cNvPr id="110" name="AutoShape 30" descr=""/>
            <p:cNvPicPr/>
            <p:nvPr/>
          </p:nvPicPr>
          <p:blipFill>
            <a:blip r:embed="rId3"/>
            <a:stretch/>
          </p:blipFill>
          <p:spPr>
            <a:xfrm>
              <a:off x="5857920" y="2554200"/>
              <a:ext cx="287820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904000" y="2602080"/>
              <a:ext cx="27842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</a:rPr>
                <a:t>Правиль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1"/>
          <p:cNvGrpSpPr/>
          <p:nvPr/>
        </p:nvGrpSpPr>
        <p:grpSpPr>
          <a:xfrm>
            <a:off x="5711760" y="2481120"/>
            <a:ext cx="2882880" cy="1951200"/>
            <a:chOff x="5711760" y="2481120"/>
            <a:chExt cx="2882880" cy="1951200"/>
          </a:xfrm>
        </p:grpSpPr>
        <p:pic>
          <p:nvPicPr>
            <p:cNvPr id="113" name="AutoShape 31" descr=""/>
            <p:cNvPicPr/>
            <p:nvPr/>
          </p:nvPicPr>
          <p:blipFill>
            <a:blip r:embed="rId4"/>
            <a:stretch/>
          </p:blipFill>
          <p:spPr>
            <a:xfrm>
              <a:off x="5711760" y="2481120"/>
              <a:ext cx="288288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6108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AutoShape 32"/>
          <p:cNvGrpSpPr/>
          <p:nvPr/>
        </p:nvGrpSpPr>
        <p:grpSpPr>
          <a:xfrm>
            <a:off x="5857920" y="2408400"/>
            <a:ext cx="2878200" cy="1719000"/>
            <a:chOff x="5857920" y="2408400"/>
            <a:chExt cx="2878200" cy="1719000"/>
          </a:xfrm>
        </p:grpSpPr>
        <p:pic>
          <p:nvPicPr>
            <p:cNvPr id="116" name="AutoShape 32" descr=""/>
            <p:cNvPicPr/>
            <p:nvPr/>
          </p:nvPicPr>
          <p:blipFill>
            <a:blip r:embed="rId5"/>
            <a:stretch/>
          </p:blipFill>
          <p:spPr>
            <a:xfrm>
              <a:off x="5857920" y="2408400"/>
              <a:ext cx="2878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904000" y="2457360"/>
              <a:ext cx="2784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4"/>
          <p:cNvGrpSpPr/>
          <p:nvPr/>
        </p:nvGrpSpPr>
        <p:grpSpPr>
          <a:xfrm>
            <a:off x="5638680" y="2481120"/>
            <a:ext cx="2882880" cy="1536840"/>
            <a:chOff x="5638680" y="2481120"/>
            <a:chExt cx="2882880" cy="1536840"/>
          </a:xfrm>
        </p:grpSpPr>
        <p:pic>
          <p:nvPicPr>
            <p:cNvPr id="119" name="AutoShape 34" descr=""/>
            <p:cNvPicPr/>
            <p:nvPr/>
          </p:nvPicPr>
          <p:blipFill>
            <a:blip r:embed="rId6"/>
            <a:stretch/>
          </p:blipFill>
          <p:spPr>
            <a:xfrm>
              <a:off x="5638680" y="2481120"/>
              <a:ext cx="28828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8800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35"/>
          <p:cNvGrpSpPr/>
          <p:nvPr/>
        </p:nvGrpSpPr>
        <p:grpSpPr>
          <a:xfrm>
            <a:off x="5638680" y="2481120"/>
            <a:ext cx="2882880" cy="1756080"/>
            <a:chOff x="5638680" y="2481120"/>
            <a:chExt cx="2882880" cy="1756080"/>
          </a:xfrm>
        </p:grpSpPr>
        <p:pic>
          <p:nvPicPr>
            <p:cNvPr id="122" name="AutoShape 35" descr=""/>
            <p:cNvPicPr/>
            <p:nvPr/>
          </p:nvPicPr>
          <p:blipFill>
            <a:blip r:embed="rId7"/>
            <a:stretch/>
          </p:blipFill>
          <p:spPr>
            <a:xfrm>
              <a:off x="5638680" y="2481120"/>
              <a:ext cx="28828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68800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36"/>
          <p:cNvGrpSpPr/>
          <p:nvPr/>
        </p:nvGrpSpPr>
        <p:grpSpPr>
          <a:xfrm>
            <a:off x="5565600" y="2481120"/>
            <a:ext cx="2883240" cy="1554480"/>
            <a:chOff x="5565600" y="2481120"/>
            <a:chExt cx="2883240" cy="1554480"/>
          </a:xfrm>
        </p:grpSpPr>
        <p:pic>
          <p:nvPicPr>
            <p:cNvPr id="125" name="AutoShape 36" descr=""/>
            <p:cNvPicPr/>
            <p:nvPr/>
          </p:nvPicPr>
          <p:blipFill>
            <a:blip r:embed="rId8"/>
            <a:stretch/>
          </p:blipFill>
          <p:spPr>
            <a:xfrm>
              <a:off x="5565600" y="2481120"/>
              <a:ext cx="288324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616720" y="2529000"/>
              <a:ext cx="27842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37"/>
          <p:cNvGrpSpPr/>
          <p:nvPr/>
        </p:nvGrpSpPr>
        <p:grpSpPr>
          <a:xfrm>
            <a:off x="5784840" y="2481120"/>
            <a:ext cx="2882880" cy="1773360"/>
            <a:chOff x="5784840" y="2481120"/>
            <a:chExt cx="2882880" cy="1773360"/>
          </a:xfrm>
        </p:grpSpPr>
        <p:pic>
          <p:nvPicPr>
            <p:cNvPr id="128" name="AutoShape 37" descr=""/>
            <p:cNvPicPr/>
            <p:nvPr/>
          </p:nvPicPr>
          <p:blipFill>
            <a:blip r:embed="rId9"/>
            <a:stretch/>
          </p:blipFill>
          <p:spPr>
            <a:xfrm>
              <a:off x="5784840" y="2481120"/>
              <a:ext cx="2882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83236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38"/>
          <p:cNvSpPr/>
          <p:nvPr/>
        </p:nvSpPr>
        <p:spPr>
          <a:xfrm>
            <a:off x="1403280" y="692280"/>
            <a:ext cx="7489800" cy="1584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из них те, графиком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является прямая, проходящая че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чало координ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5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ожите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8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7885080" y="2637000"/>
            <a:ext cx="647640" cy="625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7885080" y="414972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417 C 0.0401 0.04074 0.08055 0.08611 0.13993 0.11342 C 0.19948 0.14074 0.27118 0.22222 0.35607 0.16064 C 0.44097 0.09907 0.54514 -0.07871 0.64982 -0.25579 E">
                                      <p:cBhvr>
                                        <p:cTn id="35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-0.00538 0.04074 -0.01059 0.08148 -0.0033 0.16226 C 0.00399 0.24305 -0.01024 0.45092 0.0434 0.48449 C 0.09705 0.51805 0.20764 0.4412 0.3184 0.36435 E">
                                      <p:cBhvr>
                                        <p:cTn id="3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рицате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5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7596360" y="314172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596360" y="4508640"/>
            <a:ext cx="647640" cy="625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11111E-006 C 0.01424 0.03912 0.02848 0.07847 0.06841 0.13333 C 0.10834 0.18819 0.16771 0.31597 0.24011 0.32893 C 0.31251 0.3419 0.40782 0.27639 0.5033 0.21111 E">
                                      <p:cBhvr>
                                        <p:cTn id="38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14815E-006 C 0.00677 0.06944 0.01371 0.13888 0.02343 0.18888 C 0.03316 0.23888 0.02673 0.25347 0.05833 0.29999 C 0.08993 0.34652 0.12118 0.46874 0.21337 0.46874 C 0.30555 0.46874 0.45868 0.38425 0.6118 0.29999 E">
                                      <p:cBhvr>
                                        <p:cTn id="39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ен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5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7812000" y="2708280"/>
            <a:ext cx="647640" cy="625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C 0.1165 0.07708 0.23299 0.15417 0.34167 0.13565 C 0.45018 0.11713 0.55087 0.00301 0.65174 -0.11111 E">
                                      <p:cBhvr>
                                        <p:cTn id="41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95672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ТЕМА УРОКА: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«Взаимное расположение графиков линейной функци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RCTR496"/>
          <p:cNvPicPr/>
          <p:nvPr/>
        </p:nvPicPr>
        <p:blipFill>
          <a:blip r:embed="rId2"/>
          <a:stretch/>
        </p:blipFill>
        <p:spPr>
          <a:xfrm flipH="1">
            <a:off x="214200" y="285840"/>
            <a:ext cx="10288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7"/>
          <p:cNvGraphicFramePr/>
          <p:nvPr/>
        </p:nvGraphicFramePr>
        <p:xfrm>
          <a:off x="250920" y="2782800"/>
          <a:ext cx="3313080" cy="314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782800"/>
                    <a:ext cx="33130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1532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месте весело шагать по просторам математики и совершать удивительные открыт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RCTR142"/>
          <p:cNvPicPr/>
          <p:nvPr/>
        </p:nvPicPr>
        <p:blipFill>
          <a:blip r:embed="rId1"/>
          <a:stretch/>
        </p:blipFill>
        <p:spPr>
          <a:xfrm>
            <a:off x="2643120" y="3068640"/>
            <a:ext cx="3500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3:56:00Z</dcterms:created>
  <dc:creator>MAMA</dc:creator>
  <dc:description/>
  <dc:language>en-US</dc:language>
  <cp:lastModifiedBy>Гость</cp:lastModifiedBy>
  <dcterms:modified xsi:type="dcterms:W3CDTF">2019-11-27T05:13:47Z</dcterms:modified>
  <cp:revision>101</cp:revision>
  <dc:subject/>
  <dc:title>Взаимное расположение графиков линейных функций.</dc:title>
</cp:coreProperties>
</file>