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C87B-A845-45C8-B3A2-FEBE62035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853F-5895-4176-9175-80F4B8F0773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0EE5-3CB2-4C37-A5A5-5B474591132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B728-3D02-43AF-A2B2-E6E589C7956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85B-A5DC-4AE1-9E85-D5107AB4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101-7B92-4E55-83E2-F62ECB38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5F8-6D33-43CB-AD43-2F5666C6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89B-5FFE-4FF7-A63E-50926714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BA03-3667-404E-864B-1A0A56CD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90A2-2382-4CC6-9606-45898649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30B2-BF6C-44D4-9341-CA6A48FA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646B-C459-4DF6-A1AF-5B8EE6E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CF45-3E68-4498-8553-9296EEE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A691-D057-41BF-968F-49C7C7DD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FA6A-7F7A-4D64-9FDD-BCB8EC91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13D-1310-4EC0-9551-88D4EDE7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B853-9188-43E9-854A-5CBD7190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2857-3A5F-4C12-87A8-DAF53EF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ABD-8866-4C31-9B5C-6445BC57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75E9-4536-4DC1-BEAF-16A20ECB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6E76-6EDE-4847-A435-EDBDEA6B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9B0-0DD4-41D5-A51A-6C77F4CD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8E6-20D3-41BB-9C6C-0A529192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61F-E7F3-41C2-9820-29812DD8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FD2-577D-4930-9B2C-910BF9A4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21F-551A-4E25-8FDF-6B2FD6FF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AA8-565F-4BB1-8D15-BC6BF470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529-B496-4941-82F0-FAD99BB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5E93-F0B5-4310-9DA7-B089BB888B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0A3D-9E20-4351-B457-110BF9F04E4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0"/>
            </a:br>
            <a:br>
              <a:rPr sz="7000"/>
            </a:br>
            <a:endParaRPr b="0" lang="en-US" sz="7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Verdana"/>
              </a:rPr>
              <a:t>ВРЕД И ПОЛЬЗА 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Verdana"/>
              </a:rPr>
              <a:t>КОМПЬЮТЕРНЫХ ИГР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52280" y="3808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КОУ Шараповская основная общеобразовательная школ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082880" y="2971800"/>
            <a:ext cx="47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ыполнила: Кузнецова Ири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ученица 4 класс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990720" y="5105520"/>
            <a:ext cx="31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Шарова Дарья Ивановн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2" name="Picture 9" descr="C:\Users\Samsung\Desktop\комп1.JPG"/>
          <p:cNvPicPr/>
          <p:nvPr/>
        </p:nvPicPr>
        <p:blipFill>
          <a:blip r:embed="rId1"/>
          <a:stretch/>
        </p:blipFill>
        <p:spPr>
          <a:xfrm>
            <a:off x="4648320" y="3962520"/>
            <a:ext cx="4495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акую пользу и и какой вред приносят компьютерные иг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Chart 3" descr=""/>
          <p:cNvPicPr/>
          <p:nvPr/>
        </p:nvPicPr>
        <p:blipFill>
          <a:blip r:embed="rId1"/>
          <a:stretch/>
        </p:blipFill>
        <p:spPr>
          <a:xfrm>
            <a:off x="987480" y="2036880"/>
            <a:ext cx="725472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304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Родители интересуются, в какие игры ты играешь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Chart 3" descr=""/>
          <p:cNvPicPr/>
          <p:nvPr/>
        </p:nvPicPr>
        <p:blipFill>
          <a:blip r:embed="rId1"/>
          <a:stretch/>
        </p:blipFill>
        <p:spPr>
          <a:xfrm>
            <a:off x="1139760" y="2036880"/>
            <a:ext cx="66452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Видят все проблемы со здоровьем из-за долгого просиживания перед экраном компьютер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762120" y="2744640"/>
            <a:ext cx="7715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f5a3e"/>
                </a:solidFill>
                <a:latin typeface="Verdana"/>
              </a:rPr>
              <a:t>52 % учеников   играют с разрешения родителей   в компьютерные игр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Samsung\Desktop\комп3.jpg"/>
          <p:cNvPicPr/>
          <p:nvPr/>
        </p:nvPicPr>
        <p:blipFill>
          <a:blip r:embed="rId1"/>
          <a:stretch/>
        </p:blipFill>
        <p:spPr>
          <a:xfrm>
            <a:off x="1066680" y="914400"/>
            <a:ext cx="2895840" cy="391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Samsung\Desktop\комп4.jpg"/>
          <p:cNvPicPr/>
          <p:nvPr/>
        </p:nvPicPr>
        <p:blipFill>
          <a:blip r:embed="rId2"/>
          <a:stretch/>
        </p:blipFill>
        <p:spPr>
          <a:xfrm>
            <a:off x="3886200" y="1600200"/>
            <a:ext cx="47912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229600" cy="2206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Arial"/>
              </a:rPr>
              <a:t>Спасибо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Samsung\Desktop\i (2).jpg"/>
          <p:cNvPicPr/>
          <p:nvPr/>
        </p:nvPicPr>
        <p:blipFill>
          <a:blip r:embed="rId1"/>
          <a:stretch/>
        </p:blipFill>
        <p:spPr>
          <a:xfrm>
            <a:off x="1295280" y="685800"/>
            <a:ext cx="4145040" cy="259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Samsung\Desktop\i (1).jpg"/>
          <p:cNvPicPr/>
          <p:nvPr/>
        </p:nvPicPr>
        <p:blipFill>
          <a:blip r:embed="rId2"/>
          <a:stretch/>
        </p:blipFill>
        <p:spPr>
          <a:xfrm>
            <a:off x="2057400" y="6094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Users\Samsung\Desktop\PicsDesktop.net_177.jpg"/>
          <p:cNvPicPr/>
          <p:nvPr/>
        </p:nvPicPr>
        <p:blipFill>
          <a:blip r:embed="rId3"/>
          <a:stretch/>
        </p:blipFill>
        <p:spPr>
          <a:xfrm>
            <a:off x="838080" y="457200"/>
            <a:ext cx="7747200" cy="5810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Users\Samsung\Desktop\i.jpg"/>
          <p:cNvPicPr/>
          <p:nvPr/>
        </p:nvPicPr>
        <p:blipFill>
          <a:blip r:embed="rId4"/>
          <a:stretch/>
        </p:blipFill>
        <p:spPr>
          <a:xfrm>
            <a:off x="1333440" y="1219320"/>
            <a:ext cx="6600960" cy="440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C:\Users\Samsung\Desktop\i (3).jpg"/>
          <p:cNvPicPr/>
          <p:nvPr/>
        </p:nvPicPr>
        <p:blipFill>
          <a:blip r:embed="rId5"/>
          <a:stretch/>
        </p:blipFill>
        <p:spPr>
          <a:xfrm>
            <a:off x="1168560" y="5335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152280" y="1371600"/>
            <a:ext cx="8839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Picture 4" descr="MCj04326460000[1]"/>
          <p:cNvPicPr/>
          <p:nvPr/>
        </p:nvPicPr>
        <p:blipFill>
          <a:blip r:embed="rId1"/>
          <a:stretch/>
        </p:blipFill>
        <p:spPr>
          <a:xfrm>
            <a:off x="69343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609480" y="457200"/>
            <a:ext cx="7315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блема:</a:t>
            </a: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Хочу узнать - компьютерные игры отнимают временя, влияют на здоровье, отвлекают от учебы  или приносят пользу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ипотеза:</a:t>
            </a: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Допустим, что играть в компьютерные игры полезно для детей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eec85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              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Цель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46600" y="1143000"/>
            <a:ext cx="756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Выяснить, пользу или вред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приносят компьютерные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игры ученику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5" name="Picture 8" descr="C:\Users\Samsung\Desktop\комп2.jpg"/>
          <p:cNvPicPr/>
          <p:nvPr/>
        </p:nvPicPr>
        <p:blipFill>
          <a:blip r:embed="rId1"/>
          <a:stretch/>
        </p:blipFill>
        <p:spPr>
          <a:xfrm>
            <a:off x="2743200" y="3352680"/>
            <a:ext cx="3200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0"/>
          <p:cNvSpPr/>
          <p:nvPr/>
        </p:nvSpPr>
        <p:spPr>
          <a:xfrm>
            <a:off x="304920" y="3266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1600200" y="1522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3660840" y="10944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609480" y="838080"/>
            <a:ext cx="8153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знать историю возникновения компьютер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ыяснить, кто создает компьютерные игры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знать, какие виды компьютерных игр существуют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ыяснить мнение специалистов о пользе и вреде компьютерных игр в развитии детей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знать, в какие игры больше играют дети, и что они думают о вреде и пользе компьютерных игр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оставить рекомендации для учеников по выбору компьютерных иг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тоды исследовани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9339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1. Изучение литератур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2. Опро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3. Наблюде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81280" y="5029200"/>
            <a:ext cx="4913280" cy="1044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  <a:ea typeface="Vrinda"/>
              </a:rPr>
              <a:t>КЛИФФОРД    БЕРР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76360" y="609120"/>
            <a:ext cx="468468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Джон Атанас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2" descr="C:\Users\Samsung\Desktop\6.jpg"/>
          <p:cNvPicPr/>
          <p:nvPr/>
        </p:nvPicPr>
        <p:blipFill>
          <a:blip r:embed="rId1"/>
          <a:stretch/>
        </p:blipFill>
        <p:spPr>
          <a:xfrm>
            <a:off x="871560" y="4680"/>
            <a:ext cx="2328840" cy="3063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Samsung\Desktop\9.jpg"/>
          <p:cNvPicPr/>
          <p:nvPr/>
        </p:nvPicPr>
        <p:blipFill>
          <a:blip r:embed="rId2"/>
          <a:stretch/>
        </p:blipFill>
        <p:spPr>
          <a:xfrm>
            <a:off x="762120" y="3657600"/>
            <a:ext cx="2628720" cy="29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Samsung\Desktop\7.jpg"/>
          <p:cNvPicPr/>
          <p:nvPr/>
        </p:nvPicPr>
        <p:blipFill>
          <a:blip r:embed="rId3"/>
          <a:stretch/>
        </p:blipFill>
        <p:spPr>
          <a:xfrm>
            <a:off x="4191120" y="1905120"/>
            <a:ext cx="3930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990720" y="38088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чащиеся школы понимают, что часто нельзя играть   в компьютерные игры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9" name="Object 7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7165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Почти все осознают, что играть в компьютерные игры долго и в агрессивные игры – это вредно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Chart 4" descr=""/>
          <p:cNvPicPr/>
          <p:nvPr/>
        </p:nvPicPr>
        <p:blipFill>
          <a:blip r:embed="rId1"/>
          <a:stretch/>
        </p:blipFill>
        <p:spPr>
          <a:xfrm>
            <a:off x="1060560" y="2036880"/>
            <a:ext cx="71755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sung</cp:lastModifiedBy>
  <dcterms:modified xsi:type="dcterms:W3CDTF">2013-03-03T08:59:39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