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A006-738A-44D6-8152-252631C8AB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4375-8BCA-422C-8271-BD7BEADAA8A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2907-D973-4F7D-B6AC-5141F01F1AD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B14E-545B-4314-98C2-1458716C95E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617-9405-4110-9732-D2E246EB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DA4-8232-4525-8DE0-9A5AFA46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0360-B60A-4D1C-A13D-48931558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F67-022E-4D1D-B862-8559C60A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916B-83FF-4CBB-A0FC-C1FE375F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A6BD-64AE-4886-884F-A9E10B06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C9E6-1045-4EBB-B0C0-E8F83DD2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6052-9DD9-4900-A0E3-FDFFDF4C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0356-009E-4486-808F-30E9BCBB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E3FE-B1EF-4D6E-A647-F3279296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F361-FEF5-46B5-98E9-1FF99D14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0093-B7A4-45FE-A6BF-F3922B04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8270-7145-4072-8370-596BC3F8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E25D-6184-42E3-9EC2-956E630A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5174-A0EC-40F0-B759-F9B964B1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315E-DA17-431B-90EE-C50D9715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4079-E1D9-40A0-A124-570CCAE1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6D37-EBF4-4862-9A70-23563569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190-B0BD-492E-A6C6-F26862BF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298-DACB-4F96-9178-33B6AACF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5FE3-F63C-48CC-9C40-AD19B896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D4C-BCC4-4316-8192-DCBB830C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B76-47D4-4B15-98D1-C2C07F72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FCB-ED2E-4449-B7C7-D1E5FC8B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3C9D-D8E0-4C02-8E40-EC0220AE32E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7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4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3A21-C261-4BBA-8159-F06C10C89AB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0"/>
            </a:br>
            <a:br>
              <a:rPr sz="7000"/>
            </a:br>
            <a:endParaRPr b="0" lang="en-US" sz="7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Verdana"/>
              </a:rPr>
              <a:t>ВРЕД И ПОЛЬЗА 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Verdana"/>
              </a:rPr>
              <a:t>КОМПЬЮТЕРНЫХ ИГР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52280" y="3808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КОУ Шараповская основная общеобразовательная школ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082880" y="2971800"/>
            <a:ext cx="47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ыполнила: Кузнецова Ирин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 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ученица 4 класс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990720" y="5105520"/>
            <a:ext cx="31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уководитель: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Шарова Дарья Ивановн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2" name="Picture 9" descr="C:\Users\Samsung\Desktop\комп1.JPG"/>
          <p:cNvPicPr/>
          <p:nvPr/>
        </p:nvPicPr>
        <p:blipFill>
          <a:blip r:embed="rId1"/>
          <a:stretch/>
        </p:blipFill>
        <p:spPr>
          <a:xfrm>
            <a:off x="4648320" y="3962520"/>
            <a:ext cx="4495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Какую пользу и и какой вред приносят компьютерные игр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5" name="Chart 3" descr=""/>
          <p:cNvPicPr/>
          <p:nvPr/>
        </p:nvPicPr>
        <p:blipFill>
          <a:blip r:embed="rId1"/>
          <a:stretch/>
        </p:blipFill>
        <p:spPr>
          <a:xfrm>
            <a:off x="987480" y="2036880"/>
            <a:ext cx="725472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3045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Родители интересуются, в какие игры ты играешь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Chart 3" descr=""/>
          <p:cNvPicPr/>
          <p:nvPr/>
        </p:nvPicPr>
        <p:blipFill>
          <a:blip r:embed="rId1"/>
          <a:stretch/>
        </p:blipFill>
        <p:spPr>
          <a:xfrm>
            <a:off x="1139760" y="2036880"/>
            <a:ext cx="66452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Видят все проблемы со здоровьем из-за долгого просиживания перед экраном компьютер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762120" y="2744640"/>
            <a:ext cx="7715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f5a3e"/>
                </a:solidFill>
                <a:latin typeface="Verdana"/>
              </a:rPr>
              <a:t>52 % учеников   играют с разрешения родителей   в компьютерные игр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Users\Samsung\Desktop\комп3.jpg"/>
          <p:cNvPicPr/>
          <p:nvPr/>
        </p:nvPicPr>
        <p:blipFill>
          <a:blip r:embed="rId1"/>
          <a:stretch/>
        </p:blipFill>
        <p:spPr>
          <a:xfrm>
            <a:off x="1066680" y="914400"/>
            <a:ext cx="2895840" cy="391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Users\Samsung\Desktop\комп4.jpg"/>
          <p:cNvPicPr/>
          <p:nvPr/>
        </p:nvPicPr>
        <p:blipFill>
          <a:blip r:embed="rId2"/>
          <a:stretch/>
        </p:blipFill>
        <p:spPr>
          <a:xfrm>
            <a:off x="3886200" y="1600200"/>
            <a:ext cx="47912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229600" cy="2206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f0"/>
                </a:solidFill>
                <a:latin typeface="Arial"/>
              </a:rPr>
              <a:t>Спасибо</a:t>
            </a:r>
            <a:endParaRPr b="0" lang="en-US" sz="9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Samsung\Desktop\i (2).jpg"/>
          <p:cNvPicPr/>
          <p:nvPr/>
        </p:nvPicPr>
        <p:blipFill>
          <a:blip r:embed="rId1"/>
          <a:stretch/>
        </p:blipFill>
        <p:spPr>
          <a:xfrm>
            <a:off x="1295280" y="685800"/>
            <a:ext cx="4145040" cy="2590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Users\Samsung\Desktop\i (1).jpg"/>
          <p:cNvPicPr/>
          <p:nvPr/>
        </p:nvPicPr>
        <p:blipFill>
          <a:blip r:embed="rId2"/>
          <a:stretch/>
        </p:blipFill>
        <p:spPr>
          <a:xfrm>
            <a:off x="2057400" y="6094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Users\Samsung\Desktop\PicsDesktop.net_177.jpg"/>
          <p:cNvPicPr/>
          <p:nvPr/>
        </p:nvPicPr>
        <p:blipFill>
          <a:blip r:embed="rId3"/>
          <a:stretch/>
        </p:blipFill>
        <p:spPr>
          <a:xfrm>
            <a:off x="838080" y="457200"/>
            <a:ext cx="7747200" cy="5810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:\Users\Samsung\Desktop\i.jpg"/>
          <p:cNvPicPr/>
          <p:nvPr/>
        </p:nvPicPr>
        <p:blipFill>
          <a:blip r:embed="rId4"/>
          <a:stretch/>
        </p:blipFill>
        <p:spPr>
          <a:xfrm>
            <a:off x="1333440" y="1219320"/>
            <a:ext cx="6600960" cy="4400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C:\Users\Samsung\Desktop\i (3).jpg"/>
          <p:cNvPicPr/>
          <p:nvPr/>
        </p:nvPicPr>
        <p:blipFill>
          <a:blip r:embed="rId5"/>
          <a:stretch/>
        </p:blipFill>
        <p:spPr>
          <a:xfrm>
            <a:off x="1168560" y="5335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152280" y="1371600"/>
            <a:ext cx="8839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0" name="Picture 4" descr="MCj04326460000[1]"/>
          <p:cNvPicPr/>
          <p:nvPr/>
        </p:nvPicPr>
        <p:blipFill>
          <a:blip r:embed="rId1"/>
          <a:stretch/>
        </p:blipFill>
        <p:spPr>
          <a:xfrm>
            <a:off x="6934320" y="29718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609480" y="457200"/>
            <a:ext cx="7315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блема:</a:t>
            </a:r>
            <a:r>
              <a:rPr b="1" lang="ru-RU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Хочу узнать - компьютерные игры отнимают временя, влияют на здоровье, отвлекают от учебы  или приносят пользу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ипотеза:</a:t>
            </a: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Допустим, что играть в компьютерные игры полезно для детей.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eec85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               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Цель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146600" y="1143000"/>
            <a:ext cx="7560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Выяснить, пользу или вред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приносят компьютерные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игры ученику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5" name="Picture 8" descr="C:\Users\Samsung\Desktop\комп2.jpg"/>
          <p:cNvPicPr/>
          <p:nvPr/>
        </p:nvPicPr>
        <p:blipFill>
          <a:blip r:embed="rId1"/>
          <a:stretch/>
        </p:blipFill>
        <p:spPr>
          <a:xfrm>
            <a:off x="2743200" y="3352680"/>
            <a:ext cx="32004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0"/>
          <p:cNvSpPr/>
          <p:nvPr/>
        </p:nvSpPr>
        <p:spPr>
          <a:xfrm>
            <a:off x="304920" y="3266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TextBox 24"/>
          <p:cNvSpPr/>
          <p:nvPr/>
        </p:nvSpPr>
        <p:spPr>
          <a:xfrm>
            <a:off x="1600200" y="1522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Rectangle 22"/>
          <p:cNvSpPr/>
          <p:nvPr/>
        </p:nvSpPr>
        <p:spPr>
          <a:xfrm>
            <a:off x="3660840" y="10944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Rectangle 23"/>
          <p:cNvSpPr/>
          <p:nvPr/>
        </p:nvSpPr>
        <p:spPr>
          <a:xfrm>
            <a:off x="609480" y="838080"/>
            <a:ext cx="8153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узнать историю возникновения компьютера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выяснить, кто создает компьютерные игры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узнать, какие виды компьютерных игр существуют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выяснить мнение специалистов о пользе и вреде компьютерных игр в развитии детей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узнать, в какие игры больше играют дети, и что они думают о вреде и пользе компьютерных игр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составить рекомендации для учеников по выбору компьютерных игр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етоды исследования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69339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1. Изучение литератур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2. Опро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3. Наблюде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81280" y="5029200"/>
            <a:ext cx="4913280" cy="1044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  <a:ea typeface="Vrinda"/>
              </a:rPr>
              <a:t>КЛИФФОРД    БЕРР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76360" y="609120"/>
            <a:ext cx="4684680" cy="9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Джон Атанасов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Picture 2" descr="C:\Users\Samsung\Desktop\6.jpg"/>
          <p:cNvPicPr/>
          <p:nvPr/>
        </p:nvPicPr>
        <p:blipFill>
          <a:blip r:embed="rId1"/>
          <a:stretch/>
        </p:blipFill>
        <p:spPr>
          <a:xfrm>
            <a:off x="871560" y="4680"/>
            <a:ext cx="2328840" cy="3063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Users\Samsung\Desktop\9.jpg"/>
          <p:cNvPicPr/>
          <p:nvPr/>
        </p:nvPicPr>
        <p:blipFill>
          <a:blip r:embed="rId2"/>
          <a:stretch/>
        </p:blipFill>
        <p:spPr>
          <a:xfrm>
            <a:off x="762120" y="3657600"/>
            <a:ext cx="2628720" cy="2928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Users\Samsung\Desktop\7.jpg"/>
          <p:cNvPicPr/>
          <p:nvPr/>
        </p:nvPicPr>
        <p:blipFill>
          <a:blip r:embed="rId3"/>
          <a:stretch/>
        </p:blipFill>
        <p:spPr>
          <a:xfrm>
            <a:off x="4191120" y="1905120"/>
            <a:ext cx="3930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990720" y="38088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Учащиеся школы понимают, что часто нельзя играть   в компьютерные игры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9" name="Object 7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7165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Почти все осознают, что играть в компьютерные игры долго и в агрессивные игры – это вредно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3" name="Chart 4" descr=""/>
          <p:cNvPicPr/>
          <p:nvPr/>
        </p:nvPicPr>
        <p:blipFill>
          <a:blip r:embed="rId1"/>
          <a:stretch/>
        </p:blipFill>
        <p:spPr>
          <a:xfrm>
            <a:off x="1060560" y="2036880"/>
            <a:ext cx="717552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sung</cp:lastModifiedBy>
  <dcterms:modified xsi:type="dcterms:W3CDTF">2013-03-03T08:59:39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