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131-782A-4010-88A6-2B682092E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ABC-B54B-4B3F-A142-FD6057E59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A66A-C121-4897-BD2E-4B5120E75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римеров, решение –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156-8AD8-43C8-B04C-AF12365B0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C98-619C-48D2-AD65-20A5C2E58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ение примеров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AC6-1BA1-488C-B1C2-3A60A04B0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7 Н.Я.Виленкин, «Математика-5», 2006 год из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0D4-267A-42BF-9566-53E3C3822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0 Виленкин Н.Я. «Математика-5» 2006 год и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943A-CCA6-4A2F-BD7D-72A8CF22B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5 Виленкин Н.Я., «Математика – 5», 2006 год издания. Решение на доске и в тетрадях, после чего включаю прове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A87-AD3E-421F-A876-0B03E04B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266-DA40-4514-BE7B-C0B22199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A02-4016-49CD-9D6E-ED9C266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35B-2E47-4764-AEF3-CBCC6723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360-4C56-4EA6-9368-C338CD60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FAD-8CCA-429A-A6FD-773E93C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33A-75AD-42F6-9130-9928CC9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7C2-B4DE-432D-A1AE-E7EB7A2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4CC-5C31-4DFA-A608-1E3ACDB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A5F-DBE1-40B1-8C3E-5AFE675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550-0ACE-45BF-A1C3-8D42C7A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CF8-6038-47D9-A415-0D96D92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A4B-FB72-4730-8BBD-356FC72D5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4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9.jpe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9.jpe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771640" y="3716280"/>
            <a:ext cx="324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Вычитание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.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324000" y="3284640"/>
            <a:ext cx="5543280" cy="2449440"/>
          </a:xfrm>
          <a:prstGeom prst="wedgeRoundRectCallout">
            <a:avLst>
              <a:gd name="adj1" fmla="val 81384"/>
              <a:gd name="adj2" fmla="val -29388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Чтобы из суммы вычесть число, можно вычесть его из одного слагаемого, а к полученной разности прибавить другое слага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0" y="9079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3851280" y="9079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- 2) + 3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7488360" y="620640"/>
            <a:ext cx="1655640" cy="1489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WordArt 7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8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 - 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6372360" y="4365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10"/>
          <p:cNvSpPr txBox="1"/>
          <p:nvPr/>
        </p:nvSpPr>
        <p:spPr>
          <a:xfrm>
            <a:off x="6227640" y="342900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6300720" y="2494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12"/>
          <p:cNvSpPr txBox="1"/>
          <p:nvPr/>
        </p:nvSpPr>
        <p:spPr>
          <a:xfrm>
            <a:off x="6445080" y="14144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 разность чисе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/>
          <p:cNvSpPr/>
          <p:nvPr/>
        </p:nvSpPr>
        <p:spPr>
          <a:xfrm>
            <a:off x="324000" y="4724280"/>
            <a:ext cx="5543280" cy="1225800"/>
          </a:xfrm>
          <a:prstGeom prst="wedgeRoundRectCallout">
            <a:avLst>
              <a:gd name="adj1" fmla="val 81384"/>
              <a:gd name="adj2" fmla="val -12629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из числа вычесть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, оно не измен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684360" y="1484280"/>
            <a:ext cx="6553080" cy="914400"/>
            <a:chOff x="684360" y="1484280"/>
            <a:chExt cx="6553080" cy="914400"/>
          </a:xfrm>
        </p:grpSpPr>
        <p:sp>
          <p:nvSpPr>
            <p:cNvPr id="255" name="Rectangle 7"/>
            <p:cNvSpPr/>
            <p:nvPr/>
          </p:nvSpPr>
          <p:spPr>
            <a:xfrm>
              <a:off x="684360" y="148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73360" y="191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0036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162108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234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306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378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450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5"/>
            <p:cNvSpPr/>
            <p:nvPr/>
          </p:nvSpPr>
          <p:spPr>
            <a:xfrm>
              <a:off x="522144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594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3995640" y="1916280"/>
            <a:ext cx="936360" cy="1001160"/>
            <a:chOff x="3995640" y="1916280"/>
            <a:chExt cx="936360" cy="1001160"/>
          </a:xfrm>
        </p:grpSpPr>
        <p:sp>
          <p:nvSpPr>
            <p:cNvPr id="266" name="Oval 18"/>
            <p:cNvSpPr/>
            <p:nvPr/>
          </p:nvSpPr>
          <p:spPr>
            <a:xfrm>
              <a:off x="3995640" y="1981080"/>
              <a:ext cx="936360" cy="93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>
              <a:off x="4500360" y="1981080"/>
              <a:ext cx="71280" cy="7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4492440" y="1916280"/>
              <a:ext cx="136440" cy="44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6" h="28">
                  <a:moveTo>
                    <a:pt x="0" y="28"/>
                  </a:moveTo>
                  <a:lnTo>
                    <a:pt x="86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WordArt 21"/>
          <p:cNvSpPr txBox="1"/>
          <p:nvPr/>
        </p:nvSpPr>
        <p:spPr>
          <a:xfrm>
            <a:off x="1116000" y="620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- 0 = 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4213080" y="2924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72" name="WordArt 3"/>
          <p:cNvSpPr txBox="1"/>
          <p:nvPr/>
        </p:nvSpPr>
        <p:spPr>
          <a:xfrm>
            <a:off x="3924360" y="1486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- 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3924360" y="256536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 - 2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WordArt 5"/>
          <p:cNvSpPr txBox="1"/>
          <p:nvPr/>
        </p:nvSpPr>
        <p:spPr>
          <a:xfrm>
            <a:off x="3852720" y="350208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 - 12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WordArt 6"/>
          <p:cNvSpPr txBox="1"/>
          <p:nvPr/>
        </p:nvSpPr>
        <p:spPr>
          <a:xfrm>
            <a:off x="3924360" y="4510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 - 71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50920" y="189000"/>
            <a:ext cx="4066920" cy="863640"/>
          </a:xfrm>
          <a:prstGeom prst="wedgeRoundRectCallout">
            <a:avLst>
              <a:gd name="adj1" fmla="val -39342"/>
              <a:gd name="adj2" fmla="val 20569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 разность чисе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 rot="5400000">
            <a:off x="4912920" y="1719000"/>
            <a:ext cx="5616720" cy="3419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3"/>
          <p:cNvSpPr/>
          <p:nvPr/>
        </p:nvSpPr>
        <p:spPr>
          <a:xfrm>
            <a:off x="324000" y="4724280"/>
            <a:ext cx="5543280" cy="1225800"/>
          </a:xfrm>
          <a:prstGeom prst="wedgeRoundRectCallout">
            <a:avLst>
              <a:gd name="adj1" fmla="val 81384"/>
              <a:gd name="adj2" fmla="val -12629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из числа вычесть это число, получится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уль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684360" y="1484280"/>
            <a:ext cx="6553080" cy="914400"/>
            <a:chOff x="684360" y="1484280"/>
            <a:chExt cx="6553080" cy="914400"/>
          </a:xfrm>
        </p:grpSpPr>
        <p:sp>
          <p:nvSpPr>
            <p:cNvPr id="282" name="Rectangle 5"/>
            <p:cNvSpPr/>
            <p:nvPr/>
          </p:nvSpPr>
          <p:spPr>
            <a:xfrm>
              <a:off x="684360" y="148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873360" y="191592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90036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162108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234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0"/>
            <p:cNvSpPr/>
            <p:nvPr/>
          </p:nvSpPr>
          <p:spPr>
            <a:xfrm>
              <a:off x="306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78000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450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522144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5940720" y="184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WordArt 19"/>
          <p:cNvSpPr txBox="1"/>
          <p:nvPr/>
        </p:nvSpPr>
        <p:spPr>
          <a:xfrm>
            <a:off x="1116000" y="6206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 - 5 = 0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2485800" y="2492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21"/>
          <p:cNvSpPr/>
          <p:nvPr/>
        </p:nvSpPr>
        <p:spPr>
          <a:xfrm flipH="1" flipV="1">
            <a:off x="900000" y="1989000"/>
            <a:ext cx="3600720" cy="503280"/>
          </a:xfrm>
          <a:custGeom>
            <a:avLst/>
            <a:gdLst>
              <a:gd name="textAreaLeft" fmla="*/ 360 w 3600720"/>
              <a:gd name="textAreaRight" fmla="*/ 3601440 w 360072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"/>
          <p:cNvSpPr/>
          <p:nvPr/>
        </p:nvSpPr>
        <p:spPr>
          <a:xfrm>
            <a:off x="250920" y="260280"/>
            <a:ext cx="3384360" cy="863640"/>
          </a:xfrm>
          <a:prstGeom prst="wedgeRoundRectCallout">
            <a:avLst>
              <a:gd name="adj1" fmla="val -37194"/>
              <a:gd name="adj2" fmla="val 197425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Реши удобным способ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1908000" y="1341360"/>
            <a:ext cx="39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6 -(36 +46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1979640" y="220500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8 -(18+33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1979640" y="30700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5-(75+18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052720" y="4005360"/>
            <a:ext cx="39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417+33)-57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2052720" y="49417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29+84)-74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2052720" y="580536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96+336)-86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3" name="Picture 12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3"/>
          <p:cNvSpPr/>
          <p:nvPr/>
        </p:nvSpPr>
        <p:spPr>
          <a:xfrm>
            <a:off x="5508720" y="98100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5580000" y="1916280"/>
            <a:ext cx="187344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5580000" y="2781360"/>
            <a:ext cx="187344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5651640" y="3645000"/>
            <a:ext cx="1873080" cy="1439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7"/>
          <p:cNvSpPr/>
          <p:nvPr/>
        </p:nvSpPr>
        <p:spPr>
          <a:xfrm>
            <a:off x="5651640" y="458136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63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8"/>
          <p:cNvSpPr/>
          <p:nvPr/>
        </p:nvSpPr>
        <p:spPr>
          <a:xfrm>
            <a:off x="5651640" y="541800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/>
          <p:cNvSpPr/>
          <p:nvPr/>
        </p:nvSpPr>
        <p:spPr>
          <a:xfrm>
            <a:off x="250920" y="260280"/>
            <a:ext cx="8424720" cy="1224000"/>
          </a:xfrm>
          <a:prstGeom prst="wedgeRoundRectCallout">
            <a:avLst>
              <a:gd name="adj1" fmla="val -44856"/>
              <a:gd name="adj2" fmla="val 12457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полни клеточки квадрата так, чтобы в каждой строчке, столбике и по диагонали были одинаковые суммы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64000" y="2133720"/>
          <a:ext cx="4319640" cy="43196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0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WordArt 28"/>
          <p:cNvSpPr txBox="1"/>
          <p:nvPr/>
        </p:nvSpPr>
        <p:spPr>
          <a:xfrm>
            <a:off x="6588000" y="5373720"/>
            <a:ext cx="10796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WordArt 29"/>
          <p:cNvSpPr txBox="1"/>
          <p:nvPr/>
        </p:nvSpPr>
        <p:spPr>
          <a:xfrm>
            <a:off x="3924360" y="2492280"/>
            <a:ext cx="720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WordArt 30"/>
          <p:cNvSpPr txBox="1"/>
          <p:nvPr/>
        </p:nvSpPr>
        <p:spPr>
          <a:xfrm>
            <a:off x="5148360" y="249228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31"/>
          <p:cNvSpPr txBox="1"/>
          <p:nvPr/>
        </p:nvSpPr>
        <p:spPr>
          <a:xfrm>
            <a:off x="3780000" y="537372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32"/>
          <p:cNvSpPr txBox="1"/>
          <p:nvPr/>
        </p:nvSpPr>
        <p:spPr>
          <a:xfrm>
            <a:off x="5148360" y="5373720"/>
            <a:ext cx="10792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0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27664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5"/>
          <p:cNvSpPr/>
          <p:nvPr/>
        </p:nvSpPr>
        <p:spPr>
          <a:xfrm>
            <a:off x="1619280" y="189000"/>
            <a:ext cx="7129440" cy="936360"/>
          </a:xfrm>
          <a:prstGeom prst="wedgeRoundRectCallout">
            <a:avLst>
              <a:gd name="adj1" fmla="val 32763"/>
              <a:gd name="adj2" fmla="val 224236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место звёздочек поставь цифры, чтобы получилось верное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2"/>
          <p:cNvGrpSpPr/>
          <p:nvPr/>
        </p:nvGrpSpPr>
        <p:grpSpPr>
          <a:xfrm>
            <a:off x="324000" y="1484280"/>
            <a:ext cx="2158920" cy="2665440"/>
            <a:chOff x="324000" y="1484280"/>
            <a:chExt cx="2158920" cy="2665440"/>
          </a:xfrm>
        </p:grpSpPr>
        <p:sp>
          <p:nvSpPr>
            <p:cNvPr id="321" name="WordArt 7"/>
            <p:cNvSpPr txBox="1"/>
            <p:nvPr/>
          </p:nvSpPr>
          <p:spPr>
            <a:xfrm>
              <a:off x="1042920" y="3500280"/>
              <a:ext cx="122544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56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2" name="WordArt 8"/>
            <p:cNvSpPr txBox="1"/>
            <p:nvPr/>
          </p:nvSpPr>
          <p:spPr>
            <a:xfrm>
              <a:off x="324000" y="2276640"/>
              <a:ext cx="431640" cy="72720"/>
            </a:xfrm>
            <a:prstGeom prst="rect">
              <a:avLst/>
            </a:prstGeom>
          </p:spPr>
          <p:txBody>
            <a:bodyPr wrap="none" lIns="90000" rIns="90000" tIns="26280" bIns="26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3" name="WordArt 9"/>
            <p:cNvSpPr txBox="1"/>
            <p:nvPr/>
          </p:nvSpPr>
          <p:spPr>
            <a:xfrm>
              <a:off x="-1403640" y="3213360"/>
              <a:ext cx="194328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WordArt 10"/>
            <p:cNvSpPr txBox="1"/>
            <p:nvPr/>
          </p:nvSpPr>
          <p:spPr>
            <a:xfrm>
              <a:off x="971640" y="1484280"/>
              <a:ext cx="14396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8*2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3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25" name="WordArt 11"/>
          <p:cNvSpPr txBox="1"/>
          <p:nvPr/>
        </p:nvSpPr>
        <p:spPr>
          <a:xfrm>
            <a:off x="2050920" y="249228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13"/>
          <p:cNvSpPr txBox="1"/>
          <p:nvPr/>
        </p:nvSpPr>
        <p:spPr>
          <a:xfrm>
            <a:off x="1547640" y="148428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14"/>
          <p:cNvSpPr txBox="1"/>
          <p:nvPr/>
        </p:nvSpPr>
        <p:spPr>
          <a:xfrm>
            <a:off x="971640" y="350028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28" name="Group 20"/>
          <p:cNvGrpSpPr/>
          <p:nvPr/>
        </p:nvGrpSpPr>
        <p:grpSpPr>
          <a:xfrm>
            <a:off x="2987640" y="3068640"/>
            <a:ext cx="3024360" cy="2665440"/>
            <a:chOff x="2987640" y="3068640"/>
            <a:chExt cx="3024360" cy="2665440"/>
          </a:xfrm>
        </p:grpSpPr>
        <p:sp>
          <p:nvSpPr>
            <p:cNvPr id="329" name="WordArt 16"/>
            <p:cNvSpPr txBox="1"/>
            <p:nvPr/>
          </p:nvSpPr>
          <p:spPr>
            <a:xfrm>
              <a:off x="3635280" y="3068640"/>
              <a:ext cx="216072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3*46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 </a:t>
              </a: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*7*8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0" name="WordArt 17"/>
            <p:cNvSpPr txBox="1"/>
            <p:nvPr/>
          </p:nvSpPr>
          <p:spPr>
            <a:xfrm>
              <a:off x="2987640" y="3933720"/>
              <a:ext cx="432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1" name="WordArt 18"/>
            <p:cNvSpPr txBox="1"/>
            <p:nvPr/>
          </p:nvSpPr>
          <p:spPr>
            <a:xfrm>
              <a:off x="1116000" y="4797720"/>
              <a:ext cx="244800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______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2" name="WordArt 19"/>
            <p:cNvSpPr txBox="1"/>
            <p:nvPr/>
          </p:nvSpPr>
          <p:spPr>
            <a:xfrm>
              <a:off x="3564000" y="5084640"/>
              <a:ext cx="223200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51*</a:t>
              </a:r>
              <a:endPara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3" name="WordArt 21"/>
          <p:cNvSpPr txBox="1"/>
          <p:nvPr/>
        </p:nvSpPr>
        <p:spPr>
          <a:xfrm>
            <a:off x="5364000" y="5084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003640" y="4076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4500720" y="306864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4140360" y="4076640"/>
            <a:ext cx="3585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3635280" y="3068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250920" y="260280"/>
            <a:ext cx="8642160" cy="504720"/>
          </a:xfrm>
          <a:prstGeom prst="wedgeRoundRectCallout">
            <a:avLst>
              <a:gd name="adj1" fmla="val -44986"/>
              <a:gd name="adj2" fmla="val 37326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ка для тех, кто любит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0" y="1700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етии монахи августи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стыря святого Бернара в Швейцарских Альпах разводили огромных сторожевых собак.Эти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авили себя и своих хозяев тем, что во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х бурь они находили и спасали заблудившихся, замерзающих, обессилевших путников. Один только легендарный пёс Барри, живший в монастыре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, за 1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 от верной смерти 40 человек. Определить породу этой собаки ты сможешь, если выполнишь зад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>
            <a:hlinkClick r:id="" action="ppaction://hlinkshowjump?jump=nextslide"/>
          </p:cNvPr>
          <p:cNvSpPr/>
          <p:nvPr/>
        </p:nvSpPr>
        <p:spPr>
          <a:xfrm>
            <a:off x="2340000" y="544500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121" h="21600">
                <a:moveTo>
                  <a:pt x="19054" y="3794"/>
                </a:moveTo>
                <a:lnTo>
                  <a:pt x="33067" y="10800"/>
                </a:lnTo>
                <a:lnTo>
                  <a:pt x="19054" y="17806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0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0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971640" y="333360"/>
          <a:ext cx="6933960" cy="3475080"/>
        </p:xfrm>
        <a:graphic>
          <a:graphicData uri="http://schemas.openxmlformats.org/drawingml/2006/table">
            <a:tbl>
              <a:tblPr/>
              <a:tblGrid>
                <a:gridCol w="5945040"/>
                <a:gridCol w="98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5 + 88 + 12 + 3825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53 – 471 + 270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87 – 514 + 107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4 – 505 – 22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302 + 629 – 1062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94 + 771 + 206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WordArt 38"/>
          <p:cNvSpPr txBox="1"/>
          <p:nvPr/>
        </p:nvSpPr>
        <p:spPr>
          <a:xfrm>
            <a:off x="7236000" y="40464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WordArt 39"/>
          <p:cNvSpPr txBox="1"/>
          <p:nvPr/>
        </p:nvSpPr>
        <p:spPr>
          <a:xfrm>
            <a:off x="7236000" y="981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40"/>
          <p:cNvSpPr txBox="1"/>
          <p:nvPr/>
        </p:nvSpPr>
        <p:spPr>
          <a:xfrm>
            <a:off x="7236000" y="1557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41"/>
          <p:cNvSpPr txBox="1"/>
          <p:nvPr/>
        </p:nvSpPr>
        <p:spPr>
          <a:xfrm>
            <a:off x="7236000" y="213372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42"/>
          <p:cNvSpPr txBox="1"/>
          <p:nvPr/>
        </p:nvSpPr>
        <p:spPr>
          <a:xfrm>
            <a:off x="7236000" y="2708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43"/>
          <p:cNvSpPr txBox="1"/>
          <p:nvPr/>
        </p:nvSpPr>
        <p:spPr>
          <a:xfrm>
            <a:off x="7236000" y="328464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44"/>
          <p:cNvSpPr txBox="1"/>
          <p:nvPr/>
        </p:nvSpPr>
        <p:spPr>
          <a:xfrm>
            <a:off x="5292720" y="404640"/>
            <a:ext cx="10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10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46"/>
          <p:cNvSpPr txBox="1"/>
          <p:nvPr/>
        </p:nvSpPr>
        <p:spPr>
          <a:xfrm>
            <a:off x="4788000" y="981000"/>
            <a:ext cx="107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86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48"/>
          <p:cNvSpPr txBox="1"/>
          <p:nvPr/>
        </p:nvSpPr>
        <p:spPr>
          <a:xfrm>
            <a:off x="4356000" y="155736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WordArt 50"/>
          <p:cNvSpPr txBox="1"/>
          <p:nvPr/>
        </p:nvSpPr>
        <p:spPr>
          <a:xfrm>
            <a:off x="4572000" y="213372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15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51"/>
          <p:cNvSpPr txBox="1"/>
          <p:nvPr/>
        </p:nvSpPr>
        <p:spPr>
          <a:xfrm>
            <a:off x="4932360" y="270828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869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4500720" y="3284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771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326160" y="4005360"/>
            <a:ext cx="84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Найди значения выражений и первую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получившегося числа замени соответству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буквой, а эти буквы запиши в «окошеч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лабири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2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1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1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4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324000" y="0"/>
            <a:ext cx="8389800" cy="1295280"/>
          </a:xfrm>
          <a:prstGeom prst="wedgeRoundRectCallout">
            <a:avLst>
              <a:gd name="adj1" fmla="val 36166"/>
              <a:gd name="adj2" fmla="val 16605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С вычитанием ты тоже хорошо знаком.  Думаю, ты не забыл еще, что вычитание – это действие обратное сло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195640" y="1413000"/>
            <a:ext cx="468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6 - 15 = ...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203640" y="2781360"/>
            <a:ext cx="2808360" cy="1258920"/>
          </a:xfrm>
          <a:prstGeom prst="cloudCallout">
            <a:avLst>
              <a:gd name="adj1" fmla="val -106416"/>
              <a:gd name="adj2" fmla="val 84930"/>
            </a:avLst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2771640" y="436572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Уменьш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2771640" y="515772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Georgia"/>
              </a:rPr>
              <a:t>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2771640" y="595008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Georgia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6084720" y="1341360"/>
            <a:ext cx="1008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Freeform 14"/>
          <p:cNvSpPr/>
          <p:nvPr/>
        </p:nvSpPr>
        <p:spPr>
          <a:xfrm>
            <a:off x="2819520" y="2239920"/>
            <a:ext cx="1020600" cy="111276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643" h="701">
                <a:moveTo>
                  <a:pt x="643" y="701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4465800" y="2163600"/>
            <a:ext cx="60120" cy="868680"/>
          </a:xfrm>
          <a:custGeom>
            <a:avLst/>
            <a:gdLst>
              <a:gd name="textAreaLeft" fmla="*/ 0 w 60120"/>
              <a:gd name="textAreaRight" fmla="*/ 60480 w 60120"/>
              <a:gd name="textAreaTop" fmla="*/ 0 h 868680"/>
              <a:gd name="textAreaBottom" fmla="*/ 869040 h 868680"/>
            </a:gdLst>
            <a:ahLst/>
            <a:rect l="textAreaLeft" t="textAreaTop" r="textAreaRight" b="textAreaBottom"/>
            <a:pathLst>
              <a:path w="38" h="547">
                <a:moveTo>
                  <a:pt x="38" y="54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5219640" y="2193840"/>
            <a:ext cx="1104840" cy="9972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696" h="628">
                <a:moveTo>
                  <a:pt x="0" y="628"/>
                </a:moveTo>
                <a:lnTo>
                  <a:pt x="696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971640" y="333360"/>
          <a:ext cx="6933960" cy="3475080"/>
        </p:xfrm>
        <a:graphic>
          <a:graphicData uri="http://schemas.openxmlformats.org/drawingml/2006/table">
            <a:tbl>
              <a:tblPr/>
              <a:tblGrid>
                <a:gridCol w="5945040"/>
                <a:gridCol w="98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75 + 88 + 12 + 3825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53 – 471 + 270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87 – 514 + 107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344 – 505 – 224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2302 + 629 – 1062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794 + 771 + 206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WordArt 25"/>
          <p:cNvSpPr txBox="1"/>
          <p:nvPr/>
        </p:nvSpPr>
        <p:spPr>
          <a:xfrm>
            <a:off x="7236000" y="40464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26"/>
          <p:cNvSpPr txBox="1"/>
          <p:nvPr/>
        </p:nvSpPr>
        <p:spPr>
          <a:xfrm>
            <a:off x="7236000" y="981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WordArt 27"/>
          <p:cNvSpPr txBox="1"/>
          <p:nvPr/>
        </p:nvSpPr>
        <p:spPr>
          <a:xfrm>
            <a:off x="7236000" y="1557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WordArt 28"/>
          <p:cNvSpPr txBox="1"/>
          <p:nvPr/>
        </p:nvSpPr>
        <p:spPr>
          <a:xfrm>
            <a:off x="7236000" y="213372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7236000" y="2708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30"/>
          <p:cNvSpPr txBox="1"/>
          <p:nvPr/>
        </p:nvSpPr>
        <p:spPr>
          <a:xfrm>
            <a:off x="7236000" y="328464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31"/>
          <p:cNvSpPr txBox="1"/>
          <p:nvPr/>
        </p:nvSpPr>
        <p:spPr>
          <a:xfrm>
            <a:off x="5292720" y="404640"/>
            <a:ext cx="10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10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32"/>
          <p:cNvSpPr txBox="1"/>
          <p:nvPr/>
        </p:nvSpPr>
        <p:spPr>
          <a:xfrm>
            <a:off x="4788000" y="981000"/>
            <a:ext cx="107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86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33"/>
          <p:cNvSpPr txBox="1"/>
          <p:nvPr/>
        </p:nvSpPr>
        <p:spPr>
          <a:xfrm>
            <a:off x="4356000" y="155736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0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34"/>
          <p:cNvSpPr txBox="1"/>
          <p:nvPr/>
        </p:nvSpPr>
        <p:spPr>
          <a:xfrm>
            <a:off x="4572000" y="2133720"/>
            <a:ext cx="79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15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35"/>
          <p:cNvSpPr txBox="1"/>
          <p:nvPr/>
        </p:nvSpPr>
        <p:spPr>
          <a:xfrm>
            <a:off x="4932360" y="270828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1869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36"/>
          <p:cNvSpPr txBox="1"/>
          <p:nvPr/>
        </p:nvSpPr>
        <p:spPr>
          <a:xfrm>
            <a:off x="4500720" y="3284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771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Rectangle 39"/>
          <p:cNvSpPr/>
          <p:nvPr/>
        </p:nvSpPr>
        <p:spPr>
          <a:xfrm>
            <a:off x="684360" y="508464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0"/>
          <p:cNvSpPr/>
          <p:nvPr/>
        </p:nvSpPr>
        <p:spPr>
          <a:xfrm>
            <a:off x="7885080" y="494172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1"/>
          <p:cNvSpPr/>
          <p:nvPr/>
        </p:nvSpPr>
        <p:spPr>
          <a:xfrm>
            <a:off x="4932360" y="4724280"/>
            <a:ext cx="64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2"/>
          <p:cNvSpPr/>
          <p:nvPr/>
        </p:nvSpPr>
        <p:spPr>
          <a:xfrm>
            <a:off x="1835280" y="4221000"/>
            <a:ext cx="64908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3"/>
          <p:cNvSpPr/>
          <p:nvPr/>
        </p:nvSpPr>
        <p:spPr>
          <a:xfrm>
            <a:off x="3203640" y="465300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"/>
          <p:cNvSpPr/>
          <p:nvPr/>
        </p:nvSpPr>
        <p:spPr>
          <a:xfrm>
            <a:off x="3851280" y="587700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5"/>
          <p:cNvSpPr/>
          <p:nvPr/>
        </p:nvSpPr>
        <p:spPr>
          <a:xfrm>
            <a:off x="6516720" y="429264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6"/>
          <p:cNvSpPr/>
          <p:nvPr/>
        </p:nvSpPr>
        <p:spPr>
          <a:xfrm>
            <a:off x="1908000" y="5877000"/>
            <a:ext cx="64944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6372360" y="5877000"/>
            <a:ext cx="64908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3349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1981080" y="37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2544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414180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2"/>
          <p:cNvSpPr/>
          <p:nvPr/>
        </p:nvSpPr>
        <p:spPr>
          <a:xfrm>
            <a:off x="219708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5078160" y="429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666108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8534160" y="49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6013440" y="595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7"/>
          <p:cNvSpPr/>
          <p:nvPr/>
        </p:nvSpPr>
        <p:spPr>
          <a:xfrm rot="1126200">
            <a:off x="2406240" y="4674960"/>
            <a:ext cx="833400" cy="196560"/>
          </a:xfrm>
          <a:prstGeom prst="leftArrow">
            <a:avLst>
              <a:gd name="adj1" fmla="val 50000"/>
              <a:gd name="adj2" fmla="val 105998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8"/>
          <p:cNvSpPr/>
          <p:nvPr/>
        </p:nvSpPr>
        <p:spPr>
          <a:xfrm rot="19888800">
            <a:off x="1042920" y="472428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9"/>
          <p:cNvSpPr/>
          <p:nvPr/>
        </p:nvSpPr>
        <p:spPr>
          <a:xfrm rot="12595200">
            <a:off x="1115640" y="587664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0"/>
          <p:cNvSpPr/>
          <p:nvPr/>
        </p:nvSpPr>
        <p:spPr>
          <a:xfrm rot="10800000">
            <a:off x="2556000" y="623736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2"/>
          <p:cNvSpPr/>
          <p:nvPr/>
        </p:nvSpPr>
        <p:spPr>
          <a:xfrm rot="8049600">
            <a:off x="4397400" y="561852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3"/>
          <p:cNvSpPr/>
          <p:nvPr/>
        </p:nvSpPr>
        <p:spPr>
          <a:xfrm rot="9363000">
            <a:off x="5578560" y="477468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4"/>
          <p:cNvSpPr/>
          <p:nvPr/>
        </p:nvSpPr>
        <p:spPr>
          <a:xfrm rot="12595200">
            <a:off x="7164000" y="4723920"/>
            <a:ext cx="833400" cy="196920"/>
          </a:xfrm>
          <a:prstGeom prst="leftArrow">
            <a:avLst>
              <a:gd name="adj1" fmla="val 50000"/>
              <a:gd name="adj2" fmla="val 105804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5"/>
          <p:cNvSpPr/>
          <p:nvPr/>
        </p:nvSpPr>
        <p:spPr>
          <a:xfrm rot="19888800">
            <a:off x="6955920" y="5694480"/>
            <a:ext cx="978120" cy="196560"/>
          </a:xfrm>
          <a:prstGeom prst="leftArrow">
            <a:avLst>
              <a:gd name="adj1" fmla="val 50000"/>
              <a:gd name="adj2" fmla="val 124405"/>
            </a:avLst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66"/>
          <p:cNvSpPr txBox="1"/>
          <p:nvPr/>
        </p:nvSpPr>
        <p:spPr>
          <a:xfrm>
            <a:off x="3348000" y="4797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WordArt 67"/>
          <p:cNvSpPr txBox="1"/>
          <p:nvPr/>
        </p:nvSpPr>
        <p:spPr>
          <a:xfrm>
            <a:off x="1979640" y="436572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7" name="WordArt 68"/>
          <p:cNvSpPr txBox="1"/>
          <p:nvPr/>
        </p:nvSpPr>
        <p:spPr>
          <a:xfrm>
            <a:off x="826920" y="522936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WordArt 69"/>
          <p:cNvSpPr txBox="1"/>
          <p:nvPr/>
        </p:nvSpPr>
        <p:spPr>
          <a:xfrm>
            <a:off x="205092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70"/>
          <p:cNvSpPr txBox="1"/>
          <p:nvPr/>
        </p:nvSpPr>
        <p:spPr>
          <a:xfrm>
            <a:off x="399564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0" name="WordArt 71"/>
          <p:cNvSpPr txBox="1"/>
          <p:nvPr/>
        </p:nvSpPr>
        <p:spPr>
          <a:xfrm>
            <a:off x="5076720" y="486900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1" name="WordArt 72"/>
          <p:cNvSpPr txBox="1"/>
          <p:nvPr/>
        </p:nvSpPr>
        <p:spPr>
          <a:xfrm>
            <a:off x="6659640" y="443700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WordArt 73"/>
          <p:cNvSpPr txBox="1"/>
          <p:nvPr/>
        </p:nvSpPr>
        <p:spPr>
          <a:xfrm>
            <a:off x="8028000" y="508464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3" name="WordArt 74"/>
          <p:cNvSpPr txBox="1"/>
          <p:nvPr/>
        </p:nvSpPr>
        <p:spPr>
          <a:xfrm>
            <a:off x="6516720" y="602136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4570560" y="3546360"/>
            <a:ext cx="4573440" cy="3311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nodeType="clickEffect" fill="hold">
                      <p:stCondLst>
                        <p:cond delay="0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5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959920" y="208080"/>
            <a:ext cx="566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очка С лежит на отрезке 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дите длину отрезка АС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 а СВ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2987640" y="2781360"/>
            <a:ext cx="547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344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824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4427640" y="2708280"/>
            <a:ext cx="1238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 flipH="1">
            <a:off x="4284720" y="2205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 rot="5400000">
            <a:off x="6268680" y="461880"/>
            <a:ext cx="420840" cy="3960720"/>
          </a:xfrm>
          <a:custGeom>
            <a:avLst/>
            <a:gdLst>
              <a:gd name="textAreaLeft" fmla="*/ 268920 w 420840"/>
              <a:gd name="textAreaRight" fmla="*/ 421200 w 42084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 flipV="1" rot="16200000">
            <a:off x="5502600" y="408600"/>
            <a:ext cx="442800" cy="5473800"/>
          </a:xfrm>
          <a:custGeom>
            <a:avLst/>
            <a:gdLst>
              <a:gd name="textAreaLeft" fmla="*/ 282960 w 442800"/>
              <a:gd name="textAreaRight" fmla="*/ 443160 w 44280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5364720" y="32846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6012720" y="1773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29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 rot="5400000">
            <a:off x="3533400" y="1730160"/>
            <a:ext cx="420480" cy="1513080"/>
          </a:xfrm>
          <a:custGeom>
            <a:avLst/>
            <a:gdLst>
              <a:gd name="textAreaLeft" fmla="*/ 268560 w 420480"/>
              <a:gd name="textAreaRight" fmla="*/ 420840 w 4204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493440" y="1557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2940840" y="37162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21"/>
          <p:cNvSpPr txBox="1"/>
          <p:nvPr/>
        </p:nvSpPr>
        <p:spPr>
          <a:xfrm>
            <a:off x="2629080" y="515628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8 - 29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4788000" y="4724280"/>
            <a:ext cx="18730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0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5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8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8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4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05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1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2691720" y="260280"/>
            <a:ext cx="6389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двух участков земли соб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6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шков картофеля. С пер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астка собра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ме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 сколько мешков карто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ньше собрали со второго учас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м с перв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8"/>
          <p:cNvGrpSpPr/>
          <p:nvPr/>
        </p:nvGrpSpPr>
        <p:grpSpPr>
          <a:xfrm>
            <a:off x="7093080" y="4437000"/>
            <a:ext cx="1368360" cy="1654200"/>
            <a:chOff x="7093080" y="4437000"/>
            <a:chExt cx="1368360" cy="1654200"/>
          </a:xfrm>
        </p:grpSpPr>
        <p:grpSp>
          <p:nvGrpSpPr>
            <p:cNvPr id="432" name="Group 10"/>
            <p:cNvGrpSpPr/>
            <p:nvPr/>
          </p:nvGrpSpPr>
          <p:grpSpPr>
            <a:xfrm>
              <a:off x="7093080" y="4437000"/>
              <a:ext cx="1218240" cy="1654200"/>
              <a:chOff x="7093080" y="4437000"/>
              <a:chExt cx="1218240" cy="1654200"/>
            </a:xfrm>
          </p:grpSpPr>
          <p:sp>
            <p:nvSpPr>
              <p:cNvPr id="433" name="Freeform 11"/>
              <p:cNvSpPr/>
              <p:nvPr/>
            </p:nvSpPr>
            <p:spPr>
              <a:xfrm>
                <a:off x="7728480" y="46314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7358040" y="4631400"/>
                <a:ext cx="370440" cy="19440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940520" y="4680000"/>
                <a:ext cx="370800" cy="19440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7569720" y="45828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7781400" y="4437000"/>
                <a:ext cx="264600" cy="243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7198920" y="4680000"/>
                <a:ext cx="1112040" cy="141084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912" h="1194">
                    <a:moveTo>
                      <a:pt x="434" y="1172"/>
                    </a:moveTo>
                    <a:cubicBezTo>
                      <a:pt x="500" y="1172"/>
                      <a:pt x="633" y="1183"/>
                      <a:pt x="701" y="1172"/>
                    </a:cubicBezTo>
                    <a:cubicBezTo>
                      <a:pt x="769" y="1162"/>
                      <a:pt x="823" y="1151"/>
                      <a:pt x="845" y="1107"/>
                    </a:cubicBezTo>
                    <a:cubicBezTo>
                      <a:pt x="868" y="1064"/>
                      <a:pt x="836" y="967"/>
                      <a:pt x="834" y="912"/>
                    </a:cubicBezTo>
                    <a:cubicBezTo>
                      <a:pt x="833" y="858"/>
                      <a:pt x="834" y="826"/>
                      <a:pt x="834" y="783"/>
                    </a:cubicBezTo>
                    <a:cubicBezTo>
                      <a:pt x="834" y="739"/>
                      <a:pt x="823" y="728"/>
                      <a:pt x="834" y="653"/>
                    </a:cubicBezTo>
                    <a:cubicBezTo>
                      <a:pt x="845" y="577"/>
                      <a:pt x="890" y="414"/>
                      <a:pt x="901" y="328"/>
                    </a:cubicBezTo>
                    <a:cubicBezTo>
                      <a:pt x="912" y="241"/>
                      <a:pt x="901" y="179"/>
                      <a:pt x="901" y="133"/>
                    </a:cubicBezTo>
                    <a:cubicBezTo>
                      <a:pt x="901" y="87"/>
                      <a:pt x="904" y="71"/>
                      <a:pt x="902" y="53"/>
                    </a:cubicBezTo>
                    <a:cubicBezTo>
                      <a:pt x="900" y="35"/>
                      <a:pt x="892" y="31"/>
                      <a:pt x="887" y="23"/>
                    </a:cubicBezTo>
                    <a:cubicBezTo>
                      <a:pt x="882" y="15"/>
                      <a:pt x="880" y="0"/>
                      <a:pt x="872" y="7"/>
                    </a:cubicBezTo>
                    <a:cubicBezTo>
                      <a:pt x="864" y="14"/>
                      <a:pt x="866" y="53"/>
                      <a:pt x="841" y="68"/>
                    </a:cubicBezTo>
                    <a:cubicBezTo>
                      <a:pt x="816" y="83"/>
                      <a:pt x="765" y="88"/>
                      <a:pt x="720" y="98"/>
                    </a:cubicBezTo>
                    <a:cubicBezTo>
                      <a:pt x="675" y="108"/>
                      <a:pt x="629" y="126"/>
                      <a:pt x="568" y="129"/>
                    </a:cubicBezTo>
                    <a:cubicBezTo>
                      <a:pt x="507" y="132"/>
                      <a:pt x="432" y="119"/>
                      <a:pt x="356" y="114"/>
                    </a:cubicBezTo>
                    <a:cubicBezTo>
                      <a:pt x="280" y="109"/>
                      <a:pt x="149" y="103"/>
                      <a:pt x="114" y="98"/>
                    </a:cubicBezTo>
                    <a:cubicBezTo>
                      <a:pt x="79" y="93"/>
                      <a:pt x="139" y="95"/>
                      <a:pt x="144" y="83"/>
                    </a:cubicBezTo>
                    <a:cubicBezTo>
                      <a:pt x="149" y="71"/>
                      <a:pt x="146" y="28"/>
                      <a:pt x="144" y="23"/>
                    </a:cubicBezTo>
                    <a:cubicBezTo>
                      <a:pt x="142" y="18"/>
                      <a:pt x="134" y="48"/>
                      <a:pt x="129" y="53"/>
                    </a:cubicBezTo>
                    <a:cubicBezTo>
                      <a:pt x="124" y="58"/>
                      <a:pt x="116" y="48"/>
                      <a:pt x="114" y="53"/>
                    </a:cubicBezTo>
                    <a:cubicBezTo>
                      <a:pt x="112" y="58"/>
                      <a:pt x="116" y="48"/>
                      <a:pt x="114" y="83"/>
                    </a:cubicBezTo>
                    <a:cubicBezTo>
                      <a:pt x="112" y="118"/>
                      <a:pt x="113" y="157"/>
                      <a:pt x="100" y="263"/>
                    </a:cubicBezTo>
                    <a:cubicBezTo>
                      <a:pt x="87" y="369"/>
                      <a:pt x="44" y="609"/>
                      <a:pt x="33" y="718"/>
                    </a:cubicBezTo>
                    <a:cubicBezTo>
                      <a:pt x="22" y="826"/>
                      <a:pt x="32" y="841"/>
                      <a:pt x="33" y="912"/>
                    </a:cubicBezTo>
                    <a:cubicBezTo>
                      <a:pt x="35" y="984"/>
                      <a:pt x="0" y="1107"/>
                      <a:pt x="44" y="1151"/>
                    </a:cubicBezTo>
                    <a:cubicBezTo>
                      <a:pt x="89" y="1194"/>
                      <a:pt x="235" y="1168"/>
                      <a:pt x="300" y="1172"/>
                    </a:cubicBezTo>
                    <a:cubicBezTo>
                      <a:pt x="366" y="1176"/>
                      <a:pt x="367" y="1172"/>
                      <a:pt x="434" y="1172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17"/>
              <p:cNvGrpSpPr/>
              <p:nvPr/>
            </p:nvGrpSpPr>
            <p:grpSpPr>
              <a:xfrm>
                <a:off x="7093080" y="5555880"/>
                <a:ext cx="952920" cy="535320"/>
                <a:chOff x="7093080" y="5555880"/>
                <a:chExt cx="952920" cy="535320"/>
              </a:xfrm>
            </p:grpSpPr>
            <p:sp>
              <p:nvSpPr>
                <p:cNvPr id="440" name="Freeform 18"/>
                <p:cNvSpPr/>
                <p:nvPr/>
              </p:nvSpPr>
              <p:spPr>
                <a:xfrm>
                  <a:off x="7463880" y="584784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9"/>
                <p:cNvSpPr/>
                <p:nvPr/>
              </p:nvSpPr>
              <p:spPr>
                <a:xfrm>
                  <a:off x="7093080" y="5847840"/>
                  <a:ext cx="370800" cy="19440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"/>
                <p:cNvSpPr/>
                <p:nvPr/>
              </p:nvSpPr>
              <p:spPr>
                <a:xfrm>
                  <a:off x="7675560" y="5896440"/>
                  <a:ext cx="370440" cy="194760"/>
                </a:xfrm>
                <a:custGeom>
                  <a:avLst/>
                  <a:gdLst>
                    <a:gd name="textAreaLeft" fmla="*/ 0 w 370440"/>
                    <a:gd name="textAreaRight" fmla="*/ 370800 w 37044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1"/>
                <p:cNvSpPr/>
                <p:nvPr/>
              </p:nvSpPr>
              <p:spPr>
                <a:xfrm>
                  <a:off x="7304760" y="5750280"/>
                  <a:ext cx="264600" cy="24336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2"/>
                <p:cNvSpPr/>
                <p:nvPr/>
              </p:nvSpPr>
              <p:spPr>
                <a:xfrm>
                  <a:off x="7622640" y="57016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3"/>
                <p:cNvSpPr/>
                <p:nvPr/>
              </p:nvSpPr>
              <p:spPr>
                <a:xfrm>
                  <a:off x="7463880" y="55558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Freeform 24"/>
              <p:cNvSpPr/>
              <p:nvPr/>
            </p:nvSpPr>
            <p:spPr>
              <a:xfrm>
                <a:off x="7516800" y="45342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5"/>
              <p:cNvSpPr/>
              <p:nvPr/>
            </p:nvSpPr>
            <p:spPr>
              <a:xfrm>
                <a:off x="7993440" y="45828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6"/>
              <p:cNvSpPr/>
              <p:nvPr/>
            </p:nvSpPr>
            <p:spPr>
              <a:xfrm>
                <a:off x="7622640" y="44370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Freeform 27"/>
            <p:cNvSpPr/>
            <p:nvPr/>
          </p:nvSpPr>
          <p:spPr>
            <a:xfrm>
              <a:off x="7198920" y="4696200"/>
              <a:ext cx="1262520" cy="364680"/>
            </a:xfrm>
            <a:custGeom>
              <a:avLst/>
              <a:gdLst>
                <a:gd name="textAreaLeft" fmla="*/ 0 w 1262520"/>
                <a:gd name="textAreaRight" fmla="*/ 1262880 w 126252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144" h="360">
                  <a:moveTo>
                    <a:pt x="144" y="32"/>
                  </a:moveTo>
                  <a:cubicBezTo>
                    <a:pt x="120" y="16"/>
                    <a:pt x="72" y="0"/>
                    <a:pt x="48" y="32"/>
                  </a:cubicBezTo>
                  <a:cubicBezTo>
                    <a:pt x="24" y="64"/>
                    <a:pt x="0" y="184"/>
                    <a:pt x="0" y="224"/>
                  </a:cubicBezTo>
                  <a:cubicBezTo>
                    <a:pt x="0" y="264"/>
                    <a:pt x="24" y="264"/>
                    <a:pt x="48" y="272"/>
                  </a:cubicBezTo>
                  <a:cubicBezTo>
                    <a:pt x="72" y="280"/>
                    <a:pt x="96" y="272"/>
                    <a:pt x="144" y="272"/>
                  </a:cubicBezTo>
                  <a:cubicBezTo>
                    <a:pt x="192" y="272"/>
                    <a:pt x="224" y="264"/>
                    <a:pt x="336" y="272"/>
                  </a:cubicBezTo>
                  <a:cubicBezTo>
                    <a:pt x="448" y="280"/>
                    <a:pt x="688" y="312"/>
                    <a:pt x="816" y="320"/>
                  </a:cubicBezTo>
                  <a:cubicBezTo>
                    <a:pt x="944" y="328"/>
                    <a:pt x="1064" y="360"/>
                    <a:pt x="1104" y="320"/>
                  </a:cubicBezTo>
                  <a:cubicBezTo>
                    <a:pt x="1144" y="280"/>
                    <a:pt x="1080" y="128"/>
                    <a:pt x="1056" y="80"/>
                  </a:cubicBezTo>
                  <a:cubicBezTo>
                    <a:pt x="1032" y="32"/>
                    <a:pt x="1000" y="24"/>
                    <a:pt x="960" y="32"/>
                  </a:cubicBezTo>
                  <a:cubicBezTo>
                    <a:pt x="920" y="40"/>
                    <a:pt x="884" y="109"/>
                    <a:pt x="816" y="128"/>
                  </a:cubicBezTo>
                  <a:cubicBezTo>
                    <a:pt x="748" y="147"/>
                    <a:pt x="630" y="148"/>
                    <a:pt x="551" y="146"/>
                  </a:cubicBezTo>
                  <a:cubicBezTo>
                    <a:pt x="472" y="144"/>
                    <a:pt x="399" y="118"/>
                    <a:pt x="339" y="115"/>
                  </a:cubicBezTo>
                  <a:cubicBezTo>
                    <a:pt x="279" y="112"/>
                    <a:pt x="224" y="142"/>
                    <a:pt x="192" y="128"/>
                  </a:cubicBezTo>
                  <a:cubicBezTo>
                    <a:pt x="160" y="114"/>
                    <a:pt x="168" y="48"/>
                    <a:pt x="144" y="32"/>
                  </a:cubicBez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6279840" y="5013360"/>
            <a:ext cx="1595520" cy="1913400"/>
            <a:chOff x="6279840" y="5013360"/>
            <a:chExt cx="1595520" cy="1913400"/>
          </a:xfrm>
        </p:grpSpPr>
        <p:grpSp>
          <p:nvGrpSpPr>
            <p:cNvPr id="451" name="Group 29"/>
            <p:cNvGrpSpPr/>
            <p:nvPr/>
          </p:nvGrpSpPr>
          <p:grpSpPr>
            <a:xfrm>
              <a:off x="6497280" y="5013360"/>
              <a:ext cx="1031400" cy="1504440"/>
              <a:chOff x="6497280" y="5013360"/>
              <a:chExt cx="1031400" cy="1504440"/>
            </a:xfrm>
          </p:grpSpPr>
          <p:sp>
            <p:nvSpPr>
              <p:cNvPr id="452" name="Freeform 30"/>
              <p:cNvSpPr/>
              <p:nvPr/>
            </p:nvSpPr>
            <p:spPr>
              <a:xfrm>
                <a:off x="6497280" y="5160240"/>
                <a:ext cx="1031400" cy="135756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656" h="888">
                    <a:moveTo>
                      <a:pt x="344" y="872"/>
                    </a:moveTo>
                    <a:cubicBezTo>
                      <a:pt x="296" y="872"/>
                      <a:pt x="201" y="880"/>
                      <a:pt x="152" y="872"/>
                    </a:cubicBezTo>
                    <a:cubicBezTo>
                      <a:pt x="103" y="864"/>
                      <a:pt x="64" y="856"/>
                      <a:pt x="48" y="824"/>
                    </a:cubicBezTo>
                    <a:cubicBezTo>
                      <a:pt x="32" y="792"/>
                      <a:pt x="55" y="720"/>
                      <a:pt x="56" y="680"/>
                    </a:cubicBezTo>
                    <a:cubicBezTo>
                      <a:pt x="57" y="640"/>
                      <a:pt x="56" y="616"/>
                      <a:pt x="56" y="584"/>
                    </a:cubicBezTo>
                    <a:cubicBezTo>
                      <a:pt x="56" y="552"/>
                      <a:pt x="64" y="544"/>
                      <a:pt x="56" y="488"/>
                    </a:cubicBezTo>
                    <a:cubicBezTo>
                      <a:pt x="48" y="432"/>
                      <a:pt x="16" y="312"/>
                      <a:pt x="8" y="248"/>
                    </a:cubicBezTo>
                    <a:cubicBezTo>
                      <a:pt x="0" y="184"/>
                      <a:pt x="0" y="136"/>
                      <a:pt x="8" y="104"/>
                    </a:cubicBezTo>
                    <a:cubicBezTo>
                      <a:pt x="16" y="72"/>
                      <a:pt x="24" y="72"/>
                      <a:pt x="56" y="56"/>
                    </a:cubicBezTo>
                    <a:cubicBezTo>
                      <a:pt x="88" y="40"/>
                      <a:pt x="144" y="16"/>
                      <a:pt x="200" y="8"/>
                    </a:cubicBezTo>
                    <a:cubicBezTo>
                      <a:pt x="256" y="0"/>
                      <a:pt x="336" y="0"/>
                      <a:pt x="392" y="8"/>
                    </a:cubicBezTo>
                    <a:cubicBezTo>
                      <a:pt x="448" y="16"/>
                      <a:pt x="504" y="24"/>
                      <a:pt x="536" y="56"/>
                    </a:cubicBezTo>
                    <a:cubicBezTo>
                      <a:pt x="568" y="88"/>
                      <a:pt x="568" y="120"/>
                      <a:pt x="584" y="200"/>
                    </a:cubicBezTo>
                    <a:cubicBezTo>
                      <a:pt x="600" y="280"/>
                      <a:pt x="624" y="456"/>
                      <a:pt x="632" y="536"/>
                    </a:cubicBezTo>
                    <a:cubicBezTo>
                      <a:pt x="640" y="616"/>
                      <a:pt x="633" y="627"/>
                      <a:pt x="632" y="680"/>
                    </a:cubicBezTo>
                    <a:cubicBezTo>
                      <a:pt x="631" y="733"/>
                      <a:pt x="656" y="824"/>
                      <a:pt x="624" y="856"/>
                    </a:cubicBezTo>
                    <a:cubicBezTo>
                      <a:pt x="592" y="888"/>
                      <a:pt x="487" y="869"/>
                      <a:pt x="440" y="872"/>
                    </a:cubicBezTo>
                    <a:cubicBezTo>
                      <a:pt x="393" y="875"/>
                      <a:pt x="392" y="872"/>
                      <a:pt x="344" y="872"/>
                    </a:cubicBez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1"/>
              <p:cNvSpPr/>
              <p:nvPr/>
            </p:nvSpPr>
            <p:spPr>
              <a:xfrm>
                <a:off x="6761160" y="5013360"/>
                <a:ext cx="446400" cy="44496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444960"/>
                  <a:gd name="textAreaBottom" fmla="*/ 445320 h 444960"/>
                </a:gdLst>
                <a:ahLst/>
                <a:rect l="textAreaLeft" t="textAreaTop" r="textAreaRight" b="textAreaBottom"/>
                <a:pathLst>
                  <a:path w="284" h="291">
                    <a:moveTo>
                      <a:pt x="32" y="104"/>
                    </a:moveTo>
                    <a:cubicBezTo>
                      <a:pt x="32" y="80"/>
                      <a:pt x="56" y="16"/>
                      <a:pt x="80" y="8"/>
                    </a:cubicBezTo>
                    <a:cubicBezTo>
                      <a:pt x="104" y="0"/>
                      <a:pt x="144" y="24"/>
                      <a:pt x="176" y="56"/>
                    </a:cubicBezTo>
                    <a:cubicBezTo>
                      <a:pt x="208" y="88"/>
                      <a:pt x="260" y="179"/>
                      <a:pt x="272" y="200"/>
                    </a:cubicBezTo>
                    <a:cubicBezTo>
                      <a:pt x="284" y="221"/>
                      <a:pt x="257" y="187"/>
                      <a:pt x="248" y="184"/>
                    </a:cubicBezTo>
                    <a:cubicBezTo>
                      <a:pt x="239" y="181"/>
                      <a:pt x="232" y="176"/>
                      <a:pt x="216" y="184"/>
                    </a:cubicBezTo>
                    <a:cubicBezTo>
                      <a:pt x="200" y="192"/>
                      <a:pt x="159" y="229"/>
                      <a:pt x="152" y="232"/>
                    </a:cubicBezTo>
                    <a:cubicBezTo>
                      <a:pt x="145" y="235"/>
                      <a:pt x="189" y="192"/>
                      <a:pt x="176" y="200"/>
                    </a:cubicBezTo>
                    <a:cubicBezTo>
                      <a:pt x="163" y="208"/>
                      <a:pt x="100" y="269"/>
                      <a:pt x="72" y="280"/>
                    </a:cubicBezTo>
                    <a:cubicBezTo>
                      <a:pt x="44" y="291"/>
                      <a:pt x="16" y="283"/>
                      <a:pt x="8" y="264"/>
                    </a:cubicBezTo>
                    <a:cubicBezTo>
                      <a:pt x="0" y="245"/>
                      <a:pt x="20" y="195"/>
                      <a:pt x="24" y="168"/>
                    </a:cubicBezTo>
                    <a:cubicBezTo>
                      <a:pt x="28" y="141"/>
                      <a:pt x="30" y="117"/>
                      <a:pt x="32" y="104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2"/>
            <p:cNvGrpSpPr/>
            <p:nvPr/>
          </p:nvGrpSpPr>
          <p:grpSpPr>
            <a:xfrm>
              <a:off x="6279840" y="5970960"/>
              <a:ext cx="1595520" cy="955800"/>
              <a:chOff x="6279840" y="5970960"/>
              <a:chExt cx="1595520" cy="955800"/>
            </a:xfrm>
          </p:grpSpPr>
          <p:sp>
            <p:nvSpPr>
              <p:cNvPr id="455" name="Freeform 33"/>
              <p:cNvSpPr/>
              <p:nvPr/>
            </p:nvSpPr>
            <p:spPr>
              <a:xfrm rot="3568800">
                <a:off x="6397560" y="6217560"/>
                <a:ext cx="477000" cy="54612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1182" h="1316">
                    <a:moveTo>
                      <a:pt x="539" y="89"/>
                    </a:moveTo>
                    <a:cubicBezTo>
                      <a:pt x="635" y="145"/>
                      <a:pt x="972" y="322"/>
                      <a:pt x="1067" y="377"/>
                    </a:cubicBezTo>
                    <a:cubicBezTo>
                      <a:pt x="1162" y="432"/>
                      <a:pt x="1091" y="401"/>
                      <a:pt x="1107" y="417"/>
                    </a:cubicBezTo>
                    <a:cubicBezTo>
                      <a:pt x="1123" y="433"/>
                      <a:pt x="1182" y="406"/>
                      <a:pt x="1163" y="473"/>
                    </a:cubicBezTo>
                    <a:cubicBezTo>
                      <a:pt x="1144" y="540"/>
                      <a:pt x="1060" y="709"/>
                      <a:pt x="995" y="817"/>
                    </a:cubicBezTo>
                    <a:cubicBezTo>
                      <a:pt x="930" y="925"/>
                      <a:pt x="854" y="1046"/>
                      <a:pt x="771" y="1121"/>
                    </a:cubicBezTo>
                    <a:cubicBezTo>
                      <a:pt x="688" y="1196"/>
                      <a:pt x="598" y="1241"/>
                      <a:pt x="499" y="1265"/>
                    </a:cubicBezTo>
                    <a:cubicBezTo>
                      <a:pt x="400" y="1289"/>
                      <a:pt x="259" y="1316"/>
                      <a:pt x="179" y="1265"/>
                    </a:cubicBezTo>
                    <a:cubicBezTo>
                      <a:pt x="99" y="1214"/>
                      <a:pt x="38" y="1070"/>
                      <a:pt x="19" y="961"/>
                    </a:cubicBezTo>
                    <a:cubicBezTo>
                      <a:pt x="0" y="852"/>
                      <a:pt x="28" y="714"/>
                      <a:pt x="67" y="609"/>
                    </a:cubicBezTo>
                    <a:cubicBezTo>
                      <a:pt x="106" y="504"/>
                      <a:pt x="188" y="424"/>
                      <a:pt x="251" y="329"/>
                    </a:cubicBezTo>
                    <a:cubicBezTo>
                      <a:pt x="314" y="234"/>
                      <a:pt x="404" y="82"/>
                      <a:pt x="443" y="41"/>
                    </a:cubicBezTo>
                    <a:cubicBezTo>
                      <a:pt x="482" y="0"/>
                      <a:pt x="467" y="73"/>
                      <a:pt x="483" y="81"/>
                    </a:cubicBezTo>
                    <a:cubicBezTo>
                      <a:pt x="499" y="89"/>
                      <a:pt x="527" y="87"/>
                      <a:pt x="539" y="8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5f5f5f"/>
                  </a:gs>
                  <a:gs pos="100000">
                    <a:srgbClr val="969696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4"/>
              <p:cNvSpPr/>
              <p:nvPr/>
            </p:nvSpPr>
            <p:spPr>
              <a:xfrm rot="3568800">
                <a:off x="6560640" y="6307560"/>
                <a:ext cx="232200" cy="3585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576" h="864">
                    <a:moveTo>
                      <a:pt x="336" y="0"/>
                    </a:moveTo>
                    <a:lnTo>
                      <a:pt x="0" y="768"/>
                    </a:lnTo>
                    <a:lnTo>
                      <a:pt x="0" y="816"/>
                    </a:lnTo>
                    <a:lnTo>
                      <a:pt x="48" y="864"/>
                    </a:lnTo>
                    <a:lnTo>
                      <a:pt x="144" y="768"/>
                    </a:lnTo>
                    <a:lnTo>
                      <a:pt x="576" y="144"/>
                    </a:lnTo>
                    <a:lnTo>
                      <a:pt x="336" y="48"/>
                    </a:lnTo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50000">
                    <a:srgbClr val="4d4d4d"/>
                  </a:gs>
                  <a:gs pos="100000">
                    <a:srgbClr val="5f5f5f"/>
                  </a:gs>
                </a:gsLst>
                <a:lin ang="2700000"/>
              </a:grad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5"/>
              <p:cNvSpPr/>
              <p:nvPr/>
            </p:nvSpPr>
            <p:spPr>
              <a:xfrm rot="3568800">
                <a:off x="7051320" y="5983920"/>
                <a:ext cx="561600" cy="92952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929520"/>
                  <a:gd name="textAreaBottom" fmla="*/ 929880 h 929520"/>
                </a:gdLst>
                <a:ahLst/>
                <a:rect l="textAreaLeft" t="textAreaTop" r="textAreaRight" b="textAreaBottom"/>
                <a:pathLst>
                  <a:path w="1392" h="2240">
                    <a:moveTo>
                      <a:pt x="48" y="2120"/>
                    </a:moveTo>
                    <a:lnTo>
                      <a:pt x="1200" y="8"/>
                    </a:lnTo>
                    <a:lnTo>
                      <a:pt x="1272" y="0"/>
                    </a:lnTo>
                    <a:lnTo>
                      <a:pt x="1352" y="32"/>
                    </a:lnTo>
                    <a:lnTo>
                      <a:pt x="1392" y="104"/>
                    </a:lnTo>
                    <a:lnTo>
                      <a:pt x="232" y="2240"/>
                    </a:lnTo>
                    <a:lnTo>
                      <a:pt x="0" y="2120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Freeform 36"/>
            <p:cNvSpPr/>
            <p:nvPr/>
          </p:nvSpPr>
          <p:spPr>
            <a:xfrm>
              <a:off x="6300720" y="6566760"/>
              <a:ext cx="245520" cy="1454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287" h="1272">
                  <a:moveTo>
                    <a:pt x="167" y="952"/>
                  </a:moveTo>
                  <a:cubicBezTo>
                    <a:pt x="152" y="912"/>
                    <a:pt x="0" y="848"/>
                    <a:pt x="63" y="712"/>
                  </a:cubicBezTo>
                  <a:cubicBezTo>
                    <a:pt x="126" y="576"/>
                    <a:pt x="375" y="240"/>
                    <a:pt x="543" y="136"/>
                  </a:cubicBezTo>
                  <a:cubicBezTo>
                    <a:pt x="711" y="32"/>
                    <a:pt x="863" y="104"/>
                    <a:pt x="1071" y="88"/>
                  </a:cubicBezTo>
                  <a:cubicBezTo>
                    <a:pt x="1279" y="72"/>
                    <a:pt x="1599" y="0"/>
                    <a:pt x="1791" y="40"/>
                  </a:cubicBezTo>
                  <a:cubicBezTo>
                    <a:pt x="1983" y="80"/>
                    <a:pt x="2159" y="224"/>
                    <a:pt x="2223" y="328"/>
                  </a:cubicBezTo>
                  <a:cubicBezTo>
                    <a:pt x="2287" y="432"/>
                    <a:pt x="2239" y="520"/>
                    <a:pt x="2175" y="664"/>
                  </a:cubicBezTo>
                  <a:cubicBezTo>
                    <a:pt x="2111" y="808"/>
                    <a:pt x="1975" y="1112"/>
                    <a:pt x="1839" y="1192"/>
                  </a:cubicBezTo>
                  <a:cubicBezTo>
                    <a:pt x="1703" y="1272"/>
                    <a:pt x="1567" y="1144"/>
                    <a:pt x="1359" y="1144"/>
                  </a:cubicBezTo>
                  <a:cubicBezTo>
                    <a:pt x="1151" y="1144"/>
                    <a:pt x="791" y="1224"/>
                    <a:pt x="591" y="1192"/>
                  </a:cubicBezTo>
                  <a:cubicBezTo>
                    <a:pt x="391" y="1160"/>
                    <a:pt x="275" y="1056"/>
                    <a:pt x="159" y="952"/>
                  </a:cubicBez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7"/>
            <p:cNvGrpSpPr/>
            <p:nvPr/>
          </p:nvGrpSpPr>
          <p:grpSpPr>
            <a:xfrm>
              <a:off x="6988320" y="6518160"/>
              <a:ext cx="392760" cy="242640"/>
              <a:chOff x="6988320" y="6518160"/>
              <a:chExt cx="392760" cy="242640"/>
            </a:xfrm>
          </p:grpSpPr>
          <p:sp>
            <p:nvSpPr>
              <p:cNvPr id="460" name="Freeform 38"/>
              <p:cNvSpPr/>
              <p:nvPr/>
            </p:nvSpPr>
            <p:spPr>
              <a:xfrm>
                <a:off x="6988320" y="6615360"/>
                <a:ext cx="196560" cy="968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9"/>
              <p:cNvSpPr/>
              <p:nvPr/>
            </p:nvSpPr>
            <p:spPr>
              <a:xfrm>
                <a:off x="7135560" y="6518160"/>
                <a:ext cx="245520" cy="14544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0"/>
              <p:cNvSpPr/>
              <p:nvPr/>
            </p:nvSpPr>
            <p:spPr>
              <a:xfrm>
                <a:off x="7233840" y="6615360"/>
                <a:ext cx="147240" cy="14544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42"/>
          <p:cNvGrpSpPr/>
          <p:nvPr/>
        </p:nvGrpSpPr>
        <p:grpSpPr>
          <a:xfrm>
            <a:off x="7775640" y="4869000"/>
            <a:ext cx="1368360" cy="1654200"/>
            <a:chOff x="7775640" y="4869000"/>
            <a:chExt cx="1368360" cy="1654200"/>
          </a:xfrm>
        </p:grpSpPr>
        <p:grpSp>
          <p:nvGrpSpPr>
            <p:cNvPr id="464" name="Group 43"/>
            <p:cNvGrpSpPr/>
            <p:nvPr/>
          </p:nvGrpSpPr>
          <p:grpSpPr>
            <a:xfrm>
              <a:off x="7775640" y="4869000"/>
              <a:ext cx="1218240" cy="1654200"/>
              <a:chOff x="7775640" y="4869000"/>
              <a:chExt cx="1218240" cy="1654200"/>
            </a:xfrm>
          </p:grpSpPr>
          <p:sp>
            <p:nvSpPr>
              <p:cNvPr id="465" name="Freeform 44"/>
              <p:cNvSpPr/>
              <p:nvPr/>
            </p:nvSpPr>
            <p:spPr>
              <a:xfrm>
                <a:off x="8411040" y="50634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8040600" y="5063400"/>
                <a:ext cx="370440" cy="19440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8623080" y="5112000"/>
                <a:ext cx="370800" cy="19440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8252280" y="5014800"/>
                <a:ext cx="264960" cy="2430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8"/>
              <p:cNvSpPr/>
              <p:nvPr/>
            </p:nvSpPr>
            <p:spPr>
              <a:xfrm>
                <a:off x="8463960" y="4869000"/>
                <a:ext cx="264600" cy="243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9"/>
              <p:cNvSpPr/>
              <p:nvPr/>
            </p:nvSpPr>
            <p:spPr>
              <a:xfrm>
                <a:off x="7881480" y="5112000"/>
                <a:ext cx="1112040" cy="1410840"/>
              </a:xfrm>
              <a:custGeom>
                <a:avLst/>
                <a:gdLst>
                  <a:gd name="textAreaLeft" fmla="*/ 0 w 1112040"/>
                  <a:gd name="textAreaRight" fmla="*/ 1112400 w 1112040"/>
                  <a:gd name="textAreaTop" fmla="*/ 0 h 1410840"/>
                  <a:gd name="textAreaBottom" fmla="*/ 1411200 h 1410840"/>
                </a:gdLst>
                <a:ahLst/>
                <a:rect l="textAreaLeft" t="textAreaTop" r="textAreaRight" b="textAreaBottom"/>
                <a:pathLst>
                  <a:path w="912" h="1194">
                    <a:moveTo>
                      <a:pt x="434" y="1172"/>
                    </a:moveTo>
                    <a:cubicBezTo>
                      <a:pt x="500" y="1172"/>
                      <a:pt x="633" y="1183"/>
                      <a:pt x="701" y="1172"/>
                    </a:cubicBezTo>
                    <a:cubicBezTo>
                      <a:pt x="769" y="1162"/>
                      <a:pt x="823" y="1151"/>
                      <a:pt x="845" y="1107"/>
                    </a:cubicBezTo>
                    <a:cubicBezTo>
                      <a:pt x="868" y="1064"/>
                      <a:pt x="836" y="967"/>
                      <a:pt x="834" y="912"/>
                    </a:cubicBezTo>
                    <a:cubicBezTo>
                      <a:pt x="833" y="858"/>
                      <a:pt x="834" y="826"/>
                      <a:pt x="834" y="783"/>
                    </a:cubicBezTo>
                    <a:cubicBezTo>
                      <a:pt x="834" y="739"/>
                      <a:pt x="823" y="728"/>
                      <a:pt x="834" y="653"/>
                    </a:cubicBezTo>
                    <a:cubicBezTo>
                      <a:pt x="845" y="577"/>
                      <a:pt x="890" y="414"/>
                      <a:pt x="901" y="328"/>
                    </a:cubicBezTo>
                    <a:cubicBezTo>
                      <a:pt x="912" y="241"/>
                      <a:pt x="901" y="179"/>
                      <a:pt x="901" y="133"/>
                    </a:cubicBezTo>
                    <a:cubicBezTo>
                      <a:pt x="901" y="87"/>
                      <a:pt x="904" y="71"/>
                      <a:pt x="902" y="53"/>
                    </a:cubicBezTo>
                    <a:cubicBezTo>
                      <a:pt x="900" y="35"/>
                      <a:pt x="892" y="31"/>
                      <a:pt x="887" y="23"/>
                    </a:cubicBezTo>
                    <a:cubicBezTo>
                      <a:pt x="882" y="15"/>
                      <a:pt x="880" y="0"/>
                      <a:pt x="872" y="7"/>
                    </a:cubicBezTo>
                    <a:cubicBezTo>
                      <a:pt x="864" y="14"/>
                      <a:pt x="866" y="53"/>
                      <a:pt x="841" y="68"/>
                    </a:cubicBezTo>
                    <a:cubicBezTo>
                      <a:pt x="816" y="83"/>
                      <a:pt x="765" y="88"/>
                      <a:pt x="720" y="98"/>
                    </a:cubicBezTo>
                    <a:cubicBezTo>
                      <a:pt x="675" y="108"/>
                      <a:pt x="629" y="126"/>
                      <a:pt x="568" y="129"/>
                    </a:cubicBezTo>
                    <a:cubicBezTo>
                      <a:pt x="507" y="132"/>
                      <a:pt x="432" y="119"/>
                      <a:pt x="356" y="114"/>
                    </a:cubicBezTo>
                    <a:cubicBezTo>
                      <a:pt x="280" y="109"/>
                      <a:pt x="149" y="103"/>
                      <a:pt x="114" y="98"/>
                    </a:cubicBezTo>
                    <a:cubicBezTo>
                      <a:pt x="79" y="93"/>
                      <a:pt x="139" y="95"/>
                      <a:pt x="144" y="83"/>
                    </a:cubicBezTo>
                    <a:cubicBezTo>
                      <a:pt x="149" y="71"/>
                      <a:pt x="146" y="28"/>
                      <a:pt x="144" y="23"/>
                    </a:cubicBezTo>
                    <a:cubicBezTo>
                      <a:pt x="142" y="18"/>
                      <a:pt x="134" y="48"/>
                      <a:pt x="129" y="53"/>
                    </a:cubicBezTo>
                    <a:cubicBezTo>
                      <a:pt x="124" y="58"/>
                      <a:pt x="116" y="48"/>
                      <a:pt x="114" y="53"/>
                    </a:cubicBezTo>
                    <a:cubicBezTo>
                      <a:pt x="112" y="58"/>
                      <a:pt x="116" y="48"/>
                      <a:pt x="114" y="83"/>
                    </a:cubicBezTo>
                    <a:cubicBezTo>
                      <a:pt x="112" y="118"/>
                      <a:pt x="113" y="157"/>
                      <a:pt x="100" y="263"/>
                    </a:cubicBezTo>
                    <a:cubicBezTo>
                      <a:pt x="87" y="369"/>
                      <a:pt x="44" y="609"/>
                      <a:pt x="33" y="718"/>
                    </a:cubicBezTo>
                    <a:cubicBezTo>
                      <a:pt x="22" y="826"/>
                      <a:pt x="32" y="841"/>
                      <a:pt x="33" y="912"/>
                    </a:cubicBezTo>
                    <a:cubicBezTo>
                      <a:pt x="35" y="984"/>
                      <a:pt x="0" y="1107"/>
                      <a:pt x="44" y="1151"/>
                    </a:cubicBezTo>
                    <a:cubicBezTo>
                      <a:pt x="89" y="1194"/>
                      <a:pt x="235" y="1168"/>
                      <a:pt x="300" y="1172"/>
                    </a:cubicBezTo>
                    <a:cubicBezTo>
                      <a:pt x="366" y="1176"/>
                      <a:pt x="367" y="1172"/>
                      <a:pt x="434" y="1172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Group 50"/>
              <p:cNvGrpSpPr/>
              <p:nvPr/>
            </p:nvGrpSpPr>
            <p:grpSpPr>
              <a:xfrm>
                <a:off x="7775640" y="5987880"/>
                <a:ext cx="952920" cy="535320"/>
                <a:chOff x="7775640" y="5987880"/>
                <a:chExt cx="952920" cy="535320"/>
              </a:xfrm>
            </p:grpSpPr>
            <p:sp>
              <p:nvSpPr>
                <p:cNvPr id="472" name="Freeform 51"/>
                <p:cNvSpPr/>
                <p:nvPr/>
              </p:nvSpPr>
              <p:spPr>
                <a:xfrm>
                  <a:off x="8146440" y="627984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52"/>
                <p:cNvSpPr/>
                <p:nvPr/>
              </p:nvSpPr>
              <p:spPr>
                <a:xfrm>
                  <a:off x="7775640" y="6279840"/>
                  <a:ext cx="370800" cy="194400"/>
                </a:xfrm>
                <a:custGeom>
                  <a:avLst/>
                  <a:gdLst>
                    <a:gd name="textAreaLeft" fmla="*/ 0 w 370800"/>
                    <a:gd name="textAreaRight" fmla="*/ 371160 w 37080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3"/>
                <p:cNvSpPr/>
                <p:nvPr/>
              </p:nvSpPr>
              <p:spPr>
                <a:xfrm>
                  <a:off x="8358120" y="6328440"/>
                  <a:ext cx="370440" cy="194760"/>
                </a:xfrm>
                <a:custGeom>
                  <a:avLst/>
                  <a:gdLst>
                    <a:gd name="textAreaLeft" fmla="*/ 0 w 370440"/>
                    <a:gd name="textAreaRight" fmla="*/ 370800 w 370440"/>
                    <a:gd name="textAreaTop" fmla="*/ 0 h 194760"/>
                    <a:gd name="textAreaBottom" fmla="*/ 195120 h 1947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54"/>
                <p:cNvSpPr/>
                <p:nvPr/>
              </p:nvSpPr>
              <p:spPr>
                <a:xfrm>
                  <a:off x="7987320" y="6182280"/>
                  <a:ext cx="264600" cy="24336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55"/>
                <p:cNvSpPr/>
                <p:nvPr/>
              </p:nvSpPr>
              <p:spPr>
                <a:xfrm>
                  <a:off x="8305200" y="61336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6"/>
                <p:cNvSpPr/>
                <p:nvPr/>
              </p:nvSpPr>
              <p:spPr>
                <a:xfrm>
                  <a:off x="8146440" y="5987880"/>
                  <a:ext cx="264600" cy="24300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2287" h="1272">
                      <a:moveTo>
                        <a:pt x="167" y="952"/>
                      </a:moveTo>
                      <a:cubicBezTo>
                        <a:pt x="152" y="912"/>
                        <a:pt x="0" y="848"/>
                        <a:pt x="63" y="712"/>
                      </a:cubicBezTo>
                      <a:cubicBezTo>
                        <a:pt x="126" y="576"/>
                        <a:pt x="375" y="240"/>
                        <a:pt x="543" y="136"/>
                      </a:cubicBezTo>
                      <a:cubicBezTo>
                        <a:pt x="711" y="32"/>
                        <a:pt x="863" y="104"/>
                        <a:pt x="1071" y="88"/>
                      </a:cubicBezTo>
                      <a:cubicBezTo>
                        <a:pt x="1279" y="72"/>
                        <a:pt x="1599" y="0"/>
                        <a:pt x="1791" y="40"/>
                      </a:cubicBezTo>
                      <a:cubicBezTo>
                        <a:pt x="1983" y="80"/>
                        <a:pt x="2159" y="224"/>
                        <a:pt x="2223" y="328"/>
                      </a:cubicBezTo>
                      <a:cubicBezTo>
                        <a:pt x="2287" y="432"/>
                        <a:pt x="2239" y="520"/>
                        <a:pt x="2175" y="664"/>
                      </a:cubicBezTo>
                      <a:cubicBezTo>
                        <a:pt x="2111" y="808"/>
                        <a:pt x="1975" y="1112"/>
                        <a:pt x="1839" y="1192"/>
                      </a:cubicBezTo>
                      <a:cubicBezTo>
                        <a:pt x="1703" y="1272"/>
                        <a:pt x="1567" y="1144"/>
                        <a:pt x="1359" y="1144"/>
                      </a:cubicBezTo>
                      <a:cubicBezTo>
                        <a:pt x="1151" y="1144"/>
                        <a:pt x="791" y="1224"/>
                        <a:pt x="591" y="1192"/>
                      </a:cubicBezTo>
                      <a:cubicBezTo>
                        <a:pt x="391" y="1160"/>
                        <a:pt x="275" y="1056"/>
                        <a:pt x="159" y="952"/>
                      </a:cubicBezTo>
                    </a:path>
                  </a:pathLst>
                </a:cu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Freeform 57"/>
              <p:cNvSpPr/>
              <p:nvPr/>
            </p:nvSpPr>
            <p:spPr>
              <a:xfrm>
                <a:off x="8199360" y="49662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676000" y="50148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305200" y="4869000"/>
                <a:ext cx="211680" cy="1458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287" h="1272">
                    <a:moveTo>
                      <a:pt x="167" y="952"/>
                    </a:moveTo>
                    <a:cubicBezTo>
                      <a:pt x="152" y="912"/>
                      <a:pt x="0" y="848"/>
                      <a:pt x="63" y="712"/>
                    </a:cubicBezTo>
                    <a:cubicBezTo>
                      <a:pt x="126" y="576"/>
                      <a:pt x="375" y="240"/>
                      <a:pt x="543" y="136"/>
                    </a:cubicBezTo>
                    <a:cubicBezTo>
                      <a:pt x="711" y="32"/>
                      <a:pt x="863" y="104"/>
                      <a:pt x="1071" y="88"/>
                    </a:cubicBezTo>
                    <a:cubicBezTo>
                      <a:pt x="1279" y="72"/>
                      <a:pt x="1599" y="0"/>
                      <a:pt x="1791" y="40"/>
                    </a:cubicBezTo>
                    <a:cubicBezTo>
                      <a:pt x="1983" y="80"/>
                      <a:pt x="2159" y="224"/>
                      <a:pt x="2223" y="328"/>
                    </a:cubicBezTo>
                    <a:cubicBezTo>
                      <a:pt x="2287" y="432"/>
                      <a:pt x="2239" y="520"/>
                      <a:pt x="2175" y="664"/>
                    </a:cubicBezTo>
                    <a:cubicBezTo>
                      <a:pt x="2111" y="808"/>
                      <a:pt x="1975" y="1112"/>
                      <a:pt x="1839" y="1192"/>
                    </a:cubicBezTo>
                    <a:cubicBezTo>
                      <a:pt x="1703" y="1272"/>
                      <a:pt x="1567" y="1144"/>
                      <a:pt x="1359" y="1144"/>
                    </a:cubicBezTo>
                    <a:cubicBezTo>
                      <a:pt x="1151" y="1144"/>
                      <a:pt x="791" y="1224"/>
                      <a:pt x="591" y="1192"/>
                    </a:cubicBezTo>
                    <a:cubicBezTo>
                      <a:pt x="391" y="1160"/>
                      <a:pt x="275" y="1056"/>
                      <a:pt x="159" y="952"/>
                    </a:cubicBezTo>
                  </a:path>
                </a:pathLst>
              </a:custGeom>
              <a:blipFill rotWithShape="0">
                <a:blip r:embed="rId3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Freeform 60"/>
            <p:cNvSpPr/>
            <p:nvPr/>
          </p:nvSpPr>
          <p:spPr>
            <a:xfrm>
              <a:off x="7881480" y="5128200"/>
              <a:ext cx="1262520" cy="364680"/>
            </a:xfrm>
            <a:custGeom>
              <a:avLst/>
              <a:gdLst>
                <a:gd name="textAreaLeft" fmla="*/ 0 w 1262520"/>
                <a:gd name="textAreaRight" fmla="*/ 1262880 w 126252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144" h="360">
                  <a:moveTo>
                    <a:pt x="144" y="32"/>
                  </a:moveTo>
                  <a:cubicBezTo>
                    <a:pt x="120" y="16"/>
                    <a:pt x="72" y="0"/>
                    <a:pt x="48" y="32"/>
                  </a:cubicBezTo>
                  <a:cubicBezTo>
                    <a:pt x="24" y="64"/>
                    <a:pt x="0" y="184"/>
                    <a:pt x="0" y="224"/>
                  </a:cubicBezTo>
                  <a:cubicBezTo>
                    <a:pt x="0" y="264"/>
                    <a:pt x="24" y="264"/>
                    <a:pt x="48" y="272"/>
                  </a:cubicBezTo>
                  <a:cubicBezTo>
                    <a:pt x="72" y="280"/>
                    <a:pt x="96" y="272"/>
                    <a:pt x="144" y="272"/>
                  </a:cubicBezTo>
                  <a:cubicBezTo>
                    <a:pt x="192" y="272"/>
                    <a:pt x="224" y="264"/>
                    <a:pt x="336" y="272"/>
                  </a:cubicBezTo>
                  <a:cubicBezTo>
                    <a:pt x="448" y="280"/>
                    <a:pt x="688" y="312"/>
                    <a:pt x="816" y="320"/>
                  </a:cubicBezTo>
                  <a:cubicBezTo>
                    <a:pt x="944" y="328"/>
                    <a:pt x="1064" y="360"/>
                    <a:pt x="1104" y="320"/>
                  </a:cubicBezTo>
                  <a:cubicBezTo>
                    <a:pt x="1144" y="280"/>
                    <a:pt x="1080" y="128"/>
                    <a:pt x="1056" y="80"/>
                  </a:cubicBezTo>
                  <a:cubicBezTo>
                    <a:pt x="1032" y="32"/>
                    <a:pt x="1000" y="24"/>
                    <a:pt x="960" y="32"/>
                  </a:cubicBezTo>
                  <a:cubicBezTo>
                    <a:pt x="920" y="40"/>
                    <a:pt x="884" y="109"/>
                    <a:pt x="816" y="128"/>
                  </a:cubicBezTo>
                  <a:cubicBezTo>
                    <a:pt x="748" y="147"/>
                    <a:pt x="630" y="148"/>
                    <a:pt x="551" y="146"/>
                  </a:cubicBezTo>
                  <a:cubicBezTo>
                    <a:pt x="472" y="144"/>
                    <a:pt x="399" y="118"/>
                    <a:pt x="339" y="115"/>
                  </a:cubicBezTo>
                  <a:cubicBezTo>
                    <a:pt x="279" y="112"/>
                    <a:pt x="224" y="142"/>
                    <a:pt x="192" y="128"/>
                  </a:cubicBezTo>
                  <a:cubicBezTo>
                    <a:pt x="160" y="114"/>
                    <a:pt x="168" y="48"/>
                    <a:pt x="144" y="32"/>
                  </a:cubicBez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61"/>
          <p:cNvSpPr/>
          <p:nvPr/>
        </p:nvSpPr>
        <p:spPr>
          <a:xfrm>
            <a:off x="2580480" y="28526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62"/>
          <p:cNvSpPr txBox="1"/>
          <p:nvPr/>
        </p:nvSpPr>
        <p:spPr>
          <a:xfrm>
            <a:off x="3132000" y="3429000"/>
            <a:ext cx="2449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6 - 54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WordArt 63"/>
          <p:cNvSpPr txBox="1"/>
          <p:nvPr/>
        </p:nvSpPr>
        <p:spPr>
          <a:xfrm>
            <a:off x="2627280" y="350028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AutoShape 64"/>
          <p:cNvSpPr/>
          <p:nvPr/>
        </p:nvSpPr>
        <p:spPr>
          <a:xfrm>
            <a:off x="5219640" y="3068640"/>
            <a:ext cx="187344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WordArt 65"/>
          <p:cNvSpPr txBox="1"/>
          <p:nvPr/>
        </p:nvSpPr>
        <p:spPr>
          <a:xfrm>
            <a:off x="2627280" y="4365720"/>
            <a:ext cx="3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7" name="WordArt 66"/>
          <p:cNvSpPr txBox="1"/>
          <p:nvPr/>
        </p:nvSpPr>
        <p:spPr>
          <a:xfrm>
            <a:off x="3059280" y="429264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4 - 4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8" name="AutoShape 67"/>
          <p:cNvSpPr/>
          <p:nvPr/>
        </p:nvSpPr>
        <p:spPr>
          <a:xfrm>
            <a:off x="5219640" y="3933720"/>
            <a:ext cx="187344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8" descr="Рисунок15"/>
          <p:cNvPicPr/>
          <p:nvPr/>
        </p:nvPicPr>
        <p:blipFill>
          <a:blip r:embed="rId4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0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6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4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8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1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8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8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8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3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5">
            <a:hlinkClick r:id="" action="ppaction://hlinkshowjump?jump=nextslide"/>
          </p:cNvPr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50920" y="260280"/>
            <a:ext cx="2305080" cy="504720"/>
          </a:xfrm>
          <a:prstGeom prst="wedgeRoundRectCallout">
            <a:avLst>
              <a:gd name="adj1" fmla="val -34092"/>
              <a:gd name="adj2" fmla="val 42389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Зада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658960" y="260280"/>
            <a:ext cx="6386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иметр четырёхугольника 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вен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Сторона АВ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а ВС короче стороны АВ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, но длиннее 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н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м. Най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лину стороны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WordArt 12"/>
          <p:cNvSpPr txBox="1"/>
          <p:nvPr/>
        </p:nvSpPr>
        <p:spPr>
          <a:xfrm>
            <a:off x="2627280" y="2492280"/>
            <a:ext cx="244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= 100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WordArt 13"/>
          <p:cNvSpPr txBox="1"/>
          <p:nvPr/>
        </p:nvSpPr>
        <p:spPr>
          <a:xfrm>
            <a:off x="2627280" y="3068640"/>
            <a:ext cx="244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В = 41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6" name="WordArt 14"/>
          <p:cNvSpPr txBox="1"/>
          <p:nvPr/>
        </p:nvSpPr>
        <p:spPr>
          <a:xfrm>
            <a:off x="2627280" y="3716280"/>
            <a:ext cx="431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 м. АВ на 18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7" name="WordArt 15"/>
          <p:cNvSpPr txBox="1"/>
          <p:nvPr/>
        </p:nvSpPr>
        <p:spPr>
          <a:xfrm>
            <a:off x="2627280" y="4365720"/>
            <a:ext cx="42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 б. СD на 6 с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8" name="WordArt 16"/>
          <p:cNvSpPr txBox="1"/>
          <p:nvPr/>
        </p:nvSpPr>
        <p:spPr>
          <a:xfrm>
            <a:off x="2627280" y="5013360"/>
            <a:ext cx="15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D - ?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8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9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0" dur="8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17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4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5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8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7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1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2" dur="8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17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8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4" dur="8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0" name="WordArt 6"/>
          <p:cNvSpPr txBox="1"/>
          <p:nvPr/>
        </p:nvSpPr>
        <p:spPr>
          <a:xfrm>
            <a:off x="611280" y="547560"/>
            <a:ext cx="358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WordArt 7"/>
          <p:cNvSpPr txBox="1"/>
          <p:nvPr/>
        </p:nvSpPr>
        <p:spPr>
          <a:xfrm>
            <a:off x="1116000" y="47628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1 - 18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WordArt 8"/>
          <p:cNvSpPr txBox="1"/>
          <p:nvPr/>
        </p:nvSpPr>
        <p:spPr>
          <a:xfrm>
            <a:off x="3564000" y="404640"/>
            <a:ext cx="7207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401360" y="40464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- 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WordArt 10"/>
          <p:cNvSpPr txBox="1"/>
          <p:nvPr/>
        </p:nvSpPr>
        <p:spPr>
          <a:xfrm>
            <a:off x="611280" y="170028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WordArt 11"/>
          <p:cNvSpPr txBox="1"/>
          <p:nvPr/>
        </p:nvSpPr>
        <p:spPr>
          <a:xfrm>
            <a:off x="1116000" y="162864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3 - 6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WordArt 12"/>
          <p:cNvSpPr txBox="1"/>
          <p:nvPr/>
        </p:nvSpPr>
        <p:spPr>
          <a:xfrm>
            <a:off x="3564000" y="1484280"/>
            <a:ext cx="720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7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4396680" y="1484280"/>
            <a:ext cx="12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- С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14"/>
          <p:cNvSpPr txBox="1"/>
          <p:nvPr/>
        </p:nvSpPr>
        <p:spPr>
          <a:xfrm>
            <a:off x="611280" y="2781360"/>
            <a:ext cx="358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9" name="WordArt 15"/>
          <p:cNvSpPr txBox="1"/>
          <p:nvPr/>
        </p:nvSpPr>
        <p:spPr>
          <a:xfrm>
            <a:off x="1258920" y="263700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-(41+23+17)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5508720" y="2205000"/>
            <a:ext cx="2735280" cy="14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(c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м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421200" y="40766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18"/>
          <p:cNvSpPr txBox="1"/>
          <p:nvPr/>
        </p:nvSpPr>
        <p:spPr>
          <a:xfrm>
            <a:off x="1476360" y="4653000"/>
            <a:ext cx="3384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D = 19 см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nodeType="clickEffect" fill="hold">
                      <p:stCondLst>
                        <p:cond delay="0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d36efffaaed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250920" y="189000"/>
            <a:ext cx="4105080" cy="576000"/>
          </a:xfrm>
          <a:prstGeom prst="wedgeRoundRectCallout">
            <a:avLst>
              <a:gd name="adj1" fmla="val -41685"/>
              <a:gd name="adj2" fmla="val 38057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Найдите раз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4067280" y="10540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9 - 4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4067280" y="213372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2 - 3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3995640" y="3070080"/>
            <a:ext cx="288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2 - 30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WordArt 9"/>
          <p:cNvSpPr txBox="1"/>
          <p:nvPr/>
        </p:nvSpPr>
        <p:spPr>
          <a:xfrm>
            <a:off x="4067280" y="407844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8 - 27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10"/>
          <p:cNvSpPr txBox="1"/>
          <p:nvPr/>
        </p:nvSpPr>
        <p:spPr>
          <a:xfrm>
            <a:off x="6515280" y="3933720"/>
            <a:ext cx="576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1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11"/>
          <p:cNvSpPr txBox="1"/>
          <p:nvPr/>
        </p:nvSpPr>
        <p:spPr>
          <a:xfrm>
            <a:off x="6443640" y="299880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12"/>
          <p:cNvSpPr txBox="1"/>
          <p:nvPr/>
        </p:nvSpPr>
        <p:spPr>
          <a:xfrm>
            <a:off x="6443640" y="2062080"/>
            <a:ext cx="79236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9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6588000" y="98280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2195640" y="4869000"/>
            <a:ext cx="6769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показывает разность двух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2124000" y="5734080"/>
            <a:ext cx="6769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можно сказать, сравн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меньшаемое и вычит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179280" y="5734080"/>
            <a:ext cx="6913800" cy="936720"/>
          </a:xfrm>
          <a:prstGeom prst="wedgeRoundRectCallout">
            <a:avLst>
              <a:gd name="adj1" fmla="val 59782"/>
              <a:gd name="adj2" fmla="val -247625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читание чисел можно изобразить на координатном лу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95280" y="620640"/>
            <a:ext cx="6553080" cy="914400"/>
            <a:chOff x="395280" y="620640"/>
            <a:chExt cx="6553080" cy="914400"/>
          </a:xfrm>
        </p:grpSpPr>
        <p:sp>
          <p:nvSpPr>
            <p:cNvPr id="79" name="Rectangle 7"/>
            <p:cNvSpPr/>
            <p:nvPr/>
          </p:nvSpPr>
          <p:spPr>
            <a:xfrm>
              <a:off x="395280" y="620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7 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"/>
            <p:cNvSpPr/>
            <p:nvPr/>
          </p:nvSpPr>
          <p:spPr>
            <a:xfrm>
              <a:off x="584280" y="1052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"/>
            <p:cNvSpPr/>
            <p:nvPr/>
          </p:nvSpPr>
          <p:spPr>
            <a:xfrm>
              <a:off x="61128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0"/>
            <p:cNvSpPr/>
            <p:nvPr/>
          </p:nvSpPr>
          <p:spPr>
            <a:xfrm>
              <a:off x="133200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205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>
              <a:off x="277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349092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421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>
              <a:off x="493236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5651640" y="979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17"/>
          <p:cNvSpPr/>
          <p:nvPr/>
        </p:nvSpPr>
        <p:spPr>
          <a:xfrm flipH="1">
            <a:off x="3464640" y="549360"/>
            <a:ext cx="2186280" cy="395280"/>
          </a:xfrm>
          <a:custGeom>
            <a:avLst/>
            <a:gdLst>
              <a:gd name="textAreaLeft" fmla="*/ -360 w 2186280"/>
              <a:gd name="textAreaRight" fmla="*/ 2186280 w 2186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4286160" y="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395280" y="170028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3 = 4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324000" y="2852640"/>
            <a:ext cx="6553080" cy="914400"/>
            <a:chOff x="324000" y="2852640"/>
            <a:chExt cx="6553080" cy="914400"/>
          </a:xfrm>
        </p:grpSpPr>
        <p:sp>
          <p:nvSpPr>
            <p:cNvPr id="93" name="Rectangle 21"/>
            <p:cNvSpPr/>
            <p:nvPr/>
          </p:nvSpPr>
          <p:spPr>
            <a:xfrm>
              <a:off x="324000" y="285264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 1        2       3       4        5       6        7   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513000" y="3284280"/>
              <a:ext cx="5897520" cy="1800"/>
            </a:xfrm>
            <a:custGeom>
              <a:avLst/>
              <a:gdLst>
                <a:gd name="textAreaLeft" fmla="*/ 0 w 5897520"/>
                <a:gd name="textAreaRight" fmla="*/ 5897520 w 58975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3"/>
            <p:cNvSpPr/>
            <p:nvPr/>
          </p:nvSpPr>
          <p:spPr>
            <a:xfrm>
              <a:off x="54000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4"/>
            <p:cNvSpPr/>
            <p:nvPr/>
          </p:nvSpPr>
          <p:spPr>
            <a:xfrm>
              <a:off x="126072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5"/>
            <p:cNvSpPr/>
            <p:nvPr/>
          </p:nvSpPr>
          <p:spPr>
            <a:xfrm>
              <a:off x="197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6"/>
            <p:cNvSpPr/>
            <p:nvPr/>
          </p:nvSpPr>
          <p:spPr>
            <a:xfrm>
              <a:off x="270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7"/>
            <p:cNvSpPr/>
            <p:nvPr/>
          </p:nvSpPr>
          <p:spPr>
            <a:xfrm>
              <a:off x="341964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8"/>
            <p:cNvSpPr/>
            <p:nvPr/>
          </p:nvSpPr>
          <p:spPr>
            <a:xfrm>
              <a:off x="414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9"/>
            <p:cNvSpPr/>
            <p:nvPr/>
          </p:nvSpPr>
          <p:spPr>
            <a:xfrm>
              <a:off x="486108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5580360" y="321156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31"/>
          <p:cNvSpPr/>
          <p:nvPr/>
        </p:nvSpPr>
        <p:spPr>
          <a:xfrm flipH="1">
            <a:off x="1979640" y="2708280"/>
            <a:ext cx="2873520" cy="538200"/>
          </a:xfrm>
          <a:custGeom>
            <a:avLst/>
            <a:gdLst>
              <a:gd name="textAreaLeft" fmla="*/ 0 w 2873520"/>
              <a:gd name="textAreaRight" fmla="*/ 2873520 w 28735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819" h="339">
                <a:moveTo>
                  <a:pt x="1819" y="339"/>
                </a:moveTo>
                <a:cubicBezTo>
                  <a:pt x="1742" y="295"/>
                  <a:pt x="1507" y="132"/>
                  <a:pt x="1356" y="76"/>
                </a:cubicBezTo>
                <a:cubicBezTo>
                  <a:pt x="1205" y="20"/>
                  <a:pt x="1066" y="0"/>
                  <a:pt x="914" y="1"/>
                </a:cubicBezTo>
                <a:cubicBezTo>
                  <a:pt x="762" y="2"/>
                  <a:pt x="594" y="32"/>
                  <a:pt x="442" y="85"/>
                </a:cubicBezTo>
                <a:cubicBezTo>
                  <a:pt x="290" y="138"/>
                  <a:pt x="92" y="272"/>
                  <a:pt x="0" y="32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334944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3"/>
          <p:cNvSpPr txBox="1"/>
          <p:nvPr/>
        </p:nvSpPr>
        <p:spPr>
          <a:xfrm>
            <a:off x="539640" y="4076640"/>
            <a:ext cx="28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- 4 = 2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d36efffaaed"/>
          <p:cNvPicPr/>
          <p:nvPr/>
        </p:nvPicPr>
        <p:blipFill>
          <a:blip r:embed="rId1"/>
          <a:stretch/>
        </p:blipFill>
        <p:spPr>
          <a:xfrm>
            <a:off x="0" y="765000"/>
            <a:ext cx="2428920" cy="3961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611280" y="6165720"/>
            <a:ext cx="1512720" cy="5050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62" h="21600">
                <a:moveTo>
                  <a:pt x="0" y="0"/>
                </a:moveTo>
                <a:lnTo>
                  <a:pt x="64662" y="0"/>
                </a:lnTo>
                <a:lnTo>
                  <a:pt x="64662" y="21600"/>
                </a:lnTo>
                <a:lnTo>
                  <a:pt x="0" y="21600"/>
                </a:lnTo>
                <a:close/>
              </a:path>
              <a:path fill="lightenLess" w="64662" h="21600">
                <a:moveTo>
                  <a:pt x="0" y="0"/>
                </a:moveTo>
                <a:lnTo>
                  <a:pt x="64662" y="0"/>
                </a:lnTo>
                <a:lnTo>
                  <a:pt x="63262" y="1400"/>
                </a:lnTo>
                <a:lnTo>
                  <a:pt x="1400" y="1400"/>
                </a:lnTo>
                <a:close/>
              </a:path>
              <a:path fill="darken" w="64662" h="21600">
                <a:moveTo>
                  <a:pt x="64662" y="0"/>
                </a:moveTo>
                <a:lnTo>
                  <a:pt x="64662" y="21600"/>
                </a:lnTo>
                <a:lnTo>
                  <a:pt x="63262" y="20200"/>
                </a:lnTo>
                <a:lnTo>
                  <a:pt x="63262" y="1400"/>
                </a:lnTo>
                <a:close/>
              </a:path>
              <a:path fill="darkenLess" w="64662" h="21600">
                <a:moveTo>
                  <a:pt x="64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2" y="20200"/>
                </a:lnTo>
                <a:close/>
              </a:path>
              <a:path fill="lighten" w="64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50920" y="189000"/>
            <a:ext cx="8713800" cy="576000"/>
          </a:xfrm>
          <a:prstGeom prst="wedgeRoundRectCallout">
            <a:avLst>
              <a:gd name="adj1" fmla="val -29120"/>
              <a:gd name="adj2" fmla="val 153305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полни действия на координатном лу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79280" y="4653000"/>
            <a:ext cx="8569080" cy="914400"/>
            <a:chOff x="179280" y="4653000"/>
            <a:chExt cx="8569080" cy="914400"/>
          </a:xfrm>
        </p:grpSpPr>
        <p:sp>
          <p:nvSpPr>
            <p:cNvPr id="110" name="Rectangle 8"/>
            <p:cNvSpPr/>
            <p:nvPr/>
          </p:nvSpPr>
          <p:spPr>
            <a:xfrm>
              <a:off x="179280" y="465300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12720" y="508500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90000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162072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"/>
            <p:cNvSpPr/>
            <p:nvPr/>
          </p:nvSpPr>
          <p:spPr>
            <a:xfrm>
              <a:off x="233964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306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377964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450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522108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594036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666108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738000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8100720" y="50119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WordArt 21"/>
          <p:cNvSpPr txBox="1"/>
          <p:nvPr/>
        </p:nvSpPr>
        <p:spPr>
          <a:xfrm>
            <a:off x="4140360" y="1197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 + 5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22"/>
          <p:cNvSpPr txBox="1"/>
          <p:nvPr/>
        </p:nvSpPr>
        <p:spPr>
          <a:xfrm>
            <a:off x="6588000" y="1125360"/>
            <a:ext cx="358920" cy="6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3059280" y="4653000"/>
            <a:ext cx="3600360" cy="3585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645080" y="414972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4140360" y="2205000"/>
            <a:ext cx="287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- 5 = ..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26"/>
          <p:cNvSpPr txBox="1"/>
          <p:nvPr/>
        </p:nvSpPr>
        <p:spPr>
          <a:xfrm>
            <a:off x="6588000" y="2060640"/>
            <a:ext cx="358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Freeform 27"/>
          <p:cNvSpPr/>
          <p:nvPr/>
        </p:nvSpPr>
        <p:spPr>
          <a:xfrm flipH="1" flipV="1">
            <a:off x="3058560" y="5228640"/>
            <a:ext cx="3600360" cy="361800"/>
          </a:xfrm>
          <a:custGeom>
            <a:avLst/>
            <a:gdLst>
              <a:gd name="textAreaLeft" fmla="*/ -360 w 3600360"/>
              <a:gd name="textAreaRight" fmla="*/ 3600360 w 360036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4644720" y="5589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33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19"/>
          <p:cNvSpPr/>
          <p:nvPr/>
        </p:nvSpPr>
        <p:spPr>
          <a:xfrm flipH="1">
            <a:off x="3132000" y="765000"/>
            <a:ext cx="2880000" cy="432000"/>
          </a:xfrm>
          <a:custGeom>
            <a:avLst/>
            <a:gdLst>
              <a:gd name="textAreaLeft" fmla="*/ 360 w 2880000"/>
              <a:gd name="textAreaRight" fmla="*/ 2880720 w 2880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853440" y="18900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(3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3840120" y="1371600"/>
            <a:ext cx="2163960" cy="47484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 flipH="1" flipV="1">
            <a:off x="3132000" y="1412280"/>
            <a:ext cx="719280" cy="431640"/>
          </a:xfrm>
          <a:custGeom>
            <a:avLst/>
            <a:gdLst>
              <a:gd name="textAreaLeft" fmla="*/ 360 w 719280"/>
              <a:gd name="textAreaRight" fmla="*/ 720000 w 7192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2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478944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396720" y="2276640"/>
            <a:ext cx="396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(3 + 1)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4140360" y="2205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- 4 = 3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396720" y="3213000"/>
            <a:ext cx="39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7 - 1) - 3 = 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4068720" y="314172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- 3 = 3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29"/>
          <p:cNvSpPr/>
          <p:nvPr/>
        </p:nvSpPr>
        <p:spPr>
          <a:xfrm>
            <a:off x="250920" y="4653000"/>
            <a:ext cx="6950160" cy="1944720"/>
          </a:xfrm>
          <a:prstGeom prst="wedgeRoundRectCallout">
            <a:avLst>
              <a:gd name="adj1" fmla="val 55847"/>
              <a:gd name="adj2" fmla="val -9522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Для того чтобы вычесть сумму из числа, можно сначала вычесть из этого числа первое слагаемое, а потом, из полученной разности – второе слагае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61" name="Rectangle 8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21"/>
          <p:cNvSpPr/>
          <p:nvPr/>
        </p:nvSpPr>
        <p:spPr>
          <a:xfrm>
            <a:off x="5292720" y="765000"/>
            <a:ext cx="2160720" cy="43200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08652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4"/>
          <p:cNvSpPr/>
          <p:nvPr/>
        </p:nvSpPr>
        <p:spPr>
          <a:xfrm>
            <a:off x="6012000" y="1268280"/>
            <a:ext cx="1431720" cy="4748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6518160" y="1773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184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19"/>
          <p:cNvSpPr/>
          <p:nvPr/>
        </p:nvSpPr>
        <p:spPr>
          <a:xfrm>
            <a:off x="1692360" y="765000"/>
            <a:ext cx="4248000" cy="43200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692360" y="1341360"/>
            <a:ext cx="1431720" cy="4748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2197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979640" y="37162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(3 - 2)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5651640" y="371628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6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7488360" y="335772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356580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dd36efffaaed"/>
          <p:cNvPicPr/>
          <p:nvPr/>
        </p:nvPicPr>
        <p:blipFill>
          <a:blip r:embed="rId1"/>
          <a:stretch/>
        </p:blipFill>
        <p:spPr>
          <a:xfrm>
            <a:off x="0" y="213372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>
            <a:off x="1763640" y="285264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+ 3) -2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5435640" y="2852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- 2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50920" y="836640"/>
            <a:ext cx="8569080" cy="914400"/>
            <a:chOff x="250920" y="836640"/>
            <a:chExt cx="8569080" cy="914400"/>
          </a:xfrm>
        </p:grpSpPr>
        <p:sp>
          <p:nvSpPr>
            <p:cNvPr id="210" name="Rectangle 6"/>
            <p:cNvSpPr/>
            <p:nvPr/>
          </p:nvSpPr>
          <p:spPr>
            <a:xfrm>
              <a:off x="250920" y="836640"/>
              <a:ext cx="8569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Georgia"/>
                </a:rPr>
                <a:t>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0       1       2        3        4       5        6       7        8        9      10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>
              <a:off x="684360" y="1268640"/>
              <a:ext cx="792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97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169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241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313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385128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457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529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01200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73272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745164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>
              <a:off x="8172360" y="119556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reeform 19"/>
          <p:cNvSpPr/>
          <p:nvPr/>
        </p:nvSpPr>
        <p:spPr>
          <a:xfrm>
            <a:off x="3851280" y="765000"/>
            <a:ext cx="2158920" cy="432000"/>
          </a:xfrm>
          <a:custGeom>
            <a:avLst/>
            <a:gdLst>
              <a:gd name="textAreaLeft" fmla="*/ 0 w 2158920"/>
              <a:gd name="textAreaRight" fmla="*/ 2158920 w 21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44" h="249">
                <a:moveTo>
                  <a:pt x="1344" y="249"/>
                </a:moveTo>
                <a:cubicBezTo>
                  <a:pt x="1295" y="222"/>
                  <a:pt x="1164" y="116"/>
                  <a:pt x="1051" y="75"/>
                </a:cubicBezTo>
                <a:cubicBezTo>
                  <a:pt x="938" y="34"/>
                  <a:pt x="790" y="4"/>
                  <a:pt x="667" y="2"/>
                </a:cubicBezTo>
                <a:cubicBezTo>
                  <a:pt x="544" y="0"/>
                  <a:pt x="422" y="26"/>
                  <a:pt x="311" y="66"/>
                </a:cubicBezTo>
                <a:cubicBezTo>
                  <a:pt x="200" y="106"/>
                  <a:pt x="65" y="204"/>
                  <a:pt x="0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539640" y="6165720"/>
            <a:ext cx="1513080" cy="5050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64677" h="21600">
                <a:moveTo>
                  <a:pt x="0" y="0"/>
                </a:moveTo>
                <a:lnTo>
                  <a:pt x="64677" y="0"/>
                </a:lnTo>
                <a:lnTo>
                  <a:pt x="64677" y="21600"/>
                </a:lnTo>
                <a:lnTo>
                  <a:pt x="0" y="21600"/>
                </a:lnTo>
                <a:close/>
              </a:path>
              <a:path fill="lightenLess" w="64677" h="21600">
                <a:moveTo>
                  <a:pt x="0" y="0"/>
                </a:moveTo>
                <a:lnTo>
                  <a:pt x="64677" y="0"/>
                </a:lnTo>
                <a:lnTo>
                  <a:pt x="63277" y="1400"/>
                </a:lnTo>
                <a:lnTo>
                  <a:pt x="1400" y="1400"/>
                </a:lnTo>
                <a:close/>
              </a:path>
              <a:path fill="darken" w="64677" h="21600">
                <a:moveTo>
                  <a:pt x="64677" y="0"/>
                </a:moveTo>
                <a:lnTo>
                  <a:pt x="64677" y="21600"/>
                </a:lnTo>
                <a:lnTo>
                  <a:pt x="63277" y="20200"/>
                </a:lnTo>
                <a:lnTo>
                  <a:pt x="63277" y="1400"/>
                </a:lnTo>
                <a:close/>
              </a:path>
              <a:path fill="darkenLess" w="64677" h="21600">
                <a:moveTo>
                  <a:pt x="6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7" y="20200"/>
                </a:lnTo>
                <a:close/>
              </a:path>
              <a:path fill="lighten" w="6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верка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1"/>
          <p:cNvSpPr/>
          <p:nvPr/>
        </p:nvSpPr>
        <p:spPr>
          <a:xfrm>
            <a:off x="3851280" y="1413000"/>
            <a:ext cx="1432080" cy="47448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363" h="299">
                <a:moveTo>
                  <a:pt x="0" y="10"/>
                </a:moveTo>
                <a:cubicBezTo>
                  <a:pt x="49" y="47"/>
                  <a:pt x="189" y="182"/>
                  <a:pt x="305" y="230"/>
                </a:cubicBezTo>
                <a:cubicBezTo>
                  <a:pt x="421" y="278"/>
                  <a:pt x="569" y="295"/>
                  <a:pt x="694" y="297"/>
                </a:cubicBezTo>
                <a:cubicBezTo>
                  <a:pt x="818" y="299"/>
                  <a:pt x="943" y="288"/>
                  <a:pt x="1054" y="239"/>
                </a:cubicBezTo>
                <a:cubicBezTo>
                  <a:pt x="1165" y="190"/>
                  <a:pt x="1299" y="50"/>
                  <a:pt x="1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435744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3"/>
          <p:cNvSpPr/>
          <p:nvPr/>
        </p:nvSpPr>
        <p:spPr>
          <a:xfrm>
            <a:off x="7488360" y="242100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24"/>
          <p:cNvSpPr txBox="1"/>
          <p:nvPr/>
        </p:nvSpPr>
        <p:spPr>
          <a:xfrm>
            <a:off x="1979640" y="371628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+ (3 - 2)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WordArt 25"/>
          <p:cNvSpPr txBox="1"/>
          <p:nvPr/>
        </p:nvSpPr>
        <p:spPr>
          <a:xfrm>
            <a:off x="5651640" y="371628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+ 6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AutoShape 26"/>
          <p:cNvSpPr/>
          <p:nvPr/>
        </p:nvSpPr>
        <p:spPr>
          <a:xfrm>
            <a:off x="7488360" y="335772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645080" y="2602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28"/>
          <p:cNvSpPr txBox="1"/>
          <p:nvPr/>
        </p:nvSpPr>
        <p:spPr>
          <a:xfrm>
            <a:off x="1835280" y="4941720"/>
            <a:ext cx="396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6 - 2) + 3 =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30"/>
          <p:cNvSpPr txBox="1"/>
          <p:nvPr/>
        </p:nvSpPr>
        <p:spPr>
          <a:xfrm>
            <a:off x="5580000" y="494172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 + 3 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AutoShape 31"/>
          <p:cNvSpPr/>
          <p:nvPr/>
        </p:nvSpPr>
        <p:spPr>
          <a:xfrm>
            <a:off x="7488360" y="4508640"/>
            <a:ext cx="165564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2627280" y="5877000"/>
            <a:ext cx="626580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ой вывод можно сдела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5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4:34:27Z</dcterms:created>
  <dc:creator>Егорова Е.И.</dc:creator>
  <dc:description/>
  <dc:language>en-US</dc:language>
  <cp:lastModifiedBy>Elena</cp:lastModifiedBy>
  <dcterms:modified xsi:type="dcterms:W3CDTF">2019-05-08T19:27:06Z</dcterms:modified>
  <cp:revision>9</cp:revision>
  <dc:subject/>
  <dc:title>1</dc:title>
</cp:coreProperties>
</file>