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249-0FD2-4363-8CC5-B325718B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131-EB52-458B-956F-867E8E63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D0D-6F76-4C08-A7A2-710B0921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F9C-E53C-42BC-8941-01E59D5B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8508-9F98-4F96-9F53-6925F219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68B1-E572-4AA6-9B6E-355378AB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CC81-F0AB-4599-835B-5CAF792B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53B0-B54F-418A-A4F8-542DB05F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F93A-AB1D-4C24-954E-B4960944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729A-59FF-4AB2-AFCF-DF87A845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4B48-E7B0-427B-9158-BA534971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44AD-B96F-4420-9894-ABAB4D58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3183-04FC-4DE7-A238-57233D65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547D-4660-4DFC-9036-837E5931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84F5-A0F7-4B02-B757-60592336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D12A-6336-4211-B192-A1432623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DDD9-B52A-4BC5-8C8D-18613FB4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5900E-4999-4FDA-AAB7-0953322B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552A9-C13A-46F3-9330-3ABE8437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2E048-1DDF-4AB0-A9CC-22D74037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E57AE-CE0F-438A-89AD-E59FD9FF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64302-9C90-405E-82D9-F38B44D0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308-B8C0-4C43-88C1-2195FA11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153D7-A4E8-4CBA-A018-F2CE2488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0C5CA-0795-4A2B-B068-1A5F5D5E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67AA2-18CD-4D6D-9C0A-47BE35A2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D7739-F247-44C5-A434-AC16B2CB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2760-C431-437D-BB11-CF7144CB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AB2CB-2099-4139-AAD6-3DD516C6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61C9D-3481-4AA4-A8DE-E8E71D4A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4ECCC-F15E-402E-8599-3FF02ED4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6AFF6-AD4B-4E2F-8D04-7B09581B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60538-B2D4-4DAA-9380-E7313BFD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C022-390B-4CF7-9E77-885384AF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67311-ECA3-40DB-B93B-9465ADAB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E30F8-D045-49D3-B274-7365DD5E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E5BDC-8D0B-4D83-AB20-95F238D8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FC1F9-FE70-4516-901A-EE55344C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40BFE-F931-4CC3-8C3F-6F198955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A21E4-79CF-4354-8347-F812C469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30FD1-03AC-4C13-8339-FD6EBB3D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D4E05-2EF9-44D3-960A-99B567D7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C0D4D-DAB8-4115-86D2-48BCE629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090EF-8D64-4BDA-893B-5F93FF4F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E6B-A9C7-4FAC-949F-49E869BF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060B3-25E2-467C-87B9-ED0DFA00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E7CC0-DED7-43FE-B097-6C8C3C18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7C22F-2C1D-4DCE-9FFA-FA2CB1ED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9EF65-7F72-49BF-85E7-4C54693B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3553C-2D16-4F1B-82DA-9E9EA2E4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BF0D8-9954-4C73-AC14-A91BCC27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2BEC9-BC4C-4870-A29D-128D7B45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B10BA-C1AA-44BE-A440-6915A3B7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2CE85-C231-46FD-8F7D-CBF16191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0D66A-D4B1-4A10-93FD-42F37D2E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5BB5-C96E-447C-90BD-5EE5021B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E6D75-4E61-4617-9CB4-CA038617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9C3D7-F62F-4B60-9834-5F36B2C1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92935-D222-40A5-854E-DDFBD2A9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65287-A571-4560-BEC5-77714CA7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1D0ED-2B0E-4BB2-AB53-D657CACB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EA4F5-273B-4DEF-92BC-AC5BAF30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E4D18-833B-4B52-8E60-53D1D2F7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E3477-4A7E-487B-9681-B427C2D0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82C0D-257A-4A86-AB41-B30F7615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31887-04A5-4E5C-BC34-C5EB6DA7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AEB2-226F-4190-97B6-C8CEC039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357DB-80FB-4613-84AB-DC45BF83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347A2-84E7-461B-8EC5-316F4D14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FA3F0-895C-4723-ACC6-9CCD1BFE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AFD32-2F5F-416B-9E38-A82C10B4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CDB96-5EC8-463C-A9D6-40292554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76E38-B89D-4F09-9C47-86B599EE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04E18-CAF2-44BC-B05D-EB3FE1F1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5AC75-3401-433B-8217-59E9347F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7301C-EEA1-4519-8BA0-64CCA2A2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7ECA6-2B45-422B-A311-32C81056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F2A-2218-4897-86D8-6A660F8B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7B76E-A0A1-4758-A890-F7F6E181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FB252-8257-4A18-A503-887E1F6E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F2319-9370-4537-B23C-F81CCBEE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11C22-1C2B-4FDF-BE08-9946D8D8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D474C-9B10-4769-BF38-2EDCBAB6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A14-1189-4063-A86A-0E1F5BB6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de9e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de9e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FB7C-43E3-4C01-9477-03F865E30669}" type="slidenum">
              <a:rPr b="0" lang="ru-RU" sz="10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de9e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de9e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EB51-EFFF-4DFF-9EB3-7D1920688ED6}" type="slidenum">
              <a:rPr b="0" lang="ru-RU" sz="10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de9e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dde9e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C6A9-016D-4E1C-9BF6-EE4E0358FE77}" type="slidenum">
              <a:rPr b="0" lang="ru-RU" sz="10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de9e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de9e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1B5A-D50B-433D-A6DC-21AFAF4D479F}" type="slidenum">
              <a:rPr b="0" lang="ru-RU" sz="10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de9e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de9e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04EE-C413-4C5B-9E82-5F4033FB8E7E}" type="slidenum">
              <a:rPr b="0" lang="ru-RU" sz="10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de9e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de9e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B1A6-81C7-4CF7-B55C-255055D0744A}" type="slidenum">
              <a:rPr b="0" lang="ru-RU" sz="10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de9e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de9e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E65C-014A-4754-982C-3B4A582F1709}" type="slidenum">
              <a:rPr b="0" lang="ru-RU" sz="10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810/lenivova-elena.1af/0_744e6_b7de3a13_XL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kusnodom.ru/photos/1281958946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xinfang2011.com/UploadFiles/201181391420793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isnyak.ru/post/post4/11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640720" cy="25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Candara"/>
              </a:rPr>
              <a:t>Классный час «Здоровый образ жизни»</a:t>
            </a:r>
            <a:br>
              <a:rPr sz="4300"/>
            </a:br>
            <a:br>
              <a:rPr sz="4300"/>
            </a:br>
            <a:r>
              <a:rPr b="0" lang="ru-RU" sz="4300" spc="-1" strike="noStrike">
                <a:solidFill>
                  <a:srgbClr val="ffffff"/>
                </a:solidFill>
                <a:latin typeface="Candara"/>
              </a:rPr>
              <a:t>5 класс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64653"/>
                </a:solidFill>
                <a:latin typeface="Candara"/>
              </a:rPr>
              <a:t>  </a:t>
            </a:r>
            <a:r>
              <a:rPr b="1" lang="ru-RU" sz="6000" spc="-1" strike="noStrike">
                <a:solidFill>
                  <a:srgbClr val="464653"/>
                </a:solidFill>
                <a:latin typeface="Candara"/>
              </a:rPr>
              <a:t>Все еще хотите бутылочку Колы?</a:t>
            </a: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53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Candara"/>
              </a:rPr>
              <a:t>1. Пейте ее холодной. Разрушение эмали зубов зависит и от температуры напитка. В Америке газировки пьют больше, чем в Европе, но ее всегда подают со льдом, и повреждений зубов у американских детей меньше.</a:t>
            </a:r>
            <a:endParaRPr b="0" lang="en-US" sz="2200" spc="-1" strike="noStrike">
              <a:solidFill>
                <a:srgbClr val="464653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Candara"/>
              </a:rPr>
              <a:t>2. Пейте через трубочку, чтобы избегать контакта с банкой.</a:t>
            </a:r>
            <a:endParaRPr b="0" lang="en-US" sz="2200" spc="-1" strike="noStrike">
              <a:solidFill>
                <a:srgbClr val="464653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Candara"/>
              </a:rPr>
              <a:t>3. Ограничьтесь одним стаканом 1-2 раза в неделю.</a:t>
            </a:r>
            <a:endParaRPr b="0" lang="en-US" sz="2200" spc="-1" strike="noStrike">
              <a:solidFill>
                <a:srgbClr val="464653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Candara"/>
              </a:rPr>
              <a:t>4. Откажитесь от газировки, если страдаете ожирением, диабетом, гастритом, язвой.</a:t>
            </a:r>
            <a:endParaRPr b="0" lang="en-US" sz="2200" spc="-1" strike="noStrike">
              <a:solidFill>
                <a:srgbClr val="464653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Candara"/>
              </a:rPr>
              <a:t>5. Не давайте газировку детям до 3 лет.</a:t>
            </a:r>
            <a:endParaRPr b="0" lang="en-US" sz="22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ndara"/>
              </a:rPr>
              <a:t>Чтобы уменьшить вред от любой газировки, в том числе и от Pepsi, необходимо следовать простым правилам: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Вкусовые качества чипсов и сухариков достигаются за счет применения различных ароматизаторов (правда фирмы-производители почему-то называют их специями). Поэтому существуют всевозможные «чипсовые» и «сухариковые» разновидности, что называется, «на любителя». 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Ч</a:t>
            </a:r>
            <a:r>
              <a:rPr b="0" i="1" lang="ru-RU" sz="4400" spc="-1" strike="noStrike">
                <a:solidFill>
                  <a:srgbClr val="ffffff"/>
                </a:solidFill>
                <a:latin typeface="Candara"/>
              </a:rPr>
              <a:t>то мы едим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Мы поговорили с вами о неправильном питании, а теперь назовем продукты, которые полезно есть, чтобы оставаться здоровым: фрукты, овощи, рыбу, бобовые …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355640" y="1483920"/>
            <a:ext cx="43419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64653"/>
                </a:solidFill>
                <a:latin typeface="Candara"/>
              </a:rPr>
              <a:t>   </a:t>
            </a: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Зелень – хорошая профилактика инфаркта, улучшает водный баланс, благотворно влияет при малокровии, авитаминозе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алат, укроп,  петрушк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Picture 4" descr="Картинка 4 из 47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41360"/>
            <a:ext cx="3456000" cy="2448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i?id=342107904-47-72"/>
          <p:cNvPicPr/>
          <p:nvPr/>
        </p:nvPicPr>
        <p:blipFill>
          <a:blip r:embed="rId3"/>
          <a:stretch/>
        </p:blipFill>
        <p:spPr>
          <a:xfrm>
            <a:off x="539640" y="3716280"/>
            <a:ext cx="360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ельдерей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611280" y="198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4356000" y="1557360"/>
            <a:ext cx="4319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ревние греки и римляне не обходились без него ни в будни, ни в праздники. Высокие пищевые и целебные достоинства этого растения определяют более чем сорок вкусовых, витаминных и биологически активных веществ. Исследования американских ученых показали, что корни этого растения – идеальное средство для снижения артериального дав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0" descr="i?id=120609941-66-72&amp;n=15"/>
          <p:cNvPicPr/>
          <p:nvPr/>
        </p:nvPicPr>
        <p:blipFill>
          <a:blip r:embed="rId1"/>
          <a:stretch/>
        </p:blipFill>
        <p:spPr>
          <a:xfrm>
            <a:off x="468360" y="1773360"/>
            <a:ext cx="3456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211280" y="1600200"/>
            <a:ext cx="4475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В клубнях этого растения витаминов С и В вдвое, а солей железа втрое больше, чем в картофельных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Особенно полезно это растение для больных диабетом, страдающих малокровием, нарушениями обмена веществ и желудочными заболеваниями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Топинамбур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9" name="Picture 4" descr="i?id=446492419-31-72"/>
          <p:cNvPicPr/>
          <p:nvPr/>
        </p:nvPicPr>
        <p:blipFill>
          <a:blip r:embed="rId1"/>
          <a:stretch/>
        </p:blipFill>
        <p:spPr>
          <a:xfrm>
            <a:off x="324000" y="1773360"/>
            <a:ext cx="36716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492440" y="1904760"/>
            <a:ext cx="4352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  </a:t>
            </a: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Употребление этого овоща очень полезно для зрения и для профилактики раковых заболеваний.</a:t>
            </a: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орковь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2" name="Picture 5" descr="i?id=52574476-61-72"/>
          <p:cNvPicPr/>
          <p:nvPr/>
        </p:nvPicPr>
        <p:blipFill>
          <a:blip r:embed="rId1"/>
          <a:stretch/>
        </p:blipFill>
        <p:spPr>
          <a:xfrm>
            <a:off x="324000" y="1628640"/>
            <a:ext cx="3960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982760" y="1904760"/>
            <a:ext cx="3862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   </a:t>
            </a: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Этот овощ улучшает обмен холестерина и является сильным антиаллергеном</a:t>
            </a: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апуст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5" name="Picture 6" descr="Картинка 22 из 114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42480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0" y="1600200"/>
            <a:ext cx="4114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53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   </a:t>
            </a: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А этот овощ улучшает работу кишечника, снижает артериальное давление. Наличие йода в этом корнеплоде делает ее ценным для профилактики заболевания щитовидной железы и укрепления иммунитета. Обеспечивает организм фосфором, калием, кальцием, натрием и хлором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векл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8" name="Picture 7" descr="i?id=356453419-59-72"/>
          <p:cNvPicPr/>
          <p:nvPr/>
        </p:nvPicPr>
        <p:blipFill>
          <a:blip r:embed="rId1"/>
          <a:stretch/>
        </p:blipFill>
        <p:spPr>
          <a:xfrm>
            <a:off x="684360" y="1916280"/>
            <a:ext cx="381636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684360" y="404280"/>
            <a:ext cx="8007120" cy="630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Candara"/>
              </a:rPr>
              <a:t>. Многие задают себе вопрос: «Как прожить, чтобы не стареть?» И себе отвечают: «Так не бывает». Каждый человек хоть чем-то, да болеет. Но почему один попадает в больницу два раза за всю жизнь, а другой чуть ли не каждый месяц? Уже давно установлено, что за здоровьем надо следить с детства.  Давайте проведем небольшое тестирование о своем здоровье, вам предлагается перечень утверждений, каждое из которых требует ответа «да» или «нет». Эта информация будет полезна, прежде всего, вам.</a:t>
            </a:r>
            <a:endParaRPr b="0" lang="en-US" sz="2800" spc="-1" strike="noStrike">
              <a:solidFill>
                <a:srgbClr val="46465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771800" y="1904760"/>
            <a:ext cx="4073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64653"/>
                </a:solidFill>
                <a:latin typeface="Candara"/>
              </a:rPr>
              <a:t>   </a:t>
            </a:r>
            <a:r>
              <a:rPr b="0" i="1" lang="ru-RU" sz="2000" spc="-1" strike="noStrike">
                <a:solidFill>
                  <a:srgbClr val="464653"/>
                </a:solidFill>
                <a:latin typeface="Candara"/>
              </a:rPr>
              <a:t>Этот овощ малокалориен, зато в нем много фолиевой кислоты, а это значит, что он ускоряет вывод из организма холестерина, избытка воды и поваренной соли, усиливает способность инсулина понижать уровень сахара и способствует процессу образования эритроцитов в крови.</a:t>
            </a:r>
            <a:endParaRPr b="0" lang="en-US" sz="20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Баклажан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1" name="Picture 8" descr="Картинка 9 из 53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916280"/>
            <a:ext cx="417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911480" y="1904760"/>
            <a:ext cx="3933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   </a:t>
            </a: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Обладают общеукрепляющим действием. Хороши для почек, сердечно-сосудистой системы. Обмена веществ.</a:t>
            </a: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Яблок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4" name="Picture 6" descr="Картинка 19 из 957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00280"/>
            <a:ext cx="3724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140360" y="1557360"/>
            <a:ext cx="453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64653"/>
                </a:solidFill>
                <a:latin typeface="Candara"/>
              </a:rPr>
              <a:t>  </a:t>
            </a:r>
            <a:r>
              <a:rPr b="0" i="1" lang="ru-RU" sz="2800" spc="-1" strike="noStrike">
                <a:solidFill>
                  <a:srgbClr val="464653"/>
                </a:solidFill>
                <a:latin typeface="Candara"/>
              </a:rPr>
              <a:t>Повышают прочность капиллярных сосудов, оказывают противосклеротическое действие, способствует выведению из организма воды и поваренной соли.</a:t>
            </a:r>
            <a:endParaRPr b="0" lang="en-US" sz="28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Груш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7" name="Picture 4" descr="i?id=374776917-54-72"/>
          <p:cNvPicPr/>
          <p:nvPr/>
        </p:nvPicPr>
        <p:blipFill>
          <a:blip r:embed="rId1"/>
          <a:stretch/>
        </p:blipFill>
        <p:spPr>
          <a:xfrm>
            <a:off x="468360" y="2060640"/>
            <a:ext cx="35272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700520" y="1904760"/>
            <a:ext cx="414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  </a:t>
            </a: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Общеукрепляющие фрукты, полезные при малокровии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ишня, черешн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0" name="Picture 4" descr="i?id=442765888-08-72"/>
          <p:cNvPicPr/>
          <p:nvPr/>
        </p:nvPicPr>
        <p:blipFill>
          <a:blip r:embed="rId1"/>
          <a:stretch/>
        </p:blipFill>
        <p:spPr>
          <a:xfrm>
            <a:off x="684360" y="2133720"/>
            <a:ext cx="33829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630680" y="1904760"/>
            <a:ext cx="4214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  </a:t>
            </a: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Улучшает пищеварение при атеросклерозе и гипертонической болезни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алин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3" name="Picture 4" descr="i?id=406201375-53-72"/>
          <p:cNvPicPr/>
          <p:nvPr/>
        </p:nvPicPr>
        <p:blipFill>
          <a:blip r:embed="rId1"/>
          <a:stretch/>
        </p:blipFill>
        <p:spPr>
          <a:xfrm>
            <a:off x="900000" y="1844640"/>
            <a:ext cx="2951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843080" y="1904760"/>
            <a:ext cx="4002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Богата общеукрепляющим витамином С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Черная смородин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6" name="Picture 5" descr="i?id=406808058-60-72"/>
          <p:cNvPicPr/>
          <p:nvPr/>
        </p:nvPicPr>
        <p:blipFill>
          <a:blip r:embed="rId1"/>
          <a:stretch/>
        </p:blipFill>
        <p:spPr>
          <a:xfrm>
            <a:off x="395280" y="1700280"/>
            <a:ext cx="3672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64653"/>
                </a:solidFill>
                <a:latin typeface="Candara"/>
              </a:rPr>
              <a:t>   </a:t>
            </a:r>
            <a:r>
              <a:rPr b="0" i="1" lang="ru-RU" sz="2800" spc="-1" strike="noStrike">
                <a:solidFill>
                  <a:srgbClr val="464653"/>
                </a:solidFill>
                <a:latin typeface="Candara"/>
              </a:rPr>
              <a:t>Сон очень положительно влияет на организм человека. Много споров вокруг того, сколько же надо спать человеку? Раньше утверждалось, что ребенок - 10-12 часов, подросток – 9-10 часов, взрослый – 8 часов. Сейчас многие приходят к мнению, что это все индивидуально, некоторым нужно побольше, некоторым поменьше. Но главное – человек не должен чувствовать усталость после сна и быть бодрым весь день</a:t>
            </a:r>
            <a:r>
              <a:rPr b="0" lang="ru-RU" sz="2800" spc="-1" strike="noStrike">
                <a:solidFill>
                  <a:srgbClr val="464653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Candara"/>
              </a:rPr>
              <a:t>Со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53"/>
                </a:solidFill>
                <a:latin typeface="Candara"/>
              </a:rPr>
              <a:t>1. От хорошего сна … Молодеешь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53"/>
                </a:solidFill>
                <a:latin typeface="Candara"/>
              </a:rPr>
              <a:t>2. Сон – лучшее … Лекарство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53"/>
                </a:solidFill>
                <a:latin typeface="Candara"/>
              </a:rPr>
              <a:t>3. Выспишься - … Помолодеешь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53"/>
                </a:solidFill>
                <a:latin typeface="Candara"/>
              </a:rPr>
              <a:t>4. Выспался – будто вновь… Родился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ословицы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  </a:t>
            </a: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Никогда не болеть;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  </a:t>
            </a: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Правильно питаться;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  </a:t>
            </a: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Быть бодрыми;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  </a:t>
            </a: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Вершить добрые дела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53"/>
                </a:solidFill>
                <a:latin typeface="Candara"/>
              </a:rPr>
              <a:t>В общем, вести здоровый образ жизни!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Желаю вам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250920" y="1413000"/>
            <a:ext cx="85946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1. У меня часто плохой аппетит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2. После нескольких часов работы у меня  начинает болеть голова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3. Часто выгляжу усталым и подавленным, иногда раздраженным и угрюмым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4. Периодически у меня бывают серьезные заболевания, когда я вынужден несколько дней оставаться в постели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5. Я почти не занимаюсь спортом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6. В последнее время я несколько прибавил в весе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7. У меня часто кружится голова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8. В настоящее время я курю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9. В детстве я перенес несколько серьезных заболеваний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10. У меня плохой сон и неприятные ощущения утром после пробуждения. 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Тест «Твое здоровье»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7720" y="1484280"/>
            <a:ext cx="8007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70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53"/>
                </a:solidFill>
                <a:latin typeface="Candara"/>
              </a:rPr>
              <a:t>1-2 балла.</a:t>
            </a:r>
            <a:r>
              <a:rPr b="0" lang="ru-RU" sz="2800" spc="-1" strike="noStrike">
                <a:solidFill>
                  <a:srgbClr val="464653"/>
                </a:solidFill>
                <a:latin typeface="Candara"/>
              </a:rPr>
              <a:t> Несмотря на некоторые признаки ухудшения здоровья, вы в хорошей форме. Ни в коем случае не оставляйте усилий по сохранению своего самочувствия.</a:t>
            </a:r>
            <a:endParaRPr b="0" lang="en-US" sz="2800" spc="-1" strike="noStrike">
              <a:solidFill>
                <a:srgbClr val="464653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53"/>
                </a:solidFill>
                <a:latin typeface="Candara"/>
              </a:rPr>
              <a:t>3-6 баллов.</a:t>
            </a:r>
            <a:r>
              <a:rPr b="0" lang="ru-RU" sz="2800" spc="-1" strike="noStrike">
                <a:solidFill>
                  <a:srgbClr val="464653"/>
                </a:solidFill>
                <a:latin typeface="Candara"/>
              </a:rPr>
              <a:t> Ваше отношение к своему здоровью трудно назвать нормальным, уже чувствуется, что вы его расстроили довольно основательно.</a:t>
            </a:r>
            <a:endParaRPr b="0" lang="en-US" sz="2800" spc="-1" strike="noStrike">
              <a:solidFill>
                <a:srgbClr val="464653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53"/>
                </a:solidFill>
                <a:latin typeface="Candara"/>
              </a:rPr>
              <a:t>7-10 баллов.</a:t>
            </a:r>
            <a:r>
              <a:rPr b="0" lang="ru-RU" sz="2800" spc="-1" strike="noStrike">
                <a:solidFill>
                  <a:srgbClr val="464653"/>
                </a:solidFill>
                <a:latin typeface="Candara"/>
              </a:rPr>
              <a:t> Как вы умудрились довести себя до такой степени? Удивительно, что вы еще в состоянии ходить и работать. Вам немедленно нужно</a:t>
            </a:r>
            <a:r>
              <a:rPr b="0" lang="en-US" sz="2800" spc="-1" strike="noStrike">
                <a:solidFill>
                  <a:srgbClr val="464653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464653"/>
                </a:solidFill>
                <a:latin typeface="Candara"/>
              </a:rPr>
              <a:t>менять свои привычки.</a:t>
            </a:r>
            <a:endParaRPr b="0" lang="en-US" sz="28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Результаты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50560" y="1915920"/>
            <a:ext cx="8583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Чтоб мудро жизнь прожить,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Знать надобно немало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Два главных правила запомни для начала: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Ты лучше голодай, чем, что попало есть,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И лучше будь один, чем с кем попало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Основные правила здорового образа жизни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53"/>
                </a:solidFill>
                <a:latin typeface="Candara"/>
              </a:rPr>
              <a:t>1. Правильное питание;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53"/>
                </a:solidFill>
                <a:latin typeface="Candara"/>
              </a:rPr>
              <a:t>2. Сон;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53"/>
                </a:solidFill>
                <a:latin typeface="Candara"/>
              </a:rPr>
              <a:t>3. Активная деятельность и активный отдых;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53"/>
                </a:solidFill>
                <a:latin typeface="Candara"/>
              </a:rPr>
              <a:t>4. Отсутствие вредных привычек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равила здорового образа жизни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При правильном питании снижается заболеваемость учащихся, улучшается психологическое состояние детей, поднимается настроение,  а самое главное — повышается работоспособность и интерес к учебной деятельности</a:t>
            </a: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Candara"/>
              </a:rPr>
              <a:t>Правильное питание—основа здорового образа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Candara"/>
              </a:rPr>
              <a:t>.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53"/>
                </a:solidFill>
                <a:latin typeface="Candara"/>
              </a:rPr>
              <a:t>Газированные напитки могут принести вред вашему здоровью! В них содержатся углеводы, белки, кофеин, ортофосфорная кислота</a:t>
            </a: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, углекислый газ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andara"/>
              </a:rPr>
              <a:t>Что мы пьем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37720" y="836280"/>
            <a:ext cx="80074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64653"/>
                </a:solidFill>
                <a:latin typeface="Candara"/>
              </a:rPr>
              <a:t>Кока-кола с успехом заменяет бытовую химию</a:t>
            </a:r>
            <a:endParaRPr b="0" lang="en-US" sz="60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64653"/>
                </a:solidFill>
                <a:latin typeface="Candara"/>
              </a:rPr>
              <a:t>.</a:t>
            </a:r>
            <a:r>
              <a:rPr b="0" lang="ru-RU" sz="6000" spc="-1" strike="noStrike">
                <a:solidFill>
                  <a:srgbClr val="464653"/>
                </a:solidFill>
                <a:latin typeface="Candara"/>
              </a:rPr>
              <a:t> </a:t>
            </a:r>
            <a:r>
              <a:rPr b="0" lang="en-US" sz="6000" spc="-1" strike="noStrike">
                <a:solidFill>
                  <a:srgbClr val="464653"/>
                </a:solidFill>
                <a:latin typeface="Candara"/>
              </a:rPr>
              <a:t>               =</a:t>
            </a:r>
            <a:endParaRPr b="0" lang="en-US" sz="6000" spc="-1" strike="noStrike">
              <a:solidFill>
                <a:srgbClr val="464653"/>
              </a:solidFill>
              <a:latin typeface="Candara"/>
            </a:endParaRPr>
          </a:p>
        </p:txBody>
      </p:sp>
      <p:pic>
        <p:nvPicPr>
          <p:cNvPr id="350" name="Picture 4" descr="iCAJD4E6Q"/>
          <p:cNvPicPr/>
          <p:nvPr/>
        </p:nvPicPr>
        <p:blipFill>
          <a:blip r:embed="rId1"/>
          <a:stretch/>
        </p:blipFill>
        <p:spPr>
          <a:xfrm>
            <a:off x="1042920" y="3933720"/>
            <a:ext cx="2879640" cy="23655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iCAJZBLJT"/>
          <p:cNvPicPr/>
          <p:nvPr/>
        </p:nvPicPr>
        <p:blipFill>
          <a:blip r:embed="rId2"/>
          <a:stretch/>
        </p:blipFill>
        <p:spPr>
          <a:xfrm>
            <a:off x="5219640" y="3933720"/>
            <a:ext cx="29527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2:27:53Z</dcterms:created>
  <dc:creator>Admin</dc:creator>
  <dc:description/>
  <dc:language>en-US</dc:language>
  <cp:lastModifiedBy>Ольга</cp:lastModifiedBy>
  <dcterms:modified xsi:type="dcterms:W3CDTF">2019-12-01T16:59:23Z</dcterms:modified>
  <cp:revision>49</cp:revision>
  <dc:subject/>
  <dc:title>Здоровый образ жизни</dc:title>
</cp:coreProperties>
</file>