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DCC-13DF-4B84-8D48-E0E86F55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98A-0BAE-4C05-96DD-46282F9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558-95C8-41D5-94C3-521D9F20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7DD-F72F-42D0-94DE-338E467E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C3B4-B326-4116-BB94-20D7DA32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192-00F5-4641-9B68-7F1EA14D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0F9D-CA0C-4ADA-9F08-09C5757D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9870-08D1-4D1E-AA20-C382A48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644-4E82-4C8F-A141-95B6314C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F163-09C3-4F64-95CC-ED61D01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0410-FC8E-412C-A58A-4BC92FF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CF6-9146-4B60-BD70-03E81948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85A6-4B63-4456-ABB1-10E6A0A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E99B-548A-4082-8C6D-BBE7E9E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2D6C-A49A-493A-9135-1039DB0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100-B655-4B52-8A40-A9586C2E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AFD-78C4-4A5E-996B-F136FF45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023D-4BAE-47E7-AA1F-FD1752B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2656-562C-4565-B60F-D39AD6B4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1BA0-0C1C-4778-93FA-C642C23D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4B31-74D1-4CA8-9F24-DABA580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D950-9D12-492C-8293-87A4CFB6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97E-5168-4EF2-86FE-86A9E818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57F5-0F09-45DE-8175-45D2F106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2370-00A1-41CF-89B2-EB4E286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D54F-74A2-4F8C-B314-A538144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E7F0-95DD-44CD-968A-51DA2C2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2DA1-5D46-420C-9178-FA5290B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336E-0FEF-4190-B8DC-DA019D26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2362-40DB-4F34-AC18-C8C0F643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46E4-01A7-47E7-B665-B4F5920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78382-4DBA-4B58-AF9E-117CA72A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9293-59B9-4FBD-997E-593D458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74B-49DA-4B2E-B7B3-9009CF5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5F18-CE61-499E-B7D2-43E508E7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123E-6C30-4510-8139-AD706B1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526E-4C8D-4281-8050-C5F552F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7760-72F6-461C-AEB6-43D4712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D068-67FE-4721-90AE-7358114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40FD3-D836-489C-9DFF-422B2D6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61A4-56D0-4541-8B16-832D0CE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4975-6BB9-4846-9F4C-5F652C61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C30E-3E29-4766-8F5A-F5CA825B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ED7C-FC2C-48C8-B87A-017611D3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CB8-E111-4D94-831E-0E4F577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2729-9662-49E6-9FDE-EDF3CBB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54C8-FDB8-433C-94C5-383231EE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AEAFD-4CAB-4007-8539-575A573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DDCB-94AC-4FFE-A925-72EBF418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3B805-DEF3-4835-A12C-85DABAC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FD1AA-0B4A-4BF1-A998-60E7358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7340-D9AD-4A29-AE95-BF0B199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8551-D83D-4201-9524-A2A0A8A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0FAD-68CA-4548-8A37-D1BF2DA4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F309-5ECC-4FB5-AEBD-A130C266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CF9-E8AB-4B6A-A9D3-880BED48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86F0-6AD8-47E5-A860-55C1C46C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787D-AB54-4C55-A093-873592F7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75BC5-6DDD-42B4-A429-B9D514EC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3883-A4D3-4174-AE38-74323D7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B333-EB0F-4326-9042-0DFC629F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729F-EFAE-498C-968C-1067330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F93F-40A1-47D9-94F2-7819A3E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859B-6F6C-4843-9D57-6D0EEEE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14DD0-6222-4684-A5E8-852DF03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41D9-756F-49E4-959F-E4B9C33B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373-D88C-4F88-9BB7-20ED515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1EFE-F246-4D45-81B2-1B1E89C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D048-3A65-4859-A4B8-12A494F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EAF6-D692-4EC8-B2AB-04BB4B84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E3F3-E0A6-4E97-860B-48A8B15A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C2BA-034E-4835-9CC7-2C88990D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9EAF-DD7D-4A17-8684-FDB9D7D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CB3A-A2F5-4C36-8065-ACC0971A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CCA3D-CC1B-474D-84FE-9B4B7F3C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BC0D-1DB2-4D7E-B52B-F2574ED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7C6B-0AD1-4649-8249-453C8F5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6FB-DC5B-48DC-B692-A6F82E7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AFBC-7C77-4D0A-B884-ECB0711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9E6D6-1441-42C5-8337-94CBBD1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0CB9-8EF9-4D94-AF34-24ADBCF7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508D-E051-440E-9231-1E045722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1C88-5952-4912-8B0F-D461B0D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B6C-17E4-431B-94C6-CFBAD9A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2A8-18FA-4951-8F0D-59288F128055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5C6-06AE-49B5-8649-CB3FAE588F07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de9e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dde9e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E2F-49C5-486C-9D34-BF19949916F9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DEEF-21CA-496C-B9DF-DB701228160A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C7C-7978-4CAC-B630-12DAE8BBBA4B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327-E1E0-4466-A621-8A298E07E67D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25b7e"/>
              </a:gs>
              <a:gs pos="100000">
                <a:srgbClr val="aab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de9e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de9e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4D58-1B45-4F1C-BC1C-1FB5FBFCC14B}" type="slidenum"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810/lenivova-elena.1af/0_744e6_b7de3a13_X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kusnodom.ru/photos/128195894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xinfang2011.com/UploadFiles/2011813914207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snyak.ru/post/post4/11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640720" cy="25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andara"/>
              </a:rPr>
              <a:t>Классный час «Здоровый образ жизни»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Candara"/>
              </a:rPr>
              <a:t>5 класс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Все еще хотите бутылочку Колы?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2. Пейте через трубочку, чтобы избегать контакта с банкой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3. Ограничьтесь одним стаканом 1-2 раза в неделю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4. Откажитесь от газировки, если страдаете ожирением, диабетом, гастритом, язвой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ndara"/>
              </a:rPr>
              <a:t>5. Не давайте газировку детям до 3 лет.</a:t>
            </a:r>
            <a:endParaRPr b="0" lang="en-US" sz="22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ndara"/>
              </a:rPr>
              <a:t>Чтобы уменьшить вред от любой газировки, в том числе и от Pepsi, необходимо следовать простым правилам: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Вкусовые качества чипсов и сухариков достигаются за счет применения различных ароматизаторов (правда фирмы-производители почему-то называют их специями). Поэтому существуют всевозможные «чипсовые» и «сухариковые» разновидности, что называется, «на любителя».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</a:t>
            </a:r>
            <a:r>
              <a:rPr b="0" i="1" lang="ru-RU" sz="4400" spc="-1" strike="noStrike">
                <a:solidFill>
                  <a:srgbClr val="ffffff"/>
                </a:solidFill>
                <a:latin typeface="Candara"/>
              </a:rPr>
              <a:t>то мы еди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Мы поговорили с вами о неправильном питании, а теперь назовем продукты, которые полезно есть, чтобы оставаться здоровым: фрукты, овощи, рыбу, бобовые …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355640" y="1483920"/>
            <a:ext cx="43419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алат, укроп,  петруш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4" descr="Картинка 4 из 4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?id=342107904-47-72"/>
          <p:cNvPicPr/>
          <p:nvPr/>
        </p:nvPicPr>
        <p:blipFill>
          <a:blip r:embed="rId3"/>
          <a:stretch/>
        </p:blipFill>
        <p:spPr>
          <a:xfrm>
            <a:off x="53964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ельдерей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1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356000" y="1557360"/>
            <a:ext cx="43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0" descr="i?id=120609941-66-72&amp;n=15"/>
          <p:cNvPicPr/>
          <p:nvPr/>
        </p:nvPicPr>
        <p:blipFill>
          <a:blip r:embed="rId1"/>
          <a:stretch/>
        </p:blipFill>
        <p:spPr>
          <a:xfrm>
            <a:off x="46836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211280" y="160020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опинамбур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i?id=446492419-31-72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492440" y="1904760"/>
            <a:ext cx="4352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орковь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5" descr="i?id=52574476-61-7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982760" y="1904760"/>
            <a:ext cx="3862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Этот овощ улучшает обмен холестерина и является сильным антиаллергеном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пус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6" descr="Картинка 22 из 114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24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0" y="160020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ек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7" descr="i?id=356453419-59-72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84360" y="404280"/>
            <a:ext cx="800712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. Многие задают себе вопрос: «Как прожить, чтобы не стареть?» И себе отвечают: «Так не бывает». Каждый человек хоть чем-то, да болеет. Но почему один попадает в больницу два раза за всю жизнь, а другой чуть ли не каждый месяц? Уже давно установлено, что за здоровьем надо следить с детства.  Давайте проведем небольшое тестирование о своем здоровье, вам предлагается перечень утверждений, каждое из которых требует ответа «да» или «нет». Эта информация будет полезна, прежде всего, вам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771800" y="1904760"/>
            <a:ext cx="407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000" spc="-1" strike="noStrike">
                <a:solidFill>
                  <a:srgbClr val="464653"/>
                </a:solidFill>
                <a:latin typeface="Candara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0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аклажан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8" descr="Картинка 9 из 5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бладают общеукрепляющим действием. Хороши для почек, сердечно-сосудистой системы. Обмена веществ.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Яблок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6" descr="Картинка 19 из 95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3724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036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руш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7" name="Picture 4" descr="i?id=374776917-54-72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700520" y="1904760"/>
            <a:ext cx="414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Общеукрепляющие фрукты, полезные при малокрови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ишня, череш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0" name="Picture 4" descr="i?id=442765888-08-72"/>
          <p:cNvPicPr/>
          <p:nvPr/>
        </p:nvPicPr>
        <p:blipFill>
          <a:blip r:embed="rId1"/>
          <a:stretch/>
        </p:blipFill>
        <p:spPr>
          <a:xfrm>
            <a:off x="684360" y="2133720"/>
            <a:ext cx="338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30680" y="1904760"/>
            <a:ext cx="4214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Улучшает пищеварение при атеросклерозе и гипертонической болезн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лин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3" name="Picture 4" descr="i?id=406201375-53-72"/>
          <p:cNvPicPr/>
          <p:nvPr/>
        </p:nvPicPr>
        <p:blipFill>
          <a:blip r:embed="rId1"/>
          <a:stretch/>
        </p:blipFill>
        <p:spPr>
          <a:xfrm>
            <a:off x="900000" y="1844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843080" y="1904760"/>
            <a:ext cx="4002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Богата общеукрепляющим витамином С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ерная смород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5" descr="i?id=406808058-60-72"/>
          <p:cNvPicPr/>
          <p:nvPr/>
        </p:nvPicPr>
        <p:blipFill>
          <a:blip r:embed="rId1"/>
          <a:stretch/>
        </p:blipFill>
        <p:spPr>
          <a:xfrm>
            <a:off x="395280" y="1700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   </a:t>
            </a:r>
            <a:r>
              <a:rPr b="0" i="1" lang="ru-RU" sz="2800" spc="-1" strike="noStrike">
                <a:solidFill>
                  <a:srgbClr val="464653"/>
                </a:solidFill>
                <a:latin typeface="Candara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1. От хорошего сна … Молодеешь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2. Сон – лучшее … Лекарство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3. Выспишься - … Помолодеешь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4. Выспался – будто вновь… Родился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ословицы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Никогда не болеть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Правильно питаться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Быть бодрыми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  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Вершить добрые дел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53"/>
                </a:solidFill>
                <a:latin typeface="Candara"/>
              </a:rPr>
              <a:t>В общем, вести здоровый образ жизни!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Желаю вам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50920" y="1413000"/>
            <a:ext cx="85946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1. У меня часто плохой аппетит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2. После нескольких часов работы у меня  начинает болеть голов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5. Я почти не занимаюсь спортом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7. У меня часто кружится голова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8. В настоящее время я курю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10. У меня плохой сон и неприятные ощущения утром после пробуждения.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ест «Твое здоровье»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1-2 балла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3-6 баллов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53"/>
                </a:solidFill>
                <a:latin typeface="Candara"/>
              </a:rPr>
              <a:t>7-10 баллов.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 Как вы умудрились довести себя до такой степени? Удивительно, что вы еще в состоянии ходить и работать. Вам немедленно нужно</a:t>
            </a:r>
            <a:r>
              <a:rPr b="0" lang="en-US" sz="2800" spc="-1" strike="noStrike">
                <a:solidFill>
                  <a:srgbClr val="464653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464653"/>
                </a:solidFill>
                <a:latin typeface="Candara"/>
              </a:rPr>
              <a:t>менять свои привычки.</a:t>
            </a:r>
            <a:endParaRPr b="0" lang="en-US" sz="28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езультат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560" y="1915920"/>
            <a:ext cx="8583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Чтоб мудро жизнь прожить,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Знать надобно немало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Два главных правила запомни для начала: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Ты лучше голодай, чем, что попало есть,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И лучше будь один, чем с кем попало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Основные правила здорового образа жизн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1. Правильное питание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2. Сон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3. Активная деятельность и активный отдых;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4. Отсутствие вредных привычек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авила здорового образа жизн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4653"/>
                </a:solidFill>
                <a:latin typeface="Candara"/>
              </a:rPr>
              <a:t>При правильном питании снижается заболеваемость учащихся, улучшается психологическое состояние детей, поднимается настроение,  а самое главное — повышается работоспособность и интерес к учебной деятельности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ndara"/>
              </a:rPr>
              <a:t>Правильное питание—основа здорового образа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Candara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53"/>
                </a:solidFill>
                <a:latin typeface="Candara"/>
              </a:rPr>
              <a:t>Газированные напитки могут принести вред вашему здоровью! В них содержатся углеводы, белки, кофеин, ортофосфорная кислота</a:t>
            </a:r>
            <a:r>
              <a:rPr b="0" lang="ru-RU" sz="2400" spc="-1" strike="noStrike">
                <a:solidFill>
                  <a:srgbClr val="464653"/>
                </a:solidFill>
                <a:latin typeface="Candara"/>
              </a:rPr>
              <a:t>, углекислый газ.</a:t>
            </a:r>
            <a:endParaRPr b="0" lang="en-US" sz="2400" spc="-1" strike="noStrike">
              <a:solidFill>
                <a:srgbClr val="464653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ndara"/>
              </a:rPr>
              <a:t>Что мы пьем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Кока-кола с успехом заменяет бытовую химию</a:t>
            </a: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64653"/>
                </a:solidFill>
                <a:latin typeface="Candara"/>
              </a:rPr>
              <a:t>.</a:t>
            </a:r>
            <a:r>
              <a:rPr b="0" lang="ru-RU" sz="6000" spc="-1" strike="noStrike">
                <a:solidFill>
                  <a:srgbClr val="464653"/>
                </a:solidFill>
                <a:latin typeface="Candara"/>
              </a:rPr>
              <a:t> </a:t>
            </a:r>
            <a:r>
              <a:rPr b="0" lang="en-US" sz="6000" spc="-1" strike="noStrike">
                <a:solidFill>
                  <a:srgbClr val="464653"/>
                </a:solidFill>
                <a:latin typeface="Candara"/>
              </a:rPr>
              <a:t>               =</a:t>
            </a:r>
            <a:endParaRPr b="0" lang="en-US" sz="6000" spc="-1" strike="noStrike">
              <a:solidFill>
                <a:srgbClr val="464653"/>
              </a:solidFill>
              <a:latin typeface="Candara"/>
            </a:endParaRPr>
          </a:p>
        </p:txBody>
      </p:sp>
      <p:pic>
        <p:nvPicPr>
          <p:cNvPr id="350" name="Picture 4" descr="iCAJD4E6Q"/>
          <p:cNvPicPr/>
          <p:nvPr/>
        </p:nvPicPr>
        <p:blipFill>
          <a:blip r:embed="rId1"/>
          <a:stretch/>
        </p:blipFill>
        <p:spPr>
          <a:xfrm>
            <a:off x="1042920" y="3933720"/>
            <a:ext cx="2879640" cy="2365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CAJZBLJT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2:27:53Z</dcterms:created>
  <dc:creator>Admin</dc:creator>
  <dc:description/>
  <dc:language>en-US</dc:language>
  <cp:lastModifiedBy>Ольга</cp:lastModifiedBy>
  <dcterms:modified xsi:type="dcterms:W3CDTF">2019-12-01T16:59:23Z</dcterms:modified>
  <cp:revision>49</cp:revision>
  <dc:subject/>
  <dc:title>Здоровый образ жизни</dc:title>
</cp:coreProperties>
</file>