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6EE-44E7-4642-83D4-0F9E044F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AE3-F494-437F-87B2-70FA3AAE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72F-8153-4A6B-A5D0-BA609D8F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B0F-F5A4-4690-9F1C-5F4B2D11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BA91-C72D-4CE1-B470-7E43AF4E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A7A9-8E29-4F84-B55B-F90AA005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51A4-658C-4D8D-B366-D5D6B539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C380-CE54-4BB6-BC3C-DA13CA2F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10B5-A2BA-4CAD-BD35-236061F3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F2B2-425F-4986-889F-B962634B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C140-8232-4D13-B42B-85D0358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4C0-6CD8-4C78-A21A-F6F7F709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B71A-32DC-4249-A8C4-68F5F7D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3E9D-9192-4829-92BB-8A50E05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85B1-F205-41AE-8120-A856A169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9E31-3D53-47AA-AB0F-42C5174B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A5CA-1B87-4BEC-9359-10E9CDD6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EC3-7C9D-413C-9129-3190C808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462-B79A-4356-8CFD-1CF57B9D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AD9-4478-4853-926D-E6163A17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653-7973-4A17-B293-46DC41F9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744-9D8F-4C23-86F2-77884F65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825-51F8-4849-8CE4-5F982F6A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18E-547F-4191-8D9B-BDF5ACC1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83C2-9F02-4ED6-B4B2-D83C172A070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17B7-D453-4B8D-B520-AA3849D9EA7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403280" y="1628640"/>
            <a:ext cx="65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стое предлож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350028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Порядок слов выполняет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3  основные функции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093080" y="-316080"/>
            <a:ext cx="2409840" cy="200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-289080" y="0"/>
            <a:ext cx="943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тметьте предложения с простым глагольным сказуемы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0792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Человек должен стремиться к высшей цел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Небо было закрыто туча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Мы будем активно готовиться к конкурсу эрудит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В этом случае мы тренировались бы чащ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Я буду выступать в заключительном концерт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Решайте быстрее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Ночь казалась мне удивительной и прекрас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 На дороге показалась повоз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. Всю дорогу пассажиры клевали нос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411280" y="47628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258920" y="1341360"/>
            <a:ext cx="2449440" cy="201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9640" y="1341360"/>
            <a:ext cx="2232000" cy="201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378936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43280" y="378936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ОСТАВНО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393372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ГЛАГОЛЬНО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72000" y="39337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МЕННО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276640"/>
            <a:ext cx="2376360" cy="2665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00360" y="3141720"/>
            <a:ext cx="6476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00360" y="3933720"/>
            <a:ext cx="6476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92360" y="2276640"/>
            <a:ext cx="2303640" cy="2663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0360" y="3500280"/>
            <a:ext cx="6476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3141720"/>
            <a:ext cx="0" cy="718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59640" y="2276640"/>
            <a:ext cx="2484360" cy="2663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81360"/>
            <a:ext cx="23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ОСТАВН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ГЛАГОЛЬН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КАЗУЕМ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35280" y="2781360"/>
            <a:ext cx="208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ВСПОМОГА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ТЕЛЬН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ЛО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2720" y="2637000"/>
            <a:ext cx="216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НЕОПРЕД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ЛЕННА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ГЛАГО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58920" y="260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ВСПОМОГАТЕЛЬНЫЕ СЛОВ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8000" y="1268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рупп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1268280"/>
            <a:ext cx="54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лаголы со значением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ачал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конц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родолж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1341360"/>
            <a:ext cx="18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236000" y="126828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нача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54920" y="1916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ереста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48360" y="25653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родолжа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30686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крипач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ачал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игра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79640" y="3500280"/>
            <a:ext cx="216072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3573360"/>
            <a:ext cx="216072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86064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рупп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2360" y="3860640"/>
            <a:ext cx="676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лаголы и краткие при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 значением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возмож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еобходим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желатель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0000" y="45086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моч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64360" y="515772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долже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64360" y="580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хоте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16572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ы сможем выступить на концерт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6597720"/>
            <a:ext cx="302436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6669000"/>
            <a:ext cx="302436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08000" y="33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спомогательное сло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620640"/>
            <a:ext cx="86364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24360" y="33336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рат.при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85080" y="620640"/>
            <a:ext cx="72072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1125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вязк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112536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Я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был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рад помоч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Я намерен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был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уехать сегодня ж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Он готов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был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 вами поспори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357336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улевая в настоящем времени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50920" y="4581360"/>
            <a:ext cx="583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Я рад вам помоч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Я намерен уехать сегодня ж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 Он готов с вами поспори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1640" y="1557360"/>
            <a:ext cx="26640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71640" y="1628640"/>
            <a:ext cx="2664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71640" y="2205000"/>
            <a:ext cx="33847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71640" y="2276640"/>
            <a:ext cx="33847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16360" y="2852640"/>
            <a:ext cx="17269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16360" y="2924280"/>
            <a:ext cx="17269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40360" y="2852640"/>
            <a:ext cx="172728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40360" y="2924280"/>
            <a:ext cx="172728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16360" y="5086440"/>
            <a:ext cx="576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16360" y="5157720"/>
            <a:ext cx="576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84720" y="5086440"/>
            <a:ext cx="1224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84720" y="5157720"/>
            <a:ext cx="1224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43280" y="5734080"/>
            <a:ext cx="26654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43280" y="5807160"/>
            <a:ext cx="26654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7640" y="6381720"/>
            <a:ext cx="8636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87640" y="6454800"/>
            <a:ext cx="8636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6381720"/>
            <a:ext cx="16574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19640" y="6453360"/>
            <a:ext cx="16574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79280" y="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Найдите  «четвертое лишнее» среди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сказуемых в предложениях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1844640"/>
            <a:ext cx="921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В клетке соловей перестал петь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Команда будет выступать на своем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пол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Мы будем рады видеть вас у себ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4. Оксана любила покрасоватьс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68360" y="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йди и отметь предложения с составными глагольными сказуемы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07920"/>
            <a:ext cx="91440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Люди научились использовать энергию для своих нуж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В лесу и поле было жарк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Природа помогала животным добывать необходимую пищ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Он будет очень старать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На темном небе начинали мигать звезд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Посмотри  в окно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Кучевые облака громоздились в неб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Я вышел на берег насладиться ароматом листье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79280" y="0"/>
            <a:ext cx="84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йдите предложения с простым глагольны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казуемым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9280" y="1341360"/>
            <a:ext cx="87854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Он будет хорошим спортсмен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Посоветовались бы сначала со м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На собрании принято решение о закрытии лагер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 Его нужно поддержать в эту минут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Немедленно откройте окн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Мы будем петь в хор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Они были первы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И они там был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9" name="Picture 10" descr="1054"/>
          <p:cNvPicPr/>
          <p:nvPr/>
        </p:nvPicPr>
        <p:blipFill>
          <a:blip r:embed="rId1"/>
          <a:stretch/>
        </p:blipFill>
        <p:spPr>
          <a:xfrm rot="20874000">
            <a:off x="6948360" y="4292280"/>
            <a:ext cx="1428840" cy="204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68360" y="189000"/>
            <a:ext cx="770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йдите предложения с составным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лагольным сказуемы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1413000"/>
            <a:ext cx="8713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Снеговая крупа сменилась дожде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Воздух прозрачен, све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Между тем жара понемногу начала спада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Стали носиться в воздухе зловещие слух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Мы рады помочь в эту трудную пору жизн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Я буду писать вам каждый ден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Время было неясное и неспокойно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Она не могла противиться обаянию сын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йдите предложения с составным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менным сказуемы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628640"/>
            <a:ext cx="8820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Гроза будет затяжна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Человек должен стремиться к высшей цел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Поля вспахан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Ребята будут отдыхать в это лето в санатори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Приезжайте в гости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948360" y="4076640"/>
            <a:ext cx="1357560" cy="25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33336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     Служит для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передачи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прояснения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смысла предложени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1916280"/>
            <a:ext cx="92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) «Москвич» обогнал «Ниву»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2637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) «Ниву» обогнал «Москвич»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3645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Чем различаются предложения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92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! Только порядком слов, причем одинаковых сл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40" y="5445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и изменении порядка слов смысл предложения несколько меня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39640" y="47628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00" y="384120"/>
            <a:ext cx="84960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.Найдите предложение, в котором подлежащее выражено неопределенной формой глагол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Июньским утром пастухи в приаральских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ракумах увидели странное зрелищ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По пескам у горизонта плыли три белых паруса.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Первый раз о парусах на колесах я слушал в начале года.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Чинить яхты – работа в дороге не очень приятная.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Яхты на колесах – удивительное зрелище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101080" y="5373720"/>
            <a:ext cx="900000" cy="134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1280" y="539640"/>
            <a:ext cx="806436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 каких предложениях подлежащее выражено словосочетание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Средняя скорость ветра – двадцать километров в час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«Аргументы и факты» - интересная газета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В нашей семье все читают «Аргументы и факты»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Двадцать делится на два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Четверо ребят отправились на рыбалку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50920" y="390600"/>
            <a:ext cx="864216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айдите предложения с простым глагольным сказуем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Новичку это явление кажется странным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Удар был короткий и сильный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Сегодня мы будем тренироваться в зале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Через месяц путешественники появились в Москве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В оде Державина нарисован условный портрет монах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596360" y="4724280"/>
            <a:ext cx="182700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79280" y="690480"/>
            <a:ext cx="8640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айдите предложения с составным глагольным сказуем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Ящериц кругом было много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Я хочу поговорить с ним об этом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Он собирался написать письмо отцу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Мы будем вместе решать эту проблему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Удочки будто подбрасывала резвая волна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3" name="Picture 10" descr="1054"/>
          <p:cNvPicPr/>
          <p:nvPr/>
        </p:nvPicPr>
        <p:blipFill>
          <a:blip r:embed="rId1"/>
          <a:stretch/>
        </p:blipFill>
        <p:spPr>
          <a:xfrm rot="20874000">
            <a:off x="7815240" y="4797000"/>
            <a:ext cx="1328760" cy="19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514440"/>
            <a:ext cx="860436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айдите предложения с составным именным сказуем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Летние ночи Петербурга – это непрерывная вечерняя заря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Я не мог оторвать глаз убегающего лося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В лицо мне дышит свежая трава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В комнате было тихо, темно и очень душно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День будет долог, светел и горяч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582560" cy="131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39640" y="656640"/>
            <a:ext cx="7920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каких предложениях нужно поставить тире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Иметь хороший почерк одно из правил вежливости.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Утро ясное, солнечное.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Читать вечером книги мое любимое занятие.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Снег у крыльца как песок зыбучий.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Пятью пять двадцать пять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786800" y="4508640"/>
            <a:ext cx="120168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826920" y="189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Определите способ связ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9079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Лесное безмолви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16360" y="836640"/>
            <a:ext cx="287280" cy="2160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16360" y="836640"/>
            <a:ext cx="287280" cy="2160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6720" y="9810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согласовани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1989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Снеговыми хлопьям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492000" y="1844640"/>
            <a:ext cx="358920" cy="2160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92360" y="1844640"/>
            <a:ext cx="358920" cy="2160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80000" y="2060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согласовани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5280" y="3068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Первый сбор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842920" y="2924280"/>
            <a:ext cx="360360" cy="2887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43280" y="2924280"/>
            <a:ext cx="360360" cy="2887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3141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согласовани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443700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Моя игр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124000" y="4437000"/>
            <a:ext cx="287280" cy="1443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4437000"/>
            <a:ext cx="215640" cy="1443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24360" y="4508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согласовани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85" name="Picture 10" descr="1054"/>
          <p:cNvPicPr/>
          <p:nvPr/>
        </p:nvPicPr>
        <p:blipFill>
          <a:blip r:embed="rId1"/>
          <a:stretch/>
        </p:blipFill>
        <p:spPr>
          <a:xfrm rot="20874000">
            <a:off x="7524720" y="4723920"/>
            <a:ext cx="1328760" cy="190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411280" y="47628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350028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3280" y="350028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59280" y="549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3573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согласованн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9280" y="3573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несогласованн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907640" y="1341360"/>
            <a:ext cx="2016360" cy="201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48360" y="1413000"/>
            <a:ext cx="1295280" cy="18716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360" y="33336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Сравним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5280" y="1341360"/>
            <a:ext cx="50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.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Балконная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двер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. Дверь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на балкон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76720" y="765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ая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7280" y="2492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ая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67280" y="2492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уда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0920" y="4149720"/>
            <a:ext cx="7561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. В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крутую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го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. Яйцо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вкрутую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76720" y="3716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ую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067280" y="537372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ое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24360" y="5373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786800" y="4508640"/>
            <a:ext cx="120168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258920" y="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Спишите предложения, подчеркните определения, укажите вид определ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907920"/>
            <a:ext cx="4788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 ва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Где роза без шипов расте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Я совершенно утратил способность писа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На ветхую крышу дома склонились длинные ветви плакучей ив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907920"/>
            <a:ext cx="42498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2 ва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В ржавых трубах пароходов играли зайчики от солнц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Это была обыкновенная кукла с голубыми глаза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Платье из тюля просвечивало на ее розовом тел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333360"/>
            <a:ext cx="88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Может выполнять стилистическую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функцию, придавая ему эмоциональную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окраску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3284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Под небом голубым есть город золотой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494172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ямой порядок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д голубым небом есть золотой гор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199280" y="450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95280" y="33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Дуб-великан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50920" y="1197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Девочка-подросто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68360" y="227664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Солдат-украинец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11280" y="3500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Ученый-мед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4653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Газета «Московский комсомолец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5445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несогласованное приложение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0" y="44280"/>
          <a:ext cx="9143640" cy="681336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1600200" y="6465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ишется дефис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476280"/>
            <a:ext cx="37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если сочетание 2 существительных представляют собо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773360"/>
            <a:ext cx="44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) названия научных терминов: жук-олень, бабочка-капустниц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068640"/>
            <a:ext cx="45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) названия специальностей: врач-терапевт, ученый-филоло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797360"/>
            <a:ext cx="44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) указывают на возраст, национальность, родство: бабушка-чеш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3280" y="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 пишется дефис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3280" y="47628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Если в сочетании 2 нариц. сущ. одно- родовое, другое- видовое понят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29973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ере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56360" y="2349360"/>
            <a:ext cx="24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ере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аобаб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5157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цвет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27640" y="4653000"/>
            <a:ext cx="230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омаш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агнол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асиле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468360" y="907920"/>
          <a:ext cx="8226000" cy="5822640"/>
        </p:xfrm>
        <a:graphic>
          <a:graphicData uri="http://schemas.openxmlformats.org/drawingml/2006/table">
            <a:tbl>
              <a:tblPr/>
              <a:tblGrid>
                <a:gridCol w="4113000"/>
                <a:gridCol w="4113000"/>
              </a:tblGrid>
              <a:tr h="58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>
            <a:off x="1042920" y="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равнит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1197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ужчина-красаве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716360" y="1197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расавец мужчи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17002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расивый мужчина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22766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завод-гиган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16360" y="22766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игант зав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16360" y="28414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гигантский завод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3357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торож-стари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43280" y="3429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тарик сторо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1280" y="42210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зима-волшебниц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422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лшебница зим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9640" y="83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9640" y="47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16000" y="5373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осква-ре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16360" y="5373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ека Моск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88000" y="6021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остиница «Москв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68360" y="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Спишите предложения, расставив знаки препинания при приложении, устно объяснит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1125360"/>
            <a:ext cx="91440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. В дубовых зарослях бродят безобидные медведи муравьятни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2. Крепыш боровик отличался от остальных гриб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3. Тоска о друге хранителе преследовала Кипренского до самой смер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4. Журнал (П, п)рирода напечатал интересные материалы по экологи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5. Река Нева течет в Санкт-Петербург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6. Он торопился, как будто мать старушка ждала его на родин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826920" y="0"/>
            <a:ext cx="86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пишите предложения, определите прямое и косвенное дополнение (подчеркните его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8000" y="1844640"/>
            <a:ext cx="4500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Машенька говорила что-то и смеялас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Сквер обнесен был забор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Мальчик легко перепрыгнул невысокий заборчик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Врач посоветовал отцу уехать на юг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32360" y="1844640"/>
            <a:ext cx="4211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Сторож подметал сквер и намел большие кучи листье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Митя вместе с братом сбежал от отца и поехал в Минск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Небольшой заборчик отделял двор от сади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4000" y="1125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24360" y="112536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II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1280" y="11592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пишите предложения, подчеркните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огласованные и несогласованные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пределе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9280" y="2637000"/>
            <a:ext cx="87854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Летним утром в кустах душистой сирени запели голосистые птиц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Летним вечером я вышел на берег реки насладиться ароматом шиповни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Синие молнии летали над вершинами леса и освещали его холодным огне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42920" y="4046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обавьте в данные предложения обстоятельств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9280" y="1773360"/>
            <a:ext cx="8964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Вадим отстал от своих товарищей …(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бстоятельство причины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(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бстоятельство места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) … поднималось солнц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(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бстоятельство времени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) … над лесом занялся пожар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-181080" y="333360"/>
            <a:ext cx="8893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апишите предложения, подчеркните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бстоятельства, определите их вид и чем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ражен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000" y="3141720"/>
            <a:ext cx="856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Она ходила по набережной, пряча лицо от ветр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Дождь за окном потрескивал, как поленья в костр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403280" y="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бъясните постановку дефис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981000"/>
            <a:ext cx="8964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Гоголь – великий писатель-прозаик и драматург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Темно-синие буквы казались выпуклыми, и текст нельзя было прочитать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Потом что-то стукнуло, зашипело, и откуда-то донесся мелодичный звон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4. Далеко-далеко колокольчик звени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79280" y="476280"/>
            <a:ext cx="871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Может выполнять синтаксическую функцию –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различать члены предложе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3068640"/>
            <a:ext cx="8893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Тополь перерос клен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(Тополь – подлежаще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лен – дополнение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4653000"/>
            <a:ext cx="89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лен перерос тополь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лен – подлежащее,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Тополь – дополнение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)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 flipH="1">
            <a:off x="-360" y="5445000"/>
            <a:ext cx="1476360" cy="14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5280" y="333360"/>
            <a:ext cx="7921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Иногда синтаксическая роль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существительных в подобных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случаях определяется по смыслу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3640" y="3213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Солнце заслонило облак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4221000"/>
            <a:ext cx="820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Подлежащим может быть только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слово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облако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, на каком бы оно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месте ни стоял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415280" y="404640"/>
            <a:ext cx="1728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-36360" y="0"/>
          <a:ext cx="9145440" cy="8916840"/>
        </p:xfrm>
        <a:graphic>
          <a:graphicData uri="http://schemas.openxmlformats.org/drawingml/2006/table">
            <a:tbl>
              <a:tblPr/>
              <a:tblGrid>
                <a:gridCol w="4539960"/>
                <a:gridCol w="460548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95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пособ выражения подлежаще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333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ример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970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уществительное в И.п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1197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лнце светит все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1700280"/>
            <a:ext cx="1297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91628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естоимение в И.п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1916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ы никогда не ссорим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2421000"/>
            <a:ext cx="576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492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Числительное в И.п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263700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венадцать делится на шес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3068640"/>
            <a:ext cx="2016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78936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лагательное или причастие в И.п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3716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зрослые никогда не понимают дет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3280" y="4221000"/>
            <a:ext cx="1657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65300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шедший привлек всеобщее внима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5084640"/>
            <a:ext cx="17272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602136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определенная форма глагол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3280" y="591192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урить – здоровью вреди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6360" y="638172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455760" y="272880"/>
          <a:ext cx="8226360" cy="3368880"/>
        </p:xfrm>
        <a:graphic>
          <a:graphicData uri="http://schemas.openxmlformats.org/drawingml/2006/table">
            <a:tbl>
              <a:tblPr/>
              <a:tblGrid>
                <a:gridCol w="4113000"/>
                <a:gridCol w="411336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68436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реч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16360" y="33336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чевидно не значит верн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765000"/>
            <a:ext cx="16556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1341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еждомет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3280" y="1341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дали послышалось ку-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205000"/>
            <a:ext cx="10796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делимое сочета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3280" y="242100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ошло несколько дн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852640"/>
            <a:ext cx="172872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3284640"/>
            <a:ext cx="792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524720" y="4941720"/>
            <a:ext cx="1050840" cy="12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9280" y="4005360"/>
            <a:ext cx="4321440" cy="718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476280"/>
            <a:ext cx="4967280" cy="1512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916360" y="765000"/>
            <a:ext cx="35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азуем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7280" y="4076640"/>
            <a:ext cx="20210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76720" y="4005360"/>
            <a:ext cx="3780000" cy="718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724360" y="4076640"/>
            <a:ext cx="2343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авн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268000" y="2205000"/>
            <a:ext cx="1798920" cy="1368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1871640" cy="1368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68360" y="549360"/>
            <a:ext cx="5040360" cy="1150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1916280"/>
            <a:ext cx="0" cy="1441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68360" y="3716280"/>
            <a:ext cx="4824720" cy="1297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348000" y="836640"/>
            <a:ext cx="25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132000" y="4005360"/>
            <a:ext cx="324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гольн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3:17:16Z</dcterms:created>
  <dc:creator>Customer</dc:creator>
  <dc:description/>
  <dc:language>en-US</dc:language>
  <cp:lastModifiedBy>Customer</cp:lastModifiedBy>
  <dcterms:modified xsi:type="dcterms:W3CDTF">2009-11-18T13:37:26Z</dcterms:modified>
  <cp:revision>27</cp:revision>
  <dc:subject/>
  <dc:title>Слайд 1</dc:title>
</cp:coreProperties>
</file>