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595A-BE8E-42FC-9C8D-D1D2DAA4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6AB7-CE97-4A86-98D0-42E727B2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A12A-025F-4715-8830-3F77018B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D578-0934-4909-9183-978115A5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11B2-EF7A-4F17-A45F-ED2B6D66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5068-5483-4404-AFE9-C9275C18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FBC1-4C39-4422-9202-D398DD03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A87E-3B4C-42AE-9249-ECCF8F57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C8D7-7608-4770-AE2B-F6413AC4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DD4F-9B76-49FF-9B10-236888BE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EBA5-1256-4880-91ED-767B0FB4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975F-4362-4A49-9817-5AFEE4D8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B852-4CE2-4556-9564-0E780FAF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A672-2E1E-4C1F-80AB-5ABCEA8F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A116-485C-43FA-9593-5331D64E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A635-CEA4-4BF1-B169-0028D2C7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C4FD-CB5A-4FD7-B593-BFBD2896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50BC-CBA0-4CC5-99CC-6C941378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9BC0-356C-4FC3-920E-3E74A77B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1788-7CCA-4CDE-BA16-A61BDA84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B703-44FF-4779-8C70-BD50CB36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C1E5-DC64-4887-A45F-394FC11D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A85-0BC1-4158-AC9A-4DA56B91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CAAD-317C-4213-AB29-0BEB769C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401C-FAAD-42B6-876A-83C7EB4BE9D0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F3FD-F7CA-4F04-AB99-96AA8B1C84DB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403280" y="1628640"/>
            <a:ext cx="6551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стое предложе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3500280"/>
            <a:ext cx="88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Порядок слов выполняет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3  основные функции.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093080" y="-316080"/>
            <a:ext cx="2409840" cy="2008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-289080" y="0"/>
            <a:ext cx="943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Отметьте предложения с простым глагольным сказуемым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907920"/>
            <a:ext cx="91440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 Человек должен стремиться к высшей цел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. Небо было закрыто тучам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Мы будем активно готовиться к конкурсу эрудитов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В этом случае мы тренировались бы чащ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5. Я буду выступать в заключительном концерт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6. Решайте быстрее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7. Ночь казалась мне удивительной и прекрасно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8 На дороге показалась повозк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9. Всю дорогу пассажиры клевали носом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411280" y="476280"/>
            <a:ext cx="4321440" cy="7192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666699"/>
              </a:gs>
              <a:gs pos="100000">
                <a:srgbClr val="ff9933"/>
              </a:gs>
            </a:gsLst>
            <a:lin ang="5400000"/>
          </a:gradFill>
          <a:ln w="57240">
            <a:solidFill>
              <a:srgbClr val="ff9933"/>
            </a:solidFill>
            <a:miter/>
          </a:ln>
          <a:effectLst>
            <a:outerShdw dist="107932" dir="18900000" blurRad="0" rotWithShape="0">
              <a:srgbClr val="6b6b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1258920" y="1341360"/>
            <a:ext cx="2449440" cy="201636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9640" y="1341360"/>
            <a:ext cx="2232000" cy="201636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9280" y="3789360"/>
            <a:ext cx="4321440" cy="7192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666699"/>
              </a:gs>
              <a:gs pos="100000">
                <a:srgbClr val="ff9933"/>
              </a:gs>
            </a:gsLst>
            <a:lin ang="5400000"/>
          </a:gradFill>
          <a:ln w="57240">
            <a:solidFill>
              <a:srgbClr val="ff9933"/>
            </a:solidFill>
            <a:miter/>
          </a:ln>
          <a:effectLst>
            <a:outerShdw dist="107932" dir="18900000" blurRad="0" rotWithShape="0">
              <a:srgbClr val="6b6b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643280" y="3789360"/>
            <a:ext cx="4321440" cy="7192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666699"/>
              </a:gs>
              <a:gs pos="100000">
                <a:srgbClr val="ff9933"/>
              </a:gs>
            </a:gsLst>
            <a:lin ang="5400000"/>
          </a:gradFill>
          <a:ln w="57240">
            <a:solidFill>
              <a:srgbClr val="ff9933"/>
            </a:solidFill>
            <a:miter/>
          </a:ln>
          <a:effectLst>
            <a:outerShdw dist="107932" dir="18900000" blurRad="0" rotWithShape="0">
              <a:srgbClr val="6b6b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СОСТАВНО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26920" y="3933720"/>
            <a:ext cx="41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ГЛАГОЛЬНО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72000" y="393372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ИМЕННО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276640"/>
            <a:ext cx="2376360" cy="2665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666699"/>
              </a:gs>
              <a:gs pos="100000">
                <a:srgbClr val="ff9933"/>
              </a:gs>
            </a:gsLst>
            <a:lin ang="5400000"/>
          </a:gradFill>
          <a:ln w="57240">
            <a:solidFill>
              <a:srgbClr val="ff9933"/>
            </a:solidFill>
            <a:miter/>
          </a:ln>
          <a:effectLst>
            <a:outerShdw dist="107932" dir="18900000" blurRad="0" rotWithShape="0">
              <a:srgbClr val="6b6b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700360" y="3141720"/>
            <a:ext cx="64764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00360" y="3933720"/>
            <a:ext cx="64764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92360" y="2276640"/>
            <a:ext cx="2303640" cy="26636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666699"/>
              </a:gs>
              <a:gs pos="100000">
                <a:srgbClr val="ff9933"/>
              </a:gs>
            </a:gsLst>
            <a:lin ang="5400000"/>
          </a:gradFill>
          <a:ln w="57240">
            <a:solidFill>
              <a:srgbClr val="ff9933"/>
            </a:solidFill>
            <a:miter/>
          </a:ln>
          <a:effectLst>
            <a:outerShdw dist="107932" dir="18900000" blurRad="0" rotWithShape="0">
              <a:srgbClr val="6b6b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940360" y="3500280"/>
            <a:ext cx="64764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227640" y="3141720"/>
            <a:ext cx="0" cy="7189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659640" y="2276640"/>
            <a:ext cx="2484360" cy="26636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666699"/>
              </a:gs>
              <a:gs pos="100000">
                <a:srgbClr val="ff9933"/>
              </a:gs>
            </a:gsLst>
            <a:lin ang="5400000"/>
          </a:gradFill>
          <a:ln w="57240">
            <a:solidFill>
              <a:srgbClr val="ff9933"/>
            </a:solidFill>
            <a:miter/>
          </a:ln>
          <a:effectLst>
            <a:outerShdw dist="107932" dir="18900000" blurRad="0" rotWithShape="0">
              <a:srgbClr val="6b6b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2781360"/>
            <a:ext cx="234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СОСТАВНО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ГЛАГОЛЬНО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СКАЗУЕМО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635280" y="2781360"/>
            <a:ext cx="208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ВСПОМОГА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ТЕЛЬНО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СЛОВ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32720" y="2637000"/>
            <a:ext cx="216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НЕОПРЕДЕ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ЛЕННА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ФОРМ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ГЛАГОЛ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258920" y="26028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ВСПОМОГАТЕЛЬНЫЕ СЛОВ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8000" y="1268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групп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92360" y="1268280"/>
            <a:ext cx="54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глаголы со значением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начал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конц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продолжени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64360" y="1341360"/>
            <a:ext cx="18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236000" y="126828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начать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54920" y="19162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перестать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948360" y="256536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продолжать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4000" y="30686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крипач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начал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играт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79640" y="3500280"/>
            <a:ext cx="216072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979640" y="3573360"/>
            <a:ext cx="216072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860640"/>
            <a:ext cx="18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групп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2360" y="3860640"/>
            <a:ext cx="6769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глаголы и краткие при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о значением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возможност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необходимост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желательност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20000" y="450864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мочь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164360" y="515772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должен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164360" y="5805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хотеть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6165720"/>
            <a:ext cx="62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Мы сможем выступить на концерт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55640" y="6597720"/>
            <a:ext cx="302436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55640" y="6669000"/>
            <a:ext cx="302436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08000" y="33336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спомогательное слов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0" y="620640"/>
            <a:ext cx="86364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24360" y="33336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рат.при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885080" y="620640"/>
            <a:ext cx="72072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4000" y="11253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вязк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08000" y="112536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 Я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был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рад помоч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. Я намерен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был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уехать сегодня ж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Он готов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был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 вами поспорит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0920" y="357336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улевая в настоящем времени 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050920" y="4581360"/>
            <a:ext cx="5832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 Я рад вам помоч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. Я намерен уехать сегодня ж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 Он готов с вами поспорит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771640" y="1557360"/>
            <a:ext cx="266400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771640" y="1628640"/>
            <a:ext cx="266400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71640" y="2205000"/>
            <a:ext cx="338472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771640" y="2276640"/>
            <a:ext cx="338472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916360" y="2852640"/>
            <a:ext cx="172692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916360" y="2924280"/>
            <a:ext cx="172692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940360" y="2852640"/>
            <a:ext cx="172728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940360" y="2924280"/>
            <a:ext cx="172728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916360" y="5086440"/>
            <a:ext cx="57600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916360" y="5157720"/>
            <a:ext cx="57600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284720" y="5086440"/>
            <a:ext cx="122400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84720" y="5157720"/>
            <a:ext cx="122400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843280" y="5734080"/>
            <a:ext cx="266544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43280" y="5807160"/>
            <a:ext cx="266544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987640" y="6381720"/>
            <a:ext cx="86364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87640" y="6454800"/>
            <a:ext cx="86364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219640" y="6381720"/>
            <a:ext cx="165744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219640" y="6453360"/>
            <a:ext cx="165744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79280" y="0"/>
            <a:ext cx="86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Найдите  «четвертое лишнее» среди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сказуемых в предложениях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79280" y="1844640"/>
            <a:ext cx="9217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В клетке соловей перестал петь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. Команда будет выступать на своем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поле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3. Мы будем рады видеть вас у себя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4. Оксана любила покрасоваться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68360" y="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айди и отметь предложения с составными глагольными сказуемым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907920"/>
            <a:ext cx="914400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 Люди научились использовать энергию для своих нужд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. В лесу и поле было жарко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Природа помогала животным добывать необходимую пищ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Он будет очень старатьс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5. На темном небе начинали мигать звезды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6. Посмотри  в окно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7. Кучевые облака громоздились в неб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8. Я вышел на берег насладиться ароматом листьев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79280" y="0"/>
            <a:ext cx="849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айдите предложения с простым глагольным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казуемым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79280" y="1341360"/>
            <a:ext cx="878544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 Он будет хорошим спортсменом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. Посоветовались бы сначала со мно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На собрании принято решение о закрытии лагер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 Его нужно поддержать в эту минут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5. Немедленно откройте окно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6. Мы будем петь в хор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7. Они были первым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8. И они там был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49" name="Picture 10" descr="1054"/>
          <p:cNvPicPr/>
          <p:nvPr/>
        </p:nvPicPr>
        <p:blipFill>
          <a:blip r:embed="rId1"/>
          <a:stretch/>
        </p:blipFill>
        <p:spPr>
          <a:xfrm rot="20874000">
            <a:off x="6948360" y="4292280"/>
            <a:ext cx="1428840" cy="204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8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468360" y="189000"/>
            <a:ext cx="770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айдите предложения с составным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глагольным сказуемым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0920" y="1413000"/>
            <a:ext cx="87138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Снеговая крупа сменилась дождем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. Воздух прозрачен, свеж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Между тем жара понемногу начала спадат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Стали носиться в воздухе зловещие слух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5. Мы рады помочь в эту трудную пору жизн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6. Я буду писать вам каждый ден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7. Время было неясное и неспокойно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8. Она не могла противиться обаянию сын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йдите предложения с составным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менным сказуемым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4000" y="1628640"/>
            <a:ext cx="8820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 Гроза будет затяжна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. Человек должен стремиться к высшей цел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Поля вспаханы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Ребята будут отдыхать в это лето в санатори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5. Приезжайте в гости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6948360" y="4076640"/>
            <a:ext cx="1357560" cy="251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24000" y="333360"/>
            <a:ext cx="85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      Служит для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передачи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прояснения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смысла предложени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1916280"/>
            <a:ext cx="928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) «Москвич» обогнал «Ниву»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263700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) «Ниву» обогнал «Москвич»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8360" y="3645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Чем различаются предложения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292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! Только порядком слов, причем одинаковых сло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63640" y="5445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ри изменении порядка слов смысл предложения несколько меня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39640" y="47628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4000" y="384120"/>
            <a:ext cx="849600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.Найдите предложение, в котором подлежащее выражено неопределенной формой глагол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Июньским утром пастухи в приаральских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аракумах увидели странное зрелище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2)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По пескам у горизонта плыли три белых паруса. 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3)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Первый раз о парусах на колесах я слушал в начале года. 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4)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Чинить яхты – работа в дороге не очень приятная. 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5)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Яхты на колесах – удивительное зрелище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101080" y="5373720"/>
            <a:ext cx="900000" cy="1341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11280" y="539640"/>
            <a:ext cx="806436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В каких предложениях подлежащее выражено словосочетанием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1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Средняя скорость ветра – двадцать километров в час.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2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«Аргументы и факты» - интересная газета.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3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В нашей семье все читают «Аргументы и факты».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4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Двадцать делится на два.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5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Четверо ребят отправились на рыбалку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05080" cy="1700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4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50920" y="390600"/>
            <a:ext cx="864216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Найдите предложения с простым глагольным сказуемы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1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Новичку это явление кажется странным.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2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Удар был короткий и сильный.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3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Сегодня мы будем тренироваться в зале.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4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Через месяц путешественники появились в Москве.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5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В оде Державина нарисован условный портрет монаха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7596360" y="4724280"/>
            <a:ext cx="1827000" cy="213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79280" y="690480"/>
            <a:ext cx="8640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Найдите предложения с составным глагольным сказуемы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1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Ящериц кругом было много.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2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Я хочу поговорить с ним об этом.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3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Он собирался написать письмо отцу.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4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Мы будем вместе решать эту проблему.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5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Удочки будто подбрасывала резвая волна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63" name="Picture 10" descr="1054"/>
          <p:cNvPicPr/>
          <p:nvPr/>
        </p:nvPicPr>
        <p:blipFill>
          <a:blip r:embed="rId1"/>
          <a:stretch/>
        </p:blipFill>
        <p:spPr>
          <a:xfrm rot="20874000">
            <a:off x="7815240" y="4797000"/>
            <a:ext cx="1328760" cy="1903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79280" y="514440"/>
            <a:ext cx="860436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Найдите предложения с составным именным сказуемы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1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Летние ночи Петербурга – это непрерывная вечерняя заря.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2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Я не мог оторвать глаз убегающего лося.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3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В лицо мне дышит свежая трава.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4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В комнате было тихо, темно и очень душно.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5)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День будет долог, светел и горяч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380360" y="5373720"/>
            <a:ext cx="1582560" cy="1312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539640" y="656640"/>
            <a:ext cx="7920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 каких предложениях нужно поставить тире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Arial"/>
              </a:rPr>
              <a:t>1)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 Иметь хороший почерк одно из правил вежливости. </a:t>
            </a:r>
            <a:r>
              <a:rPr b="1" lang="ru-RU" sz="3600" spc="-1" strike="noStrike">
                <a:solidFill>
                  <a:srgbClr val="eaeaea"/>
                </a:solidFill>
                <a:latin typeface="Arial"/>
              </a:rPr>
              <a:t>2)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 Утро ясное, солнечное. </a:t>
            </a:r>
            <a:r>
              <a:rPr b="1" lang="ru-RU" sz="3600" spc="-1" strike="noStrike">
                <a:solidFill>
                  <a:srgbClr val="eaeaea"/>
                </a:solidFill>
                <a:latin typeface="Arial"/>
              </a:rPr>
              <a:t>3)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 Читать вечером книги мое любимое занятие. </a:t>
            </a:r>
            <a:r>
              <a:rPr b="1" lang="ru-RU" sz="3600" spc="-1" strike="noStrike">
                <a:solidFill>
                  <a:srgbClr val="eaeaea"/>
                </a:solidFill>
                <a:latin typeface="Arial"/>
              </a:rPr>
              <a:t>4)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 Снег у крыльца как песок зыбучий. </a:t>
            </a:r>
            <a:r>
              <a:rPr b="1" lang="ru-RU" sz="3600" spc="-1" strike="noStrike">
                <a:solidFill>
                  <a:srgbClr val="eaeaea"/>
                </a:solidFill>
                <a:latin typeface="Arial"/>
              </a:rPr>
              <a:t>5)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 Пятью пять двадцать пять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7786800" y="4508640"/>
            <a:ext cx="1201680" cy="223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826920" y="18900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Определите способ связи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9079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Лесное безмолвие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16360" y="836640"/>
            <a:ext cx="287280" cy="21600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916360" y="836640"/>
            <a:ext cx="287280" cy="21600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76720" y="98100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согласовани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95280" y="198900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Снеговыми хлопьями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492000" y="1844640"/>
            <a:ext cx="358920" cy="21600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492360" y="1844640"/>
            <a:ext cx="358920" cy="21600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580000" y="20606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согласовани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5280" y="3068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Первый сбор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2842920" y="2924280"/>
            <a:ext cx="360360" cy="28872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43280" y="2924280"/>
            <a:ext cx="360360" cy="28872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859280" y="31417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согласовани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26920" y="4437000"/>
            <a:ext cx="48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Моя игр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124000" y="4437000"/>
            <a:ext cx="287280" cy="14436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195640" y="4437000"/>
            <a:ext cx="215640" cy="14436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924360" y="450864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согласовани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85" name="Picture 10" descr="1054"/>
          <p:cNvPicPr/>
          <p:nvPr/>
        </p:nvPicPr>
        <p:blipFill>
          <a:blip r:embed="rId1"/>
          <a:stretch/>
        </p:blipFill>
        <p:spPr>
          <a:xfrm rot="20874000">
            <a:off x="7524720" y="4723920"/>
            <a:ext cx="1328760" cy="190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0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411280" y="476280"/>
            <a:ext cx="4321440" cy="7192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666699"/>
              </a:gs>
              <a:gs pos="100000">
                <a:srgbClr val="ff9933"/>
              </a:gs>
            </a:gsLst>
            <a:lin ang="5400000"/>
          </a:gradFill>
          <a:ln w="57240">
            <a:solidFill>
              <a:srgbClr val="ff9933"/>
            </a:solidFill>
            <a:miter/>
          </a:ln>
          <a:effectLst>
            <a:outerShdw dist="107932" dir="18900000" blurRad="0" rotWithShape="0">
              <a:srgbClr val="6b6b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9280" y="3500280"/>
            <a:ext cx="4321440" cy="7192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666699"/>
              </a:gs>
              <a:gs pos="100000">
                <a:srgbClr val="ff9933"/>
              </a:gs>
            </a:gsLst>
            <a:lin ang="5400000"/>
          </a:gradFill>
          <a:ln w="57240">
            <a:solidFill>
              <a:srgbClr val="ff9933"/>
            </a:solidFill>
            <a:miter/>
          </a:ln>
          <a:effectLst>
            <a:outerShdw dist="107932" dir="18900000" blurRad="0" rotWithShape="0">
              <a:srgbClr val="6b6b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643280" y="3500280"/>
            <a:ext cx="4321440" cy="7192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666699"/>
              </a:gs>
              <a:gs pos="100000">
                <a:srgbClr val="ff9933"/>
              </a:gs>
            </a:gsLst>
            <a:lin ang="5400000"/>
          </a:gradFill>
          <a:ln w="57240">
            <a:solidFill>
              <a:srgbClr val="ff9933"/>
            </a:solidFill>
            <a:miter/>
          </a:ln>
          <a:effectLst>
            <a:outerShdw dist="107932" dir="18900000" blurRad="0" rotWithShape="0">
              <a:srgbClr val="6b6b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059280" y="54936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определен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84360" y="357336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согласованны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59280" y="3573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несогласованны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1907640" y="1341360"/>
            <a:ext cx="2016360" cy="201636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148360" y="1413000"/>
            <a:ext cx="1295280" cy="187164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4360" y="333360"/>
            <a:ext cx="67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Сравним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835280" y="1341360"/>
            <a:ext cx="5076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1. 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Балконная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дверь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2. Дверь 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на балкон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276720" y="765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какая?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067280" y="2492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какая?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867280" y="24922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куда?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050920" y="4149720"/>
            <a:ext cx="7561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1. В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 крутую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гор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2. Яйцо 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вкрутую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76720" y="37162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какую?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067280" y="537372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какое?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24360" y="53737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как?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786800" y="4508640"/>
            <a:ext cx="1201680" cy="223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258920" y="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Спишите предложения, подчеркните определения, укажите вид определ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907920"/>
            <a:ext cx="47880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1 вар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Где роза без шипов растет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Я совершенно утратил способность писат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3. На ветхую крышу дома склонились длинные ветви плакучей ив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643280" y="907920"/>
            <a:ext cx="42498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2 вар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В ржавых трубах пароходов играли зайчики от солнц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Это была обыкновенная кукла с голубыми глазам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3. Платье из тюля просвечивало на ее розовом теле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50920" y="333360"/>
            <a:ext cx="889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. Может выполнять стилистическую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функцию, придавая ему эмоциональную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окраску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71640" y="328464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Под небом голубым есть город золотой…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4941720"/>
            <a:ext cx="871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рямой порядок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од голубым небом есть золотой город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199280" y="45086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95280" y="333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                 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Дуб-великан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050920" y="119700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Девочка-подросто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268360" y="227664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Солдат-украинец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411280" y="35002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Ученый-мед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11280" y="465300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Газета «Московский комсомолец»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544500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(несогласованное приложение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0" y="44280"/>
          <a:ext cx="9143640" cy="681336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681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"/>
          <p:cNvSpPr/>
          <p:nvPr/>
        </p:nvSpPr>
        <p:spPr>
          <a:xfrm>
            <a:off x="1600200" y="64659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1280" y="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ишется дефис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476280"/>
            <a:ext cx="37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если сочетание 2 существительных представляют собой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1773360"/>
            <a:ext cx="442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) названия научных терминов: жук-олень, бабочка-капустниц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3068640"/>
            <a:ext cx="457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) названия специальностей: врач-терапевт, ученый-филолог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4797360"/>
            <a:ext cx="442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) указывают на возраст, национальность, родство: бабушка-чешк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643280" y="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е пишется дефис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643280" y="476280"/>
            <a:ext cx="45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Если в сочетании 2 нариц. сущ. одно- родовое, другое- видовое поняти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643280" y="299736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дерев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156360" y="2349360"/>
            <a:ext cx="24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берез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баобаб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дуб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0" y="5157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цветок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27640" y="4653000"/>
            <a:ext cx="2305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ромашк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магноли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асилек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468360" y="907920"/>
          <a:ext cx="8226000" cy="5822640"/>
        </p:xfrm>
        <a:graphic>
          <a:graphicData uri="http://schemas.openxmlformats.org/drawingml/2006/table">
            <a:tbl>
              <a:tblPr/>
              <a:tblGrid>
                <a:gridCol w="4113000"/>
                <a:gridCol w="4113000"/>
              </a:tblGrid>
              <a:tr h="58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7" name=""/>
          <p:cNvSpPr/>
          <p:nvPr/>
        </p:nvSpPr>
        <p:spPr>
          <a:xfrm>
            <a:off x="1042920" y="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Сравнит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39640" y="119700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мужчина-красавец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716360" y="119700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красавец мужчин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788000" y="170028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красивый мужчина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39640" y="227664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завод-гиган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716360" y="227664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гигант завод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716360" y="284148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гигантский завод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1280" y="335772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торож-старик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643280" y="342900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тарик сторож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11280" y="422100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зима-волшебниц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643280" y="4221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олшебница зим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9640" y="836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39640" y="4724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116000" y="53737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Москва-рек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716360" y="5373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река Москв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788000" y="602136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гостиница «Москва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468360" y="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Спишите предложения, расставив знаки препинания при приложении, устно объяснит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1125360"/>
            <a:ext cx="914400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. В дубовых зарослях бродят безобидные медведи муравьятник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2. Крепыш боровик отличался от остальных грибов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3. Тоска о друге хранителе преследовала Кипренского до самой смер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4. Журнал (П, п)рирода напечатал интересные материалы по экологи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5. Река Нева течет в Санкт-Петербург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6. Он торопился, как будто мать старушка ждала его на родин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1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826920" y="0"/>
            <a:ext cx="864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пишите предложения, определите прямое и косвенное дополнение (подчеркните его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08000" y="1844640"/>
            <a:ext cx="450036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 Машенька говорила что-то и смеялас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. Сквер обнесен был забором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Мальчик легко перепрыгнул невысокий заборчик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Врач посоветовал отцу уехать на юг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932360" y="1844640"/>
            <a:ext cx="421164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. Сторож подметал сквер и намел большие кучи листьев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.Митя вместе с братом сбежал от отца и поехал в Минск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Небольшой заборчик отделял двор от садик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24000" y="112536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вариан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24360" y="112536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II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вариан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11280" y="115920"/>
            <a:ext cx="7632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Спишите предложения, подчеркните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согласованные и несогласованные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определени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79280" y="2637000"/>
            <a:ext cx="878544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Летним утром в кустах душистой сирени запели голосистые птиц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Летним вечером я вышел на берег реки насладиться ароматом шиповник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3. Синие молнии летали над вершинами леса и освещали его холодным огне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42920" y="404640"/>
            <a:ext cx="90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Добавьте в данные предложения обстоятельств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79280" y="1773360"/>
            <a:ext cx="89647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Вадим отстал от своих товарищей …(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обстоятельство причины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)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. (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обстоятельство места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) … поднималось солнце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3. (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обстоятельство времени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) … над лесом занялся пожар.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-181080" y="333360"/>
            <a:ext cx="8893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Запишите предложения, подчеркните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обстоятельства, определите их вид и чем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выражен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24000" y="3141720"/>
            <a:ext cx="8569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Она ходила по набережной, пряча лицо от ветра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. Дождь за окном потрескивал, как поленья в костре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3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403280" y="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Объясните постановку дефис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79280" y="981000"/>
            <a:ext cx="896472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Гоголь – великий писатель-прозаик и драматург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. Темно-синие буквы казались выпуклыми, и текст нельзя было прочитать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3. Потом что-то стукнуло, зашипело, и откуда-то донесся мелодичный звон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4. Далеко-далеко колокольчик звенит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40" dur="indefinite" restart="never" nodeType="tmRoot">
          <p:childTnLst>
            <p:seq>
              <p:cTn id="1441" dur="indefinite" nodeType="mainSeq">
                <p:childTnLst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79280" y="476280"/>
            <a:ext cx="8713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3. Может выполнять синтаксическую функцию –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различать члены предложения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3068640"/>
            <a:ext cx="88930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Тополь перерос клен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 (Тополь – подлежаще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                     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Клен – дополнение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4653000"/>
            <a:ext cx="89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Клен перерос тополь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Клен – подлежащее,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                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Тополь – дополнение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.)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 flipH="1">
            <a:off x="-360" y="5445000"/>
            <a:ext cx="1476360" cy="141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95280" y="333360"/>
            <a:ext cx="7921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Иногда синтаксическая роль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существительных в подобных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случаях определяется по смыслу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63640" y="3213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Солнце заслонило облако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5640" y="4221000"/>
            <a:ext cx="8209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Подлежащим может быть только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слово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облако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, на каком бы оно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месте ни стояло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415280" y="404640"/>
            <a:ext cx="172872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-36360" y="0"/>
          <a:ext cx="9145440" cy="8916840"/>
        </p:xfrm>
        <a:graphic>
          <a:graphicData uri="http://schemas.openxmlformats.org/drawingml/2006/table">
            <a:tbl>
              <a:tblPr/>
              <a:tblGrid>
                <a:gridCol w="4539960"/>
                <a:gridCol w="4605480"/>
              </a:tblGrid>
              <a:tr h="112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2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395280" y="18900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Способ выражения подлежащег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716360" y="333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Пример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19700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уществительное в И.п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1197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олнце светит всем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1700280"/>
            <a:ext cx="12970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916280"/>
            <a:ext cx="44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Местоимение в И.п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1916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Мы никогда не ссоримс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3280" y="2421000"/>
            <a:ext cx="5763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2492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Числительное в И.п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2637000"/>
            <a:ext cx="45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Двенадцать делится на шест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3280" y="3068640"/>
            <a:ext cx="20163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789360"/>
            <a:ext cx="45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рилагательное или причастие в И.п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0" y="371628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зрослые никогда не понимают дете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43280" y="4221000"/>
            <a:ext cx="16574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4653000"/>
            <a:ext cx="43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ошедший привлек всеобщее внимани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16360" y="5084640"/>
            <a:ext cx="17272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9280" y="6021360"/>
            <a:ext cx="41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еопределенная форма глагол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43280" y="5911920"/>
            <a:ext cx="45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Курить – здоровью вредит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716360" y="6381720"/>
            <a:ext cx="11509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455760" y="272880"/>
          <a:ext cx="8226360" cy="3368880"/>
        </p:xfrm>
        <a:graphic>
          <a:graphicData uri="http://schemas.openxmlformats.org/drawingml/2006/table">
            <a:tbl>
              <a:tblPr/>
              <a:tblGrid>
                <a:gridCol w="4113000"/>
                <a:gridCol w="4113360"/>
              </a:tblGrid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684360" y="404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аречи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16360" y="33336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Очевидно не значит верно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88000" y="765000"/>
            <a:ext cx="16556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4360" y="134136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Междомети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3280" y="134136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дали послышалось ку-к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43280" y="2205000"/>
            <a:ext cx="10796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8360" y="2421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еделимое сочетани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43280" y="242100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рошло несколько дне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56360" y="2852640"/>
            <a:ext cx="172872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16360" y="3284640"/>
            <a:ext cx="7923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524720" y="4941720"/>
            <a:ext cx="1050840" cy="1214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79280" y="4005360"/>
            <a:ext cx="4321440" cy="7189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666699"/>
              </a:gs>
              <a:gs pos="100000">
                <a:srgbClr val="ff9933"/>
              </a:gs>
            </a:gsLst>
            <a:lin ang="5400000"/>
          </a:gradFill>
          <a:ln w="57240">
            <a:solidFill>
              <a:srgbClr val="ff9933"/>
            </a:solidFill>
            <a:miter/>
          </a:ln>
          <a:effectLst>
            <a:outerShdw dist="107932" dir="18900000" blurRad="0" rotWithShape="0">
              <a:srgbClr val="6b6b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24000" y="476280"/>
            <a:ext cx="4967280" cy="15127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666699"/>
              </a:gs>
              <a:gs pos="100000">
                <a:srgbClr val="ff9933"/>
              </a:gs>
            </a:gsLst>
            <a:lin ang="5400000"/>
          </a:gradFill>
          <a:ln w="57240">
            <a:solidFill>
              <a:srgbClr val="ff9933"/>
            </a:solidFill>
            <a:miter/>
          </a:ln>
          <a:effectLst>
            <a:outerShdw dist="107932" dir="18900000" blurRad="0" rotWithShape="0">
              <a:srgbClr val="6b6b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916360" y="765000"/>
            <a:ext cx="3527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казуемо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187280" y="4076640"/>
            <a:ext cx="202104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сто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76720" y="4005360"/>
            <a:ext cx="3780000" cy="7189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666699"/>
              </a:gs>
              <a:gs pos="100000">
                <a:srgbClr val="ff9933"/>
              </a:gs>
            </a:gsLst>
            <a:lin ang="5400000"/>
          </a:gradFill>
          <a:ln w="57240">
            <a:solidFill>
              <a:srgbClr val="ff9933"/>
            </a:solidFill>
            <a:miter/>
          </a:ln>
          <a:effectLst>
            <a:outerShdw dist="107932" dir="18900000" blurRad="0" rotWithShape="0">
              <a:srgbClr val="6b6b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724360" y="4076640"/>
            <a:ext cx="2343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ставно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268000" y="2205000"/>
            <a:ext cx="1798920" cy="136836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2720" y="2205000"/>
            <a:ext cx="1871640" cy="136836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268360" y="549360"/>
            <a:ext cx="5040360" cy="11509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666699"/>
              </a:gs>
              <a:gs pos="100000">
                <a:srgbClr val="ff9933"/>
              </a:gs>
            </a:gsLst>
            <a:lin ang="5400000"/>
          </a:gradFill>
          <a:ln w="57240">
            <a:solidFill>
              <a:srgbClr val="ff9933"/>
            </a:solidFill>
            <a:miter/>
          </a:ln>
          <a:effectLst>
            <a:outerShdw dist="107932" dir="18900000" blurRad="0" rotWithShape="0">
              <a:srgbClr val="6b6b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1916280"/>
            <a:ext cx="0" cy="144144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68360" y="3716280"/>
            <a:ext cx="4824720" cy="1297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666699"/>
              </a:gs>
              <a:gs pos="100000">
                <a:srgbClr val="ff9933"/>
              </a:gs>
            </a:gsLst>
            <a:lin ang="5400000"/>
          </a:gradFill>
          <a:ln w="57240">
            <a:solidFill>
              <a:srgbClr val="ff9933"/>
            </a:solidFill>
            <a:miter/>
          </a:ln>
          <a:effectLst>
            <a:outerShdw dist="107932" dir="18900000" blurRad="0" rotWithShape="0">
              <a:srgbClr val="6b6b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348000" y="836640"/>
            <a:ext cx="2519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сто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132000" y="4005360"/>
            <a:ext cx="3240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лагольно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3:17:16Z</dcterms:created>
  <dc:creator>Customer</dc:creator>
  <dc:description/>
  <dc:language>en-US</dc:language>
  <cp:lastModifiedBy>Customer</cp:lastModifiedBy>
  <dcterms:modified xsi:type="dcterms:W3CDTF">2009-11-18T13:37:26Z</dcterms:modified>
  <cp:revision>27</cp:revision>
  <dc:subject/>
  <dc:title>Слайд 1</dc:title>
</cp:coreProperties>
</file>