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5CDFD-89B8-49B0-ACAA-6D861C21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F52A9-C8D2-4209-A377-7E1D98BB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3E04B-21F8-49A6-A5F0-CCD8C47E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88EA-F427-4666-9551-4D908C9A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40C0-2506-41BC-BE33-70BE0B56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6BB4-4E9F-49EC-9903-9D075C64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6D29-3A62-4009-B80F-566331E8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82B4-D769-4AE4-8C89-5FEA9F4A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5052-1F4E-42CD-9141-BC0AD110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4C96-A4A0-4ED7-8496-1329EA3E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4877-5C95-4C79-ACB9-96FE684D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5A459-A851-431D-868F-FE9F55B4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BF05-402F-4D58-A69D-E952CD39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7C1D-52E8-4A27-92B9-1DB58C5A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2BF7-1179-4502-B16A-A3A290A9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234D-875D-44BC-AA2E-3C87A2C3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993D-E493-449E-B3C7-C44DB805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617CA-22F4-47B4-9A3D-19EA8938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9B5EC-867C-43AA-9D9E-80EFF853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19410-90E0-4BF9-BF0E-10A41B25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A4986-CADA-439A-BF47-D8760972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D1B4-4D47-46A1-89D4-1184841C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A8C6F-556F-41F8-8D4E-A772BF92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A58C5-D574-4740-8075-4B901BC5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1A77-6839-443D-B784-3B29A750C7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EE4F-8F20-4E42-8A33-EA2D86883C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468360" y="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йдите предложения с речевыми ошибками, исправьте и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68360" y="981000"/>
            <a:ext cx="8496360" cy="72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 Мне пришлось отвечать на вопросы, написанные на обоих сторонах лис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 Неплохо бы прислушаться к ихнему мнени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 Ложась спать, не забудь поставить будиль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 Взвесьте, пожалуйста, два килограмма яблок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. Следующая Олимпиада состоится в двухтысяча четырнадцатом год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. Зайдя в магазин игрушек, у малыша глаза разбежалис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варианте ответа правильно указаны цифры, на месте которых в предложении должны стоять запятые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Вбегая на избитую(1) исчерченную осколками(2) деревянную платформу(3) он чуть было не упал(4) под сильной(5) воздушной волно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39640" y="3933720"/>
            <a:ext cx="835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, 2, 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, 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, 2, 3, 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, 3, 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акое из слов в предложении является деепричастием совершенного вида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тдав мне чинный поклон, уселись они по-прежнему, и только порой, перемигиваясь и перешептываясь между собой, вели разговор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9640" y="3745080"/>
            <a:ext cx="8352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о-прежнем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еремигиваяс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тдав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ерешептываяс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предложении употреблено неопределенное местоимение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60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) Унынья моего ничто не мучит, не тревожит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) Ни с какими трудностями он не считалс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) Иди туда, не знаю куд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) Какие-то мушки летали вокруг старого пн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ряду оба слова пишутся через дефис 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) (без)ветренный, (сложно)подчиненно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) (не)рад, (каре)глазы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) (пол)листа, (учебно)воспитательны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) (вице)адмирал, (седо)бороды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 каком ряду оба слова пишутся без буквы Ь 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1) ералаш…, свар…щик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2) гореч…, можеш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3) кулич…, назнач…т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4) октябр…ский, январ…ский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акое слово имеет значение «картина, воспроизведенная типографским способом» 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1) копия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2) иллюстрация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3) гравюр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4) репродукция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акое слово имеет значение, противоположное слову дилетант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1) знаток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2) экспер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3) профессионал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4) любитель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45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кажите предложение с составным именным сказуемы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0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1) Бопре в отечестве своем был парикмахером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2) Я был готов провалиться сквозь землю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3) По прогнозам синоптиков, в воскресенье ветер будет усиливаться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4) Сегодня мы продолжим изучать тему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кажите тип сказуемого в предложении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В наше время Татьянин день считается национальным студенческим праздником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 предложения выпишите словосочетание со связью СОГЛАСОВАН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321300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оражают своей красотой творения зодчего Б.К.Растрелли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Выберите грамматически правильное продолжение предложения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провергая какое-либо утвержден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24000" y="2565360"/>
            <a:ext cx="83516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иведите убедительные дово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сегда разгорался спо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ужны доказательст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часто используется доказательство от противног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 предложения выпишите приложен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раздник назван так в память великомученицы Татьяны, замученной в Риме в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II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веке во времена гонений христиан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 каком предложении на месте пропуска ставится тире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1) Волга (…) крупнейшая река Европы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2) Бедность (…) не порок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3) Он (…) мой старинный друг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4) Злой язык (…) что стрела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Выбрать из данного ряда только словосочетания, записать их, разделив на группы по способам подчинительной связ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Довольно жарко, через час, разделив на группы, горячий кофе, выйти из дома, чет или нечет, впереди лето, кресло-качалка, задание выполнено, каштановый цвет, ярко-жёлтый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предложении знаки препинания расставлены неправильно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1. Отъезжающие, займите места в вагонах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2. Чего тебе надобно, старче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3.  Мерзни, мерзни, волчий хвост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4. Друг мой, друг далекий вспомни обо мне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предложении знаки препинания расставлены неправильно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1. Итак, я лежал под кустиком в стороне и поглядывал на мальчико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2. Горный воздух, без всякого сомнения действует благотворно на здоровье человек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3.  Ну, скушай же еще тарелочку, мой милый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4. Поломка, к счастью, оказалась незначительно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предложении знаки препинания расставлены неправильно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. А прошлое, кажется, сном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. Был уже конец марта, однако снег еще не начал таять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.  Навстречу нам шла шхуна, должно быть, в Тамань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. Нет, благодарю покорно, не хочу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предложении нужно поставить только одну запятую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0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. Джульетта ты как день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. И невозможное возможно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.  Существует кстати интересная легенда о происхождении этого названи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. Увы мой стих не блещет новизной разнообразьем перемен нежданных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В каком предложении знаки препинания расставлены неправильно?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604360" cy="53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1. Несмотря на сильный встречный ветер и большую волну, катер продолжал упорно двигаться вперед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2. Хлеб берут рукой и кладут на тарелку, специально для него предназначенную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3.  Он переоделся, позавтракал в буфете и вернувшись в номер, позвонил в справочное бюро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4. Сад был окружен забором, старым, ветхим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Выберите грамматически правильное продолжение предложен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040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однявшись на вершину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719280" y="1989000"/>
            <a:ext cx="842472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самое трудное – удержаться на ней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вы испытываете ни с чем не сравнимое ощущение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все кажется другим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до заката оставалось не больше получас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акое значение имеет слово КРИТЕРИЙ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. существенный признак чего-либ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. обсуждение чего-либо с целью дать оценку, выявить достоинст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.  принципы, убеждения какого-либо челове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. основания для оцен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кажите ошибку в управлен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) поведать о чем-либ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) подтверждать что-т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) поведать что-т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) подтверждать о чем-т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слове ударение падает на первый слог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) досуг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2) нарос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3) назван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4) звал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слове ударение падает на третий слог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1) обеспечение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2) феномен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3) переведены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4) намерение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Из данного ниже предложения выпишите слово, образованное приставочным способо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 algn="ctr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рямо над головой полыхнула запоздалая молния, и, пока она светила, я увидел, как на противоположном берегу мерцает какая-то белая точка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слове есть суффикс -ича-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1) плотничать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2) жульничать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3) привередничать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4) нервничать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Укажите предложение, где нужна запята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) В комнате было и тепло и сухо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) Путники поднялись ни свет ни зар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) Иные хозяева вырастили уже и крепенькую морковь и огурчик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) Вещи разбросаны и там и сям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В каком варианте ответа правильно указаны и объяснены все запятые?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Живите (1) наполняя (2) каждый день (3) умом и человеческой теплото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468360" y="2852640"/>
            <a:ext cx="835164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 -  выделяется причастный обор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, 2 – выделяется деепричастный оборо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 – выделяется деепричастный обор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, 3 – выделяется обособленное дополн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В каком варианте ответа правильно указаны все цифры, на месте которых в предложении должны стоять запяты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252360" y="1916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ушкин и Онегин (1) по-разному воспринимают многое (2) например (3) театр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92000" y="3573360"/>
            <a:ext cx="8352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, 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, 3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, 2, 3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предложении выделенное слово пишется раздельно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) Три часа они убили на разговор о том, ЗА(ЧЕМ) на телеграфных столбах нарисованы цифры и что они знача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2) Может быть, ОТ(ТОГО), что стекла запотевали, не было видно пышной рябины за окн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3) В пяти верстах ОТ(ТОГО) места, где проходила переправа, стояла сожженная деревн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4) ЧТО(БЫ) не скучать, возьми гитар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Укажите, в каких предложениях выделенные слова являются наречиями и пишутся слитно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А)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ы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(в)праве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решить проблему самостоятельно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Б) Не сомневайтесь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(в)праве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поступить так, как считаете целесообразным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) С охоты все вернулись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(на)утро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Г) Чаепитие по случаю дня рождения дочки назначено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(на)утро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39640" y="59500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) А, Г    2) Б, Г    3) А, В     4) Б, 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ряду во всех словах пропущена буква И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завис…л, смер…л, езд…л, наскуч…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) развес…л, вылож…л, возглав…л, чу…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) обессил…л от голода, муч…л холод, смер…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) намусор…л, чуд…лся, наскуч…л, вып…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В каком предложении глагол ТОЛКОВАТЬ можно заменить глаголом ТРАКТОВАТЬ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) Мои соседи по купе оказались людьми общительными и всю дорогу увлеченно толковали о самых разных веща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2) Сонниками называют книги, которые толкуют с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3) Режиссер по-новому толкует известную комедию Шекспи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4) Доктор битый час толковал, как важно правильно питать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ряду во всех словах на месте пропуска пишется НН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2188800"/>
            <a:ext cx="896472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1) глиня…ый, утре…ий, дивизио…ы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2) родстве…ый, комиссио…ый, карти…ы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3) торжестве…ый, тюле..ий, газо…ы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4) перро…ый, иллюзио…ый, ветря…о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акое слово имеет значение «приходящий в упадок»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) дестабилизирующи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) деградирующи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) реакционны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) резонерствующи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акое слово имеет значение «нелепость, бессмыслица»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) анонс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2) аншлаг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3) абсурд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4) авантюр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их словах пишется буква И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620640"/>
            <a:ext cx="8209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1.Вязальные спиц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2.Цариц…ны черевичк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3.Ц…ганский табор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4.Ц…гейковая шуб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5. Вз…мать налог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6. Сердито ц…кнут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7. Средство от ц…нг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8. Панц…рь черепах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9. Древняя ц…вилизац…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10. Об…грать соперни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Найдите словосочетание с грамматической ошибкой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вышел из пар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) уделить внимание на связь со школо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) об этом много говорил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) прошло время с той встреч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предложении выделенное слово пишется раздельно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60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) Владимир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то(же)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приедет к нам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) Нам приходилось упорно учиться,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что(бы)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добиться успех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) Поблагодарил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за(то)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, что помог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) Было холодно,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(по)этому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мы отправились на машине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6:37:48Z</dcterms:created>
  <dc:creator>Ирина</dc:creator>
  <dc:description/>
  <dc:language>en-US</dc:language>
  <cp:lastModifiedBy>Директор                                         </cp:lastModifiedBy>
  <dcterms:modified xsi:type="dcterms:W3CDTF">2010-05-26T06:12:32Z</dcterms:modified>
  <cp:revision>12</cp:revision>
  <dc:subject/>
  <dc:title>Слайд 1</dc:title>
</cp:coreProperties>
</file>