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1698-6EC8-4412-A2FC-35D96F07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450AE-2E93-4407-A810-13A52AA2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8897C-3F26-4FFB-A5AE-1654DD6C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415E-862A-4A84-B7CD-0EB94908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F31C-BB54-44BD-AC3E-6E7693EF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3665-286C-4CD1-B78F-73D1DCF7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FE89-1424-4C35-9F97-DE0073F4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35AF-ACEC-4737-B3CC-97847994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3BFF-BDA8-4E40-AE78-984E45F1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FC98-2017-4510-AADB-610CA322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D0D1-1A8D-448D-9CAD-F79489B8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538D-D953-4D06-84AE-A0C051DB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3249-8869-4CA5-8DEF-85A1FB9B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C81E-0BB8-45B3-9554-CE2737E0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4CB4-0F0F-4259-9AE6-E0C01A09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2B2D-493F-4738-B6E0-B154352D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BB02-3444-40EE-AB3C-C07CB971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29B2-368A-46B6-8501-C5C06B74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A6C7-AC43-4FBF-A0C4-A8A4BD14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8071-742B-48A2-82B3-0801BDD6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86EEE-D254-470D-AF84-5B63137C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DC0A-C180-4507-B78C-50118381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DB31-5060-4F1C-ACFB-11AEC9BC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10AFD-13E1-451F-8531-1A709A97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71D8-A1A1-4188-B404-E9AFE9069D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FBD2-4967-4EB3-8080-6252297450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468360" y="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йдите предложения с речевыми ошибками, исправьте и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68360" y="981000"/>
            <a:ext cx="8496360" cy="72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Мне пришлось отвечать на вопросы, написанные на обоих сторонах лис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Неплохо бы прислушаться к ихнему мнен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 Ложась спать, не забудь поставить будиль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Взвесьте, пожалуйста, два килограмма яблок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 Следующая Олимпиада состоится в двухтысяча четырнадцатом го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. Зайдя в магазин игрушек, у малыша глаза разбежалис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варианте ответа правильно указаны цифры, на месте которых в предложении должны стоять запятые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бегая на избитую(1) исчерченную осколками(2) деревянную платформу(3) он чуть было не упал(4) под сильной(5) воздушной волно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9640" y="3933720"/>
            <a:ext cx="835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, 2,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,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, 2, 3, 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, 3,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акое из слов в предложении является деепричастием совершенного вида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тдав мне чинный поклон, уселись они по-прежнему, и только порой, перемигиваясь и перешептываясь между собой, вели разговор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9640" y="3745080"/>
            <a:ext cx="835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о-прежнем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еремигиваяс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тда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ерешептываяс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предложении употреблено неопределенное местоимение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6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) Унынья моего ничто не мучит, не тревожи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) Ни с какими трудностями он не считалс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) Иди туда, не знаю куд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) Какие-то мушки летали вокруг старого пн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ряду оба слова пишутся через дефис 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) (без)ветренный, (сложно)подчиненно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) (не)рад, (каре)глазы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) (пол)листа, (учебно)воспитательны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) (вице)адмирал, (седо)бороды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каком ряду оба слова пишутся без буквы Ь 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1) ералаш…, свар…щик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) гореч…, можеш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) кулич…, назнач…т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) октябр…ский, январ…ский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кое слово имеет значение «картина, воспроизведенная типографским способом» 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1) коп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) иллюстрац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) гравюр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) репродукц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кое слово имеет значение, противоположное слову дилетант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1) знаток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) экспер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) профессионал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) любитель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45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кажите предложение с составным именным сказуемы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1) Бопре в отечестве своем был парикмахером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) Я был готов провалиться сквозь землю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) По прогнозам синоптиков, в воскресенье ветер будет усиливаться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) Сегодня мы продолжим изучать тему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кажите тип сказуемого в предложени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В наше время Татьянин день считается национальным студенческим праздником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 предложения выпишите словосочетание со связью СОГЛАСОВА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321300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оражают своей красотой творения зодчего Б.К.Растрелл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ыберите грамматически правильное продолжение предложен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провергая какое-либо утвержд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24000" y="2565360"/>
            <a:ext cx="83516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иведите убедительные дово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сегда разгорался спо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ужны доказатель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часто используется доказательство от противног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 предложения выпишите приложе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раздник назван так в память великомученицы Татьяны, замученной в Риме в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II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веке во времена гонений христиан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каком предложении на месте пропуска ставится тире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1) Волга (…) крупнейшая река Европы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) Бедность (…) не порок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) Он (…) мой старинный друг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) Злой язык (…) что стрела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ыбрать из данного ряда только словосочетания, записать их, разделив на группы по способам подчинительной связ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Довольно жарко, через час, разделив на группы, горячий кофе, выйти из дома, чет или нечет, впереди лето, кресло-качалка, задание выполнено, каштановый цвет, ярко-жёлтый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предложении знаки препинания расставлены неправильно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1. Отъезжающие, займите места в вагонах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. Чего тебе надобно, старче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.  Мерзни, мерзни, волчий хвост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. Друг мой, друг далекий вспомни обо мне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предложении знаки препинания расставлены неправильно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1. Итак, я лежал под кустиком в стороне и поглядывал на мальчик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2. Горный воздух, без всякого сомнения действует благотворно на здоровье человек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3.  Ну, скушай же еще тарелочку, мой милый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4. Поломка, к счастью, оказалась незначительно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предложении знаки препинания расставлены неправильно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. А прошлое, кажется, сно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. Был уже конец марта, однако снег еще не начал таять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.  Навстречу нам шла шхуна, должно быть, в Тамань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. Нет, благодарю покорно, не хочу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предложении нужно поставить только одну запятую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. Джульетта ты как день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. И невозможное возможно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.  Существует кстати интересная легенда о происхождении этого названи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. Увы мой стих не блещет новизной разнообразьем перемен нежданны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 каком предложении знаки препинания расставлены неправильно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60436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1. Несмотря на сильный встречный ветер и большую волну, катер продолжал упорно двигаться вперед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2. Хлеб берут рукой и кладут на тарелку, специально для него предназначенную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3.  Он переоделся, позавтракал в буфете и вернувшись в номер, позвонил в справочное бюро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4. Сад был окружен забором, старым, ветхим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ыберите грамматически правильное продолжение предложе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040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однявшись на вершину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719280" y="1989000"/>
            <a:ext cx="84247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амое трудное – удержаться на не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вы испытываете ни с чем не сравнимое ощущени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все кажется други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до заката оставалось не больше получас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акое значение имеет слово КРИТЕРИЙ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. существенный признак чего-либ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. обсуждение чего-либо с целью дать оценку, выявить достоинст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.  принципы, убеждения какого-либо челове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. основания для оцен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кажите ошибку в управлен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) поведать о чем-либ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) подтверждать что-т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) поведать что-т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) подтверждать о чем-т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слове ударение падает на первый слог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) досуг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) нарос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) назван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) звал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слове ударение падает на третий слог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) обеспечение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2) феномен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3) переведены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4) намерение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з данного ниже предложения выпишите слово, образованное приставочным способ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 algn="ctr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рямо над головой полыхнула запоздалая молния, и, пока она светила, я увидел, как на противоположном берегу мерцает какая-то белая точка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слове есть суффикс -ича-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) плотничать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2) жульничать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3) привередничать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4) нервничать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Укажите предложение, где нужна запята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) В комнате было и тепло и сухо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) Путники поднялись ни свет ни зар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) Иные хозяева вырастили уже и крепенькую морковь и огурчик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) Вещи разбросаны и там и ся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 каком варианте ответа правильно указаны и объяснены все запятые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Живите (1) наполняя (2) каждый день (3) умом и человеческой теплото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68360" y="2852640"/>
            <a:ext cx="83516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 -  выделяется причастный обор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, 2 – выделяется деепричастный оборо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 – выделяется деепричастный обор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, 3 – выделяется обособленное дополн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 каком варианте ответа правильно указаны все цифры, на месте которых в предложении должны стоять запяты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252360" y="1916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ушкин и Онегин (1) по-разному воспринимают многое (2) например (3) театр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92000" y="3573360"/>
            <a:ext cx="8352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,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, 3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, 2, 3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предложении выделенное слово пишется раздельно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) Три часа они убили на разговор о том, ЗА(ЧЕМ) на телеграфных столбах нарисованы цифры и что они знача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) Может быть, ОТ(ТОГО), что стекла запотевали, не было видно пышной рябины за окн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) В пяти верстах ОТ(ТОГО) места, где проходила переправа, стояла сожженная дерев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4) ЧТО(БЫ) не скучать, возьми гитар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Укажите, в каких предложениях выделенные слова являются наречиями и пишутся слитно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)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ы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(в)праве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решить проблему самостоятельно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Б) Не сомневайтесь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(в)праве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поступить так, как считаете целесообразным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) С охоты все вернулись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(на)утро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Г) Чаепитие по случаю дня рождения дочки назначено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(на)утро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39640" y="59500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) А, Г    2) Б, Г    3) А, В     4) Б, 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ряду во всех словах пропущена буква И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завис…л, смер…л, езд…л, наскуч…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) развес…л, вылож…л, возглав…л, чу…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) обессил…л от голода, муч…л холод, смер…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) намусор…л, чуд…лся, наскуч…л, вып…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 каком предложении глагол ТОЛКОВАТЬ можно заменить глаголом ТРАКТОВАТЬ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) Мои соседи по купе оказались людьми общительными и всю дорогу увлеченно толковали о самых разных веща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) Сонниками называют книги, которые толкуют с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) Режиссер по-новому толкует известную комедию Шекспи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4) Доктор битый час толковал, как важно правильно питать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ряду во всех словах на месте пропуска пишется НН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2188800"/>
            <a:ext cx="896472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1) глиня…ый, утре…ий, дивизио…ы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2) родстве…ый, комиссио…ый, карти…ы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3) торжестве…ый, тюле..ий, газо…ы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4) перро…ый, иллюзио…ый, ветря…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акое слово имеет значение «приходящий в упадок»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) дестабилизирующи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) деградирующи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) реакционны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) резонерствующи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акое слово имеет значение «нелепость, бессмыслица»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) анонс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) аншлаг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) абсурд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4) авантюр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их словах пишется буква И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620640"/>
            <a:ext cx="8209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1.Вязальные спиц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2.Цариц…ны черевичк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3.Ц…ганский табор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4.Ц…гейковая шуб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5. Вз…мать налог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6. Сердито ц…кну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7. Средство от ц…нг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8. Панц…рь черепах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9. Древняя ц…вилизац…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10. Об…грать соперни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Найдите словосочетание с грамматической ошибкой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ышел из пар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) уделить внимание на связь со школо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) об этом много говорил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) прошло время с той встреч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 каком предложении выделенное слово пишется раздельно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6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) Владимир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то(же)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приедет к на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2) Нам приходилось упорно учиться,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что(бы)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добиться успех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) Поблагодарил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за(то)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, что помог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) Было холодно,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(по)этому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мы отправились на машин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6:37:48Z</dcterms:created>
  <dc:creator>Ирина</dc:creator>
  <dc:description/>
  <dc:language>en-US</dc:language>
  <cp:lastModifiedBy>Директор                                         </cp:lastModifiedBy>
  <dcterms:modified xsi:type="dcterms:W3CDTF">2010-05-26T06:12:32Z</dcterms:modified>
  <cp:revision>12</cp:revision>
  <dc:subject/>
  <dc:title>Слайд 1</dc:title>
</cp:coreProperties>
</file>