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278-21DC-4886-B32F-8E0585B3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711-41DD-4ACB-9D80-42A615F3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4D0-F092-4E69-B634-70EB190C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145-F3E9-42DD-9C60-7DC644EF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47E-5590-42E8-AF6C-DA6EAF9F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8FF-C61A-4072-8754-D489E357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F36-3C71-48F0-A0EC-F9186F57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152-FF1A-419B-9E6D-103205A8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BF6-1957-402A-9224-9F77DDE9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641-706B-4862-9382-D5CE738F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165-4218-44D1-9154-A7ED60B3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023-F4B0-42A0-B291-D06AB095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0892-D66D-4456-8F91-6C4AE7060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5640" y="5227560"/>
            <a:ext cx="3117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1440" y="5516640"/>
            <a:ext cx="24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ца 2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ышева Кс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572000" cy="3508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88720" y="4221000"/>
            <a:ext cx="26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ни фронтовы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ады боевы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е тюльпа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и ветеран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алют в полнеб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омный, как Побе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533080" cy="5977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42720" y="5969160"/>
            <a:ext cx="66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икая Отечественная война началась 22 июня 1941 го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закончилась 9 мая 1945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333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33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56000" y="3443400"/>
            <a:ext cx="4788000" cy="329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149720"/>
            <a:ext cx="419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ою всё дышало тишиной,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вся Земля ещё спала, казалос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знал, что между миром и войно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го каких-то пять минут оста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06720" cy="34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357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4221000"/>
            <a:ext cx="82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юньской ночью 1941 года на нашу страну обрушился удар невиданной в истории армии вторжения: Все, от мала до велика, встали на защиту своей Родины, добровольцы уходили на фронт, вчерашние школьники становились солд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24360" cy="3801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78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314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4437000"/>
            <a:ext cx="44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тлер постоянно твердил, что ему недостаточно победить Советский союз, что нужно стереть с лица земли эту страну и уничтожить её народ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3782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513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005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ми путями прошли вы, солдат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Какие преграды сумели сломить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Стираются лица, стираются дат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Военных дорог никогда не забы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4365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32480" y="0"/>
            <a:ext cx="4511520" cy="4365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8000" y="4508640"/>
            <a:ext cx="87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мая - это всенародный праздник - день Великой Победы. 9 мая вспоминают тех, кто остался на полях сражений, тех, кто после войны налаживал мирную жизнь. А еще поздравляют тех воинов Великой Отечественной Войны, которые живут сего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5792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23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284720" y="3213000"/>
            <a:ext cx="4608360" cy="259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5877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июня 1945г. на Красной площади прошёл Парад Победы.  Проведение парада стало традицией, его проводят во многих городах каждый год 9 м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4751280" cy="372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404640"/>
            <a:ext cx="4495680" cy="3757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4941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памятникам, к Вечному огню в этот день люди возлагают цветы в память о тех, кто погиб на войне, защищая нашу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3:38:58Z</dcterms:created>
  <dc:creator>Анна</dc:creator>
  <dc:description/>
  <dc:language>en-US</dc:language>
  <cp:lastModifiedBy>Анна</cp:lastModifiedBy>
  <dcterms:modified xsi:type="dcterms:W3CDTF">2013-04-28T14:36:37Z</dcterms:modified>
  <cp:revision>4</cp:revision>
  <dc:subject/>
  <dc:title>Слайд 1</dc:title>
</cp:coreProperties>
</file>