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A2A-27DD-4621-91D5-CC7FDD74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5A4-387A-4DAC-8E07-00B4E17A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D2C-F49E-43F3-A377-D35343FD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595-EDB6-4381-8BE4-9EC9C901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327-3979-4A2A-B4D7-22C9DCD5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064-FF3F-4B0A-AD4F-42C4FF9A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006-DC1A-4B47-ABF7-53B33DB2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21C-862F-4419-9AB2-EDCC5DD2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3A2-C438-4C14-9227-1EB29E5F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35D-1538-40B6-B687-3143FB38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E9B-D375-4D8F-8699-9247A84A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818-0A82-43D3-8E32-39A2C1E1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D2AC-86C7-422E-92FC-AA24298FF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5640" y="5227560"/>
            <a:ext cx="3117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1440" y="5516640"/>
            <a:ext cx="24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ца 2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ышева Кс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572000" cy="3508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88720" y="4221000"/>
            <a:ext cx="26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ни фронтовы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ады боевы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е тюльпа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и ветеран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алют в полнеб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омный, как Побе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533080" cy="5977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42720" y="5969160"/>
            <a:ext cx="66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икая Отечественная война началась 22 июня 1941 го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закончилась 9 мая 1945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333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33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56000" y="3443400"/>
            <a:ext cx="4788000" cy="329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149720"/>
            <a:ext cx="419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ою всё дышало тишиной,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вся Земля ещё спала, казалось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знал, что между миром и войно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го каких-то пять минут оста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06720" cy="34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357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4221000"/>
            <a:ext cx="82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юньской ночью 1941 года на нашу страну обрушился удар невиданной в истории армии вторжения: Все, от мала до велика, встали на защиту своей Родины, добровольцы уходили на фронт, вчерашние школьники становились солд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24360" cy="3801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78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4140360" cy="314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4437000"/>
            <a:ext cx="44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тлер постоянно твердил, что ему недостаточно победить Советский союз, что нужно стереть с лица земли эту страну и уничтожить её народ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3782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513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005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ми путями прошли вы, солдат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Какие преграды сумели сломить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Стираются лица, стираются дат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Военных дорог никогда не забы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4365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32480" y="0"/>
            <a:ext cx="4511520" cy="4365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8000" y="4508640"/>
            <a:ext cx="87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мая - это всенародный праздник - день Великой Победы. 9 мая вспоминают тех, кто остался на полях сражений, тех, кто после войны налаживал мирную жизнь. А еще поздравляют тех воинов Великой Отечественной Войны, которые живут сего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5792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23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284720" y="3213000"/>
            <a:ext cx="4608360" cy="259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5877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июня 1945г. на Красной площади прошёл Парад Победы.  Проведение парада стало традицией, его проводят во многих городах каждый год 9 м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4751280" cy="372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404640"/>
            <a:ext cx="4495680" cy="3757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4941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памятникам, к Вечному огню в этот день люди возлагают цветы в память о тех, кто погиб на войне, защищая нашу Ро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3:38:58Z</dcterms:created>
  <dc:creator>Анна</dc:creator>
  <dc:description/>
  <dc:language>en-US</dc:language>
  <cp:lastModifiedBy>Анна</cp:lastModifiedBy>
  <dcterms:modified xsi:type="dcterms:W3CDTF">2013-04-28T14:36:37Z</dcterms:modified>
  <cp:revision>4</cp:revision>
  <dc:subject/>
  <dc:title>Слайд 1</dc:title>
</cp:coreProperties>
</file>