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579-1D62-4BC6-A174-1198352C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8DD-718B-4493-AEB9-1981820A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E83-1EB6-43A8-8F02-D1C6D6B8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E72-0B4D-4E88-A79D-F57A35B6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938-BAD2-4278-8D1C-B89D039D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434-4B89-4718-B47B-1E8E3DA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C91-62F0-467B-AC02-8485EB76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DB7-8C93-4916-834F-F9AE92C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F09-8EC8-42AE-93CB-1B8F3B7E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390-A876-42FB-A7FE-6BD3087E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8E3-5B73-4288-87E3-A56A5B79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77A-B35F-483C-BFAF-2FAE6FD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F58-0DDB-42C0-941F-0AEBBEBAE404}" type="slidenum">
              <a:rPr b="0" lang="ru-RU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1916280"/>
            <a:ext cx="82296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обыкновенное  путешествие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большую  музыкальную  страну.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3" descr="Д"/>
          <p:cNvPicPr/>
          <p:nvPr/>
        </p:nvPicPr>
        <p:blipFill>
          <a:blip r:embed="rId1"/>
          <a:stretch/>
        </p:blipFill>
        <p:spPr>
          <a:xfrm>
            <a:off x="3492360" y="4149720"/>
            <a:ext cx="2311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Котенок и щенок</a:t>
            </a:r>
            <a:br>
              <a:rPr sz="4000"/>
            </a:b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809280"/>
            <a:ext cx="3492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  В одной квартире жили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и щенок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ятелями были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и щенок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дин усатенький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ругой мохнатенький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иятелями были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и щенок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.Но странную игрушку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несли ребята в дом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Хвосты поджали дружно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тенок со щенком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грушка колкая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овется елкою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голки растопырив,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оит в углу своем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492360" y="765000"/>
            <a:ext cx="31672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3.И вот на эту елку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 зеленым хохолком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пали втихомолку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ок со щенком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убами, лапам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Ее царапал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елку повалил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ок со щенком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4.Пришли ребята вскоре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 елка — на боку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емало было горя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ку и щенку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х так нахлопали,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х так нашлепали -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было очень стыдно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ку и щенку.</a:t>
            </a:r>
            <a:endParaRPr b="0" i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516720" y="907920"/>
            <a:ext cx="262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5.А елку нарядили,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Гостей позвали в дом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И даже пригласили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ка со щенком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Один усатенький,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Другой мохнатенький.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од елкой веселились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отенок со щенком…</a:t>
            </a:r>
            <a:endParaRPr b="0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7020000" y="5238720"/>
            <a:ext cx="2124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имфония  </a:t>
            </a:r>
            <a:br>
              <a:rPr sz="3600"/>
            </a:b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(от греч. symphonia — созвучие)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518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Большая музыкальная страна, в которой звучит только музыка. Исполняет эту музыку симфонический оркестр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юдвиг  ван  Бетховен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имфония  № 5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8" descr="Бетховен"/>
          <p:cNvPicPr/>
          <p:nvPr/>
        </p:nvPicPr>
        <p:blipFill>
          <a:blip r:embed="rId1"/>
          <a:stretch/>
        </p:blipFill>
        <p:spPr>
          <a:xfrm>
            <a:off x="5508720" y="2060640"/>
            <a:ext cx="3262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6360" y="476280"/>
            <a:ext cx="403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84720" y="1484280"/>
            <a:ext cx="3059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имфонический  оркестр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" name="Picture 4" descr="Симф"/>
          <p:cNvPicPr/>
          <p:nvPr/>
        </p:nvPicPr>
        <p:blipFill>
          <a:blip r:embed="rId1"/>
          <a:stretch/>
        </p:blipFill>
        <p:spPr>
          <a:xfrm>
            <a:off x="395280" y="189000"/>
            <a:ext cx="5689440" cy="2444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156360" y="595008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ирижёр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6" descr="симф"/>
          <p:cNvPicPr/>
          <p:nvPr/>
        </p:nvPicPr>
        <p:blipFill>
          <a:blip r:embed="rId2"/>
          <a:stretch/>
        </p:blipFill>
        <p:spPr>
          <a:xfrm>
            <a:off x="5076720" y="4005360"/>
            <a:ext cx="3714840" cy="169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филармония"/>
          <p:cNvPicPr/>
          <p:nvPr/>
        </p:nvPicPr>
        <p:blipFill>
          <a:blip r:embed="rId3"/>
          <a:stretch/>
        </p:blipFill>
        <p:spPr>
          <a:xfrm>
            <a:off x="1187280" y="3933720"/>
            <a:ext cx="2951280" cy="2163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836720" y="6143760"/>
            <a:ext cx="21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Филармония</a:t>
            </a:r>
            <a:br>
              <a:rPr sz="2400"/>
            </a:b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2627280" y="2781360"/>
            <a:ext cx="468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мфония </a:t>
            </a:r>
            <a:endParaRPr b="0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5" name="Picture 4" descr="Чайковский"/>
          <p:cNvPicPr/>
          <p:nvPr/>
        </p:nvPicPr>
        <p:blipFill>
          <a:blip r:embed="rId1"/>
          <a:stretch/>
        </p:blipFill>
        <p:spPr>
          <a:xfrm>
            <a:off x="428760" y="571680"/>
            <a:ext cx="4076640" cy="507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859280" y="3429000"/>
            <a:ext cx="42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.И.Чайковский.        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онцерт № 1  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ля   фортепиано  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  оркестром.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221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2.  Музыкальное  произведение  для  оркестра  и  солирующего  инструмента.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2276640"/>
            <a:ext cx="6072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1.  Исполнение  произведений  по  заранее  объявленной  программе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27280" y="404640"/>
            <a:ext cx="4321080" cy="16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церт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CIMG1034"/>
          <p:cNvPicPr/>
          <p:nvPr/>
        </p:nvPicPr>
        <p:blipFill>
          <a:blip r:embed="rId1"/>
          <a:stretch/>
        </p:blipFill>
        <p:spPr>
          <a:xfrm>
            <a:off x="6116760" y="2133720"/>
            <a:ext cx="30272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360" y="2857320"/>
            <a:ext cx="3457800" cy="29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.А.Моцарт.                 Концерт  № 2          для  флейты             с  оркестром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" name="Picture 7" descr="Моцарт"/>
          <p:cNvPicPr/>
          <p:nvPr/>
        </p:nvPicPr>
        <p:blipFill>
          <a:blip r:embed="rId1"/>
          <a:stretch/>
        </p:blipFill>
        <p:spPr>
          <a:xfrm>
            <a:off x="166680" y="500040"/>
            <a:ext cx="47656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олирующий  инструмент  соревнуется  с  оркестром.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5" name="Picture 8" descr="arfa"/>
          <p:cNvPicPr/>
          <p:nvPr/>
        </p:nvPicPr>
        <p:blipFill>
          <a:blip r:embed="rId1"/>
          <a:stretch/>
        </p:blipFill>
        <p:spPr>
          <a:xfrm>
            <a:off x="7236000" y="549360"/>
            <a:ext cx="1554120" cy="312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симф"/>
          <p:cNvPicPr/>
          <p:nvPr/>
        </p:nvPicPr>
        <p:blipFill>
          <a:blip r:embed="rId2"/>
          <a:stretch/>
        </p:blipFill>
        <p:spPr>
          <a:xfrm>
            <a:off x="250920" y="3887640"/>
            <a:ext cx="424980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26920" y="1422360"/>
            <a:ext cx="2953080" cy="239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 rot="19029000">
            <a:off x="4819320" y="5246640"/>
            <a:ext cx="21175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виолончель"/>
          <p:cNvPicPr/>
          <p:nvPr/>
        </p:nvPicPr>
        <p:blipFill>
          <a:blip r:embed="rId5"/>
          <a:srcRect l="22829" t="8995" r="25700" b="5881"/>
          <a:stretch/>
        </p:blipFill>
        <p:spPr>
          <a:xfrm>
            <a:off x="7308720" y="3933720"/>
            <a:ext cx="1224000" cy="273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флейта"/>
          <p:cNvPicPr/>
          <p:nvPr/>
        </p:nvPicPr>
        <p:blipFill>
          <a:blip r:embed="rId6"/>
          <a:srcRect l="0" t="27094" r="0" b="25308"/>
          <a:stretch/>
        </p:blipFill>
        <p:spPr>
          <a:xfrm>
            <a:off x="4716360" y="3860640"/>
            <a:ext cx="2448000" cy="5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скрипка"/>
          <p:cNvPicPr/>
          <p:nvPr/>
        </p:nvPicPr>
        <p:blipFill>
          <a:blip r:embed="rId7"/>
          <a:stretch/>
        </p:blipFill>
        <p:spPr>
          <a:xfrm>
            <a:off x="4356000" y="1649520"/>
            <a:ext cx="25210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5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2920" y="2997000"/>
            <a:ext cx="403884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.В.Рахманинов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онцерт  № 2           для  фортепиано      с  оркестром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" name="Picture 5" descr="Рахманинов"/>
          <p:cNvPicPr/>
          <p:nvPr/>
        </p:nvPicPr>
        <p:blipFill>
          <a:blip r:embed="rId1"/>
          <a:stretch/>
        </p:blipFill>
        <p:spPr>
          <a:xfrm>
            <a:off x="468360" y="692280"/>
            <a:ext cx="4011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Музыкальное  произведение 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для  оркестра  и  солирующего  инструмента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WordArt 7"/>
          <p:cNvSpPr txBox="1"/>
          <p:nvPr/>
        </p:nvSpPr>
        <p:spPr>
          <a:xfrm>
            <a:off x="2050920" y="1989000"/>
            <a:ext cx="532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церт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385776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олирующий инструмент  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оревнуется  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с  оркестром.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8" name="Picture 9" descr="симф"/>
          <p:cNvPicPr/>
          <p:nvPr/>
        </p:nvPicPr>
        <p:blipFill>
          <a:blip r:embed="rId1"/>
          <a:stretch/>
        </p:blipFill>
        <p:spPr>
          <a:xfrm>
            <a:off x="5435640" y="3789360"/>
            <a:ext cx="3708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5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8:30:12Z</dcterms:created>
  <dc:creator>Татьяна</dc:creator>
  <dc:description/>
  <dc:language>en-US</dc:language>
  <cp:lastModifiedBy>Музыка</cp:lastModifiedBy>
  <dcterms:modified xsi:type="dcterms:W3CDTF">2019-12-01T19:42:35Z</dcterms:modified>
  <cp:revision>13</cp:revision>
  <dc:subject/>
  <dc:title>Слайд 1</dc:title>
</cp:coreProperties>
</file>