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4BA-745E-4083-B6B3-302B3C35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017-A772-493B-9588-876FED2D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598-67FA-47FC-8CEF-37861321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E2B-D94C-4BF1-AB88-B0769985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4D0-0FD9-4DA3-9DD6-FAC4E46A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1C1-DCB0-4C09-AFF9-5537BB55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F46-10E7-4D1F-9D4A-00648DD3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F7D-F5B2-40EC-B370-B09D2E38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D2F-5F1A-4293-B959-CF7F0FB0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0BC-D25F-41BF-86C1-217A386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A0F-0A12-490B-8410-E1396F7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CFC-6EC1-4075-A6AB-3273323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7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BA9E-5383-478F-B452-62F24C1EC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lasticdor.ru/images/foto/17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628640"/>
            <a:ext cx="4249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</a:rPr>
              <a:t>Определение кону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через вершину конуса провести плоскость, пересекающую основание, то в сечении получится равнобедренный тре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152960" y="1268280"/>
            <a:ext cx="49910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3971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чение конуса, проходящее через ось, называется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осевы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В основании осевого сечения лежит диаметр – максимальная хорда, поэтому угол при вершине осевого сечения – это максимальный угол между образующими конуса. (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Угол при вершине конус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211640" y="0"/>
            <a:ext cx="4946760" cy="5084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4356000" y="4869000"/>
                <a:ext cx="4248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K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севое</m:t>
                    </m:r>
                    <m:r>
                      <m:rPr>
                        <m:lit/>
                        <m:nor/>
                      </m:rPr>
                      <m:t xml:space="preserve">сечени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4643280" y="5300640"/>
                <a:ext cx="3457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диамет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4299120" y="5735520"/>
                <a:ext cx="3787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KS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ршине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12"/>
          <p:cNvSpPr/>
          <p:nvPr/>
        </p:nvSpPr>
        <p:spPr>
          <a:xfrm>
            <a:off x="4500720" y="5300640"/>
            <a:ext cx="381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юбое сечение конуса плоскостью, параллельной основанию, - это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4000" y="260280"/>
            <a:ext cx="399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Сечения 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50529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писанная и описанная пирам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186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Пирамидой, вписанной в конус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называется такая пирамида, основание которой – многоугольник, вписанный в основание конуса, а вершина совпадает с вершиной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31760" y="1052640"/>
            <a:ext cx="46404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003280" y="1530000"/>
            <a:ext cx="3754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рамида называется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описанной около конус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если ее основание – это многоугольник, описанный около основания конуса, а вершина совпадает с вершиной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писанная и описанная пирам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1424160"/>
            <a:ext cx="521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884480" y="620640"/>
            <a:ext cx="4259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скости боковых граней описанной пирамиды проходят через образующую конуса и касательную к окружности основания, т.е. касаются боковой поверхности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862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Боковая поверхность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00720" y="1052280"/>
            <a:ext cx="4643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 боковой поверхностью конуса мы будем понимать предел, к которому стремится боковая поверхность вписанной в этот конус правильной пирамиды, когда число боковых граней неограничен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515120" cy="580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92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Теорема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лощадь боковой поверхности конуса равна половине произведения длины окружности основания на образующ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4427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диус основания кону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разующая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бок.кон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1700280"/>
            <a:ext cx="48132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4932360" cy="4862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076720" y="1455840"/>
                <a:ext cx="37432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7"/>
              <p:cNvSpPr txBox="1"/>
              <p:nvPr/>
            </p:nvSpPr>
            <p:spPr>
              <a:xfrm>
                <a:off x="5003640" y="2852640"/>
                <a:ext cx="1656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4859280" y="3284640"/>
                <a:ext cx="2952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AutoShape 11"/>
          <p:cNvSpPr/>
          <p:nvPr/>
        </p:nvSpPr>
        <p:spPr>
          <a:xfrm>
            <a:off x="8101080" y="2708280"/>
            <a:ext cx="287280" cy="122544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8532720" y="3213000"/>
            <a:ext cx="432000" cy="1511280"/>
          </a:xfrm>
          <a:custGeom>
            <a:avLst/>
            <a:gdLst>
              <a:gd name="textAreaLeft" fmla="*/ 57600 w 432000"/>
              <a:gd name="textAreaRight" fmla="*/ 374400 w 432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3"/>
              <p:cNvSpPr txBox="1"/>
              <p:nvPr/>
            </p:nvSpPr>
            <p:spPr>
              <a:xfrm>
                <a:off x="4284720" y="5373720"/>
                <a:ext cx="48592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Line 15"/>
          <p:cNvSpPr/>
          <p:nvPr/>
        </p:nvSpPr>
        <p:spPr>
          <a:xfrm>
            <a:off x="4356000" y="6308640"/>
            <a:ext cx="10810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8062920" y="6308640"/>
            <a:ext cx="10810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Развертка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2920" y="836280"/>
            <a:ext cx="4332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ертка конуса – это круговой сектор. Его можно рассматривать как развертку боковой поверхности вписанной правильной пирамиды, у которой число боковых граней бесконеч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570560" cy="609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0" y="692280"/>
            <a:ext cx="45608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руговым конус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зывается тело ограниченное кругом – основанием конуса, и конической поверхностью, образованной отрезками, соединяющими точку, вершину конуса, со всеми точками окружности, ограничивающей основание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719520" cy="429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3645000" cy="429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00360" y="2565360"/>
            <a:ext cx="3975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3683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ная угол, образованный высотой и образующей конуса, можно вычислить угол сектора, полученного при развертке конуса,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4057560" y="26028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Объем кону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11280" y="2923920"/>
            <a:ext cx="4629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диус  ос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 – высота кон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кон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1/3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осн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98100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Теорема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ъем конуса равен одной трети произведения площади основания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11640" cy="429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5076720" y="5300640"/>
                <a:ext cx="30956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64328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ъемом конуса будем считать предел, к которому стремится объем вписанной в этот конус правильной пирамиды, когда число боковых граней неограниченно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90360" y="836640"/>
            <a:ext cx="469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200"/>
                            </p:stCondLst>
                            <p:childTnLst>
                              <p:par>
                                <p:cTn id="5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4886280" cy="5589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5364000" y="1125360"/>
                <a:ext cx="2735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4788000" y="2133720"/>
                <a:ext cx="4140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0"/>
              <p:cNvSpPr txBox="1"/>
              <p:nvPr/>
            </p:nvSpPr>
            <p:spPr>
              <a:xfrm>
                <a:off x="3780000" y="2924280"/>
                <a:ext cx="51116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пи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Н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5219640" y="4221000"/>
                <a:ext cx="33116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14"/>
          <p:cNvSpPr/>
          <p:nvPr/>
        </p:nvSpPr>
        <p:spPr>
          <a:xfrm>
            <a:off x="5076720" y="5734080"/>
            <a:ext cx="363708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усные фигуры в бы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конусы дорожны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05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konyc_21"/>
          <p:cNvPicPr/>
          <p:nvPr/>
        </p:nvPicPr>
        <p:blipFill>
          <a:blip r:embed="rId3"/>
          <a:stretch/>
        </p:blipFill>
        <p:spPr>
          <a:xfrm>
            <a:off x="3276720" y="1341360"/>
            <a:ext cx="2490840" cy="252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mage065"/>
          <p:cNvPicPr/>
          <p:nvPr/>
        </p:nvPicPr>
        <p:blipFill>
          <a:blip r:embed="rId4"/>
          <a:stretch/>
        </p:blipFill>
        <p:spPr>
          <a:xfrm>
            <a:off x="179280" y="1268280"/>
            <a:ext cx="2808360" cy="2560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mage071"/>
          <p:cNvPicPr/>
          <p:nvPr/>
        </p:nvPicPr>
        <p:blipFill>
          <a:blip r:embed="rId5"/>
          <a:srcRect l="29832" t="0" r="14010" b="0"/>
          <a:stretch/>
        </p:blipFill>
        <p:spPr>
          <a:xfrm>
            <a:off x="6372360" y="1268280"/>
            <a:ext cx="230508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image068"/>
          <p:cNvPicPr/>
          <p:nvPr/>
        </p:nvPicPr>
        <p:blipFill>
          <a:blip r:embed="rId6"/>
          <a:stretch/>
        </p:blipFill>
        <p:spPr>
          <a:xfrm rot="18754800">
            <a:off x="3493080" y="4003920"/>
            <a:ext cx="2808360" cy="1520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image067"/>
          <p:cNvPicPr/>
          <p:nvPr/>
        </p:nvPicPr>
        <p:blipFill>
          <a:blip r:embed="rId7"/>
          <a:stretch/>
        </p:blipFill>
        <p:spPr>
          <a:xfrm>
            <a:off x="6372360" y="4292640"/>
            <a:ext cx="2305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image100"/>
          <p:cNvPicPr/>
          <p:nvPr/>
        </p:nvPicPr>
        <p:blipFill>
          <a:blip r:embed="rId1"/>
          <a:stretch/>
        </p:blipFill>
        <p:spPr>
          <a:xfrm>
            <a:off x="1258920" y="765000"/>
            <a:ext cx="684216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image097"/>
          <p:cNvPicPr/>
          <p:nvPr/>
        </p:nvPicPr>
        <p:blipFill>
          <a:blip r:embed="rId1"/>
          <a:stretch/>
        </p:blipFill>
        <p:spPr>
          <a:xfrm>
            <a:off x="1835280" y="1125360"/>
            <a:ext cx="53863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image101"/>
          <p:cNvPicPr/>
          <p:nvPr/>
        </p:nvPicPr>
        <p:blipFill>
          <a:blip r:embed="rId1"/>
          <a:stretch/>
        </p:blipFill>
        <p:spPr>
          <a:xfrm>
            <a:off x="1403280" y="1268280"/>
            <a:ext cx="63946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image106"/>
          <p:cNvPicPr/>
          <p:nvPr/>
        </p:nvPicPr>
        <p:blipFill>
          <a:blip r:embed="rId1"/>
          <a:stretch/>
        </p:blipFill>
        <p:spPr>
          <a:xfrm>
            <a:off x="1258920" y="1341360"/>
            <a:ext cx="66628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image110"/>
          <p:cNvPicPr/>
          <p:nvPr/>
        </p:nvPicPr>
        <p:blipFill>
          <a:blip r:embed="rId1"/>
          <a:stretch/>
        </p:blipFill>
        <p:spPr>
          <a:xfrm>
            <a:off x="1476360" y="1125360"/>
            <a:ext cx="63356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187280" y="1063800"/>
            <a:ext cx="72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ус в переводе с греческого «konos» означает «сосновая шишк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конусом люди знакомы с глубокой дре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го сделала для геометрии школа Платона (428–348 гг. до н. э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коле Платона, в частности, принадлежит: а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следование свойств призмы, пирамиды, цилиндра и кону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изучение конических се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1042920" y="1260360"/>
            <a:ext cx="15264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042920" y="234000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042920" y="342108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1042920" y="4508640"/>
            <a:ext cx="152640" cy="15228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9999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9999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54" name="Line 11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57" name="Line 13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60" name="Oval 24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WordArt 25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009999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009999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63" name="Line 27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9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0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1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image112"/>
          <p:cNvPicPr/>
          <p:nvPr/>
        </p:nvPicPr>
        <p:blipFill>
          <a:blip r:embed="rId1"/>
          <a:stretch/>
        </p:blipFill>
        <p:spPr>
          <a:xfrm>
            <a:off x="684360" y="1052640"/>
            <a:ext cx="73641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усные тела в архитек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image114"/>
          <p:cNvPicPr/>
          <p:nvPr/>
        </p:nvPicPr>
        <p:blipFill>
          <a:blip r:embed="rId1"/>
          <a:stretch/>
        </p:blipFill>
        <p:spPr>
          <a:xfrm>
            <a:off x="1476360" y="1197000"/>
            <a:ext cx="60008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332000" y="11970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ьшой трактат о конических сечениях был написан Аполлонием Пергским– учеником Евклида, который создал великий труд из 15 книг под названием «Начала». Эти книги издаются и по сей день, а в школах Англии по ним учатся до сих п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116000" y="1341360"/>
            <a:ext cx="152280" cy="152640"/>
          </a:xfrm>
          <a:prstGeom prst="ellipse">
            <a:avLst/>
          </a:prstGeom>
          <a:solidFill>
            <a:srgbClr val="c182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187280" y="907920"/>
            <a:ext cx="7561440" cy="73080"/>
            <a:chOff x="1187280" y="907920"/>
            <a:chExt cx="7561440" cy="73080"/>
          </a:xfrm>
        </p:grpSpPr>
        <p:sp>
          <p:nvSpPr>
            <p:cNvPr id="71" name="Line 7"/>
            <p:cNvSpPr/>
            <p:nvPr/>
          </p:nvSpPr>
          <p:spPr>
            <a:xfrm>
              <a:off x="1403280" y="907920"/>
              <a:ext cx="734544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>
              <a:off x="1187280" y="981000"/>
              <a:ext cx="7417080" cy="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9"/>
          <p:cNvGrpSpPr/>
          <p:nvPr/>
        </p:nvGrpSpPr>
        <p:grpSpPr>
          <a:xfrm>
            <a:off x="8459640" y="620640"/>
            <a:ext cx="73080" cy="5545080"/>
            <a:chOff x="8459640" y="620640"/>
            <a:chExt cx="73080" cy="5545080"/>
          </a:xfrm>
        </p:grpSpPr>
        <p:sp>
          <p:nvSpPr>
            <p:cNvPr id="74" name="Line 10"/>
            <p:cNvSpPr/>
            <p:nvPr/>
          </p:nvSpPr>
          <p:spPr>
            <a:xfrm>
              <a:off x="8459640" y="62064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>
              <a:off x="8532720" y="765000"/>
              <a:ext cx="0" cy="5400720"/>
            </a:xfrm>
            <a:prstGeom prst="line">
              <a:avLst/>
            </a:prstGeom>
            <a:ln w="28440">
              <a:solidFill>
                <a:srgbClr val="64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WordArt 12"/>
          <p:cNvSpPr txBox="1"/>
          <p:nvPr/>
        </p:nvSpPr>
        <p:spPr>
          <a:xfrm>
            <a:off x="1547640" y="404640"/>
            <a:ext cx="671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18243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9999"/>
                  </a:outerShdw>
                </a:effectLst>
                <a:latin typeface="Courier New"/>
              </a:rPr>
              <a:t>Историческая справка о конусе</a:t>
            </a:r>
            <a:endParaRPr b="0" lang="en-US" sz="1800" spc="1" strike="noStrike">
              <a:ln w="9360">
                <a:solidFill>
                  <a:srgbClr val="c18243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9999"/>
                </a:outerShdw>
              </a:effectLst>
              <a:latin typeface="Courier New"/>
              <a:ea typeface="Courier New"/>
            </a:endParaRPr>
          </a:p>
        </p:txBody>
      </p:sp>
      <p:grpSp>
        <p:nvGrpSpPr>
          <p:cNvPr id="77" name="Group 25"/>
          <p:cNvGrpSpPr/>
          <p:nvPr/>
        </p:nvGrpSpPr>
        <p:grpSpPr>
          <a:xfrm>
            <a:off x="-360" y="6137280"/>
            <a:ext cx="649800" cy="720720"/>
            <a:chOff x="-360" y="6137280"/>
            <a:chExt cx="649800" cy="720720"/>
          </a:xfrm>
        </p:grpSpPr>
        <p:sp>
          <p:nvSpPr>
            <p:cNvPr id="78" name="Line 26"/>
            <p:cNvSpPr/>
            <p:nvPr/>
          </p:nvSpPr>
          <p:spPr>
            <a:xfrm flipH="1">
              <a:off x="-360" y="6137280"/>
              <a:ext cx="340200" cy="61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7"/>
            <p:cNvSpPr/>
            <p:nvPr/>
          </p:nvSpPr>
          <p:spPr>
            <a:xfrm>
              <a:off x="340200" y="6137280"/>
              <a:ext cx="309240" cy="61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8"/>
            <p:cNvSpPr/>
            <p:nvPr/>
          </p:nvSpPr>
          <p:spPr>
            <a:xfrm>
              <a:off x="0" y="6664320"/>
              <a:ext cx="649440" cy="1936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9"/>
            <p:cNvSpPr/>
            <p:nvPr/>
          </p:nvSpPr>
          <p:spPr>
            <a:xfrm>
              <a:off x="340200" y="6137280"/>
              <a:ext cx="0" cy="6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0"/>
            <p:cNvSpPr/>
            <p:nvPr/>
          </p:nvSpPr>
          <p:spPr>
            <a:xfrm>
              <a:off x="371520" y="6747480"/>
              <a:ext cx="30600" cy="54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7596360" y="6524640"/>
            <a:ext cx="1368360" cy="289080"/>
            <a:chOff x="7596360" y="6524640"/>
            <a:chExt cx="1368360" cy="289080"/>
          </a:xfrm>
        </p:grpSpPr>
        <p:sp>
          <p:nvSpPr>
            <p:cNvPr id="84" name="Oval 42"/>
            <p:cNvSpPr/>
            <p:nvPr/>
          </p:nvSpPr>
          <p:spPr>
            <a:xfrm>
              <a:off x="7596360" y="6524640"/>
              <a:ext cx="1368360" cy="277560"/>
            </a:xfrm>
            <a:prstGeom prst="ellipse">
              <a:avLst/>
            </a:prstGeom>
            <a:solidFill>
              <a:srgbClr val="c18243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WordArt 43"/>
            <p:cNvSpPr txBox="1"/>
            <p:nvPr/>
          </p:nvSpPr>
          <p:spPr>
            <a:xfrm>
              <a:off x="7733520" y="6524640"/>
              <a:ext cx="111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07932" dir="18900000" blurRad="0" rotWithShape="0">
                      <a:srgbClr val="009999">
                        <a:alpha val="50000"/>
                      </a:srgbClr>
                    </a:outerShdw>
                  </a:effectLst>
                  <a:latin typeface="Arial"/>
                </a:rPr>
                <a:t>мен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009999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024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Элементы 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кон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771640" y="0"/>
            <a:ext cx="58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Кону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тело, которое получается, если коническую поверхность, образованную прямыми, соединяющими фиксированную точку со всеми точками какой–нибудь кривой, ограничить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68640" cy="5157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859280" y="2403360"/>
            <a:ext cx="4284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55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55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Прямой круговой кону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6000" y="2852640"/>
            <a:ext cx="42116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руговой конус называется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прямы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 если его высота попадает в центр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4085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е образующие конуса равны между собой и составляют один угол с осно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5140440" cy="5256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148360" y="2060640"/>
                <a:ext cx="35290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A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O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5651640" y="3068640"/>
                <a:ext cx="2808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5148360" y="4941720"/>
                <a:ext cx="367164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SAO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SB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AutoShape 11"/>
          <p:cNvSpPr/>
          <p:nvPr/>
        </p:nvSpPr>
        <p:spPr>
          <a:xfrm>
            <a:off x="6732720" y="378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7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572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нус можно получить, вращая прямоугольный треугольник вокруг одного из катетов. При этом осью вращения будет прямая, содержащая высоту конуса. Эта прямая так и называется –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осью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5669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45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21:40:08Z</dcterms:created>
  <dc:creator>Каратанова</dc:creator>
  <dc:description/>
  <dc:language>en-US</dc:language>
  <cp:lastModifiedBy>Антон</cp:lastModifiedBy>
  <dcterms:modified xsi:type="dcterms:W3CDTF">2011-12-25T15:13:13Z</dcterms:modified>
  <cp:revision>7</cp:revision>
  <dc:subject/>
  <dc:title>Определение конуса.</dc:title>
</cp:coreProperties>
</file>