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FFF-DD6B-4DA7-9289-5DB1773B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D55-5219-47C3-8DB9-BE5F2E52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85E-3BDB-4387-A7B2-0060DBE8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12A-5576-4F08-92AA-7EC0732B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384-9A4C-47EB-B07A-02D8C2B1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B0E-2B62-4736-B860-16D4D7F7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A32-C1F0-4195-9C7D-47FA1E5F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2A3-44B1-4DAA-B5B0-ABC6509C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F14-E98D-4C24-BC68-68F9700B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E45-5536-44BD-B9B4-A90E0D8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D08-1D44-419F-BC7E-F3FE68C1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339-408B-45A3-BDC0-5D6507AB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7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9677-B467-46EE-B96B-830AA884B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lasticdor.ru/images/foto/17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628640"/>
            <a:ext cx="4249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Определение кону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через вершину конуса провести плоскость, пересекающую основание, то в сечении получится равнобедренный тре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152960" y="1268280"/>
            <a:ext cx="49910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3971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чение конуса, проходящее через ось, называется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осевы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В основании осевого сечения лежит диаметр – максимальная хорда, поэтому угол при вершине осевого сечения – это максимальный угол между образующими конуса. (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Угол при вершине конус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23640" y="2599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211640" y="0"/>
            <a:ext cx="4946760" cy="50846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4356000" y="4869000"/>
                <a:ext cx="42483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K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осевое</m:t>
                    </m:r>
                    <m:r>
                      <m:rPr>
                        <m:lit/>
                        <m:nor/>
                      </m:rPr>
                      <m:t xml:space="preserve">сечени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4643280" y="5300640"/>
                <a:ext cx="3457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диамет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4299120" y="5735520"/>
                <a:ext cx="3787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KS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ршине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кону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12"/>
          <p:cNvSpPr/>
          <p:nvPr/>
        </p:nvSpPr>
        <p:spPr>
          <a:xfrm>
            <a:off x="4500720" y="5300640"/>
            <a:ext cx="381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юбое сечение конуса плоскостью, параллельной основанию, - это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4000" y="260280"/>
            <a:ext cx="39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50529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писанная и описанная пирам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186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Пирамидой, вписанной в конус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называется такая пирамида, основание которой – многоугольник, вписанный в основание конуса, а вершина совпадает с вершиной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31760" y="1052640"/>
            <a:ext cx="46404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003280" y="1530000"/>
            <a:ext cx="3754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рамида называется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описанной около конус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если ее основание – это многоугольник, описанный около основания конуса, а вершина совпадает с вершиной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писанная и описанная пирам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0" y="1424160"/>
            <a:ext cx="521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884480" y="620640"/>
            <a:ext cx="4259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оскости боковых граней описанной пирамиды проходят через образующую конуса и касательную к окружности основания, т.е. касаются боковой поверхности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8625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Боковая поверхность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00720" y="1052280"/>
            <a:ext cx="4643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 боковой поверхностью конуса мы будем понимать предел, к которому стремится боковая поверхность вписанной в этот конус правильной пирамиды, когда число боковых граней неограниченно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515120" cy="580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92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Теорема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лощадь боковой поверхности конуса равна половине произведения длины окружности основания на образующ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4427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диус основания кону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разующая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бок.кон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48132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4932360" cy="4862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076720" y="1455840"/>
                <a:ext cx="37432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7"/>
              <p:cNvSpPr txBox="1"/>
              <p:nvPr/>
            </p:nvSpPr>
            <p:spPr>
              <a:xfrm>
                <a:off x="5003640" y="2852640"/>
                <a:ext cx="1656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4859280" y="3284640"/>
                <a:ext cx="2952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AutoShape 11"/>
          <p:cNvSpPr/>
          <p:nvPr/>
        </p:nvSpPr>
        <p:spPr>
          <a:xfrm>
            <a:off x="8101080" y="2708280"/>
            <a:ext cx="287280" cy="122544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8532720" y="3213000"/>
            <a:ext cx="432000" cy="1511280"/>
          </a:xfrm>
          <a:custGeom>
            <a:avLst/>
            <a:gdLst>
              <a:gd name="textAreaLeft" fmla="*/ 57600 w 432000"/>
              <a:gd name="textAreaRight" fmla="*/ 374400 w 432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3"/>
              <p:cNvSpPr txBox="1"/>
              <p:nvPr/>
            </p:nvSpPr>
            <p:spPr>
              <a:xfrm>
                <a:off x="4284720" y="5373720"/>
                <a:ext cx="48592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Line 15"/>
          <p:cNvSpPr/>
          <p:nvPr/>
        </p:nvSpPr>
        <p:spPr>
          <a:xfrm>
            <a:off x="4356000" y="6308640"/>
            <a:ext cx="10810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8062920" y="6308640"/>
            <a:ext cx="10810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Развертка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2920" y="836280"/>
            <a:ext cx="4332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ертка конуса – это круговой сектор. Его можно рассматривать как развертку боковой поверхности вписанной правильной пирамиды, у которой число боковых граней бесконечно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570560" cy="609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0" y="692280"/>
            <a:ext cx="45608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Круговым конус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зывается тело ограниченное кругом – основанием конуса, и конической поверхностью, образованной отрезками, соединяющими точку, вершину конуса, со всеми точками окружности, ограничивающей основание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719520" cy="429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3645000" cy="429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00360" y="2565360"/>
            <a:ext cx="3975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3683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ная угол, образованный высотой и образующей конуса, можно вычислить угол сектора, полученного при развертке конуса,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4057560" y="260280"/>
            <a:ext cx="5086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Объем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11280" y="2923920"/>
            <a:ext cx="46292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диус  осн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 – высота кон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кон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1/3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осн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981000"/>
            <a:ext cx="9144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Теорема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ъем конуса равен одной трети произведения площади основания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11640" cy="429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5076720" y="5300640"/>
                <a:ext cx="30956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64328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ъемом конуса будем считать предел, к которому стремится объем вписанной в этот конус правильной пирамиды, когда число боковых граней неограниченно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90360" y="836640"/>
            <a:ext cx="469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200"/>
                            </p:stCondLst>
                            <p:childTnLst>
                              <p:par>
                                <p:cTn id="5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4886280" cy="5589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5364000" y="1125360"/>
                <a:ext cx="2735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4788000" y="2133720"/>
                <a:ext cx="4140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0"/>
              <p:cNvSpPr txBox="1"/>
              <p:nvPr/>
            </p:nvSpPr>
            <p:spPr>
              <a:xfrm>
                <a:off x="3780000" y="2924280"/>
                <a:ext cx="51116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Н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5219640" y="4221000"/>
                <a:ext cx="33116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14"/>
          <p:cNvSpPr/>
          <p:nvPr/>
        </p:nvSpPr>
        <p:spPr>
          <a:xfrm>
            <a:off x="5076720" y="5734080"/>
            <a:ext cx="363708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усные фигуры в бы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конусы дорожны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05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konyc_21"/>
          <p:cNvPicPr/>
          <p:nvPr/>
        </p:nvPicPr>
        <p:blipFill>
          <a:blip r:embed="rId3"/>
          <a:stretch/>
        </p:blipFill>
        <p:spPr>
          <a:xfrm>
            <a:off x="3276720" y="1341360"/>
            <a:ext cx="2490840" cy="252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image065"/>
          <p:cNvPicPr/>
          <p:nvPr/>
        </p:nvPicPr>
        <p:blipFill>
          <a:blip r:embed="rId4"/>
          <a:stretch/>
        </p:blipFill>
        <p:spPr>
          <a:xfrm>
            <a:off x="179280" y="1268280"/>
            <a:ext cx="2808360" cy="2560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mage071"/>
          <p:cNvPicPr/>
          <p:nvPr/>
        </p:nvPicPr>
        <p:blipFill>
          <a:blip r:embed="rId5"/>
          <a:srcRect l="29832" t="0" r="14010" b="0"/>
          <a:stretch/>
        </p:blipFill>
        <p:spPr>
          <a:xfrm>
            <a:off x="6372360" y="1268280"/>
            <a:ext cx="230508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image068"/>
          <p:cNvPicPr/>
          <p:nvPr/>
        </p:nvPicPr>
        <p:blipFill>
          <a:blip r:embed="rId6"/>
          <a:stretch/>
        </p:blipFill>
        <p:spPr>
          <a:xfrm rot="18754800">
            <a:off x="3493080" y="4003920"/>
            <a:ext cx="2808360" cy="1520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image067"/>
          <p:cNvPicPr/>
          <p:nvPr/>
        </p:nvPicPr>
        <p:blipFill>
          <a:blip r:embed="rId7"/>
          <a:stretch/>
        </p:blipFill>
        <p:spPr>
          <a:xfrm>
            <a:off x="6372360" y="4292640"/>
            <a:ext cx="2305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image100"/>
          <p:cNvPicPr/>
          <p:nvPr/>
        </p:nvPicPr>
        <p:blipFill>
          <a:blip r:embed="rId1"/>
          <a:stretch/>
        </p:blipFill>
        <p:spPr>
          <a:xfrm>
            <a:off x="1258920" y="765000"/>
            <a:ext cx="684216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image097"/>
          <p:cNvPicPr/>
          <p:nvPr/>
        </p:nvPicPr>
        <p:blipFill>
          <a:blip r:embed="rId1"/>
          <a:stretch/>
        </p:blipFill>
        <p:spPr>
          <a:xfrm>
            <a:off x="1835280" y="1125360"/>
            <a:ext cx="53863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image101"/>
          <p:cNvPicPr/>
          <p:nvPr/>
        </p:nvPicPr>
        <p:blipFill>
          <a:blip r:embed="rId1"/>
          <a:stretch/>
        </p:blipFill>
        <p:spPr>
          <a:xfrm>
            <a:off x="1403280" y="1268280"/>
            <a:ext cx="63946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image106"/>
          <p:cNvPicPr/>
          <p:nvPr/>
        </p:nvPicPr>
        <p:blipFill>
          <a:blip r:embed="rId1"/>
          <a:stretch/>
        </p:blipFill>
        <p:spPr>
          <a:xfrm>
            <a:off x="1258920" y="1341360"/>
            <a:ext cx="66628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image110"/>
          <p:cNvPicPr/>
          <p:nvPr/>
        </p:nvPicPr>
        <p:blipFill>
          <a:blip r:embed="rId1"/>
          <a:stretch/>
        </p:blipFill>
        <p:spPr>
          <a:xfrm>
            <a:off x="1476360" y="1125360"/>
            <a:ext cx="63356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9999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9999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4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7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0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009999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009999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3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image112"/>
          <p:cNvPicPr/>
          <p:nvPr/>
        </p:nvPicPr>
        <p:blipFill>
          <a:blip r:embed="rId1"/>
          <a:stretch/>
        </p:blipFill>
        <p:spPr>
          <a:xfrm>
            <a:off x="684360" y="1052640"/>
            <a:ext cx="736416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image114"/>
          <p:cNvPicPr/>
          <p:nvPr/>
        </p:nvPicPr>
        <p:blipFill>
          <a:blip r:embed="rId1"/>
          <a:stretch/>
        </p:blipFill>
        <p:spPr>
          <a:xfrm>
            <a:off x="1476360" y="1197000"/>
            <a:ext cx="60008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71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74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9999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9999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77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8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4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009999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009999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3024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Элементы 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771640" y="0"/>
            <a:ext cx="586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Кону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тело, которое получается, если коническую поверхность, образованную прямыми, соединяющими фиксированную точку со всеми точками какой–нибудь кривой, ограничить плос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68640" cy="5157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859280" y="2403360"/>
            <a:ext cx="4284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55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55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Прямой круговой кону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16000" y="2852640"/>
            <a:ext cx="42116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руговой конус называется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прямы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если его высота попадает в центр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085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е образующие конуса равны между собой и составляют один угол с осно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5140440" cy="5256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148360" y="2060640"/>
                <a:ext cx="35290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A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5651640" y="3068640"/>
                <a:ext cx="2808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5148360" y="4941720"/>
                <a:ext cx="367164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SAO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SB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11"/>
          <p:cNvSpPr/>
          <p:nvPr/>
        </p:nvSpPr>
        <p:spPr>
          <a:xfrm>
            <a:off x="6732720" y="378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7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572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нус можно получить, вращая прямоугольный треугольник вокруг одного из катетов. При этом осью вращения будет прямая, содержащая высоту конуса. Эта прямая так и называется –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осью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5669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45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21:40:08Z</dcterms:created>
  <dc:creator>Каратанова</dc:creator>
  <dc:description/>
  <dc:language>en-US</dc:language>
  <cp:lastModifiedBy>Антон</cp:lastModifiedBy>
  <dcterms:modified xsi:type="dcterms:W3CDTF">2011-12-25T15:13:13Z</dcterms:modified>
  <cp:revision>7</cp:revision>
  <dc:subject/>
  <dc:title>Определение конуса.</dc:title>
</cp:coreProperties>
</file>