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BA5-C926-49C2-9F1C-B10B8681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C10-BCA0-4586-8691-23CC1525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16E-F7DC-41C9-9872-7AFDB10C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DF6-6842-456C-9C8E-4E5290BB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E3D-D09B-4FEE-9129-6C364B80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92A-0C34-49F1-88A8-DB4FFFEE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129D-338F-4DF9-8073-DA9EEE1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2D14-5725-49E5-BA2F-311DD8F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BC9-5113-4A6A-A3C0-3645048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06BD-5F1A-4C3A-947A-5080FB3D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C603-61C4-4357-ADB7-97D14B6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867-1A06-4BF9-A922-7EABB07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8C3E-3C3C-4BB9-B8F1-36EF7E6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A3A1-F144-436B-A966-BBAD58E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C09C-0584-4BB1-A331-6631767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E12-E9F1-49BE-8EA2-43612DB8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DFA7-1CBD-46EB-8139-0278E91D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A7E9-39AB-427C-96D1-6CE2D573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F021-B317-4E2B-8F29-73A0170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7CF6-911C-4955-9FA7-DDB1767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EC4A-D22A-4792-9C6C-9C27EEE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1B53-A743-4BBF-B4A3-8BC989A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4BE-4AA2-4EC7-ADE4-85D1F0A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3259-036C-4315-B9D8-E398C57C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434D-903A-43A7-A91A-80CFAB6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B953-89A2-4564-BC45-36D4E7E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FF70-1126-49DA-932B-454D09D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9E26-9725-451E-BF10-D8547A38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6249-1836-4961-9989-74F3E406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F1EE-DF73-466A-923A-DE88C9C0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2780-6C2A-47D4-B636-4A0E6C84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8003-74F8-4582-AD97-E4F1483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397F-642E-4076-9D23-62C7CC0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0F5-3A86-4EFC-81E0-FE2123A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6460-EA3C-4372-B343-5D70605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8DDE-4E88-47C9-BEBA-1D76ED4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B88D-1B30-4D30-9AFB-906DCD1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4C8F-2491-42A8-B840-82D60D0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EC54-6F59-4B46-8EAB-9335328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F4D1-79DD-4975-B0D6-7D0BCEE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981C-F523-465A-80BF-9F62B9D9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F644-4E9D-41C7-9A78-9BE8D9C6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6A26-EB26-4ACA-84CD-55EE6FA6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F05-C8CA-49EC-8BE7-5281778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A04-3662-46B2-A83B-EEDCB4DA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8DE-905F-4066-88D8-8EEC291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DCF-766B-4C52-AC9D-E3697FD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05C-DC91-40F6-B9B0-F170A86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27F-CAAA-4D7F-ACBC-7583539795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2A53-FE64-43A4-B99C-99F00D7A07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9C7-A569-4B07-9ADB-00497262EB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4E8-0B55-4F14-8E4D-697BE60C41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635280" y="6165720"/>
            <a:ext cx="2376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эропорт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2019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4932360" y="40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карева Н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54480" y="1862280"/>
            <a:ext cx="68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d9e8"/>
                </a:solidFill>
                <a:latin typeface="Constantia"/>
              </a:rPr>
              <a:t>Тема выступления:«</a:t>
            </a:r>
            <a:r>
              <a:rPr b="1" lang="en-US" sz="2400" spc="-1" strike="noStrike">
                <a:solidFill>
                  <a:srgbClr val="77d9e8"/>
                </a:solidFill>
                <a:latin typeface="Arial"/>
              </a:rPr>
              <a:t>Мама-главное слово</a:t>
            </a:r>
            <a:r>
              <a:rPr b="1" lang="en-US" sz="2400" spc="-1" strike="noStrike">
                <a:solidFill>
                  <a:srgbClr val="77d9e8"/>
                </a:solidFill>
                <a:latin typeface="Constant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езентация прое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1640160" y="549360"/>
            <a:ext cx="563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одуктивная дея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зготовление стенгаз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771640" y="1484280"/>
            <a:ext cx="2664000" cy="1873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1484280"/>
            <a:ext cx="2953080" cy="180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79280" y="3500280"/>
            <a:ext cx="2305080" cy="254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724360" y="3357720"/>
            <a:ext cx="2953080" cy="251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700360" y="335772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51280" cy="331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67280" y="189000"/>
            <a:ext cx="4516200" cy="331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886200" cy="2737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211640" y="3716280"/>
            <a:ext cx="43210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РЕ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468360" y="1268280"/>
            <a:ext cx="8064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ение и заучивание стихотворений  и песен о м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755640" y="2924280"/>
            <a:ext cx="71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Мама» Г. Демык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Разноцветный подарок» П. Синявск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Все она» А. Бар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Если был бы я девчонкой» Э. Успе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оздравляем мамочку родн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сенка Мамонтенка (слова  Д. Непомнящего, музыка В. Шаинског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2124000" y="18900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495c"/>
                </a:solidFill>
                <a:latin typeface="Constantia"/>
              </a:rPr>
              <a:t>ЧЕТВЕР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332000" y="83664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готовление подарка «Бусы для ма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52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908000" cy="3068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24000" y="1197000"/>
            <a:ext cx="280836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716360" y="765000"/>
            <a:ext cx="395136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"/>
          <p:cNvSpPr/>
          <p:nvPr/>
        </p:nvSpPr>
        <p:spPr>
          <a:xfrm>
            <a:off x="762120" y="1916280"/>
            <a:ext cx="755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ПЯТНИЦА</a:t>
            </a:r>
            <a:r>
              <a:rPr b="1" lang="en-US" sz="4000" spc="-1" strike="noStrike">
                <a:solidFill>
                  <a:srgbClr val="3b2c24"/>
                </a:solidFill>
                <a:latin typeface="Century Schoolbook"/>
              </a:rPr>
              <a:t> (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29</a:t>
            </a:r>
            <a:r>
              <a:rPr b="1" lang="en-US" sz="4000" spc="-1" strike="noStrike">
                <a:solidFill>
                  <a:srgbClr val="3b2c24"/>
                </a:solidFill>
                <a:latin typeface="Century Schoolbook"/>
              </a:rPr>
              <a:t>.11)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Развлечение с участием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b2c24"/>
                </a:solidFill>
                <a:latin typeface="Century Schoolbook"/>
              </a:rPr>
              <a:t>«Поздравляем наших м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816920" y="476280"/>
            <a:ext cx="480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3 ЭТАП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ЗАВЕРШАЮЩ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4"/>
          <p:cNvSpPr/>
          <p:nvPr/>
        </p:nvSpPr>
        <p:spPr>
          <a:xfrm>
            <a:off x="374760" y="1052640"/>
            <a:ext cx="90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95c"/>
                </a:solidFill>
                <a:latin typeface="Constantia"/>
              </a:rPr>
              <a:t>Развлечение «Поздравляем наших м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39640" y="2205000"/>
            <a:ext cx="720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Цель: создание условий для взаимодействия родителей 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расширять представление детей о празднике «День мате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формировать уважительное отношение к семье, к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особствовать получению положительных эмоций у детей и 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4"/>
          <p:cNvSpPr/>
          <p:nvPr/>
        </p:nvSpPr>
        <p:spPr>
          <a:xfrm>
            <a:off x="611280" y="260280"/>
            <a:ext cx="7848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одукт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«День мат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659640" y="4869000"/>
            <a:ext cx="1820880" cy="1838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492360" y="4724280"/>
            <a:ext cx="1656000" cy="1657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1914480" cy="1800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516720" y="907920"/>
            <a:ext cx="1841400" cy="187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79280" y="3068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419640" y="299736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588000" y="2924280"/>
            <a:ext cx="1908360" cy="1871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250920" y="1268280"/>
            <a:ext cx="1800000" cy="166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179280" y="4869000"/>
            <a:ext cx="1728720" cy="189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684360" y="83664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праздника, посвященного Дню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будить детей выражать свою любовь и заботу о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ь уважение к ма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ь желание помогать ма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ть эмоциональный комфорт для родителей во время праз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1008000" y="62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Продолжительность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– краткосрочный (</a:t>
            </a:r>
            <a:r>
              <a:rPr b="0" lang="en-US" sz="2400" spc="-1" strike="noStrike">
                <a:solidFill>
                  <a:srgbClr val="3b2c24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 2нед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Тип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творческий, группо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b2c24"/>
                </a:solidFill>
                <a:uFillTx/>
                <a:latin typeface="Arial"/>
              </a:rPr>
              <a:t>Участники проекта </a:t>
            </a:r>
            <a:r>
              <a:rPr b="0" lang="ru-RU" sz="2400" spc="-1" strike="noStrike">
                <a:solidFill>
                  <a:srgbClr val="3b2c24"/>
                </a:solidFill>
                <a:latin typeface="Arial"/>
              </a:rPr>
              <a:t>- педагоги, дети (3-4лет),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008000" y="33577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 фор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лядны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смотр мультфильма, рассматривание альбом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овесны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аучивание стихотворений, беседы о семье, пение песен, рассказ воспитателя о семье, чтение художественной литер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ий 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готовление стенгазе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215280" y="78732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3495c"/>
                </a:solidFill>
                <a:uFillTx/>
                <a:latin typeface="Constantia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60240" y="2205000"/>
            <a:ext cx="7848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пешное проведение праз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тей возникнет желание помогать ма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тей и родителей появится желание участвовать в различных мероприят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и окажут содействие в сближении родителей и детей, тем самым способствуя установлению близких и теплых 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755640" y="1989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3495c"/>
                </a:solidFill>
                <a:latin typeface="Constantia"/>
              </a:rPr>
              <a:t>РЕАЛИЗАЦИЯ ПРОЕК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250920" y="684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b2c24"/>
                </a:solidFill>
                <a:uFillTx/>
                <a:latin typeface="Century Schoolbook"/>
              </a:rPr>
              <a:t>1 ЭТАП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322200" y="1484280"/>
            <a:ext cx="8642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дбор и анализ художественных и музыкальных произведени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дбор иллюстративного, игрового, фото- материала по тем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рганизация развивающей среды в групп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1838160" y="644400"/>
            <a:ext cx="553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Arial"/>
              </a:rPr>
              <a:t>2</a:t>
            </a: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 ЭТАП ПРОЕКТ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3495c"/>
                </a:solidFill>
                <a:uFillTx/>
                <a:latin typeface="Constantia"/>
              </a:rPr>
              <a:t>ДЕЯТЕЛЬНОСТ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108000" y="184464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ПОНЕДЕЛЬНИК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работка сценария развлечения ко Дню Матери, просмотр мультфильма «Мама для мамонте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3132000" y="2565360"/>
            <a:ext cx="561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ВТОРНИК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беседы «Мамочка любимая моя» «Кем работает моя мам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одуктивная деятельность: изготовление стенгазе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ет ее дороже, нет ее родней»,организация выставки «Женские руки не знают ску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50920" y="386064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СРЕД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тение и заучивание стихотворений  и песен о маме, разучивание муз.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3635280" y="44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ЧЕТВЕРГ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(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.11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готов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елк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с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для м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" y="5171760"/>
            <a:ext cx="91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ятница(29.11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чного разв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здравляем наших м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46748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НЕДЕЛЬНИ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539640" y="907920"/>
            <a:ext cx="799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мотр мультфильма «Мама для мамон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326960" cy="216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5324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2688840" y="333360"/>
            <a:ext cx="3620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3495c"/>
                </a:solidFill>
                <a:latin typeface="Constantia"/>
              </a:rPr>
              <a:t>ВТОРНИК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539640" y="1197000"/>
            <a:ext cx="792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Беседы: «Мамочка любимая моя», «Кем работает моя ма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3152880" cy="2736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3495600" cy="273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63640" y="4508640"/>
            <a:ext cx="39816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09:24:26Z</dcterms:created>
  <dc:creator>1</dc:creator>
  <dc:description/>
  <dc:language>en-US</dc:language>
  <cp:lastModifiedBy>Вован</cp:lastModifiedBy>
  <dcterms:modified xsi:type="dcterms:W3CDTF">2019-12-01T05:01:04Z</dcterms:modified>
  <cp:revision>58</cp:revision>
  <dc:subject/>
  <dc:title>МБДОУ «Детский сад общеразвивающего вида № 170»</dc:title>
</cp:coreProperties>
</file>