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FDC-C730-454C-8B0A-C64DD2AA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9D0-014E-4C4F-86CF-1D0BFD7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C4B-C920-4BE7-A9AF-19B1D0C8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318-B2C8-4C65-A53B-6122138E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D29-508C-436A-BEFD-74C00940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9E6A-F578-4907-8F82-C651B2F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7E6-B129-4B92-BCE3-4754B84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51EF-9D0F-4422-8C2A-312E591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C1B-1200-4800-A070-4764E515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2FF-5EF1-45C6-AD0B-5D9A5D6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C953-A179-48D2-AFA3-EF4A8CC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E4B-0F02-40F4-B63C-7784182C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81D9-CBA4-49B8-9C7C-273AA79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69A-5243-4088-A705-61A78B0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83F0-6286-4C13-9E3D-FD02718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2AD-AA2F-4D82-8356-5B1268C8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029-7E5A-4435-9902-501A058A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4D2A-80FD-4964-8ACF-4E31CA2E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A202-5849-470B-BAE7-9B52C6EA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7B3D-2F70-4A4E-9C6E-E801CD4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D143-AF41-401B-A86F-6D27EFC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0F3B-79C8-4858-B620-98F691A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C95-A45E-4BB9-AE98-9D1A6C7F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D4BC-C4DD-47F5-859E-34283D77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EB3E-F764-4A6F-8B1F-0555D9E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14D8-29FF-40D9-85AD-A226AB4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5259-36B7-4FC8-9389-9F0E451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4AFC-A778-433E-815F-F37545B5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B250-E0BA-4FE2-90CD-41FCE7B6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CF3E-1632-4E0F-A6E5-E1026823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96EB-0E07-4DF5-AF41-9E45276E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6EDA-3B6F-44E4-BBE2-132BF16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E7724-64D5-4C82-B083-009EAB2B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A74-D155-48B7-92A9-B627C68A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8F68-B62C-416C-A888-3B10523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E19A-E460-4BAF-81A7-EAE8E94A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92EB-1AD4-4CD1-8393-D2C1C2F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AA4A-1940-4220-8B90-D3849C0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4F08-CEFF-4B0D-9593-64D71FF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2BA0-4D24-4D51-BA52-7138A4A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57BB-F9BA-4C74-AD50-2D6CB26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4027-8955-4919-98F0-FD15BE78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BAB9-7EB2-4312-8226-B1C70934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5E1-127A-4C4E-AD6B-42FD312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071-5414-43A7-A2C2-C45BFEE8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08E-3C3F-4107-80E9-4E00486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2DA-1F32-4FB8-B402-EDAC2CC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51D-5FD2-48FC-896D-722FCC62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BE0E-18CF-4D5D-9707-65A838E32F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AF3-B16E-4FEF-BE4A-CF792EF6EF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47FA-DF7B-4C89-901A-13FCD0A8C2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241C-FB4E-4954-A56F-3EF6FA208C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635280" y="6165720"/>
            <a:ext cx="2376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эропорт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2019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932360" y="40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арева Н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54480" y="1862280"/>
            <a:ext cx="68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d9e8"/>
                </a:solidFill>
                <a:latin typeface="Constantia"/>
              </a:rPr>
              <a:t>Тема выступления:«</a:t>
            </a:r>
            <a:r>
              <a:rPr b="1" lang="en-US" sz="2400" spc="-1" strike="noStrike">
                <a:solidFill>
                  <a:srgbClr val="77d9e8"/>
                </a:solidFill>
                <a:latin typeface="Arial"/>
              </a:rPr>
              <a:t>Мама-главное слово</a:t>
            </a:r>
            <a:r>
              <a:rPr b="1" lang="en-US" sz="2400" spc="-1" strike="noStrike">
                <a:solidFill>
                  <a:srgbClr val="77d9e8"/>
                </a:solidFill>
                <a:latin typeface="Constant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езентация прое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1640160" y="549360"/>
            <a:ext cx="563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одуктивная дея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е стенгаз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771640" y="1484280"/>
            <a:ext cx="2664000" cy="1873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1484280"/>
            <a:ext cx="2953080" cy="180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79280" y="3500280"/>
            <a:ext cx="2305080" cy="254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724360" y="3357720"/>
            <a:ext cx="2953080" cy="251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700360" y="335772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51280" cy="331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67280" y="189000"/>
            <a:ext cx="4516200" cy="331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886200" cy="2737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211640" y="3716280"/>
            <a:ext cx="43210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РЕ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468360" y="1268280"/>
            <a:ext cx="8064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ение и заучивание стихотворений  и песен о м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755640" y="2924280"/>
            <a:ext cx="71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Мама» Г. Демык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Разноцветный подарок» П. Синявск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Все она» А. Бар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Если был бы я девчонкой» Э. Успе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оздравляем мамочку родн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сенка Мамонтенка (слова  Д. Непомнящего, музыка В. Шаинског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2124000" y="189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495c"/>
                </a:solidFill>
                <a:latin typeface="Constantia"/>
              </a:rPr>
              <a:t>ЧЕТВЕР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332000" y="83664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готовление подарка «Бусы для ма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52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908000" cy="3068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24000" y="119700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395136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762120" y="1916280"/>
            <a:ext cx="755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ПЯТНИЦА</a:t>
            </a:r>
            <a:r>
              <a:rPr b="1" lang="en-US" sz="4000" spc="-1" strike="noStrike">
                <a:solidFill>
                  <a:srgbClr val="3b2c24"/>
                </a:solidFill>
                <a:latin typeface="Century Schoolbook"/>
              </a:rPr>
              <a:t> (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29</a:t>
            </a:r>
            <a:r>
              <a:rPr b="1" lang="en-US" sz="4000" spc="-1" strike="noStrike">
                <a:solidFill>
                  <a:srgbClr val="3b2c24"/>
                </a:solidFill>
                <a:latin typeface="Century Schoolbook"/>
              </a:rPr>
              <a:t>.11)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Развлечение с участием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«Поздравляем наших м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816920" y="476280"/>
            <a:ext cx="480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3 ЭТАП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ЗАВЕРШАЮЩ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4"/>
          <p:cNvSpPr/>
          <p:nvPr/>
        </p:nvSpPr>
        <p:spPr>
          <a:xfrm>
            <a:off x="374760" y="1052640"/>
            <a:ext cx="90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95c"/>
                </a:solidFill>
                <a:latin typeface="Constantia"/>
              </a:rPr>
              <a:t>Развлечение «Поздравляем наших м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39640" y="2205000"/>
            <a:ext cx="720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Цель: создание условий для взаимодействия родителей 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расширять представление детей о празднике «День мате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формировать уважительное отношение к семье, к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особствовать получению положительных эмоций у детей и 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4"/>
          <p:cNvSpPr/>
          <p:nvPr/>
        </p:nvSpPr>
        <p:spPr>
          <a:xfrm>
            <a:off x="611280" y="260280"/>
            <a:ext cx="7848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одукт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«День мат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659640" y="4869000"/>
            <a:ext cx="1820880" cy="1838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492360" y="4724280"/>
            <a:ext cx="1656000" cy="1657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1914480" cy="1800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516720" y="907920"/>
            <a:ext cx="1841400" cy="187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79280" y="3068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419640" y="299736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588000" y="2924280"/>
            <a:ext cx="1908360" cy="1871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250920" y="1268280"/>
            <a:ext cx="1800000" cy="166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179280" y="4869000"/>
            <a:ext cx="1728720" cy="189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684360" y="83664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праздника, посвященного Дню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удить детей выражать свою любовь и заботу о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ь уважение к ма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ь желание помогать ма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эмоциональный комфорт для родителей во время праз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1008000" y="62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Продолжительность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– краткосрочный (</a:t>
            </a:r>
            <a:r>
              <a:rPr b="0" lang="en-US" sz="2400" spc="-1" strike="noStrike">
                <a:solidFill>
                  <a:srgbClr val="3b2c24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 2нед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Тип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творческий, групп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Участники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- педагоги, дети (3-4лет),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008000" y="33577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лядны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смотр мультфильма, рассматривание альбом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весны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учивание стихотворений, беседы о семье, пение песен, рассказ воспитателя о семье, чтение художественной литер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и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готовление стенгазе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215280" y="78732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3495c"/>
                </a:solidFill>
                <a:uFillTx/>
                <a:latin typeface="Constantia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60240" y="2205000"/>
            <a:ext cx="7848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шное проведение праз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тей возникнет желание помогать ма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тей и родителей появится желание участвовать в различных мероприят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и окажут содействие в сближении родителей и детей, тем самым способствуя установлению близких и теплых 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755640" y="1989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3495c"/>
                </a:solidFill>
                <a:latin typeface="Constantia"/>
              </a:rPr>
              <a:t>РЕАЛИЗАЦИЯ ПРОЕК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250920" y="684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2c24"/>
                </a:solidFill>
                <a:uFillTx/>
                <a:latin typeface="Century Schoolbook"/>
              </a:rPr>
              <a:t>1 ЭТАП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322200" y="1484280"/>
            <a:ext cx="8642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дбор и анализ художественных и музыкальных произведени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дбор иллюстративного, игрового, фото- материала по тем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рганизация развивающей среды в групп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1838160" y="644400"/>
            <a:ext cx="553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Arial"/>
              </a:rPr>
              <a:t>2</a:t>
            </a: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 ЭТАП ПРОЕКТ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ДЕЯТЕЛЬНОСТ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108000" y="184464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ПОНЕДЕЛЬНИК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работка сценария развлечения ко Дню Матери, просмотр мультфильма «Мама для мамонте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3132000" y="2565360"/>
            <a:ext cx="561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ВТОРНИК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еседы «Мамочка любимая моя» «Кем работает моя мам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одуктивная деятельность: изготовление стенгазе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ет ее дороже, нет ее родней»,организация выставки «Женские руки не знают ску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50920" y="386064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СРЕД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тение и заучивание стихотворений  и песен о маме, разучивание муз.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3635280" y="44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ЧЕТВЕРГ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(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гото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елк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с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для м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" y="5171760"/>
            <a:ext cx="91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ятница(29.11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чного разв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здравляем наших 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46748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НЕДЕЛЬНИ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539640" y="907920"/>
            <a:ext cx="799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мотр мультфильма «Мама для мамон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326960" cy="216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5324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2688840" y="333360"/>
            <a:ext cx="3620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495c"/>
                </a:solidFill>
                <a:latin typeface="Constantia"/>
              </a:rPr>
              <a:t>ВТОРНИК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539640" y="1197000"/>
            <a:ext cx="792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седы: «Мамочка любимая моя», «Кем работает моя ма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152880" cy="2736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3495600" cy="273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63640" y="4508640"/>
            <a:ext cx="39816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09:24:26Z</dcterms:created>
  <dc:creator>1</dc:creator>
  <dc:description/>
  <dc:language>en-US</dc:language>
  <cp:lastModifiedBy>Вован</cp:lastModifiedBy>
  <dcterms:modified xsi:type="dcterms:W3CDTF">2019-12-01T05:01:04Z</dcterms:modified>
  <cp:revision>58</cp:revision>
  <dc:subject/>
  <dc:title>МБДОУ «Детский сад общеразвивающего вида № 170»</dc:title>
</cp:coreProperties>
</file>