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31.png" ContentType="image/png"/>
  <Override PartName="/ppt/media/image15.wmf" ContentType="image/x-wmf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EAB-FFCF-4D49-B865-B741779C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C3D-C6F7-4679-93DF-4DAC983D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823-0ECE-4F16-8E92-B15587C9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F2C-EAC5-441F-B701-50369522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196-61C4-4259-85EC-7163BB4D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FCE-EF1C-4461-8251-181F0C4D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4BF-5981-4C9E-8D75-024E4457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F97-A6FC-400B-90A7-A8D18569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EEC-92F8-4FE4-9C40-C1D0D4E2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F51-B2CA-4A32-9566-76E7E88E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D22-87C9-4319-A68F-99E041BA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36A-B566-470B-91C9-C229EA8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9C08-7B26-4635-A5A0-41D04E60DC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slide" Target="slide2.xml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slide" Target="slide2.xml"/><Relationship Id="rId5" Type="http://schemas.openxmlformats.org/officeDocument/2006/relationships/image" Target="../media/image15.wmf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3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4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9.png"/><Relationship Id="rId3" Type="http://schemas.openxmlformats.org/officeDocument/2006/relationships/image" Target="../media/image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6.xml"/><Relationship Id="rId14" Type="http://schemas.openxmlformats.org/officeDocument/2006/relationships/image" Target="../media/image3.png"/><Relationship Id="rId15" Type="http://schemas.openxmlformats.org/officeDocument/2006/relationships/slide" Target="slide7.xml"/><Relationship Id="rId16" Type="http://schemas.openxmlformats.org/officeDocument/2006/relationships/image" Target="../media/image3.png"/><Relationship Id="rId17" Type="http://schemas.openxmlformats.org/officeDocument/2006/relationships/slide" Target="slide9.xml"/><Relationship Id="rId18" Type="http://schemas.openxmlformats.org/officeDocument/2006/relationships/image" Target="../media/image3.png"/><Relationship Id="rId19" Type="http://schemas.openxmlformats.org/officeDocument/2006/relationships/slide" Target="slide8.xml"/><Relationship Id="rId20" Type="http://schemas.openxmlformats.org/officeDocument/2006/relationships/image" Target="../media/image3.png"/><Relationship Id="rId21" Type="http://schemas.openxmlformats.org/officeDocument/2006/relationships/slide" Target="slide10.xml"/><Relationship Id="rId22" Type="http://schemas.openxmlformats.org/officeDocument/2006/relationships/image" Target="../media/image3.png"/><Relationship Id="rId23" Type="http://schemas.openxmlformats.org/officeDocument/2006/relationships/slide" Target="slide11.xml"/><Relationship Id="rId24" Type="http://schemas.openxmlformats.org/officeDocument/2006/relationships/image" Target="../media/image3.png"/><Relationship Id="rId25" Type="http://schemas.openxmlformats.org/officeDocument/2006/relationships/slide" Target="slide14.xml"/><Relationship Id="rId26" Type="http://schemas.openxmlformats.org/officeDocument/2006/relationships/image" Target="../media/image3.png"/><Relationship Id="rId27" Type="http://schemas.openxmlformats.org/officeDocument/2006/relationships/slide" Target="slide13.xml"/><Relationship Id="rId28" Type="http://schemas.openxmlformats.org/officeDocument/2006/relationships/image" Target="../media/image3.png"/><Relationship Id="rId29" Type="http://schemas.openxmlformats.org/officeDocument/2006/relationships/slide" Target="slide15.xml"/><Relationship Id="rId30" Type="http://schemas.openxmlformats.org/officeDocument/2006/relationships/image" Target="../media/image3.png"/><Relationship Id="rId31" Type="http://schemas.openxmlformats.org/officeDocument/2006/relationships/slide" Target="slide16.xml"/><Relationship Id="rId32" Type="http://schemas.openxmlformats.org/officeDocument/2006/relationships/image" Target="../media/image3.png"/><Relationship Id="rId33" Type="http://schemas.openxmlformats.org/officeDocument/2006/relationships/slide" Target="slide19.xml"/><Relationship Id="rId34" Type="http://schemas.openxmlformats.org/officeDocument/2006/relationships/image" Target="../media/image3.png"/><Relationship Id="rId35" Type="http://schemas.openxmlformats.org/officeDocument/2006/relationships/slide" Target="slide18.xml"/><Relationship Id="rId36" Type="http://schemas.openxmlformats.org/officeDocument/2006/relationships/image" Target="../media/image3.png"/><Relationship Id="rId37" Type="http://schemas.openxmlformats.org/officeDocument/2006/relationships/slide" Target="slide20.xml"/><Relationship Id="rId38" Type="http://schemas.openxmlformats.org/officeDocument/2006/relationships/image" Target="../media/image3.png"/><Relationship Id="rId39" Type="http://schemas.openxmlformats.org/officeDocument/2006/relationships/slide" Target="slide21.xml"/><Relationship Id="rId40" Type="http://schemas.openxmlformats.org/officeDocument/2006/relationships/image" Target="../media/image3.png"/><Relationship Id="rId41" Type="http://schemas.openxmlformats.org/officeDocument/2006/relationships/slide" Target="slide24.xml"/><Relationship Id="rId42" Type="http://schemas.openxmlformats.org/officeDocument/2006/relationships/image" Target="../media/image3.png"/><Relationship Id="rId43" Type="http://schemas.openxmlformats.org/officeDocument/2006/relationships/slide" Target="slide23.xml"/><Relationship Id="rId44" Type="http://schemas.openxmlformats.org/officeDocument/2006/relationships/image" Target="../media/image3.png"/><Relationship Id="rId45" Type="http://schemas.openxmlformats.org/officeDocument/2006/relationships/slide" Target="slide25.xml"/><Relationship Id="rId46" Type="http://schemas.openxmlformats.org/officeDocument/2006/relationships/image" Target="../media/image3.png"/><Relationship Id="rId47" Type="http://schemas.openxmlformats.org/officeDocument/2006/relationships/slide" Target="slide26.xml"/><Relationship Id="rId48" Type="http://schemas.openxmlformats.org/officeDocument/2006/relationships/image" Target="../media/image3.png"/><Relationship Id="rId49" Type="http://schemas.openxmlformats.org/officeDocument/2006/relationships/slide" Target="slide12.xml"/><Relationship Id="rId50" Type="http://schemas.openxmlformats.org/officeDocument/2006/relationships/image" Target="../media/image3.png"/><Relationship Id="rId51" Type="http://schemas.openxmlformats.org/officeDocument/2006/relationships/slide" Target="slide17.xml"/><Relationship Id="rId52" Type="http://schemas.openxmlformats.org/officeDocument/2006/relationships/image" Target="../media/image3.png"/><Relationship Id="rId53" Type="http://schemas.openxmlformats.org/officeDocument/2006/relationships/slide" Target="slide22.xml"/><Relationship Id="rId54" Type="http://schemas.openxmlformats.org/officeDocument/2006/relationships/image" Target="../media/image3.png"/><Relationship Id="rId55" Type="http://schemas.openxmlformats.org/officeDocument/2006/relationships/slide" Target="slide27.xml"/><Relationship Id="rId5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png"/><Relationship Id="rId3" Type="http://schemas.openxmlformats.org/officeDocument/2006/relationships/image" Target="../media/image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5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6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7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5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" Target="slide2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slide" Target="slide2.xml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1071720" y="5791320"/>
            <a:ext cx="6092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Млечный пу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89040" y="61740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0" y="1557360"/>
            <a:ext cx="7308720" cy="3960720"/>
          </a:xfrm>
          <a:prstGeom prst="wedgeEllipseCallout">
            <a:avLst>
              <a:gd name="adj1" fmla="val 52912"/>
              <a:gd name="adj2" fmla="val -739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Как называется наша галакти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3000240" y="6000840"/>
            <a:ext cx="235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о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50920" y="1785960"/>
            <a:ext cx="6696000" cy="4000320"/>
          </a:xfrm>
          <a:prstGeom prst="wedgeEllipseCallout">
            <a:avLst>
              <a:gd name="adj1" fmla="val 55499"/>
              <a:gd name="adj2" fmla="val -7218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84360" y="549360"/>
            <a:ext cx="410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      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   Кот в мешк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373720"/>
            <a:ext cx="11206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http://www.epochtimes.ru/images/stories/03/science/121_shgs08070121.jpg"/>
          <p:cNvPicPr/>
          <p:nvPr/>
        </p:nvPicPr>
        <p:blipFill>
          <a:blip r:embed="rId6"/>
          <a:stretch/>
        </p:blipFill>
        <p:spPr>
          <a:xfrm>
            <a:off x="1357200" y="2428920"/>
            <a:ext cx="3429000" cy="2643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9"/>
          <p:cNvSpPr/>
          <p:nvPr/>
        </p:nvSpPr>
        <p:spPr>
          <a:xfrm>
            <a:off x="5286240" y="3071880"/>
            <a:ext cx="20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Что это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10" descr="http://www.epochtimes.ru/images/stories/03/science/121_shgs08070121.jpg"/>
          <p:cNvPicPr/>
          <p:nvPr/>
        </p:nvPicPr>
        <p:blipFill>
          <a:blip r:embed="rId7"/>
          <a:stretch/>
        </p:blipFill>
        <p:spPr>
          <a:xfrm>
            <a:off x="1320840" y="2428920"/>
            <a:ext cx="342900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2268360" y="5805360"/>
            <a:ext cx="4102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15960" y="54936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24000" y="2276640"/>
            <a:ext cx="6769080" cy="3024000"/>
          </a:xfrm>
          <a:prstGeom prst="wedgeEllipseCallout">
            <a:avLst>
              <a:gd name="adj1" fmla="val 52393"/>
              <a:gd name="adj2" fmla="val -10181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man Old Style"/>
              </a:rPr>
              <a:t>Какая по счету планета Земля в солнечной системе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2556000" y="5805360"/>
            <a:ext cx="4103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Звезд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7572240" y="285840"/>
            <a:ext cx="136872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50920" y="907920"/>
            <a:ext cx="7345440" cy="4610160"/>
          </a:xfrm>
          <a:prstGeom prst="cloudCallout">
            <a:avLst>
              <a:gd name="adj1" fmla="val 43495"/>
              <a:gd name="adj2" fmla="val -4714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 темному небу рассыпан горошек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Цветной карамели из сахарной крошки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 только тогда, когда утро настанет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Вся карамель та внезапно растает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06080" y="260280"/>
            <a:ext cx="70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Космические заг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4"/>
          <a:stretch/>
        </p:blipFill>
        <p:spPr>
          <a:xfrm>
            <a:off x="7524720" y="530064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3061800" y="5805360"/>
            <a:ext cx="259956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осмонав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7596360" y="26028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24000" y="981000"/>
            <a:ext cx="7343640" cy="4680000"/>
          </a:xfrm>
          <a:prstGeom prst="cloudCallout">
            <a:avLst>
              <a:gd name="adj1" fmla="val 43513"/>
              <a:gd name="adj2" fmla="val -4568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Человек сидит в ракете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Смело в небо он летит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И на нас в своем скафандр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Он из космоса гляд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06080" y="260280"/>
            <a:ext cx="70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Космические заг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1116000" y="5589720"/>
            <a:ext cx="562788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Солнц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0" y="1143000"/>
            <a:ext cx="7524720" cy="4390920"/>
          </a:xfrm>
          <a:prstGeom prst="cloudCallout">
            <a:avLst>
              <a:gd name="adj1" fmla="val 44597"/>
              <a:gd name="adj2" fmla="val -5195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Желтая тарелка на небе висит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Желтая тарелка всем тепло дари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05360" y="260280"/>
            <a:ext cx="69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Космические заг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4"/>
          <a:stretch/>
        </p:blipFill>
        <p:spPr>
          <a:xfrm>
            <a:off x="7451640" y="515772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"/>
          <p:cNvSpPr/>
          <p:nvPr/>
        </p:nvSpPr>
        <p:spPr>
          <a:xfrm>
            <a:off x="5087520" y="6021360"/>
            <a:ext cx="18450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Спутн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85840" y="1071720"/>
            <a:ext cx="7705800" cy="5040000"/>
          </a:xfrm>
          <a:prstGeom prst="cloudCallout">
            <a:avLst>
              <a:gd name="adj1" fmla="val 39120"/>
              <a:gd name="adj2" fmla="val -5024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 синем небе огонек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се внимание привлек,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Он вокруг земли летает,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Нам приветы посыла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06080" y="260280"/>
            <a:ext cx="70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Космические заг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1476360" y="6021360"/>
            <a:ext cx="562284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з тюб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50920" y="1268280"/>
            <a:ext cx="6048360" cy="4176720"/>
          </a:xfrm>
          <a:prstGeom prst="cloudCallout">
            <a:avLst>
              <a:gd name="adj1" fmla="val 63541"/>
              <a:gd name="adj2" fmla="val -5722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космосе нет сковород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кастрюли тоже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ут и каша, и селедк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борщи, и винегрет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Расфасованы, как кре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осмонавтом бу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з чего-то я пое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овсе без посуд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05360" y="260280"/>
            <a:ext cx="69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Космические заг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 rot="10800000">
            <a:off x="394920" y="1627920"/>
            <a:ext cx="6048360" cy="2808360"/>
          </a:xfrm>
          <a:prstGeom prst="wedgeRectCallout">
            <a:avLst>
              <a:gd name="adj1" fmla="val -60055"/>
              <a:gd name="adj2" fmla="val 7221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то побывал в космосе до человека и как звали первых посланцев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79280" y="4941720"/>
            <a:ext cx="73440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Собаки: Белка, Стрел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4"/>
          <a:stretch/>
        </p:blipFill>
        <p:spPr>
          <a:xfrm>
            <a:off x="7956720" y="494172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"/>
          <p:cNvSpPr/>
          <p:nvPr/>
        </p:nvSpPr>
        <p:spPr>
          <a:xfrm rot="10800000">
            <a:off x="323640" y="1773000"/>
            <a:ext cx="6335640" cy="2808000"/>
          </a:xfrm>
          <a:prstGeom prst="wedgeRectCallout">
            <a:avLst>
              <a:gd name="adj1" fmla="val -56041"/>
              <a:gd name="adj2" fmla="val 7696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азовите планеты солнечной систем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92040" y="2602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87280" y="5661000"/>
            <a:ext cx="4969080" cy="1008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cfc24"/>
                </a:solidFill>
                <a:latin typeface="Bookman Old Style"/>
              </a:rPr>
              <a:t>Меркурий, Венера, Земля, Марс, Юпитер, Сатурн, Уран, Нептун , Плут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4"/>
          <a:stretch/>
        </p:blipFill>
        <p:spPr>
          <a:xfrm>
            <a:off x="7812000" y="4941720"/>
            <a:ext cx="106704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486108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3500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смические загад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2492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осм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1484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4508640"/>
            <a:ext cx="3672000" cy="9363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осмонав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551664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смические кораб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378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594036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6948360" y="1557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792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485928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7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377820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5938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6946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486108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5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378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94036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9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6948360" y="3573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1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485928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3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377820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5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938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7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6946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9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4857840" y="550080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1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378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5929200" y="550080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5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6929280" y="550080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4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7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791856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9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792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1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799164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3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799164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250920" y="0"/>
            <a:ext cx="8640720" cy="7034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Викторина «</a:t>
            </a:r>
            <a:r>
              <a:rPr b="1" lang="ru-RU" sz="4000" spc="-1" strike="noStrike">
                <a:solidFill>
                  <a:srgbClr val="f7c120"/>
                </a:solidFill>
                <a:latin typeface="Bookman Old Style"/>
              </a:rPr>
              <a:t>Своя игра</a:t>
            </a: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2"/>
          <p:cNvSpPr/>
          <p:nvPr/>
        </p:nvSpPr>
        <p:spPr>
          <a:xfrm rot="10800000">
            <a:off x="394920" y="2204640"/>
            <a:ext cx="6048360" cy="2664000"/>
          </a:xfrm>
          <a:prstGeom prst="wedgeRectCallout">
            <a:avLst>
              <a:gd name="adj1" fmla="val -59527"/>
              <a:gd name="adj2" fmla="val 929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то из космонавтов первым вышел в открытый космос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70520" y="33336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01040" y="5589720"/>
            <a:ext cx="69778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Алексей Леонов 18 марта 1965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2"/>
          <p:cNvSpPr/>
          <p:nvPr/>
        </p:nvSpPr>
        <p:spPr>
          <a:xfrm rot="10800000">
            <a:off x="323640" y="2204280"/>
            <a:ext cx="6119640" cy="3095640"/>
          </a:xfrm>
          <a:prstGeom prst="wedgeRectCallout">
            <a:avLst>
              <a:gd name="adj1" fmla="val -59935"/>
              <a:gd name="adj2" fmla="val 8743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У ракеты есть водитель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Невесомости любитель.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о-английски: «астронавт»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А по-русски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6021360"/>
            <a:ext cx="561636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Космонав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4"/>
          <a:stretch/>
        </p:blipFill>
        <p:spPr>
          <a:xfrm>
            <a:off x="7956720" y="501336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"/>
          <p:cNvSpPr/>
          <p:nvPr/>
        </p:nvSpPr>
        <p:spPr>
          <a:xfrm rot="10800000">
            <a:off x="394920" y="2204640"/>
            <a:ext cx="6048360" cy="2664000"/>
          </a:xfrm>
          <a:prstGeom prst="wedgeRectCallout">
            <a:avLst>
              <a:gd name="adj1" fmla="val -59791"/>
              <a:gd name="adj2" fmla="val 9064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Кто из женщин-космонавтов в 1963 году впервые побывала в космосе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36120" y="5643720"/>
            <a:ext cx="4984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Валентина Терешко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4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39640" y="6093000"/>
            <a:ext cx="6840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539640" y="1916280"/>
            <a:ext cx="6840720" cy="3673440"/>
          </a:xfrm>
          <a:prstGeom prst="wedgeRoundRectCallout">
            <a:avLst>
              <a:gd name="adj1" fmla="val 48467"/>
              <a:gd name="adj2" fmla="val -6810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Bookman Old Style"/>
              </a:rPr>
              <a:t>Какой стране принадлежит честь первой мягкой посадки на поверхности Марс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279240" y="6093000"/>
            <a:ext cx="152352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 ту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95280" y="2060640"/>
            <a:ext cx="6121440" cy="3456000"/>
          </a:xfrm>
          <a:prstGeom prst="wedgeRoundRectCallout">
            <a:avLst>
              <a:gd name="adj1" fmla="val 62398"/>
              <a:gd name="adj2" fmla="val -7342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В чем хранятся продукты в космических кораблях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96400" y="5877000"/>
            <a:ext cx="50954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Нет, т.к. они теряют 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324000" y="1700280"/>
            <a:ext cx="7272360" cy="3672000"/>
          </a:xfrm>
          <a:prstGeom prst="wedgeRoundRectCallout">
            <a:avLst>
              <a:gd name="adj1" fmla="val 45592"/>
              <a:gd name="adj2" fmla="val -6223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гут ли космонавту пригодится гантели для занятий физическими упражнениям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95280" y="5589720"/>
            <a:ext cx="7056360" cy="825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Невесомость. Чтобы не вдохнуть частицы, которые могут случайно оказаться в отсе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24000" y="1628640"/>
            <a:ext cx="6121080" cy="3814920"/>
          </a:xfrm>
          <a:prstGeom prst="wedgeRoundRectCallout">
            <a:avLst>
              <a:gd name="adj1" fmla="val 63564"/>
              <a:gd name="adj2" fmla="val -6747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огда космонавт ложится спать, он привязывает свой спальный мешок и закрывает свое лицо сеткой. Почему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4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419640" y="5877000"/>
            <a:ext cx="2952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Скафанд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24000" y="1773360"/>
            <a:ext cx="6121080" cy="3456000"/>
          </a:xfrm>
          <a:prstGeom prst="wedgeRoundRectCallout">
            <a:avLst>
              <a:gd name="adj1" fmla="val 63564"/>
              <a:gd name="adj2" fmla="val -73472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 называется одежда, которая необходима для выхода в космос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4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3564000" y="6021360"/>
            <a:ext cx="23032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"/>
              </a:rPr>
              <a:t>108 мину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24000" y="1700280"/>
            <a:ext cx="6624360" cy="2233440"/>
          </a:xfrm>
          <a:prstGeom prst="wedgeRoundRectCallout">
            <a:avLst>
              <a:gd name="adj1" fmla="val 51004"/>
              <a:gd name="adj2" fmla="val -71324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Сколько времени длился первый космический полет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0920" y="260280"/>
            <a:ext cx="40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37372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1000080" y="5929200"/>
            <a:ext cx="49672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Академик С.П.Короле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745164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468360" y="1628640"/>
            <a:ext cx="6408720" cy="3888000"/>
          </a:xfrm>
          <a:prstGeom prst="wedgeRoundRectCallout">
            <a:avLst>
              <a:gd name="adj1" fmla="val 57305"/>
              <a:gd name="adj2" fmla="val -7368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азовите выдающегося конструктора ракет, с именем которого связаны первые наши победы в освоении космоса?</a:t>
            </a: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04280" y="5516640"/>
            <a:ext cx="15397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340000" y="5734080"/>
            <a:ext cx="388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.Э.Циолков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611280" y="1773360"/>
            <a:ext cx="6192720" cy="3240000"/>
          </a:xfrm>
          <a:prstGeom prst="wedgeRoundRectCallout">
            <a:avLst>
              <a:gd name="adj1" fmla="val 56870"/>
              <a:gd name="adj2" fmla="val -77291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то из ученых нашей страны является основоположником космонавтик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2627280" y="6093000"/>
            <a:ext cx="31669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Телеско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1280" y="26028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Кот в мешк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50920" y="1628640"/>
            <a:ext cx="6337080" cy="4105440"/>
          </a:xfrm>
          <a:prstGeom prst="wedgeRoundRectCallout">
            <a:avLst>
              <a:gd name="adj1" fmla="val 60671"/>
              <a:gd name="adj2" fmla="val -67092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акой прибор для наблюдения небесных тел, был изобретен Г.Галилео, 400 лет назад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928800" y="5786280"/>
            <a:ext cx="475272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Восток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24000" y="1557360"/>
            <a:ext cx="5616360" cy="3382920"/>
          </a:xfrm>
          <a:prstGeom prst="wedgeRoundRectCallout">
            <a:avLst>
              <a:gd name="adj1" fmla="val 73685"/>
              <a:gd name="adj2" fmla="val -69379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ookman Old Style"/>
              </a:rPr>
              <a:t>Как называлась первая ракета, полетевшая в космос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80360" y="5300640"/>
            <a:ext cx="15397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1428840" y="5857920"/>
            <a:ext cx="46432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 Black"/>
              </a:rPr>
              <a:t>           </a:t>
            </a:r>
            <a:r>
              <a:rPr b="1" lang="ru-RU" sz="2800" spc="-1" strike="noStrike">
                <a:solidFill>
                  <a:srgbClr val="fcfc24"/>
                </a:solidFill>
                <a:latin typeface="Arial Black"/>
              </a:rPr>
              <a:t>9 план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324000" y="1341360"/>
            <a:ext cx="6840360" cy="4032360"/>
          </a:xfrm>
          <a:prstGeom prst="wedgeEllipseCallout">
            <a:avLst>
              <a:gd name="adj1" fmla="val 51717"/>
              <a:gd name="adj2" fmla="val -598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Сколько планет  в нашей солнечной системе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11280" y="476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3220200" y="6000840"/>
            <a:ext cx="25398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Астроно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0" y="1285920"/>
            <a:ext cx="7956720" cy="3959280"/>
          </a:xfrm>
          <a:prstGeom prst="wedgeEllipseCallout">
            <a:avLst>
              <a:gd name="adj1" fmla="val 39745"/>
              <a:gd name="adj2" fmla="val -6687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Как называются ученые, которые наблюдают и изучают звезд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15960" y="47628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2:48Z</dcterms:created>
  <dc:creator>1234</dc:creator>
  <dc:description/>
  <dc:language>en-US</dc:language>
  <cp:lastModifiedBy>K</cp:lastModifiedBy>
  <dcterms:modified xsi:type="dcterms:W3CDTF">2019-04-11T23:47:30Z</dcterms:modified>
  <cp:revision>59</cp:revision>
  <dc:subject/>
  <dc:title>Слайд 1</dc:title>
</cp:coreProperties>
</file>