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BDD-96CF-48D4-9C68-67E8AB82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63B-47FB-46C9-BC91-45E5C323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D9C-DC19-47C4-9B7C-76F47241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329-5075-4CFC-A3AE-E86A2EB0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B0EA-8370-49D5-8F26-2CE96C1D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C6C2-AFDE-494B-A125-D381EBD6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09F-7906-40B1-87DA-95867D6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9CB-FE1F-4DE9-A729-3ED366A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504-93CA-4B9E-83A8-05B670D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1A3E-8F1A-43F1-A3C0-2214EED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CE0-8275-44E9-BB91-28757821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1AD-DC8D-402D-8DFF-41AA501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5E8-86C5-4221-B9C9-E539B32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802-F020-4D8F-AA17-7B3BECD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26FB-AE4C-4A34-9AE9-7CD37414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0AE5-5886-47A3-B3E1-B22B656E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65F-FEB5-42D8-B562-7414106D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114-CB22-4039-83C4-26D26C5B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6DB-854C-41E8-86E7-A3160C29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99A-C02A-46E9-AE4B-FB9CAB06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C15-CC6B-40A1-9992-A459163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23C-E39A-4262-A120-3D9D331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D9F-401C-419E-AD98-D4C7FFA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D79-E263-4A62-961F-262C06B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90B-14F1-4534-8578-214C4035FF7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0A07-3B7D-4B63-8355-D2C8F2E0D26D}" type="slidenum"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ial-sport.ru/showhtml.php?id=3364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развития лыжного спор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ороз и солнце;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удесный!.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.С.Пушки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14200"/>
            <a:ext cx="635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витие лыжного инвентар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вая  лыжная обувь не имела жесткой подошвы и просто привязывалась к лыжам, так как не существовало специальных креплений. С  30-х годов XX века. появились рантовые ботин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1971году появились крепления с тремя штырями, изобретение Норве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 конца XIX века лыжники использовали только одну палку. Первые палки были деревянными или бамбуковыми высотой приблизительно в рост человека, с середины80х годов- производятся из легкого алюминия или композитных материало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74 году произошла революция в производстве беговых лыж – появились первые пластиковые лы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howobj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24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ный инвент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и (деревянные, пластиковые, комбинированны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ные пал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еп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тин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еж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ные мази, параф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помогательные предметы: чехол для лыж, пробка, утюжок, растирка, щётка, скребок, цик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и на уроках, в походах, в минуты отды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дьба на лыжах доступна людям любого возраста. Это прекрасное средство отдыха. Лыжные прогулки на свежем воздухе оказывают положительное влияние на нервную систему, снижают утом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цессе занятий ученик приобретает новые знания, умения и навыки, связанные с техникой передвижения на лыжах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вает физические качества: силу, быстроту, выносливость, лов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S7302615"/>
          <p:cNvPicPr/>
          <p:nvPr/>
        </p:nvPicPr>
        <p:blipFill>
          <a:blip r:embed="rId1"/>
          <a:stretch/>
        </p:blipFill>
        <p:spPr>
          <a:xfrm>
            <a:off x="0" y="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7306482"/>
          <p:cNvPicPr/>
          <p:nvPr/>
        </p:nvPicPr>
        <p:blipFill>
          <a:blip r:embed="rId2"/>
          <a:stretch/>
        </p:blipFill>
        <p:spPr>
          <a:xfrm>
            <a:off x="228600" y="3809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S7306472"/>
          <p:cNvPicPr/>
          <p:nvPr/>
        </p:nvPicPr>
        <p:blipFill>
          <a:blip r:embed="rId3"/>
          <a:stretch/>
        </p:blipFill>
        <p:spPr>
          <a:xfrm>
            <a:off x="5181480" y="3886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7306492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S7306467"/>
          <p:cNvPicPr/>
          <p:nvPr/>
        </p:nvPicPr>
        <p:blipFill>
          <a:blip r:embed="rId5"/>
          <a:stretch/>
        </p:blipFill>
        <p:spPr>
          <a:xfrm>
            <a:off x="3276720" y="220968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лыжного спор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ыжные го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ыжки на лыжах с трамп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ыжное двоебор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атл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ные лыжи (слалом, слалом-гигант, скоростной спуск, спуск на скорость, горно-лыжные многоборь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1080" y="533160"/>
            <a:ext cx="7564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ая спра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ыжи, как средство передвижения было известно 3-4тыс.лет назад, у народов  населяющих Сибирь, Северный Урал, Алтай и Скандинав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археологических раскопках найдены лыжи различных конструкций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-VII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 н.э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вые письменные свидетельства о применении лыж как на Руси, так и в Скандинавии относятся к начал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побережье Белого моря на скалах археологи нашли высеченные изображения лыжников, этим рисункам более 4 тысяч л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3149640" cy="572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0_2d43_45169003_XL"/>
          <p:cNvPicPr/>
          <p:nvPr/>
        </p:nvPicPr>
        <p:blipFill>
          <a:blip r:embed="rId2"/>
          <a:stretch/>
        </p:blipFill>
        <p:spPr>
          <a:xfrm>
            <a:off x="3276720" y="0"/>
            <a:ext cx="556236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cient_ski"/>
          <p:cNvPicPr/>
          <p:nvPr/>
        </p:nvPicPr>
        <p:blipFill>
          <a:blip r:embed="rId3"/>
          <a:stretch/>
        </p:blipFill>
        <p:spPr>
          <a:xfrm>
            <a:off x="4419720" y="4038480"/>
            <a:ext cx="426708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3367080" y="3657600"/>
            <a:ext cx="5244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скальные рисунки – человек на лыж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15280" y="567072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рхеологические раскопки –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негоступы (лыж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пользование лыж в древ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Снегоступы» - приспособления для передвижения по глубокому снегу  (на охоте, для ходьбы из одного селения в другое, для развлече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чиная с середины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. лыжи находят широкое применение в военном де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негоступ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S7302460"/>
          <p:cNvPicPr/>
          <p:nvPr/>
        </p:nvPicPr>
        <p:blipFill>
          <a:blip r:embed="rId1"/>
          <a:stretch/>
        </p:blipFill>
        <p:spPr>
          <a:xfrm>
            <a:off x="0" y="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7302458"/>
          <p:cNvPicPr/>
          <p:nvPr/>
        </p:nvPicPr>
        <p:blipFill>
          <a:blip r:embed="rId2"/>
          <a:stretch/>
        </p:blipFill>
        <p:spPr>
          <a:xfrm>
            <a:off x="0" y="3657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7302459"/>
          <p:cNvPicPr/>
          <p:nvPr/>
        </p:nvPicPr>
        <p:blipFill>
          <a:blip r:embed="rId3"/>
          <a:stretch/>
        </p:blipFill>
        <p:spPr>
          <a:xfrm>
            <a:off x="5943600" y="1828800"/>
            <a:ext cx="3200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4419720" y="533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ыж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скальны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з Родоя, Норвег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11952436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33526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762120" y="60951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ные лыж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i-main-pic" descr="Картинка 11 из 25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44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kiatt"/>
          <p:cNvPicPr/>
          <p:nvPr/>
        </p:nvPicPr>
        <p:blipFill>
          <a:blip r:embed="rId3"/>
          <a:stretch/>
        </p:blipFill>
        <p:spPr>
          <a:xfrm>
            <a:off x="0" y="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де изобрели лыж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2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даже представить себе не можем, что лыжи - это древнейший способ передвижения людей. Слово «лыжи» пришло к нам из исландского языка и обозначает «снежные ботинки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которые ученые считают даже, что появление лыж относится к каменному веку, поскольку известны наскальные рисунки, изображающие древнего человека на лыжах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кандинавии еще в давние времена была богиня лыж, а бог зимы изображался у них на лыжах с загнутыми нос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е лыжи делали из костей животных. Они крепились к ноге ремешк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е лыжные соревнования состоялись в Норвегии в 1767 году, где первый приз в гонках на лыжах занял норвежец Сондре Норхейм, который по праву считается создателем современных лыж, и с тех пор лыжи стали считаться видом спор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ыжный спорт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ыжный спорт в России начал развиваться  с 1890 года(лыжные прогулк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ые лыжные соревнования были проведены в феврале 1894г. в Петербурге. а в1895г создана первая «лыжная организация» -Московский клуб лыж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уч в 1918г., в программу которого был включён лыжный спорт, по инициативе В.И.Лен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т массовости лыжного спорта способствовало введение в 1931г Всесоюзного физкультурного комплекса ГТО, и введение школьных программ с лыжной подготов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41148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делали русские изобретение… Они имеют деревянные ободья приблизительно семи футов длины и в одну пядь ширины, снизу же плоские и гладкие. Их они подвязывают себе под ноги и бегают с ними по снегу, ни разу не погружаясь в него, и с такой быстротой, что ей можно удивляться»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нс Пальм, секретарь шведского посольства в Москве, 1617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з археологических данных известно, что уже в XIII веке в России использовались лыжи длиной около 190 см и шириной около 8 см с загнутыми концами, однако в начале XX века были распространены лыжи длиной до 3м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Русский лыжный клуб. Начало 20 века.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ша</cp:lastModifiedBy>
  <dcterms:modified xsi:type="dcterms:W3CDTF">2018-01-22T05:08:0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