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C47-D259-4416-89CD-5414CC98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7D9-4029-4653-875A-A0BA53C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DFC-B7DD-4FA6-8868-11F6046D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3D1-E9B7-4CE5-908D-F5DE3DA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5A3-2FC9-483D-A16F-91275326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BFE-4F31-4C9F-A863-5181516A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CE3-D95A-47AC-B0B4-A672643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1A3-D02D-4BEA-9BD5-92C3B4A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AABF-EFA5-43E2-A2FA-3BF00104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41BF-9B53-4DE4-9FEC-27E0800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C0C7-10C6-45DE-8728-A84E6EE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19-05C3-4EDD-811B-6BC2784F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A83E-EB5F-4341-BCF2-C208E9D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855-3699-45B4-B208-690AD9D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FE87-C206-4768-BE93-6F5E6E05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30D-47D3-4293-A912-DD4E4DD7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0B5-00EF-4B06-87A0-CABE089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E72-3266-415E-B91A-C79E64F8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414-E795-454C-96E8-9AEAFAF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554-6BDA-49C0-B05B-D5C42BCF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816-4C70-410F-AAE4-77E61BD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CB6-E7C4-4E91-BECA-7D666E2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5F7-E725-474A-86A4-4BC6FE3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D35-FD3B-4E32-BAFA-B7ACBFE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A4E-8D78-4B7C-BE9B-7619D84416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B64-68AF-4EE3-A334-3223B463DEF9}" type="slidenum"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ial-sport.ru/showhtml.php?id=3364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развития лыжного спор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ороз и солнце;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удесный!.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.С.Пушки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14200"/>
            <a:ext cx="635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витие лыжного инвентар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вая  лыжная обувь не имела жесткой подошвы и просто привязывалась к лыжам, так как не существовало специальных креплений. С  30-х годов XX века. появились рантовые ботин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1971году появились крепления с тремя штырями, изобретение Норве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конца XIX века лыжники использовали только одну палку. Первые палки были деревянными или бамбуковыми высотой приблизительно в рост человека, с середины80х годов- производятся из легкого алюминия или композитных материал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74 году произошла революция в производстве беговых лыж – появились первые пластиковые лы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howobj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24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ный инвент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и (деревянные, пластиковые, комбинированны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ные пал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еп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ти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ные мази, параф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помогательные предметы: чехол для лыж, пробка, утюжок, растирка, щётка, скребок, цик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и на уроках, в походах, в минуты отды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дьба на лыжах доступна людям любого возраста. Это прекрасное средство отдыха. Лыжные прогулки на свежем воздухе оказывают положительное влияние на нервную систему, снижают утом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цессе занятий ученик приобретает новые знания, умения и навыки, связанные с техникой передвижения на лыжах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ет физические качества: силу, быстроту, выносливость, лов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S7302615"/>
          <p:cNvPicPr/>
          <p:nvPr/>
        </p:nvPicPr>
        <p:blipFill>
          <a:blip r:embed="rId1"/>
          <a:stretch/>
        </p:blipFill>
        <p:spPr>
          <a:xfrm>
            <a:off x="0" y="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7306482"/>
          <p:cNvPicPr/>
          <p:nvPr/>
        </p:nvPicPr>
        <p:blipFill>
          <a:blip r:embed="rId2"/>
          <a:stretch/>
        </p:blipFill>
        <p:spPr>
          <a:xfrm>
            <a:off x="228600" y="3809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7306472"/>
          <p:cNvPicPr/>
          <p:nvPr/>
        </p:nvPicPr>
        <p:blipFill>
          <a:blip r:embed="rId3"/>
          <a:stretch/>
        </p:blipFill>
        <p:spPr>
          <a:xfrm>
            <a:off x="5181480" y="3886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7306492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7306467"/>
          <p:cNvPicPr/>
          <p:nvPr/>
        </p:nvPicPr>
        <p:blipFill>
          <a:blip r:embed="rId5"/>
          <a:stretch/>
        </p:blipFill>
        <p:spPr>
          <a:xfrm>
            <a:off x="3276720" y="220968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лыжного спор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ыжные го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ыжки на лыжах с трамп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ыжное двоебор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атл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ные лыжи (слалом, слалом-гигант, скоростной спуск, спуск на скорость, горно-лыжные многоборь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1080" y="533160"/>
            <a:ext cx="7564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ая спра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и, как средство передвижения было известно 3-4тыс.лет назад, у народов  населяющих Сибирь, Северный Урал, Алтай и Скандинав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археологических раскопках найдены лыжи различных конструкций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-VII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 н.э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вые письменные свидетельства о применении лыж как на Руси, так и в Скандинавии относятся к начал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побережье Белого моря на скалах археологи нашли высеченные изображения лыжников, этим рисункам более 4 тысяч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3149640" cy="572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0_2d43_45169003_XL"/>
          <p:cNvPicPr/>
          <p:nvPr/>
        </p:nvPicPr>
        <p:blipFill>
          <a:blip r:embed="rId2"/>
          <a:stretch/>
        </p:blipFill>
        <p:spPr>
          <a:xfrm>
            <a:off x="3276720" y="0"/>
            <a:ext cx="556236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cient_ski"/>
          <p:cNvPicPr/>
          <p:nvPr/>
        </p:nvPicPr>
        <p:blipFill>
          <a:blip r:embed="rId3"/>
          <a:stretch/>
        </p:blipFill>
        <p:spPr>
          <a:xfrm>
            <a:off x="4419720" y="4038480"/>
            <a:ext cx="426708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3367080" y="3657600"/>
            <a:ext cx="5244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скальные рисунки – человек на лыж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15280" y="567072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рхеологические раскопки –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негоступы (лыж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пользование лыж в древ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Снегоступы» - приспособления для передвижения по глубокому снегу  (на охоте, для ходьбы из одного селения в другое, для развлече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чиная с середины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. лыжи находят широкое применение в военном де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негоступ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S7302460"/>
          <p:cNvPicPr/>
          <p:nvPr/>
        </p:nvPicPr>
        <p:blipFill>
          <a:blip r:embed="rId1"/>
          <a:stretch/>
        </p:blipFill>
        <p:spPr>
          <a:xfrm>
            <a:off x="0" y="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7302458"/>
          <p:cNvPicPr/>
          <p:nvPr/>
        </p:nvPicPr>
        <p:blipFill>
          <a:blip r:embed="rId2"/>
          <a:stretch/>
        </p:blipFill>
        <p:spPr>
          <a:xfrm>
            <a:off x="0" y="3657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7302459"/>
          <p:cNvPicPr/>
          <p:nvPr/>
        </p:nvPicPr>
        <p:blipFill>
          <a:blip r:embed="rId3"/>
          <a:stretch/>
        </p:blipFill>
        <p:spPr>
          <a:xfrm>
            <a:off x="5943600" y="1828800"/>
            <a:ext cx="3200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4419720" y="533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ыж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скаль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 Родоя, Норвег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11952436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33526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762120" y="60951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ные лыж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i-main-pic" descr="Картинка 11 из 25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44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kiatt"/>
          <p:cNvPicPr/>
          <p:nvPr/>
        </p:nvPicPr>
        <p:blipFill>
          <a:blip r:embed="rId3"/>
          <a:stretch/>
        </p:blipFill>
        <p:spPr>
          <a:xfrm>
            <a:off x="0" y="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де изобрели лыж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2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даже представить себе не можем, что лыжи - это древнейший способ передвижения людей. Слово «лыжи» пришло к нам из исландского языка и обозначает «снежные ботинки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которые ученые считают даже, что появление лыж относится к каменному веку, поскольку известны наскальные рисунки, изображающие древнего человека на лыжах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кандинавии еще в давние времена была богиня лыж, а бог зимы изображался у них на лыжах с загнутыми нос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е лыжи делали из костей животных. Они крепились к ноге ремешк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е лыжные соревнования состоялись в Норвегии в 1767 году, где первый приз в гонках на лыжах занял норвежец Сондре Норхейм, который по праву считается создателем современных лыж, и с тех пор лыжи стали считаться видом спор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ный спор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ыжный спорт в России начал развиваться  с 1890 года(лыжные прогулк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ые лыжные соревнования были проведены в феврале 1894г. в Петербурге. а в1895г создана первая «лыжная организация» -Московский клуб лыж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уч в 1918г., в программу которого был включён лыжный спорт, по инициативе В.И.Лен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т массовости лыжного спорта способствовало введение в 1931г Всесоюзного физкультурного комплекса ГТО, и введение школьных программ с лыжной подготов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41148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делали русские изобретение… Они имеют деревянные ободья приблизительно семи футов длины и в одну пядь ширины, снизу же плоские и гладкие. Их они подвязывают себе под ноги и бегают с ними по снегу, ни разу не погружаясь в него, и с такой быстротой, что ей можно удивляться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нс Пальм, секретарь шведского посольства в Москве, 1617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археологических данных известно, что уже в XIII веке в России использовались лыжи длиной около 190 см и шириной около 8 см с загнутыми концами, однако в начале XX века были распространены лыжи длиной до 3м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Русский лыжный клуб. Начало 20 века.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ша</cp:lastModifiedBy>
  <dcterms:modified xsi:type="dcterms:W3CDTF">2018-01-22T05:08:0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