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DEE-344E-4174-AEC9-62E02F2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B87-B8D6-40AC-9EEE-A5A0952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89A-8C75-4097-869A-F66FB678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420-E105-44C5-9A51-96EC4E65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67C-FCB5-4F9E-8317-0CC7B15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E29-5D18-4B36-8EF2-0C0CC20F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3D5-94AB-4745-BDF8-6B340F0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B80-8022-4AAA-B5E3-37D6397A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C37-C34C-4841-B552-3CCB4C27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3A2-EA55-4D24-85D5-6011C57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289-FDB9-4226-9641-E14AB6F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316-4A36-487C-AC1E-FB961CA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B1E-31B3-4979-B64A-F6B6C01FB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терская Масько Л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Здоровье сберегающи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в школе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Игра.mp3" descr=""/>
          <p:cNvPicPr/>
          <p:nvPr/>
        </p:nvPicPr>
        <p:blipFill>
          <a:blip r:embed="rId1"/>
          <a:stretch/>
        </p:blipFill>
        <p:spPr>
          <a:xfrm>
            <a:off x="542880" y="5954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457440" y="6227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админ</cp:lastModifiedBy>
  <dcterms:modified xsi:type="dcterms:W3CDTF">2019-11-25T17:02:08Z</dcterms:modified>
  <cp:revision>32</cp:revision>
  <dc:subject/>
  <dc:title>Слайд 1</dc:title>
</cp:coreProperties>
</file>