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4104-065F-47CA-BAB8-CD940A0C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46F1-F338-48D9-8119-CDB9B684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A7F6-EBFA-4660-B9F7-3EBDA22A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EF89-8B76-44E3-A47E-147A928D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2043-0883-4280-913B-3D5A4F7E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3397-1008-4C59-B5F4-8952CE2A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C787-4702-4A45-B813-6117CD6D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F0A4-9335-43E7-8F21-57B7634D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EAB3-477A-4224-B5E6-6EDC4C33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FBAB-8DA3-4377-AC1F-583D1E68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1661-928D-4FE2-A7F7-D426C378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CB80-6FE0-4C8B-8119-2F474ED6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aa66"/>
            </a:gs>
            <a:gs pos="50000">
              <a:srgbClr val="99ff99"/>
            </a:gs>
            <a:gs pos="100000">
              <a:srgbClr val="66aa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804A-B989-48EF-AE79-30E09868EB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стерская Масько Л.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80d"/>
                </a:solidFill>
                <a:latin typeface="Arial"/>
              </a:rPr>
              <a:t>Здоровье сберегающие технологии</a:t>
            </a:r>
            <a:br>
              <a:rPr sz="3200"/>
            </a:br>
            <a:r>
              <a:rPr b="1" lang="ru-RU" sz="3200" spc="-1" strike="noStrike">
                <a:solidFill>
                  <a:srgbClr val="da080d"/>
                </a:solidFill>
                <a:latin typeface="Arial"/>
              </a:rPr>
              <a:t> в школе</a:t>
            </a:r>
            <a:br>
              <a:rPr sz="3200"/>
            </a:br>
            <a:r>
              <a:rPr b="1" lang="ru-RU" sz="3200" spc="-1" strike="noStrike">
                <a:solidFill>
                  <a:srgbClr val="da080d"/>
                </a:solidFill>
                <a:latin typeface="Arial"/>
              </a:rPr>
              <a:t>Физминутка </a:t>
            </a:r>
            <a:br>
              <a:rPr sz="3200"/>
            </a:br>
            <a:r>
              <a:rPr b="1" lang="ru-RU" sz="3200" spc="-1" strike="noStrike">
                <a:solidFill>
                  <a:srgbClr val="da080d"/>
                </a:solidFill>
                <a:latin typeface="Arial"/>
              </a:rPr>
              <a:t> (коррекция зрения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Игра.mp3" descr=""/>
          <p:cNvPicPr/>
          <p:nvPr/>
        </p:nvPicPr>
        <p:blipFill>
          <a:blip r:embed="rId1"/>
          <a:stretch/>
        </p:blipFill>
        <p:spPr>
          <a:xfrm>
            <a:off x="542880" y="59547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3457440" y="6227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2"/>
          <p:cNvSpPr/>
          <p:nvPr/>
        </p:nvSpPr>
        <p:spPr>
          <a:xfrm>
            <a:off x="324000" y="404640"/>
            <a:ext cx="1150920" cy="1081440"/>
          </a:xfrm>
          <a:prstGeom prst="ellipse">
            <a:avLst/>
          </a:prstGeom>
          <a:gradFill rotWithShape="0">
            <a:gsLst>
              <a:gs pos="0">
                <a:srgbClr val="eb1d5d"/>
              </a:gs>
              <a:gs pos="100000">
                <a:srgbClr val="6d0d2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7308720" y="5229360"/>
            <a:ext cx="1008360" cy="1008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18m5"/>
          <p:cNvPicPr/>
          <p:nvPr/>
        </p:nvPicPr>
        <p:blipFill>
          <a:blip r:embed="rId1"/>
          <a:stretch/>
        </p:blipFill>
        <p:spPr>
          <a:xfrm>
            <a:off x="1476360" y="1413000"/>
            <a:ext cx="2016000" cy="216036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5"/>
          <p:cNvSpPr/>
          <p:nvPr/>
        </p:nvSpPr>
        <p:spPr>
          <a:xfrm>
            <a:off x="7020000" y="333360"/>
            <a:ext cx="1584360" cy="1224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d298a"/>
              </a:gs>
              <a:gs pos="100000">
                <a:srgbClr val="5013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24000" y="4797360"/>
            <a:ext cx="1438200" cy="1584360"/>
          </a:xfrm>
          <a:prstGeom prst="diamond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mb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031E-006 L 0.74827 -0.00532 E">
                                      <p:cBhvr>
                                        <p:cTn id="18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0532 L 0.00018 0.67137 E">
                                      <p:cBhvr>
                                        <p:cTn id="2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2613 L -0.7165 -0.03654 E">
                                      <p:cBhvr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3.00648E-006 L -0.00799 -0.65565 E">
                                      <p:cBhvr>
                                        <p:cTn id="30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val 2"/>
          <p:cNvSpPr/>
          <p:nvPr/>
        </p:nvSpPr>
        <p:spPr>
          <a:xfrm>
            <a:off x="482760" y="2766960"/>
            <a:ext cx="1008000" cy="9367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comb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1 0.01896 C -0.01961 -0.12902 0.07639 -0.25156 0.19271 -0.25156 C 0.33004 -0.25156 0.37969 -0.11561 0.40018 -0.03445 L 0.42171 0.07283 C 0.44306 0.15376 0.49619 0.28763 0.65087 0.28763 C 0.75 0.28763 0.86198 0.16671 0.86198 0.01896 C 0.86198 -0.12902 0.75 -0.25156 0.65087 -0.25156 C 0.49619 -0.25156 0.44306 -0.11561 0.42171 -0.03445 L 0.40018 0.07283 C 0.37969 0.15376 0.33004 0.28763 0.19271 0.28763 C 0.07639 0.28763 -0.01961 0.16671 -0.01961 0.01896 Z">
                                      <p:cBhvr>
                                        <p:cTn id="47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Oval 2"/>
          <p:cNvSpPr/>
          <p:nvPr/>
        </p:nvSpPr>
        <p:spPr>
          <a:xfrm>
            <a:off x="423720" y="2948040"/>
            <a:ext cx="1008360" cy="936720"/>
          </a:xfrm>
          <a:prstGeom prst="ellipse">
            <a:avLst/>
          </a:prstGeom>
          <a:solidFill>
            <a:srgbClr val="e03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26m1"/>
          <p:cNvPicPr/>
          <p:nvPr/>
        </p:nvPicPr>
        <p:blipFill>
          <a:blip r:embed="rId1"/>
          <a:stretch/>
        </p:blipFill>
        <p:spPr>
          <a:xfrm>
            <a:off x="3708360" y="4292640"/>
            <a:ext cx="1873440" cy="237636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3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25 0.00833 C -0.0276 -0.1452 0.06841 -0.2726 0.18473 -0.2726 C 0.32205 -0.2726 0.37171 -0.13133 0.39219 -0.04717 L 0.41372 0.06428 C 0.43507 0.14821 0.4882 0.28786 0.64289 0.28786 C 0.74202 0.28786 0.854 0.16208 0.854 0.00833 C 0.85365 -0.1452 0.74202 -0.2726 0.64289 -0.2726 C 0.4882 -0.2726 0.43507 -0.13133 0.41372 -0.04717 L 0.39219 0.06428 C 0.37171 0.14844 0.32205 0.28786 0.18473 0.28786 C 0.06841 0.28786 -0.0276 0.16208 -0.02725 0.00833 Z">
                                      <p:cBhvr>
                                        <p:cTn id="57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ubPieSlice"/>
          <p:cNvSpPr/>
          <p:nvPr/>
        </p:nvSpPr>
        <p:spPr>
          <a:xfrm>
            <a:off x="1547640" y="404640"/>
            <a:ext cx="6912000" cy="6193080"/>
          </a:xfrm>
          <a:custGeom>
            <a:avLst/>
            <a:gdLst>
              <a:gd name="textAreaLeft" fmla="*/ 1011960 w 6912000"/>
              <a:gd name="textAreaRight" fmla="*/ 5900040 w 6912000"/>
              <a:gd name="textAreaTop" fmla="*/ 906840 h 6193080"/>
              <a:gd name="textAreaBottom" fmla="*/ 5286240 h 6193080"/>
            </a:gdLst>
            <a:ahLst/>
            <a:rect l="textAreaLeft" t="textAreaTop" r="textAreaRight" b="textAreaBottom"/>
            <a:pathLst>
              <a:path w="21600" h="21600">
                <a:moveTo>
                  <a:pt x="21599" y="10725"/>
                </a:moveTo>
                <a:cubicBezTo>
                  <a:pt x="21559" y="4790"/>
                  <a:pt x="16735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lnTo>
                  <a:pt x="10800" y="10800"/>
                </a:lnTo>
                <a:lnTo>
                  <a:pt x="21599" y="10725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3"/>
          <p:cNvSpPr/>
          <p:nvPr/>
        </p:nvSpPr>
        <p:spPr>
          <a:xfrm>
            <a:off x="4632480" y="3247920"/>
            <a:ext cx="720720" cy="64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li10_2"/>
          <p:cNvPicPr/>
          <p:nvPr/>
        </p:nvPicPr>
        <p:blipFill>
          <a:blip r:embed="rId2"/>
          <a:stretch/>
        </p:blipFill>
        <p:spPr>
          <a:xfrm>
            <a:off x="1685880" y="3429000"/>
            <a:ext cx="6734160" cy="9360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3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5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267 -0.03191 C 0.346 -0.28931 0.17222 -0.48335 -0.02691 -0.45953 C -0.21771 -0.43871 -0.37639 -0.23473 -0.36042 0.01688 C -0.34809 0.25 -0.20104 0.43872 -0.02257 0.41952 C 0.14097 0.40079 0.27968 0.22711 0.2684 0.00971 C 0.25729 -0.18802 0.13298 -0.3506 -0.01927 -0.33603 C -0.15868 -0.31984 -0.275 -0.17599 -0.26424 0.00717 C -0.25608 0.17137 -0.15538 0.30921 -0.0316 0.29232 C 0.08246 0.28099 0.17934 0.17045 0.17274 0.02105 C 0.16389 -0.10985 0.08628 -0.22317 -0.01198 -0.21022 C -0.09757 -0.20282 -0.17587 -0.11702 -0.16962 -0.003 C -0.16459 0.09228 -0.10973 0.17507 -0.03785 0.16929 C 0.02135 0.16397 0.07916 0.10939 0.07343 0.0333 C 0.07205 -0.02937 0.03854 -0.09066 -0.00417 -0.0895 C -0.03941 -0.08256 -0.0724 -0.06036 -0.07448 -0.01572 C -0.07379 0.01342 -0.06372 0.0377 -0.04601 0.0444 C -0.03525 0.04764 -0.03125 0.04464 -0.02223 0.04117 E">
                                      <p:cBhvr>
                                        <p:cTn id="75" dur="5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Oval 4"/>
          <p:cNvSpPr/>
          <p:nvPr/>
        </p:nvSpPr>
        <p:spPr>
          <a:xfrm>
            <a:off x="3059280" y="4221000"/>
            <a:ext cx="2520720" cy="216072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8419 L -0.00382 -0.61609 E">
                                      <p:cBhvr>
                                        <p:cTn id="81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path" presetID="4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60823 L -0.00382 0.08418 E">
                                      <p:cBhvr>
                                        <p:cTn id="84" dur="1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2"/>
          <p:cNvSpPr/>
          <p:nvPr/>
        </p:nvSpPr>
        <p:spPr>
          <a:xfrm>
            <a:off x="395280" y="2492280"/>
            <a:ext cx="2376360" cy="208908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03423E-006 L 0.66944 0.00532 E">
                                      <p:cBhvr>
                                        <p:cTn id="90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pat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6945 0.00532 L -3.33333E-006 -0.00509 E">
                                      <p:cBhvr>
                                        <p:cTn id="93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Oval 4"/>
          <p:cNvSpPr/>
          <p:nvPr/>
        </p:nvSpPr>
        <p:spPr>
          <a:xfrm>
            <a:off x="3780000" y="2708280"/>
            <a:ext cx="1655640" cy="1512720"/>
          </a:xfrm>
          <a:prstGeom prst="ellipse">
            <a:avLst/>
          </a:prstGeom>
          <a:gradFill rotWithShape="0">
            <a:gsLst>
              <a:gs pos="0">
                <a:srgbClr val="e03c82"/>
              </a:gs>
              <a:gs pos="100000">
                <a:srgbClr val="681c3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3:26:02Z</dcterms:created>
  <dc:creator>Масько Л.Г.</dc:creator>
  <dc:description/>
  <dc:language>en-US</dc:language>
  <cp:lastModifiedBy>админ</cp:lastModifiedBy>
  <dcterms:modified xsi:type="dcterms:W3CDTF">2019-11-25T17:02:08Z</dcterms:modified>
  <cp:revision>32</cp:revision>
  <dc:subject/>
  <dc:title>Слайд 1</dc:title>
</cp:coreProperties>
</file>