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B09-B8ED-40C6-A5A6-3EFD1EA8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A7F-5FC1-464A-A0A7-9D63236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AB8-49EA-4310-95BF-70D3DEE4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5BA-1D3D-41B2-848A-FD0054AA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CF3-6ECD-4BAE-9971-C64C4BD8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EB0B-9A33-462F-8474-DFA1216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A9FA-F85A-4836-8B78-439101D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FAD8-1C46-4229-94DD-B5F81B04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967-9B74-4385-985B-F6DCCDE8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CA0-B037-46DD-A8D6-3D1546B1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1170-74BA-4E95-BE05-D440F3C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502-7AFB-4E1B-A0FC-E1C0386C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CBEE-FB63-49C0-AB5A-74F1B16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5A84-2A6B-4FCE-BD75-A4BAF66C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1241-6039-4FC4-8C11-9A070D3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473F-3BE8-4255-AC06-D1AB5B4B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EBD-8FC3-439A-88BF-3D25AE52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1D8-44D9-471C-95D2-81B07A1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BDB-660A-4954-9215-70B384BF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A75-75D9-411B-B933-957F764A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A82-07C3-4E40-BD1D-6470A6B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2FC-E866-442E-958B-F11F7A8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45E-B6C2-4A8C-8F5D-9DF6EE4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939-FA7A-487A-954C-04AA680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BA54-7FC6-4A60-92A1-59479522D14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6F38-6C4B-497E-91DF-FDC7C83A9D6D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two-schoolsev.ucoz.ru/images/img122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13002.rimg.info/icon/1777501000d09386badf73c1fc226616ad709c626a.gi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rasnsc.ucoz.ru/_nw/0/90565465.p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8944_c41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7/oops358.1e/0_17376_1f10d9cf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usosh7.ucoz.ru/_ph/4/2/77992589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cap.ru/home/4610/839688d5541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273.edusite.ru/images/62286315.pn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1212840" y="-195120"/>
            <a:ext cx="7991640" cy="27795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715000" y="21430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-249120" y="5805360"/>
            <a:ext cx="8643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рчебасова Елена Юрье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2289240"/>
            <a:ext cx="3714840" cy="388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5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6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к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0" name="Picture 8" descr="1777501000d09386badf73c1fc226616ad709c62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3429000"/>
            <a:ext cx="2745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75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1.Подлежащее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(сущ. или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местоимени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2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m, is, a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3.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дополнение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( сущ., прилаг., числительное)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7" descr="Картинка 25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27400"/>
            <a:ext cx="4572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н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му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ца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ая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й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7" descr="Картинка 167 из 64000"/>
          <p:cNvPicPr/>
          <p:nvPr/>
        </p:nvPicPr>
        <p:blipFill>
          <a:blip r:embed="rId1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еб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И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560" y="103320"/>
            <a:ext cx="831708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ставьте из слов предложение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1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57240" y="3143160"/>
            <a:ext cx="7286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«to be»=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m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s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are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- </a:t>
            </a:r>
            <a:r>
              <a:rPr b="1" lang="en-US" sz="36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(один) –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Verdana"/>
              </a:rPr>
              <a:t>(много)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85960" y="142920"/>
            <a:ext cx="65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4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кращенные формы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71600" y="1643040"/>
            <a:ext cx="5072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 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Picture 8" descr="Картинка 1043 из 64000"/>
          <p:cNvPicPr/>
          <p:nvPr/>
        </p:nvPicPr>
        <p:blipFill>
          <a:blip r:embed="rId1"/>
          <a:stretch/>
        </p:blipFill>
        <p:spPr>
          <a:xfrm>
            <a:off x="0" y="1773360"/>
            <a:ext cx="41083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сточник информации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ttps://www.google.com/search?q=%D0%BA%D0%B0%D1%80%D1%82%D0%B8%D0%BD%D0%BA%D0%B8+%D0%B1%D1%83%D1%80%D0%B0%D1%82%D0%B8%D0%BD%D0%BE+%D0%B8%D0%B7+%D0%BC%D1%83%D0%BB%D1%8C%D1%82%D0%B8%D0%BA%D0%B0&amp;rlz=1C1NHXL_ruRU762RU764&amp;tbm=isch&amp;tbo=u&amp;source=univ&amp;sa=X&amp;ved=2ahUKEwi5jt3Ooe_fAhVPpIsKHUfZDaEQsAR6BAgCEAE&amp;biw=1024&amp;bih=626#imgrc=9S0uWL6TXQU54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102960"/>
            <a:ext cx="788508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br>
              <a:rPr sz="4000"/>
            </a:b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20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7" descr="188-d2teo"/>
          <p:cNvPicPr/>
          <p:nvPr/>
        </p:nvPicPr>
        <p:blipFill>
          <a:blip r:embed="rId1"/>
          <a:stretch/>
        </p:blipFill>
        <p:spPr>
          <a:xfrm>
            <a:off x="2411280" y="3068640"/>
            <a:ext cx="525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Verdana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730872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0" lang="ru-RU" sz="7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ченик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0" descr="Картинка 3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2440" y="1557360"/>
            <a:ext cx="2941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ца 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1" descr="Картинка 11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3286080"/>
            <a:ext cx="2233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684720" y="3357720"/>
            <a:ext cx="741708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8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8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8000" spc="-1" strike="noStrike">
                <a:solidFill>
                  <a:srgbClr val="3333cc"/>
                </a:solidFill>
                <a:latin typeface="Verdana"/>
              </a:rPr>
              <a:t>a dog</a:t>
            </a:r>
            <a:r>
              <a:rPr b="0" lang="ru-RU" sz="80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Эт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с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бака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8" descr="Картинка 125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715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Ты/Вы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 ученик. </a:t>
            </a:r>
            <a:r>
              <a:rPr b="0" lang="ru-RU" sz="6000" spc="-1" strike="noStrike">
                <a:solidFill>
                  <a:srgbClr val="3333cc"/>
                </a:solidFill>
                <a:latin typeface="Verdana"/>
              </a:rPr>
              <a:t>/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42920" y="2786040"/>
            <a:ext cx="36385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lang="ru-RU" sz="8400" spc="-1" strike="noStrike">
                <a:solidFill>
                  <a:srgbClr val="9999ff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8929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             </a:t>
            </a:r>
            <a:r>
              <a:rPr b="1" lang="en-US" sz="6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6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Picture 8" descr="Картинка 1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3000240"/>
            <a:ext cx="2916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25804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Picture 8" descr="Картинка 5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4720" y="3778200"/>
            <a:ext cx="5883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RePack by Diakov</cp:lastModifiedBy>
  <dcterms:modified xsi:type="dcterms:W3CDTF">2019-12-01T15:56:26Z</dcterms:modified>
  <cp:revision>48</cp:revision>
  <dc:subject/>
  <dc:title>Глагол “to be” в английском языке</dc:title>
</cp:coreProperties>
</file>