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E753-74C5-4950-9937-89F6753C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403-464D-48C6-9C2B-B90FE3A1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828-90EA-4D59-A4DD-DE799354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FC0E-37C3-4FC0-918B-DCCB1D24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7BD6-42F7-4DC6-88BA-9454DC71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66B7-DAEF-4636-AAAF-81A821B3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D38B-BC77-48A3-8A16-4EAD90D2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0509-E814-4AEA-B2C5-EB527D50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2376-2432-4B4D-9BBF-703DCE2F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47AC-51A3-4626-9125-D00757F7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3FDB-0593-4F8B-9E1F-9D60099F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27D1-BF5B-4B89-90F4-E66AD804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547D-C795-456D-96DF-7D50F054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E4B0-8FE3-4D08-BC88-38FE1690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D991-DF5A-4471-A93B-87C5A157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76B1-7BF2-42DD-A45E-407B13BB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7C95-4B5E-4E26-9765-FC27E103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F73-5D1F-4E9D-A7E0-1BAC9931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98A-4200-4D2A-A464-9499C60D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172-9E5F-4FE9-805F-1E72E391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C4ED-364E-4096-96CF-C3926C2E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2F5-8C66-43BA-B41A-817D29C5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2264-E59A-40C8-8355-806BD91E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8B3D-2837-45D4-8C9E-AEABE2EC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F402-2443-4370-8777-0AA96C24704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720" y="59760"/>
              <a:ext cx="3620520" cy="6132600"/>
              <a:chOff x="5409720" y="59760"/>
              <a:chExt cx="3620520" cy="61326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4520"/>
                <a:ext cx="211392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6240"/>
                <a:ext cx="90540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8400"/>
                <a:ext cx="43884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120" y="6706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840" y="264528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520" y="12430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08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6280"/>
              <a:ext cx="893160" cy="824760"/>
              <a:chOff x="5650560" y="29628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040" y="47052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600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9960"/>
              <a:ext cx="1059120" cy="829800"/>
              <a:chOff x="968760" y="525996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516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520"/>
                <a:ext cx="44892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6D59-E81B-45B5-A919-44F6D8D71A6E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two-schoolsev.ucoz.ru/images/img122.gif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13002.rimg.info/icon/1777501000d09386badf73c1fc226616ad709c626a.gif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krasnsc.ucoz.ru/_nw/0/90565465.pn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rum.materinstvo.ru/uploads/1236385780/post-70101-1236449698_thumb.pn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forum.materinstvo.ru/uploads/1236385780/post-70101-1236449698_thumb.pn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1191268944_c410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307/oops358.1e/0_17376_1f10d9cf_X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ousosh7.ucoz.ru/_ph/4/2/779925898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du.cap.ru/home/4610/839688d55411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273.edusite.ru/images/62286315.png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1212840" y="-195120"/>
            <a:ext cx="7991640" cy="27795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74b29636946801718e2379564c887d1d.jpg"/>
          <p:cNvPicPr/>
          <p:nvPr/>
        </p:nvPicPr>
        <p:blipFill>
          <a:blip r:embed="rId2"/>
          <a:stretch/>
        </p:blipFill>
        <p:spPr>
          <a:xfrm>
            <a:off x="5715000" y="2143080"/>
            <a:ext cx="2840040" cy="3933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4408560" y="474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-249120" y="5805360"/>
            <a:ext cx="86439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рчебасова Елена Юрьевн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Picture 9" descr="Картинка 24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120" y="2289240"/>
            <a:ext cx="3714840" cy="3889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i?id=144054370-07"/>
          <p:cNvPicPr/>
          <p:nvPr/>
        </p:nvPicPr>
        <p:blipFill>
          <a:blip r:embed="rId5"/>
          <a:stretch/>
        </p:blipFill>
        <p:spPr>
          <a:xfrm>
            <a:off x="2195640" y="4292640"/>
            <a:ext cx="863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Verdana"/>
              </a:rPr>
              <a:t>   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914400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en-US" sz="60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1" lang="en-US" sz="6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6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6000" spc="-1" strike="noStrike">
                <a:solidFill>
                  <a:srgbClr val="000066"/>
                </a:solidFill>
                <a:latin typeface="Verdana"/>
              </a:rPr>
              <a:t>pupils</a:t>
            </a:r>
            <a:r>
              <a:rPr b="0" lang="ru-RU" sz="60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ru-RU" sz="6000" spc="-1" strike="noStrike">
                <a:solidFill>
                  <a:srgbClr val="000066"/>
                </a:solidFill>
                <a:latin typeface="Verdana"/>
              </a:rPr>
              <a:t> ученики.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0" name="Picture 8" descr="1777501000d09386badf73c1fc226616ad709c62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86080" y="3429000"/>
            <a:ext cx="2745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753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1.Подлежащее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(сущ. или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             </a:t>
            </a: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местоимение)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Verdana"/>
              </a:rPr>
              <a:t>2.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m, is, are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3. 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дополнение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( сущ., прилаг., числительное)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3" name="Picture 7" descr="Картинка 25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327400"/>
            <a:ext cx="45720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428720" y="1500120"/>
            <a:ext cx="471492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am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a pupil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.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am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й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am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Мне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8 лет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6" name="Picture 7" descr="Картинка 16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16280"/>
            <a:ext cx="41176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28720" y="1500120"/>
            <a:ext cx="471492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a pupil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.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й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Ему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9" name="Picture 7" descr="Картинка 16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16280"/>
            <a:ext cx="41176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28720" y="1500120"/>
            <a:ext cx="471492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a pupil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а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ца.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She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а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ая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She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Ей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2" name="Picture 7" descr="Картинка 167 из 64000"/>
          <p:cNvPicPr/>
          <p:nvPr/>
        </p:nvPicPr>
        <p:blipFill>
          <a:blip r:embed="rId1"/>
          <a:stretch/>
        </p:blipFill>
        <p:spPr>
          <a:xfrm>
            <a:off x="324000" y="1916280"/>
            <a:ext cx="41176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214520" y="1571760"/>
            <a:ext cx="4678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upils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М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М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е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ам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по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5" name="Picture 7" descr="Картинка 1 из 64000"/>
          <p:cNvPicPr/>
          <p:nvPr/>
        </p:nvPicPr>
        <p:blipFill>
          <a:blip r:embed="rId1"/>
          <a:stretch/>
        </p:blipFill>
        <p:spPr>
          <a:xfrm>
            <a:off x="0" y="2060640"/>
            <a:ext cx="4176720" cy="4155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"/>
          <p:cNvSpPr/>
          <p:nvPr/>
        </p:nvSpPr>
        <p:spPr>
          <a:xfrm>
            <a:off x="450072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14520" y="1571760"/>
            <a:ext cx="4678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upils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В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В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е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Вам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по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9" name="Picture 7" descr="Картинка 1 из 64000"/>
          <p:cNvPicPr/>
          <p:nvPr/>
        </p:nvPicPr>
        <p:blipFill>
          <a:blip r:embed="rId1"/>
          <a:stretch/>
        </p:blipFill>
        <p:spPr>
          <a:xfrm>
            <a:off x="0" y="2060640"/>
            <a:ext cx="4176720" cy="41558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9"/>
          <p:cNvSpPr/>
          <p:nvPr/>
        </p:nvSpPr>
        <p:spPr>
          <a:xfrm>
            <a:off x="450072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214520" y="1571760"/>
            <a:ext cx="4678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а</a:t>
            </a:r>
            <a:r>
              <a:rPr b="0" lang="ru-RU" sz="40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upil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Т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Ты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й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Тебе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3" name="Picture 7" descr="Картинка 1 из 64000"/>
          <p:cNvPicPr/>
          <p:nvPr/>
        </p:nvPicPr>
        <p:blipFill>
          <a:blip r:embed="rId1"/>
          <a:stretch/>
        </p:blipFill>
        <p:spPr>
          <a:xfrm>
            <a:off x="0" y="2060640"/>
            <a:ext cx="4176720" cy="41558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9"/>
          <p:cNvSpPr/>
          <p:nvPr/>
        </p:nvSpPr>
        <p:spPr>
          <a:xfrm>
            <a:off x="450072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орядок слов в утвердительном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214520" y="1571760"/>
            <a:ext cx="4678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They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upils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ученик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They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good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хорошие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They </a:t>
            </a:r>
            <a:r>
              <a:rPr b="0" lang="en-US" sz="40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ight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Им</a:t>
            </a:r>
            <a:r>
              <a:rPr b="0" lang="ru-RU" sz="4000" spc="-1" strike="noStrike">
                <a:solidFill>
                  <a:srgbClr val="3333cc"/>
                </a:solidFill>
                <a:latin typeface="Verdana"/>
              </a:rPr>
              <a:t> по 8 лет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7" name="Picture 7" descr="Картинка 1 из 64000"/>
          <p:cNvPicPr/>
          <p:nvPr/>
        </p:nvPicPr>
        <p:blipFill>
          <a:blip r:embed="rId1"/>
          <a:stretch/>
        </p:blipFill>
        <p:spPr>
          <a:xfrm>
            <a:off x="0" y="2060640"/>
            <a:ext cx="4176720" cy="41558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9"/>
          <p:cNvSpPr/>
          <p:nvPr/>
        </p:nvSpPr>
        <p:spPr>
          <a:xfrm>
            <a:off x="450072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560" y="103320"/>
            <a:ext cx="8317080" cy="18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оставьте из слов предложение: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356000" y="2133360"/>
            <a:ext cx="460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octor,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 is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h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m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a pupi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river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pilo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a teacher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uden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y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cosmonau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1" name="Picture 15" descr="Картинка 76 из 64000"/>
          <p:cNvPicPr/>
          <p:nvPr/>
        </p:nvPicPr>
        <p:blipFill>
          <a:blip r:embed="rId1"/>
          <a:stretch/>
        </p:blipFill>
        <p:spPr>
          <a:xfrm>
            <a:off x="0" y="2214720"/>
            <a:ext cx="43308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900000" y="1125360"/>
            <a:ext cx="82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На русский язык глагол </a:t>
            </a:r>
            <a:r>
              <a:rPr b="1" lang="ru-RU" sz="2800" spc="-1" strike="noStrike">
                <a:solidFill>
                  <a:srgbClr val="cc0099"/>
                </a:solidFill>
                <a:latin typeface="Constantia"/>
              </a:rPr>
              <a:t>to be</a:t>
            </a: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 переводится как "быть, находиться, есть, существовать, являться"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Этот глагол изменяется по лицам и числам, каждое лицо и число имеет свою форму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1857240" y="3143160"/>
            <a:ext cx="728676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ru-RU" sz="5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«to be»= </a:t>
            </a:r>
            <a:r>
              <a:rPr b="1" lang="en-US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m</a:t>
            </a:r>
            <a:r>
              <a:rPr b="1" lang="ru-RU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is</a:t>
            </a:r>
            <a:r>
              <a:rPr b="1" lang="ru-RU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,</a:t>
            </a:r>
            <a:r>
              <a:rPr b="1" lang="en-US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are</a:t>
            </a:r>
            <a:r>
              <a:rPr b="1" lang="ru-RU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Constantia"/>
              </a:rPr>
              <a:t>- </a:t>
            </a:r>
            <a:r>
              <a:rPr b="1" lang="en-US" sz="3600" spc="-1" strike="noStrike">
                <a:solidFill>
                  <a:srgbClr val="33cc33"/>
                </a:solidFill>
                <a:latin typeface="Constantia"/>
              </a:rPr>
              <a:t>am</a:t>
            </a:r>
            <a:r>
              <a:rPr b="1" lang="en-US" sz="3600" spc="-1" strike="noStrike">
                <a:solidFill>
                  <a:srgbClr val="000066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/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/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It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(один) –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i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Verdana"/>
              </a:rPr>
              <a:t>/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/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72"/>
                </a:solidFill>
                <a:latin typeface="Verdana"/>
              </a:rPr>
              <a:t>(много) </a:t>
            </a: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33cc33"/>
                </a:solidFill>
                <a:latin typeface="Verdana"/>
              </a:rPr>
              <a:t>ar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38420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785960" y="142920"/>
            <a:ext cx="657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6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6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181440" y="102960"/>
            <a:ext cx="9325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Verdana"/>
              </a:rPr>
              <a:t>Проверь себя: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95280" y="2133360"/>
            <a:ext cx="4969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he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octo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m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e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rive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e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ilo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teache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y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uden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osmonau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4" name="Picture 15" descr="Картинка 76 из 64000"/>
          <p:cNvPicPr/>
          <p:nvPr/>
        </p:nvPicPr>
        <p:blipFill>
          <a:blip r:embed="rId1"/>
          <a:stretch/>
        </p:blipFill>
        <p:spPr>
          <a:xfrm>
            <a:off x="179280" y="2276640"/>
            <a:ext cx="370836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окращенные формы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071600" y="1643040"/>
            <a:ext cx="5072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am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I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m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 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is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He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s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 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is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She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s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 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It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is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It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s 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We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re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You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r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 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are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They’</a:t>
            </a:r>
            <a:r>
              <a:rPr b="0" lang="en-US" sz="3600" spc="-1" strike="noStrike">
                <a:solidFill>
                  <a:srgbClr val="33cc33"/>
                </a:solidFill>
                <a:latin typeface="Verdana"/>
              </a:rPr>
              <a:t>r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7" name="Picture 8" descr="Картинка 1043 из 64000"/>
          <p:cNvPicPr/>
          <p:nvPr/>
        </p:nvPicPr>
        <p:blipFill>
          <a:blip r:embed="rId1"/>
          <a:stretch/>
        </p:blipFill>
        <p:spPr>
          <a:xfrm>
            <a:off x="0" y="1773360"/>
            <a:ext cx="410832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Источник информации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ttps://www.google.com/search?q=%D0%BA%D0%B0%D1%80%D1%82%D0%B8%D0%BD%D0%BA%D0%B8+%D0%B1%D1%83%D1%80%D0%B0%D1%82%D0%B8%D0%BD%D0%BE+%D0%B8%D0%B7+%D0%BC%D1%83%D0%BB%D1%8C%D1%82%D0%B8%D0%BA%D0%B0&amp;rlz=1C1NHXL_ruRU762RU764&amp;tbm=isch&amp;tbo=u&amp;source=univ&amp;sa=X&amp;ved=2ahUKEwi5jt3Ooe_fAhVPpIsKHUfZDaEQsAR6BAgCEAE&amp;biw=1024&amp;bih=626#imgrc=9S0uWL6TXQU54M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8560" y="102960"/>
            <a:ext cx="7885080" cy="17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br>
              <a:rPr sz="4000"/>
            </a:b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200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7200" spc="-1" strike="noStrike">
                <a:solidFill>
                  <a:srgbClr val="ff3300"/>
                </a:solidFill>
                <a:latin typeface="Verdana"/>
              </a:rPr>
              <a:t>I</a:t>
            </a:r>
            <a:r>
              <a:rPr b="1" lang="en-US" sz="7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am</a:t>
            </a:r>
            <a:r>
              <a:rPr b="1" lang="en-US" sz="7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7200" spc="-1" strike="noStrike">
                <a:solidFill>
                  <a:srgbClr val="000066"/>
                </a:solidFill>
                <a:latin typeface="Verdana"/>
              </a:rPr>
              <a:t>a pupil</a:t>
            </a:r>
            <a:r>
              <a:rPr b="0" lang="ru-RU" sz="72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9" name="Picture 7" descr="188-d2teo"/>
          <p:cNvPicPr/>
          <p:nvPr/>
        </p:nvPicPr>
        <p:blipFill>
          <a:blip r:embed="rId1"/>
          <a:stretch/>
        </p:blipFill>
        <p:spPr>
          <a:xfrm>
            <a:off x="2411280" y="3068640"/>
            <a:ext cx="5256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Verdana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Verdana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Verdana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730872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1" lang="en-US" sz="7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7200" spc="-1" strike="noStrike">
                <a:solidFill>
                  <a:srgbClr val="000066"/>
                </a:solidFill>
                <a:latin typeface="Verdana"/>
              </a:rPr>
              <a:t>a pupil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r>
              <a:rPr b="0" lang="ru-RU" sz="7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ученик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2" name="Picture 10" descr="Картинка 34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2440" y="1557360"/>
            <a:ext cx="29415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Verdana"/>
              </a:rPr>
              <a:t>  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72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1" lang="en-US" sz="7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7200" spc="-1" strike="noStrike">
                <a:solidFill>
                  <a:srgbClr val="000066"/>
                </a:solidFill>
                <a:latin typeface="Verdana"/>
              </a:rPr>
              <a:t>a pupil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ru-RU" sz="6000" spc="-1" strike="noStrike">
                <a:solidFill>
                  <a:srgbClr val="ff0000"/>
                </a:solidFill>
                <a:latin typeface="Verdana"/>
              </a:rPr>
              <a:t>Она</a:t>
            </a:r>
            <a:r>
              <a:rPr b="0" lang="ru-RU" sz="6000" spc="-1" strike="noStrike">
                <a:solidFill>
                  <a:srgbClr val="000066"/>
                </a:solidFill>
                <a:latin typeface="Verdana"/>
              </a:rPr>
              <a:t> ученица 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5" name="Picture 11" descr="Картинка 115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3286080"/>
            <a:ext cx="2233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0099"/>
                </a:solidFill>
                <a:latin typeface="Verdana"/>
              </a:rPr>
              <a:t>   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684720" y="3357720"/>
            <a:ext cx="7417080" cy="30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8000" spc="-1" strike="noStrike">
                <a:solidFill>
                  <a:srgbClr val="ff3300"/>
                </a:solidFill>
                <a:latin typeface="Verdana"/>
              </a:rPr>
              <a:t>It</a:t>
            </a:r>
            <a:r>
              <a:rPr b="1" lang="en-US" sz="8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80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8000" spc="-1" strike="noStrike">
                <a:solidFill>
                  <a:srgbClr val="3333cc"/>
                </a:solidFill>
                <a:latin typeface="Verdana"/>
              </a:rPr>
              <a:t>a dog</a:t>
            </a:r>
            <a:r>
              <a:rPr b="0" lang="ru-RU" sz="80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8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ru-RU" sz="6600" spc="-1" strike="noStrike">
                <a:solidFill>
                  <a:srgbClr val="ff0000"/>
                </a:solidFill>
                <a:latin typeface="Verdana"/>
              </a:rPr>
              <a:t>Это</a:t>
            </a:r>
            <a:r>
              <a:rPr b="0" lang="ru-RU" sz="6600" spc="-1" strike="noStrike">
                <a:solidFill>
                  <a:srgbClr val="3333cc"/>
                </a:solidFill>
                <a:latin typeface="Verdana"/>
              </a:rPr>
              <a:t> с</a:t>
            </a:r>
            <a:r>
              <a:rPr b="0" lang="ru-RU" sz="5400" spc="-1" strike="noStrike">
                <a:solidFill>
                  <a:srgbClr val="3333cc"/>
                </a:solidFill>
                <a:latin typeface="Verdana"/>
              </a:rPr>
              <a:t>О</a:t>
            </a:r>
            <a:r>
              <a:rPr b="0" lang="ru-RU" sz="6600" spc="-1" strike="noStrike">
                <a:solidFill>
                  <a:srgbClr val="3333cc"/>
                </a:solidFill>
                <a:latin typeface="Verdana"/>
              </a:rPr>
              <a:t>бака.</a:t>
            </a: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8" name="Picture 8" descr="Картинка 125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844640"/>
            <a:ext cx="3203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7152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72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7200" spc="-1" strike="noStrike">
                <a:solidFill>
                  <a:srgbClr val="3333cc"/>
                </a:solidFill>
                <a:latin typeface="Verdana"/>
              </a:rPr>
              <a:t>a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7200" spc="-1" strike="noStrike">
                <a:solidFill>
                  <a:srgbClr val="3333cc"/>
                </a:solidFill>
                <a:latin typeface="Verdana"/>
              </a:rPr>
              <a:t>pupil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0" lang="ru-RU" sz="5400" spc="-1" strike="noStrike">
                <a:solidFill>
                  <a:srgbClr val="ff0000"/>
                </a:solidFill>
                <a:latin typeface="Verdana"/>
              </a:rPr>
              <a:t>Ты/Вы</a:t>
            </a:r>
            <a:r>
              <a:rPr b="0" lang="ru-RU" sz="5400" spc="-1" strike="noStrike">
                <a:solidFill>
                  <a:srgbClr val="3333cc"/>
                </a:solidFill>
                <a:latin typeface="Verdana"/>
              </a:rPr>
              <a:t> ученик. </a:t>
            </a:r>
            <a:r>
              <a:rPr b="0" lang="ru-RU" sz="6000" spc="-1" strike="noStrike">
                <a:solidFill>
                  <a:srgbClr val="3333cc"/>
                </a:solidFill>
                <a:latin typeface="Verdana"/>
              </a:rPr>
              <a:t>/и.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-142920" y="2786040"/>
            <a:ext cx="363852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400"/>
            </a:br>
            <a:r>
              <a:rPr b="0" lang="ru-RU" sz="8400" spc="-1" strike="noStrike">
                <a:solidFill>
                  <a:srgbClr val="9999ff"/>
                </a:solidFill>
                <a:latin typeface="Verdana"/>
              </a:rPr>
              <a:t>   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1356840"/>
            <a:ext cx="89298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19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19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Verdana"/>
              </a:rPr>
              <a:t>              </a:t>
            </a:r>
            <a:r>
              <a:rPr b="1" lang="en-US" sz="66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1" lang="en-US" sz="6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66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6600" spc="-1" strike="noStrike">
                <a:solidFill>
                  <a:srgbClr val="3333cc"/>
                </a:solidFill>
                <a:latin typeface="Verdana"/>
              </a:rPr>
              <a:t>pupils.</a:t>
            </a: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  <a:p>
            <a:pPr marL="19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  <a:p>
            <a:pPr marL="19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6600" spc="-1" strike="noStrike">
                <a:solidFill>
                  <a:srgbClr val="ff0000"/>
                </a:solidFill>
                <a:latin typeface="Verdana"/>
              </a:rPr>
              <a:t>Мы</a:t>
            </a:r>
            <a:r>
              <a:rPr b="0" lang="ru-RU" sz="6600" spc="-1" strike="noStrike">
                <a:solidFill>
                  <a:srgbClr val="3333cc"/>
                </a:solidFill>
                <a:latin typeface="Verdana"/>
              </a:rPr>
              <a:t> ученики.</a:t>
            </a: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  <a:p>
            <a:pPr marL="1954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4" name="Picture 8" descr="Картинка 18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3000240"/>
            <a:ext cx="29160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Verdana"/>
              </a:rPr>
              <a:t>  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Глагол « </a:t>
            </a:r>
            <a:r>
              <a:rPr b="0" lang="en-US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o be</a:t>
            </a:r>
            <a:r>
              <a:rPr b="0" lang="ru-RU" sz="7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825804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en-US" sz="72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1" lang="en-US" sz="72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7200" spc="-1" strike="noStrike">
                <a:solidFill>
                  <a:srgbClr val="3333cc"/>
                </a:solidFill>
                <a:latin typeface="Verdana"/>
              </a:rPr>
              <a:t>pupils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ru-RU" sz="7200" spc="-1" strike="noStrike">
                <a:solidFill>
                  <a:srgbClr val="ff0000"/>
                </a:solidFill>
                <a:latin typeface="Verdana"/>
              </a:rPr>
              <a:t>Вы</a:t>
            </a:r>
            <a:r>
              <a:rPr b="0" lang="ru-RU" sz="7200" spc="-1" strike="noStrike">
                <a:solidFill>
                  <a:srgbClr val="3333cc"/>
                </a:solidFill>
                <a:latin typeface="Verdana"/>
              </a:rPr>
              <a:t> ученики.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7" name="Picture 8" descr="Картинка 5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14720" y="3778200"/>
            <a:ext cx="58831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4:58:07Z</dcterms:created>
  <dc:creator>1</dc:creator>
  <dc:description/>
  <dc:language>en-US</dc:language>
  <cp:lastModifiedBy>RePack by Diakov</cp:lastModifiedBy>
  <dcterms:modified xsi:type="dcterms:W3CDTF">2019-12-01T15:56:26Z</dcterms:modified>
  <cp:revision>48</cp:revision>
  <dc:subject/>
  <dc:title>Глагол “to be” в английском языке</dc:title>
</cp:coreProperties>
</file>