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CB3-67B1-400F-960D-A0263E17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A55-BB59-4587-B9C0-C4E98B8F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A39-6E22-43F2-BF76-39350760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BE1-2DD1-4C38-83C2-562213CE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7705-D2E0-40C5-88C4-186017C9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16E1-9127-4D47-B8C0-456BDF15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31DD-0718-4125-B13E-9B8A4D97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DC22-5B41-4F20-9FE7-1C299519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DDB0-34AC-45D4-A40D-BA4542EE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916E-5789-4439-A15F-2A6CE092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1A79-180E-4952-B9AF-C29CE0F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99C-9F69-43A0-B684-8FF51EFE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9CCE-1942-4D0D-ABEA-285EBC4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BC4B-7F22-490F-8069-D829D528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9575-8534-4796-9153-4AFC3A07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C30F-80BD-49D3-9028-1B862F8E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1FD5-5087-4BFA-8686-49F35C1A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6E9-41BD-46FA-B0C5-27753A2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E9D-5ACE-4808-9947-CEEABC0A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B0B-876C-4199-BC00-6B8473A0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E0D-AF7A-46A6-9860-2BE5C567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EFE-C18E-4C24-A4B1-04289AF7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69B-695B-42F5-9E57-DEB3DA1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AEB-5812-4DB6-8227-B4BDB45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643-41BD-4E74-9CFE-FDD0711CE79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5BE8-CC6B-4EE3-966A-ED7DBF43D236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2004840" y="-433440"/>
            <a:ext cx="7340760" cy="371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867280" y="29242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16000" y="492912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рчебасова Елена Юрье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/>
          <p:cNvPicPr/>
          <p:nvPr/>
        </p:nvPicPr>
        <p:blipFill>
          <a:blip r:embed="rId3"/>
          <a:stretch/>
        </p:blipFill>
        <p:spPr>
          <a:xfrm>
            <a:off x="179280" y="692280"/>
            <a:ext cx="4127760" cy="43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4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35280" y="3716280"/>
            <a:ext cx="712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g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36560" y="270000"/>
            <a:ext cx="50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Глагол «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to be</a:t>
            </a: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вопросительном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m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.подлежащее (сущ. или       местоимение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 Дополнение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( сущ., прилаг., числительное)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57200" y="1665360"/>
            <a:ext cx="40384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вопросительном 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7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1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2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.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we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5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6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7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dog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8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they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57200" y="2290680"/>
            <a:ext cx="30351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468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Verdana"/>
              </a:rPr>
              <a:t>Составьте из слов вопросительное предложение: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56000" y="2133360"/>
            <a:ext cx="46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,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i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pilo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teacher,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you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cosmonau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0" y="2214720"/>
            <a:ext cx="4330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81440" y="10296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Проверь себя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9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ilo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teach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cosmonau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179280" y="2276640"/>
            <a:ext cx="37083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RePack by Diakov</cp:lastModifiedBy>
  <dcterms:modified xsi:type="dcterms:W3CDTF">2019-12-01T16:09:49Z</dcterms:modified>
  <cp:revision>29</cp:revision>
  <dc:subject/>
  <dc:title>Глагол “to be” в английском языке</dc:title>
</cp:coreProperties>
</file>