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67E-2EEF-4564-A184-AD7625F2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EDC-E8E3-40E4-AE18-79CF9A81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AF4-B11A-452E-BA68-C133550A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636-FFC8-4CDE-8F84-A24533CF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4CD4-2BC4-49BC-B474-F5B43899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974-DA85-4AF2-BC4C-9E0A043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B85D-845A-481C-83C6-77C0535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C23A-E615-4187-BA9A-3482F59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FDE-4EC4-428A-BDC1-C07B90C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B7A4-B92A-4AB3-AA59-63D4120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1EDF-BC09-4516-BFCF-FF6D24AB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599-0A0D-4590-8A32-3EFB7612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37C-7CF8-4B2B-9E49-DD412E9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EA34-EF5D-40FE-AA91-C48EE8D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3AD2-3D0D-4569-8EF4-DE399700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AB4E-8902-4448-8A20-9772884D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CCB-45F6-4C56-B388-A1B52A7D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5E9-68BC-4D67-92DA-0CDDB461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B08-40A6-4179-9DD3-77977B57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E5F-BE23-466F-AEFE-332B7909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308-6FC4-4B31-A0C6-12D533CB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613-7339-46BA-A629-ECE5392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A61-0ADC-445D-863E-2587170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7F4-FAF1-463D-AAF4-87709E8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FDA-3C4B-49EE-9E4E-24BD7D7ED66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820B-E5A6-4116-85BE-4F8605A90F11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2004840" y="-433440"/>
            <a:ext cx="7340760" cy="371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74b29636946801718e2379564c887d1d.jpg"/>
          <p:cNvPicPr/>
          <p:nvPr/>
        </p:nvPicPr>
        <p:blipFill>
          <a:blip r:embed="rId2"/>
          <a:stretch/>
        </p:blipFill>
        <p:spPr>
          <a:xfrm>
            <a:off x="5867280" y="2924280"/>
            <a:ext cx="2840040" cy="393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40856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16000" y="492912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рчебасова Елена Юрье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9" descr="Картинка 24 из 64000"/>
          <p:cNvPicPr/>
          <p:nvPr/>
        </p:nvPicPr>
        <p:blipFill>
          <a:blip r:embed="rId3"/>
          <a:stretch/>
        </p:blipFill>
        <p:spPr>
          <a:xfrm>
            <a:off x="179280" y="692280"/>
            <a:ext cx="4127760" cy="43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?id=144054370-07"/>
          <p:cNvPicPr/>
          <p:nvPr/>
        </p:nvPicPr>
        <p:blipFill>
          <a:blip r:embed="rId4"/>
          <a:stretch/>
        </p:blipFill>
        <p:spPr>
          <a:xfrm>
            <a:off x="2195640" y="4292640"/>
            <a:ext cx="863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00000" y="112536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На русский язык глагол </a:t>
            </a:r>
            <a:r>
              <a:rPr b="1" lang="ru-RU" sz="2800" spc="-1" strike="noStrike">
                <a:solidFill>
                  <a:srgbClr val="cc0099"/>
                </a:solidFill>
                <a:latin typeface="Constantia"/>
              </a:rPr>
              <a:t>to be</a:t>
            </a: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 переводится как "быть, находиться, есть, существовать, являться"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Этот глагол изменяется по лицам и числам, каждое лицо и число имеет свою форму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835280" y="3716280"/>
            <a:ext cx="712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nstantia"/>
              </a:rPr>
              <a:t>am</a:t>
            </a:r>
            <a:r>
              <a:rPr b="1" lang="en-US" sz="32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W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He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upil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You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It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g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ey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upil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8420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536560" y="270000"/>
            <a:ext cx="503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Глагол « </a:t>
            </a: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to be</a:t>
            </a:r>
            <a:r>
              <a:rPr b="0" lang="ru-RU" sz="5400" spc="-1" strike="noStrike">
                <a:solidFill>
                  <a:srgbClr val="cc0099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</a:t>
            </a:r>
            <a:br>
              <a:rPr sz="4000"/>
            </a:b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m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00b050"/>
                </a:solidFill>
                <a:latin typeface="Verdana"/>
              </a:rPr>
              <a:t>r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.подлежащее (сущ. или       местоимение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 Дополнение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( сущ., прилаг., числительное)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57200" y="1665360"/>
            <a:ext cx="40384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Verdana"/>
              </a:rPr>
              <a:t>Порядок слов в вопросительном  предложении.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0" y="1599840"/>
            <a:ext cx="57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1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2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       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.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we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6. 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7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t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a dog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8.</a:t>
            </a:r>
            <a:r>
              <a:rPr b="0" lang="en-US" sz="3200" spc="-1" strike="noStrike">
                <a:solidFill>
                  <a:srgbClr val="00b050"/>
                </a:solidFill>
                <a:latin typeface="Verdana"/>
              </a:rPr>
              <a:t> A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they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upils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30351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468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99"/>
                </a:solidFill>
                <a:latin typeface="Verdana"/>
              </a:rPr>
              <a:t>Составьте из слов вопросительное предложение: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2133360"/>
            <a:ext cx="46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,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i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pilo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a teacher,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you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cosmonauts,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0" y="2214720"/>
            <a:ext cx="43308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81440" y="102960"/>
            <a:ext cx="9325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99"/>
                </a:solidFill>
                <a:latin typeface="Verdana"/>
              </a:rPr>
              <a:t>Проверь себя: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9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octo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pupil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e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driv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pilo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a teacher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y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uden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b05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cosmonauts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8" name="Picture 15" descr="Картинка 76 из 64000"/>
          <p:cNvPicPr/>
          <p:nvPr/>
        </p:nvPicPr>
        <p:blipFill>
          <a:blip r:embed="rId1"/>
          <a:stretch/>
        </p:blipFill>
        <p:spPr>
          <a:xfrm>
            <a:off x="179280" y="2276640"/>
            <a:ext cx="370836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58:07Z</dcterms:created>
  <dc:creator>1</dc:creator>
  <dc:description/>
  <dc:language>en-US</dc:language>
  <cp:lastModifiedBy>RePack by Diakov</cp:lastModifiedBy>
  <dcterms:modified xsi:type="dcterms:W3CDTF">2019-12-01T16:09:49Z</dcterms:modified>
  <cp:revision>29</cp:revision>
  <dc:subject/>
  <dc:title>Глагол “to be” в английском языке</dc:title>
</cp:coreProperties>
</file>