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1600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1CAB-BF77-4CAA-95DE-B6485F38AA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6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A02F-7D55-4FC3-8758-1BC00FDCC3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6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0D92-37B1-426A-B878-DF59002664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ыводы на эту тему только на основе тестов не сделаеш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BF5-10F8-4C25-B690-A672E78B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2E5-F123-41BC-A9D3-D834B033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DF2C-0C0E-4122-B36D-22DD06FC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F4E-8144-4E01-B5F7-AB473F4F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2A5F-B963-4518-8157-D3AD3788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99C2-28A3-4196-AEAA-F0BC4189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E94D-72D3-43E8-AD41-6AD58E26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C758-EDFC-4820-BC3E-8955D0C4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8734-AFF8-4F03-BBC4-BFD71D42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15A9-671A-4105-BFE8-0B8D1106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99E0-976B-47D5-9B85-2661EE54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FE4-DDD1-4000-9314-51AB6032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C262-E5C7-4B85-98A8-F060EF97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818E-744C-4425-9933-B0781B61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1BC0-D11D-499A-B4D9-4D45A78D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AF26-4F8E-482B-BC33-BF2B9505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2858-38E6-41DC-A0C6-66596BF4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AF9-C76E-4407-8673-EA3FC0EB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DDD-7B84-40F2-89D8-34BB3EA6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D97-92B0-431C-8B5C-F2881E97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3F2-E340-495E-B62C-85895FA1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E941-6672-4BA0-9911-757F1997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6CFD-7392-49C1-B180-4786EB20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8F5-EEF2-4136-A706-49A17CC3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8DA8-4FFB-44C8-8148-D112E0E1F8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EFEE-32E0-4D65-BE02-1EAE663CAC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1152000"/>
            <a:ext cx="6840360" cy="21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Использование технологии развития критического мышления</a:t>
            </a:r>
            <a:br>
              <a:rPr sz="4400"/>
            </a:b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ТРИЗ-технологий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BFE2-9636-41CF-8AB2-C6372FDD83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33"/>
                </a:solidFill>
                <a:latin typeface="Times New Roman"/>
              </a:rPr>
              <a:t>Стратегия «Инсерт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2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(«Условные значки») (1)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628280"/>
            <a:ext cx="8055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916280"/>
          <a:ext cx="8532720" cy="2952720"/>
        </p:xfrm>
        <a:graphic>
          <a:graphicData uri="http://schemas.openxmlformats.org/drawingml/2006/table">
            <a:tbl>
              <a:tblPr/>
              <a:tblGrid>
                <a:gridCol w="2114280"/>
                <a:gridCol w="3397320"/>
                <a:gridCol w="3021120"/>
              </a:tblGrid>
              <a:tr h="29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ter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ot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yste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ffe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reading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thinking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самоактивизирующая (диалоговая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системная разметк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для эффективног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чтения 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размыш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– уже з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– н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– думал инач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– есть 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456F-05EC-4568-B41C-D3F05CF2862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86760" y="34992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Стратегия «Инсерт»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(«Условные значки») (1)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11280" y="1484280"/>
          <a:ext cx="8064360" cy="3379680"/>
        </p:xfrm>
        <a:graphic>
          <a:graphicData uri="http://schemas.openxmlformats.org/drawingml/2006/table">
            <a:tbl>
              <a:tblPr/>
              <a:tblGrid>
                <a:gridCol w="2178000"/>
                <a:gridCol w="588636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ючевые сл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AutoShape 47"/>
          <p:cNvSpPr/>
          <p:nvPr/>
        </p:nvSpPr>
        <p:spPr>
          <a:xfrm>
            <a:off x="8389800" y="40464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10800" y="383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87">
                <a:moveTo>
                  <a:pt x="10800" y="4211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87">
                <a:moveTo>
                  <a:pt x="8224" y="8267"/>
                </a:moveTo>
                <a:lnTo>
                  <a:pt x="12088" y="8267"/>
                </a:lnTo>
                <a:lnTo>
                  <a:pt x="12088" y="15265"/>
                </a:lnTo>
                <a:lnTo>
                  <a:pt x="13376" y="15265"/>
                </a:lnTo>
                <a:lnTo>
                  <a:pt x="13376" y="16187"/>
                </a:lnTo>
                <a:lnTo>
                  <a:pt x="8224" y="16187"/>
                </a:lnTo>
                <a:lnTo>
                  <a:pt x="8224" y="15265"/>
                </a:lnTo>
                <a:lnTo>
                  <a:pt x="9512" y="15265"/>
                </a:lnTo>
                <a:lnTo>
                  <a:pt x="9512" y="9172"/>
                </a:lnTo>
                <a:lnTo>
                  <a:pt x="8224" y="9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FB20-5785-4FCC-93F5-BDB752FB8B2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Графические организаторы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«Кластеры» (1)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83059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ение смысловых единиц текста и их графическое оформление в определенном порядке в виде гроз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Важно в тексте, с которым работаеш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ть главную смысловую единицу в виде ключевого слова или словосочетания (тем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ть связанные с ключевым словом смысловые единицы (категорий информа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ретизировать категории мнениями и фактами, которые содержаться в осваиваем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5164-2A27-4817-9303-54304F51E48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1476360" y="1557360"/>
            <a:ext cx="6348600" cy="4393800"/>
            <a:chOff x="1476360" y="1557360"/>
            <a:chExt cx="6348600" cy="4393800"/>
          </a:xfrm>
        </p:grpSpPr>
        <p:sp>
          <p:nvSpPr>
            <p:cNvPr id="144" name="Oval 6"/>
            <p:cNvSpPr/>
            <p:nvPr/>
          </p:nvSpPr>
          <p:spPr>
            <a:xfrm>
              <a:off x="3838680" y="3327480"/>
              <a:ext cx="1476360" cy="7574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лючевое сло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1919160" y="2266920"/>
              <a:ext cx="1771560" cy="454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8"/>
            <p:cNvSpPr/>
            <p:nvPr/>
          </p:nvSpPr>
          <p:spPr>
            <a:xfrm>
              <a:off x="1919160" y="4691520"/>
              <a:ext cx="1771560" cy="454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5462640" y="4691520"/>
              <a:ext cx="1771560" cy="454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0"/>
            <p:cNvSpPr/>
            <p:nvPr/>
          </p:nvSpPr>
          <p:spPr>
            <a:xfrm>
              <a:off x="5167080" y="2266920"/>
              <a:ext cx="1771560" cy="454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1"/>
            <p:cNvSpPr/>
            <p:nvPr/>
          </p:nvSpPr>
          <p:spPr>
            <a:xfrm>
              <a:off x="1771560" y="292104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2"/>
            <p:cNvSpPr/>
            <p:nvPr/>
          </p:nvSpPr>
          <p:spPr>
            <a:xfrm>
              <a:off x="1476360" y="352692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3"/>
            <p:cNvSpPr/>
            <p:nvPr/>
          </p:nvSpPr>
          <p:spPr>
            <a:xfrm>
              <a:off x="3235680" y="542124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4"/>
            <p:cNvSpPr/>
            <p:nvPr/>
          </p:nvSpPr>
          <p:spPr>
            <a:xfrm>
              <a:off x="1919160" y="534528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"/>
            <p:cNvSpPr/>
            <p:nvPr/>
          </p:nvSpPr>
          <p:spPr>
            <a:xfrm>
              <a:off x="4576680" y="549684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6"/>
            <p:cNvSpPr/>
            <p:nvPr/>
          </p:nvSpPr>
          <p:spPr>
            <a:xfrm>
              <a:off x="4871880" y="489096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7"/>
            <p:cNvSpPr/>
            <p:nvPr/>
          </p:nvSpPr>
          <p:spPr>
            <a:xfrm>
              <a:off x="6348240" y="549684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8"/>
            <p:cNvSpPr/>
            <p:nvPr/>
          </p:nvSpPr>
          <p:spPr>
            <a:xfrm>
              <a:off x="7382160" y="261792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9"/>
            <p:cNvSpPr/>
            <p:nvPr/>
          </p:nvSpPr>
          <p:spPr>
            <a:xfrm>
              <a:off x="4133880" y="246636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0"/>
            <p:cNvSpPr/>
            <p:nvPr/>
          </p:nvSpPr>
          <p:spPr>
            <a:xfrm>
              <a:off x="4576680" y="186048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1"/>
            <p:cNvSpPr/>
            <p:nvPr/>
          </p:nvSpPr>
          <p:spPr>
            <a:xfrm>
              <a:off x="6643800" y="1557360"/>
              <a:ext cx="442800" cy="454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2"/>
            <p:cNvSpPr/>
            <p:nvPr/>
          </p:nvSpPr>
          <p:spPr>
            <a:xfrm>
              <a:off x="3838680" y="201204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3"/>
            <p:cNvSpPr/>
            <p:nvPr/>
          </p:nvSpPr>
          <p:spPr>
            <a:xfrm>
              <a:off x="3543120" y="2617920"/>
              <a:ext cx="738000" cy="7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4"/>
            <p:cNvSpPr/>
            <p:nvPr/>
          </p:nvSpPr>
          <p:spPr>
            <a:xfrm flipH="1">
              <a:off x="4871880" y="2617920"/>
              <a:ext cx="442800" cy="7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5167080" y="3981600"/>
              <a:ext cx="885960" cy="7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H="1">
              <a:off x="3247920" y="3981600"/>
              <a:ext cx="885600" cy="7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066400" y="2617920"/>
              <a:ext cx="147240" cy="30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8"/>
            <p:cNvSpPr/>
            <p:nvPr/>
          </p:nvSpPr>
          <p:spPr>
            <a:xfrm flipH="1">
              <a:off x="1771560" y="3375360"/>
              <a:ext cx="14760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 flipV="1">
              <a:off x="3543120" y="2162880"/>
              <a:ext cx="29520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0"/>
            <p:cNvSpPr/>
            <p:nvPr/>
          </p:nvSpPr>
          <p:spPr>
            <a:xfrm>
              <a:off x="3690720" y="2466360"/>
              <a:ext cx="44280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31"/>
            <p:cNvSpPr/>
            <p:nvPr/>
          </p:nvSpPr>
          <p:spPr>
            <a:xfrm>
              <a:off x="5019840" y="2163240"/>
              <a:ext cx="29520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2"/>
            <p:cNvSpPr/>
            <p:nvPr/>
          </p:nvSpPr>
          <p:spPr>
            <a:xfrm flipH="1">
              <a:off x="6643800" y="2012040"/>
              <a:ext cx="147600" cy="30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3"/>
            <p:cNvSpPr/>
            <p:nvPr/>
          </p:nvSpPr>
          <p:spPr>
            <a:xfrm flipH="1" flipV="1">
              <a:off x="6939000" y="2617920"/>
              <a:ext cx="442800" cy="1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34"/>
            <p:cNvSpPr/>
            <p:nvPr/>
          </p:nvSpPr>
          <p:spPr>
            <a:xfrm flipH="1">
              <a:off x="2041920" y="5067720"/>
              <a:ext cx="14760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5"/>
            <p:cNvSpPr/>
            <p:nvPr/>
          </p:nvSpPr>
          <p:spPr>
            <a:xfrm flipV="1">
              <a:off x="5315040" y="4890600"/>
              <a:ext cx="14760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6"/>
            <p:cNvSpPr/>
            <p:nvPr/>
          </p:nvSpPr>
          <p:spPr>
            <a:xfrm flipV="1">
              <a:off x="4871880" y="5344920"/>
              <a:ext cx="14760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7"/>
            <p:cNvSpPr/>
            <p:nvPr/>
          </p:nvSpPr>
          <p:spPr>
            <a:xfrm>
              <a:off x="6570000" y="518112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8"/>
            <p:cNvSpPr/>
            <p:nvPr/>
          </p:nvSpPr>
          <p:spPr>
            <a:xfrm>
              <a:off x="3247920" y="5136840"/>
              <a:ext cx="147240" cy="30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 txBox="1"/>
          <p:nvPr/>
        </p:nvSpPr>
        <p:spPr>
          <a:xfrm>
            <a:off x="986760" y="34992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Графические организаторы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«Кластеры» (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AutoShape 44"/>
          <p:cNvSpPr/>
          <p:nvPr/>
        </p:nvSpPr>
        <p:spPr>
          <a:xfrm>
            <a:off x="8389800" y="40464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10800" y="383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87">
                <a:moveTo>
                  <a:pt x="10800" y="4211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87">
                <a:moveTo>
                  <a:pt x="8224" y="8267"/>
                </a:moveTo>
                <a:lnTo>
                  <a:pt x="12088" y="8267"/>
                </a:lnTo>
                <a:lnTo>
                  <a:pt x="12088" y="15265"/>
                </a:lnTo>
                <a:lnTo>
                  <a:pt x="13376" y="15265"/>
                </a:lnTo>
                <a:lnTo>
                  <a:pt x="13376" y="16187"/>
                </a:lnTo>
                <a:lnTo>
                  <a:pt x="8224" y="16187"/>
                </a:lnTo>
                <a:lnTo>
                  <a:pt x="8224" y="15265"/>
                </a:lnTo>
                <a:lnTo>
                  <a:pt x="9512" y="15265"/>
                </a:lnTo>
                <a:lnTo>
                  <a:pt x="9512" y="9172"/>
                </a:lnTo>
                <a:lnTo>
                  <a:pt x="8224" y="9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5">
            <a:hlinkClick r:id="rId1" action="ppaction://hlinksldjump"/>
          </p:cNvPr>
          <p:cNvSpPr/>
          <p:nvPr/>
        </p:nvSpPr>
        <p:spPr>
          <a:xfrm>
            <a:off x="838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843B-E139-4593-9B90-37412F21CD5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43"/>
          <p:cNvGrpSpPr/>
          <p:nvPr/>
        </p:nvGrpSpPr>
        <p:grpSpPr>
          <a:xfrm>
            <a:off x="900000" y="1700280"/>
            <a:ext cx="7487640" cy="4320720"/>
            <a:chOff x="900000" y="1700280"/>
            <a:chExt cx="7487640" cy="4320720"/>
          </a:xfrm>
        </p:grpSpPr>
        <p:sp>
          <p:nvSpPr>
            <p:cNvPr id="182" name="Oval 3"/>
            <p:cNvSpPr/>
            <p:nvPr/>
          </p:nvSpPr>
          <p:spPr>
            <a:xfrm>
              <a:off x="3107520" y="3440880"/>
              <a:ext cx="3057480" cy="1120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бразовательный проце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4"/>
            <p:cNvSpPr/>
            <p:nvPr/>
          </p:nvSpPr>
          <p:spPr>
            <a:xfrm>
              <a:off x="1422360" y="2397960"/>
              <a:ext cx="2089440" cy="81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част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5"/>
            <p:cNvSpPr/>
            <p:nvPr/>
          </p:nvSpPr>
          <p:spPr>
            <a:xfrm>
              <a:off x="1422360" y="4419720"/>
              <a:ext cx="2089440" cy="8096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ет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6"/>
            <p:cNvSpPr/>
            <p:nvPr/>
          </p:nvSpPr>
          <p:spPr>
            <a:xfrm>
              <a:off x="5601600" y="4489560"/>
              <a:ext cx="2177640" cy="739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едметные обла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7"/>
            <p:cNvSpPr/>
            <p:nvPr/>
          </p:nvSpPr>
          <p:spPr>
            <a:xfrm>
              <a:off x="5253480" y="2397960"/>
              <a:ext cx="2089440" cy="81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одерж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"/>
            <p:cNvSpPr/>
            <p:nvPr/>
          </p:nvSpPr>
          <p:spPr>
            <a:xfrm>
              <a:off x="1248120" y="3041280"/>
              <a:ext cx="522360" cy="446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9"/>
            <p:cNvSpPr/>
            <p:nvPr/>
          </p:nvSpPr>
          <p:spPr>
            <a:xfrm>
              <a:off x="900000" y="3637440"/>
              <a:ext cx="522360" cy="446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0"/>
            <p:cNvSpPr/>
            <p:nvPr/>
          </p:nvSpPr>
          <p:spPr>
            <a:xfrm>
              <a:off x="2974680" y="5499720"/>
              <a:ext cx="522000" cy="446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1"/>
            <p:cNvSpPr/>
            <p:nvPr/>
          </p:nvSpPr>
          <p:spPr>
            <a:xfrm>
              <a:off x="1422360" y="5424840"/>
              <a:ext cx="522000" cy="447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2"/>
            <p:cNvSpPr/>
            <p:nvPr/>
          </p:nvSpPr>
          <p:spPr>
            <a:xfrm>
              <a:off x="4556880" y="5574600"/>
              <a:ext cx="522360" cy="446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3"/>
            <p:cNvSpPr/>
            <p:nvPr/>
          </p:nvSpPr>
          <p:spPr>
            <a:xfrm>
              <a:off x="4905360" y="4978440"/>
              <a:ext cx="522000" cy="446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4"/>
            <p:cNvSpPr/>
            <p:nvPr/>
          </p:nvSpPr>
          <p:spPr>
            <a:xfrm>
              <a:off x="6646680" y="5574600"/>
              <a:ext cx="522000" cy="446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5"/>
            <p:cNvSpPr/>
            <p:nvPr/>
          </p:nvSpPr>
          <p:spPr>
            <a:xfrm>
              <a:off x="7865280" y="2743200"/>
              <a:ext cx="522360" cy="446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6"/>
            <p:cNvSpPr/>
            <p:nvPr/>
          </p:nvSpPr>
          <p:spPr>
            <a:xfrm>
              <a:off x="4034520" y="2594520"/>
              <a:ext cx="522000" cy="446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7"/>
            <p:cNvSpPr/>
            <p:nvPr/>
          </p:nvSpPr>
          <p:spPr>
            <a:xfrm>
              <a:off x="4556880" y="1998000"/>
              <a:ext cx="522360" cy="446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8"/>
            <p:cNvSpPr/>
            <p:nvPr/>
          </p:nvSpPr>
          <p:spPr>
            <a:xfrm>
              <a:off x="6994800" y="1700280"/>
              <a:ext cx="522000" cy="446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9"/>
            <p:cNvSpPr/>
            <p:nvPr/>
          </p:nvSpPr>
          <p:spPr>
            <a:xfrm>
              <a:off x="3686400" y="2146680"/>
              <a:ext cx="522000" cy="447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0"/>
            <p:cNvSpPr/>
            <p:nvPr/>
          </p:nvSpPr>
          <p:spPr>
            <a:xfrm>
              <a:off x="3337920" y="2743200"/>
              <a:ext cx="87048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1"/>
            <p:cNvSpPr/>
            <p:nvPr/>
          </p:nvSpPr>
          <p:spPr>
            <a:xfrm flipH="1">
              <a:off x="4905360" y="2743200"/>
              <a:ext cx="52200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2"/>
            <p:cNvSpPr/>
            <p:nvPr/>
          </p:nvSpPr>
          <p:spPr>
            <a:xfrm>
              <a:off x="5253480" y="4084200"/>
              <a:ext cx="104436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3"/>
            <p:cNvSpPr/>
            <p:nvPr/>
          </p:nvSpPr>
          <p:spPr>
            <a:xfrm flipH="1">
              <a:off x="2989440" y="4084200"/>
              <a:ext cx="1044720" cy="74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4"/>
            <p:cNvSpPr/>
            <p:nvPr/>
          </p:nvSpPr>
          <p:spPr>
            <a:xfrm flipH="1">
              <a:off x="1596240" y="2743200"/>
              <a:ext cx="173880" cy="29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5"/>
            <p:cNvSpPr/>
            <p:nvPr/>
          </p:nvSpPr>
          <p:spPr>
            <a:xfrm flipH="1">
              <a:off x="1248120" y="3487680"/>
              <a:ext cx="17424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6"/>
            <p:cNvSpPr/>
            <p:nvPr/>
          </p:nvSpPr>
          <p:spPr>
            <a:xfrm flipV="1">
              <a:off x="3337920" y="2296080"/>
              <a:ext cx="34812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3512160" y="2594520"/>
              <a:ext cx="52200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8"/>
            <p:cNvSpPr/>
            <p:nvPr/>
          </p:nvSpPr>
          <p:spPr>
            <a:xfrm>
              <a:off x="5079600" y="2296080"/>
              <a:ext cx="34812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9"/>
            <p:cNvSpPr/>
            <p:nvPr/>
          </p:nvSpPr>
          <p:spPr>
            <a:xfrm flipH="1">
              <a:off x="6994440" y="2146680"/>
              <a:ext cx="173880" cy="29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0"/>
            <p:cNvSpPr/>
            <p:nvPr/>
          </p:nvSpPr>
          <p:spPr>
            <a:xfrm flipH="1" flipV="1">
              <a:off x="7343280" y="2742840"/>
              <a:ext cx="52200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1"/>
            <p:cNvSpPr/>
            <p:nvPr/>
          </p:nvSpPr>
          <p:spPr>
            <a:xfrm flipH="1">
              <a:off x="1568160" y="5151600"/>
              <a:ext cx="174240" cy="29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2"/>
            <p:cNvSpPr/>
            <p:nvPr/>
          </p:nvSpPr>
          <p:spPr>
            <a:xfrm flipV="1">
              <a:off x="5427720" y="4978440"/>
              <a:ext cx="17388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3"/>
            <p:cNvSpPr/>
            <p:nvPr/>
          </p:nvSpPr>
          <p:spPr>
            <a:xfrm flipV="1">
              <a:off x="4905360" y="5424840"/>
              <a:ext cx="173880" cy="14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>
              <a:off x="6908760" y="5263920"/>
              <a:ext cx="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5"/>
            <p:cNvSpPr/>
            <p:nvPr/>
          </p:nvSpPr>
          <p:spPr>
            <a:xfrm>
              <a:off x="2989440" y="5220360"/>
              <a:ext cx="174240" cy="29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 txBox="1"/>
          <p:nvPr/>
        </p:nvSpPr>
        <p:spPr>
          <a:xfrm>
            <a:off x="986760" y="34992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Пример: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AutoShape 40"/>
          <p:cNvSpPr/>
          <p:nvPr/>
        </p:nvSpPr>
        <p:spPr>
          <a:xfrm>
            <a:off x="8389800" y="40464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10800" y="383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87">
                <a:moveTo>
                  <a:pt x="10800" y="4211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87">
                <a:moveTo>
                  <a:pt x="8224" y="8267"/>
                </a:moveTo>
                <a:lnTo>
                  <a:pt x="12088" y="8267"/>
                </a:lnTo>
                <a:lnTo>
                  <a:pt x="12088" y="15265"/>
                </a:lnTo>
                <a:lnTo>
                  <a:pt x="13376" y="15265"/>
                </a:lnTo>
                <a:lnTo>
                  <a:pt x="13376" y="16187"/>
                </a:lnTo>
                <a:lnTo>
                  <a:pt x="8224" y="16187"/>
                </a:lnTo>
                <a:lnTo>
                  <a:pt x="8224" y="15265"/>
                </a:lnTo>
                <a:lnTo>
                  <a:pt x="9512" y="15265"/>
                </a:lnTo>
                <a:lnTo>
                  <a:pt x="9512" y="9172"/>
                </a:lnTo>
                <a:lnTo>
                  <a:pt x="8224" y="9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2">
            <a:hlinkClick r:id="rId1" action="ppaction://hlinksldjump"/>
          </p:cNvPr>
          <p:cNvSpPr/>
          <p:nvPr/>
        </p:nvSpPr>
        <p:spPr>
          <a:xfrm>
            <a:off x="838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030a0"/>
                </a:solidFill>
                <a:latin typeface="a_CampusOtl3DShad"/>
              </a:rPr>
              <a:t>Кластеры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3"/>
          <p:cNvSpPr/>
          <p:nvPr/>
        </p:nvSpPr>
        <p:spPr>
          <a:xfrm>
            <a:off x="3429000" y="1643040"/>
            <a:ext cx="1700280" cy="8571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4"/>
          <p:cNvSpPr/>
          <p:nvPr/>
        </p:nvSpPr>
        <p:spPr>
          <a:xfrm>
            <a:off x="1357200" y="2286000"/>
            <a:ext cx="1843200" cy="9144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5"/>
          <p:cNvSpPr/>
          <p:nvPr/>
        </p:nvSpPr>
        <p:spPr>
          <a:xfrm>
            <a:off x="5357880" y="3357720"/>
            <a:ext cx="1785960" cy="8571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гла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6"/>
          <p:cNvSpPr/>
          <p:nvPr/>
        </p:nvSpPr>
        <p:spPr>
          <a:xfrm>
            <a:off x="214200" y="3643200"/>
            <a:ext cx="1571760" cy="4287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уда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7"/>
          <p:cNvSpPr/>
          <p:nvPr/>
        </p:nvSpPr>
        <p:spPr>
          <a:xfrm>
            <a:off x="1928880" y="3643200"/>
            <a:ext cx="2000160" cy="5000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безуда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8"/>
          <p:cNvSpPr/>
          <p:nvPr/>
        </p:nvSpPr>
        <p:spPr>
          <a:xfrm>
            <a:off x="4214880" y="4572000"/>
            <a:ext cx="1714320" cy="428760"/>
          </a:xfrm>
          <a:prstGeom prst="ellipse">
            <a:avLst/>
          </a:prstGeom>
          <a:solidFill>
            <a:srgbClr val="ad00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соно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9"/>
          <p:cNvSpPr/>
          <p:nvPr/>
        </p:nvSpPr>
        <p:spPr>
          <a:xfrm>
            <a:off x="6572160" y="4572000"/>
            <a:ext cx="1486080" cy="428760"/>
          </a:xfrm>
          <a:prstGeom prst="ellipse">
            <a:avLst/>
          </a:prstGeom>
          <a:solidFill>
            <a:srgbClr val="ad00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шу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0"/>
          <p:cNvSpPr/>
          <p:nvPr/>
        </p:nvSpPr>
        <p:spPr>
          <a:xfrm>
            <a:off x="5715000" y="2643120"/>
            <a:ext cx="1428840" cy="357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твёрд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11"/>
          <p:cNvSpPr/>
          <p:nvPr/>
        </p:nvSpPr>
        <p:spPr>
          <a:xfrm>
            <a:off x="7358040" y="2643120"/>
            <a:ext cx="1414440" cy="357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мяг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вал 12"/>
          <p:cNvSpPr/>
          <p:nvPr/>
        </p:nvSpPr>
        <p:spPr>
          <a:xfrm>
            <a:off x="5000760" y="5572080"/>
            <a:ext cx="1571400" cy="3571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звон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13"/>
          <p:cNvSpPr/>
          <p:nvPr/>
        </p:nvSpPr>
        <p:spPr>
          <a:xfrm>
            <a:off x="7072200" y="5500800"/>
            <a:ext cx="1414440" cy="3571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глух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Прямая со стрелкой 15"/>
          <p:cNvCxnSpPr>
            <a:stCxn id="220" idx="2"/>
            <a:endCxn id="221" idx="7"/>
          </p:cNvCxnSpPr>
          <p:nvPr/>
        </p:nvCxnSpPr>
        <p:spPr>
          <a:xfrm flipH="1">
            <a:off x="2929680" y="2070720"/>
            <a:ext cx="499320" cy="34776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32" name="Прямая со стрелкой 17"/>
          <p:cNvCxnSpPr>
            <a:stCxn id="220" idx="5"/>
            <a:endCxn id="222" idx="1"/>
          </p:cNvCxnSpPr>
          <p:nvPr/>
        </p:nvCxnSpPr>
        <p:spPr>
          <a:xfrm>
            <a:off x="4878720" y="2374920"/>
            <a:ext cx="740520" cy="110880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33" name="Прямая со стрелкой 21"/>
          <p:cNvCxnSpPr>
            <a:stCxn id="221" idx="3"/>
            <a:endCxn id="223" idx="0"/>
          </p:cNvCxnSpPr>
          <p:nvPr/>
        </p:nvCxnSpPr>
        <p:spPr>
          <a:xfrm flipH="1">
            <a:off x="999720" y="3067200"/>
            <a:ext cx="627840" cy="57636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34" name="Прямая со стрелкой 23"/>
          <p:cNvCxnSpPr>
            <a:stCxn id="221" idx="5"/>
            <a:endCxn id="224" idx="7"/>
          </p:cNvCxnSpPr>
          <p:nvPr/>
        </p:nvCxnSpPr>
        <p:spPr>
          <a:xfrm>
            <a:off x="2930400" y="3066840"/>
            <a:ext cx="705240" cy="64980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35" name="Прямая со стрелкой 26"/>
          <p:cNvCxnSpPr>
            <a:stCxn id="222" idx="7"/>
            <a:endCxn id="227" idx="4"/>
          </p:cNvCxnSpPr>
          <p:nvPr/>
        </p:nvCxnSpPr>
        <p:spPr>
          <a:xfrm flipH="1" flipV="1">
            <a:off x="6428520" y="2999520"/>
            <a:ext cx="453240" cy="4834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36" name="Прямая со стрелкой 29"/>
          <p:cNvCxnSpPr>
            <a:stCxn id="222" idx="7"/>
            <a:endCxn id="228" idx="3"/>
          </p:cNvCxnSpPr>
          <p:nvPr/>
        </p:nvCxnSpPr>
        <p:spPr>
          <a:xfrm flipV="1">
            <a:off x="6881760" y="2947680"/>
            <a:ext cx="682920" cy="5356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37" name="Прямая со стрелкой 31"/>
          <p:cNvCxnSpPr>
            <a:stCxn id="222" idx="3"/>
            <a:endCxn id="225" idx="0"/>
          </p:cNvCxnSpPr>
          <p:nvPr/>
        </p:nvCxnSpPr>
        <p:spPr>
          <a:xfrm flipH="1">
            <a:off x="5071320" y="4088880"/>
            <a:ext cx="548280" cy="4834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38" name="Прямая со стрелкой 33"/>
          <p:cNvCxnSpPr>
            <a:stCxn id="222" idx="5"/>
            <a:endCxn id="226" idx="0"/>
          </p:cNvCxnSpPr>
          <p:nvPr/>
        </p:nvCxnSpPr>
        <p:spPr>
          <a:xfrm>
            <a:off x="6881760" y="4088880"/>
            <a:ext cx="434160" cy="4834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39" name="Прямая со стрелкой 35"/>
          <p:cNvCxnSpPr>
            <a:stCxn id="226" idx="3"/>
            <a:endCxn id="229" idx="0"/>
          </p:cNvCxnSpPr>
          <p:nvPr/>
        </p:nvCxnSpPr>
        <p:spPr>
          <a:xfrm flipH="1">
            <a:off x="5785920" y="4937040"/>
            <a:ext cx="1003680" cy="63576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40" name="Прямая со стрелкой 37"/>
          <p:cNvCxnSpPr>
            <a:stCxn id="226" idx="5"/>
            <a:endCxn id="230" idx="7"/>
          </p:cNvCxnSpPr>
          <p:nvPr/>
        </p:nvCxnSpPr>
        <p:spPr>
          <a:xfrm>
            <a:off x="7839720" y="4936680"/>
            <a:ext cx="440280" cy="6166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sp>
        <p:nvSpPr>
          <p:cNvPr id="241" name="Содержимое 2"/>
          <p:cNvSpPr/>
          <p:nvPr/>
        </p:nvSpPr>
        <p:spPr>
          <a:xfrm>
            <a:off x="214200" y="1500120"/>
            <a:ext cx="8658360" cy="46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одержимое 2"/>
          <p:cNvSpPr/>
          <p:nvPr/>
        </p:nvSpPr>
        <p:spPr>
          <a:xfrm>
            <a:off x="366840" y="1652760"/>
            <a:ext cx="8658000" cy="46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одержимое 2"/>
          <p:cNvSpPr/>
          <p:nvPr/>
        </p:nvSpPr>
        <p:spPr>
          <a:xfrm>
            <a:off x="142920" y="1643040"/>
            <a:ext cx="8786880" cy="46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одержимое 2"/>
          <p:cNvSpPr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одержимое 2"/>
          <p:cNvSpPr/>
          <p:nvPr/>
        </p:nvSpPr>
        <p:spPr>
          <a:xfrm>
            <a:off x="652320" y="1724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одержимое 2"/>
          <p:cNvSpPr/>
          <p:nvPr/>
        </p:nvSpPr>
        <p:spPr>
          <a:xfrm>
            <a:off x="6429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9A4B-173C-4482-AA97-57158373776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7720" y="1628640"/>
            <a:ext cx="8055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от лат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noto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обозначаю и греч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apho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пишу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особ выделения из текста существенных признаков понят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ru-RU" sz="2500" spc="-1" strike="noStrike" u="sng">
                <a:solidFill>
                  <a:srgbClr val="330033"/>
                </a:solidFill>
                <a:uFillTx/>
                <a:latin typeface="Arial"/>
              </a:rPr>
              <a:t>Методика построения денотатного графа</a:t>
            </a:r>
            <a:r>
              <a:rPr b="1" lang="ru-RU" sz="2500" spc="-1" strike="noStrike">
                <a:solidFill>
                  <a:srgbClr val="330033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деление ключевого слова или словосочетан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ередование имени и глагола в графе (именем может быть одно существительное или группа существительных в сочетании с другими именными частями речи; глагол выражает динамику мысли, движение от понятия к его существенному признаку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86760" y="34992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Графические организаторы: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«Денотатный граф»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(1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9E74-D561-4CC8-9B40-4DCCA6C35F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ый выбор глагола, связывающего ключевое понятие и его существенный признак (глаголы, обозначающие цель – направлять, предполагать, приводить, давать и т.д.: глаголы, обозначающие процесс достижения результата – достигать, осуществляться; глаголы, обозначающие предпосылки достижения результата – основываться, опираться, базироваться; глаголы-связки, с помощью которых осуществляется выход на определение значения понят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обление ключевого слова по мере построения графа на слова – "веточки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есение каждого слова "веточки" с ключевым словом с целью исключения каких-либо несоответствий, противоречий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86760" y="34992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Графические организаторы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«Денотатный граф»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(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8389800" y="40464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10800" y="383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87">
                <a:moveTo>
                  <a:pt x="10800" y="4211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87">
                <a:moveTo>
                  <a:pt x="8224" y="8267"/>
                </a:moveTo>
                <a:lnTo>
                  <a:pt x="12088" y="8267"/>
                </a:lnTo>
                <a:lnTo>
                  <a:pt x="12088" y="15265"/>
                </a:lnTo>
                <a:lnTo>
                  <a:pt x="13376" y="15265"/>
                </a:lnTo>
                <a:lnTo>
                  <a:pt x="13376" y="16187"/>
                </a:lnTo>
                <a:lnTo>
                  <a:pt x="8224" y="16187"/>
                </a:lnTo>
                <a:lnTo>
                  <a:pt x="8224" y="15265"/>
                </a:lnTo>
                <a:lnTo>
                  <a:pt x="9512" y="15265"/>
                </a:lnTo>
                <a:lnTo>
                  <a:pt x="9512" y="9172"/>
                </a:lnTo>
                <a:lnTo>
                  <a:pt x="8224" y="9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>
            <a:hlinkClick r:id="rId1" action="ppaction://hlinksldjump"/>
          </p:cNvPr>
          <p:cNvSpPr/>
          <p:nvPr/>
        </p:nvSpPr>
        <p:spPr>
          <a:xfrm>
            <a:off x="838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DFA5-F804-4294-84B1-54F534E3C6F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611280" y="1484280"/>
            <a:ext cx="8253000" cy="5329440"/>
            <a:chOff x="611280" y="1484280"/>
            <a:chExt cx="8253000" cy="5329440"/>
          </a:xfrm>
        </p:grpSpPr>
        <p:sp>
          <p:nvSpPr>
            <p:cNvPr id="257" name="Text Box 5"/>
            <p:cNvSpPr/>
            <p:nvPr/>
          </p:nvSpPr>
          <p:spPr>
            <a:xfrm>
              <a:off x="3043800" y="1484280"/>
              <a:ext cx="3475080" cy="56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едагогическая информационная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техн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6"/>
            <p:cNvSpPr/>
            <p:nvPr/>
          </p:nvSpPr>
          <p:spPr>
            <a:xfrm>
              <a:off x="611280" y="2419200"/>
              <a:ext cx="1476720" cy="28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формиру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7"/>
            <p:cNvSpPr/>
            <p:nvPr/>
          </p:nvSpPr>
          <p:spPr>
            <a:xfrm>
              <a:off x="2348640" y="2419200"/>
              <a:ext cx="1476720" cy="28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ключа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8"/>
            <p:cNvSpPr/>
            <p:nvPr/>
          </p:nvSpPr>
          <p:spPr>
            <a:xfrm>
              <a:off x="4086360" y="2419200"/>
              <a:ext cx="1476720" cy="28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развива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9"/>
            <p:cNvSpPr/>
            <p:nvPr/>
          </p:nvSpPr>
          <p:spPr>
            <a:xfrm>
              <a:off x="5736960" y="2419200"/>
              <a:ext cx="1476720" cy="28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являе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7387560" y="2419200"/>
              <a:ext cx="1476720" cy="28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пособству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11280" y="3073680"/>
              <a:ext cx="147672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нформационно-образовательную сред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2"/>
            <p:cNvSpPr/>
            <p:nvPr/>
          </p:nvSpPr>
          <p:spPr>
            <a:xfrm>
              <a:off x="611280" y="4943520"/>
              <a:ext cx="147672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нформационно-образовательное и культурное простран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3"/>
            <p:cNvSpPr/>
            <p:nvPr/>
          </p:nvSpPr>
          <p:spPr>
            <a:xfrm>
              <a:off x="4086360" y="3073680"/>
              <a:ext cx="147672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нформационную компетентность и культур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4"/>
            <p:cNvSpPr/>
            <p:nvPr/>
          </p:nvSpPr>
          <p:spPr>
            <a:xfrm>
              <a:off x="5736960" y="3073680"/>
              <a:ext cx="147672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истемным методом работы с образовательной информаци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5"/>
            <p:cNvSpPr/>
            <p:nvPr/>
          </p:nvSpPr>
          <p:spPr>
            <a:xfrm>
              <a:off x="7387560" y="3073680"/>
              <a:ext cx="1476720" cy="11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оптимизации информационного обеспечения образовательного процесс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6"/>
            <p:cNvSpPr/>
            <p:nvPr/>
          </p:nvSpPr>
          <p:spPr>
            <a:xfrm>
              <a:off x="611280" y="4382640"/>
              <a:ext cx="1476720" cy="28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расширя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7"/>
            <p:cNvSpPr/>
            <p:nvPr/>
          </p:nvSpPr>
          <p:spPr>
            <a:xfrm>
              <a:off x="2522520" y="5037120"/>
              <a:ext cx="147672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хранит, распространяет, представляет, преобразу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2522520" y="6252840"/>
              <a:ext cx="1476720" cy="56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образовательную информаци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7387560" y="4476240"/>
              <a:ext cx="1476720" cy="3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ндивидуализиру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0"/>
            <p:cNvSpPr/>
            <p:nvPr/>
          </p:nvSpPr>
          <p:spPr>
            <a:xfrm>
              <a:off x="7387560" y="5130720"/>
              <a:ext cx="1476720" cy="56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осприятие информ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1"/>
            <p:cNvSpPr/>
            <p:nvPr/>
          </p:nvSpPr>
          <p:spPr>
            <a:xfrm>
              <a:off x="2522520" y="3073680"/>
              <a:ext cx="347400" cy="15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удио Т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2"/>
            <p:cNvSpPr/>
            <p:nvPr/>
          </p:nvSpPr>
          <p:spPr>
            <a:xfrm>
              <a:off x="2956680" y="3073680"/>
              <a:ext cx="347400" cy="15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изуальные Т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23"/>
            <p:cNvSpPr/>
            <p:nvPr/>
          </p:nvSpPr>
          <p:spPr>
            <a:xfrm>
              <a:off x="3477960" y="3073680"/>
              <a:ext cx="347400" cy="15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удиовизТ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4"/>
            <p:cNvSpPr/>
            <p:nvPr/>
          </p:nvSpPr>
          <p:spPr>
            <a:xfrm>
              <a:off x="1479960" y="1917720"/>
              <a:ext cx="156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5"/>
            <p:cNvSpPr/>
            <p:nvPr/>
          </p:nvSpPr>
          <p:spPr>
            <a:xfrm>
              <a:off x="6518880" y="1902960"/>
              <a:ext cx="156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6"/>
            <p:cNvSpPr/>
            <p:nvPr/>
          </p:nvSpPr>
          <p:spPr>
            <a:xfrm>
              <a:off x="1479960" y="1951560"/>
              <a:ext cx="0" cy="46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>
              <a:off x="3130560" y="2045160"/>
              <a:ext cx="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8"/>
            <p:cNvSpPr/>
            <p:nvPr/>
          </p:nvSpPr>
          <p:spPr>
            <a:xfrm>
              <a:off x="4781160" y="2045160"/>
              <a:ext cx="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9"/>
            <p:cNvSpPr/>
            <p:nvPr/>
          </p:nvSpPr>
          <p:spPr>
            <a:xfrm>
              <a:off x="6345000" y="2045160"/>
              <a:ext cx="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30"/>
            <p:cNvSpPr/>
            <p:nvPr/>
          </p:nvSpPr>
          <p:spPr>
            <a:xfrm flipH="1">
              <a:off x="8082360" y="1906920"/>
              <a:ext cx="4680" cy="51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1"/>
            <p:cNvSpPr/>
            <p:nvPr/>
          </p:nvSpPr>
          <p:spPr>
            <a:xfrm>
              <a:off x="1479960" y="2699640"/>
              <a:ext cx="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2"/>
            <p:cNvSpPr/>
            <p:nvPr/>
          </p:nvSpPr>
          <p:spPr>
            <a:xfrm>
              <a:off x="1479960" y="3821760"/>
              <a:ext cx="0" cy="56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3"/>
            <p:cNvSpPr/>
            <p:nvPr/>
          </p:nvSpPr>
          <p:spPr>
            <a:xfrm>
              <a:off x="1479960" y="4663080"/>
              <a:ext cx="0" cy="2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34"/>
            <p:cNvSpPr/>
            <p:nvPr/>
          </p:nvSpPr>
          <p:spPr>
            <a:xfrm flipH="1">
              <a:off x="2695680" y="2699640"/>
              <a:ext cx="26028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35"/>
            <p:cNvSpPr/>
            <p:nvPr/>
          </p:nvSpPr>
          <p:spPr>
            <a:xfrm>
              <a:off x="3130560" y="2699640"/>
              <a:ext cx="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36"/>
            <p:cNvSpPr/>
            <p:nvPr/>
          </p:nvSpPr>
          <p:spPr>
            <a:xfrm>
              <a:off x="3477960" y="2699640"/>
              <a:ext cx="17352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37"/>
            <p:cNvSpPr/>
            <p:nvPr/>
          </p:nvSpPr>
          <p:spPr>
            <a:xfrm>
              <a:off x="2696040" y="4663080"/>
              <a:ext cx="34740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38"/>
            <p:cNvSpPr/>
            <p:nvPr/>
          </p:nvSpPr>
          <p:spPr>
            <a:xfrm>
              <a:off x="3130560" y="4663080"/>
              <a:ext cx="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39"/>
            <p:cNvSpPr/>
            <p:nvPr/>
          </p:nvSpPr>
          <p:spPr>
            <a:xfrm flipH="1">
              <a:off x="3304080" y="4663080"/>
              <a:ext cx="34740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40"/>
            <p:cNvSpPr/>
            <p:nvPr/>
          </p:nvSpPr>
          <p:spPr>
            <a:xfrm>
              <a:off x="3217320" y="5972400"/>
              <a:ext cx="0" cy="2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41"/>
            <p:cNvSpPr/>
            <p:nvPr/>
          </p:nvSpPr>
          <p:spPr>
            <a:xfrm>
              <a:off x="4781160" y="2699640"/>
              <a:ext cx="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42"/>
            <p:cNvSpPr/>
            <p:nvPr/>
          </p:nvSpPr>
          <p:spPr>
            <a:xfrm>
              <a:off x="6345000" y="2699640"/>
              <a:ext cx="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43"/>
            <p:cNvSpPr/>
            <p:nvPr/>
          </p:nvSpPr>
          <p:spPr>
            <a:xfrm>
              <a:off x="8082720" y="2699640"/>
              <a:ext cx="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44"/>
            <p:cNvSpPr/>
            <p:nvPr/>
          </p:nvSpPr>
          <p:spPr>
            <a:xfrm>
              <a:off x="8082720" y="4195800"/>
              <a:ext cx="0" cy="2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8082720" y="4850280"/>
              <a:ext cx="0" cy="2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46"/>
          <p:cNvSpPr/>
          <p:nvPr/>
        </p:nvSpPr>
        <p:spPr>
          <a:xfrm>
            <a:off x="684360" y="333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47">
            <a:hlinkClick r:id="rId1" action="ppaction://hlinksldjump"/>
          </p:cNvPr>
          <p:cNvSpPr/>
          <p:nvPr/>
        </p:nvSpPr>
        <p:spPr>
          <a:xfrm>
            <a:off x="838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C:\Documents and Settings\Admin\Рабочий стол\к тексту\slide-12-102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A491-3FD6-4911-AD43-2163873FD6A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О чем это мы?... </a:t>
            </a:r>
            <a:r>
              <a:rPr b="1" lang="ru-RU" sz="4400" spc="-1" strike="noStrike">
                <a:solidFill>
                  <a:srgbClr val="3300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итическое мышл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ность ставить новые, полные смысла </a:t>
            </a:r>
            <a:r>
              <a:rPr b="1" i="1" lang="ru-RU" sz="2800" spc="-1" strike="noStrike">
                <a:solidFill>
                  <a:srgbClr val="ff7c80"/>
                </a:solidFill>
                <a:latin typeface="Arial"/>
              </a:rPr>
              <a:t>вопрос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абатывать разнообразные, подкрепляющие </a:t>
            </a:r>
            <a:r>
              <a:rPr b="1" i="1" lang="ru-RU" sz="2800" spc="-1" strike="noStrike">
                <a:solidFill>
                  <a:srgbClr val="ff7c80"/>
                </a:solidFill>
                <a:latin typeface="Arial"/>
              </a:rPr>
              <a:t>аргумент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имать независимые продуманные </a:t>
            </a:r>
            <a:r>
              <a:rPr b="1" i="1" lang="ru-RU" sz="2800" spc="-1" strike="noStrike">
                <a:solidFill>
                  <a:srgbClr val="ff7c80"/>
                </a:solidFill>
                <a:latin typeface="Arial"/>
              </a:rPr>
              <a:t>реш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Admin\Рабочий стол\к тексту\slide-13-102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C:\Documents and Settings\Admin\Рабочий стол\к тексту\slide-14-102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C:\Documents and Settings\Admin\Рабочий стол\к тексту\slide-15-102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C:\Documents and Settings\Admin\Рабочий стол\к тексту\slide-16-102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C:\Documents and Settings\Admin\Рабочий стол\к тексту\slide-16-102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C:\Documents and Settings\Admin\Рабочий стол\к тексту\slide-17-102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C:\Documents and Settings\Admin\Рабочий стол\к тексту\slide-18-1024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a_CampusOtl3DShad"/>
              </a:rPr>
              <a:t>Ромашка блума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Academy 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cademy Italic"/>
              </a:rPr>
              <a:t>Простой вопрос:</a:t>
            </a:r>
            <a:r>
              <a:rPr b="0" lang="ru-RU" sz="2200" spc="-1" strike="noStrike">
                <a:solidFill>
                  <a:srgbClr val="000000"/>
                </a:solidFill>
                <a:latin typeface="Academy Italic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частие – это самостоятельная часть речи?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Academy 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cademy Italic"/>
              </a:rPr>
              <a:t>Уточняющий вопрос</a:t>
            </a:r>
            <a:r>
              <a:rPr b="0" lang="ru-RU" sz="2200" spc="-1" strike="noStrike">
                <a:solidFill>
                  <a:srgbClr val="000000"/>
                </a:solidFill>
                <a:latin typeface="Academy Italic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я правильно понял, то причастие сочетает в себе признаки глагола с признаками прилагательного?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Academy 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cademy Italic"/>
              </a:rPr>
              <a:t>Интерпретационный (объясняющий) вопрос</a:t>
            </a:r>
            <a:r>
              <a:rPr b="0" lang="ru-RU" sz="2200" spc="-1" strike="noStrike">
                <a:solidFill>
                  <a:srgbClr val="000000"/>
                </a:solidFill>
                <a:latin typeface="Academy Italic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ему причастия не имеют формы будущего времени?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Academy 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cademy Italic"/>
              </a:rPr>
              <a:t>Творческий вопрос:</a:t>
            </a:r>
            <a:r>
              <a:rPr b="0" lang="ru-RU" sz="2200" spc="-1" strike="noStrike">
                <a:solidFill>
                  <a:srgbClr val="000000"/>
                </a:solidFill>
                <a:latin typeface="Academy Italic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вы думаете, возможно ли наше общение без употребления причастий?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Academy 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cademy Italic"/>
              </a:rPr>
              <a:t>Оценочный вопрос</a:t>
            </a:r>
            <a:r>
              <a:rPr b="0" lang="ru-RU" sz="2200" spc="-1" strike="noStrike">
                <a:solidFill>
                  <a:srgbClr val="000000"/>
                </a:solidFill>
                <a:latin typeface="Academy Italic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ему нужно знать нормы употребления причастий в речи?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Academy 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cademy Italic"/>
              </a:rPr>
              <a:t>Практический вопрос</a:t>
            </a:r>
            <a:r>
              <a:rPr b="0" lang="ru-RU" sz="2200" spc="-1" strike="noStrike">
                <a:solidFill>
                  <a:srgbClr val="000000"/>
                </a:solidFill>
                <a:latin typeface="Academy Italic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тречались ли вы с неправильным написанием причастий в телевизионных рекламах?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a_CampusOtl3DShad"/>
              </a:rPr>
              <a:t>Письмо с дырками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cademy Italic"/>
              </a:rPr>
              <a:t>Восстановите 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вязанное … на определённую … . В большинстве случаев текст состоит из нескольких …, связанных между собой … и посвящённых одной …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знаки текс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динство … текс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личие … мысли текс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тносительная … текс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пределённый … предлож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… связь предложений в текс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a_CampusOtl3DShad"/>
              </a:rPr>
              <a:t>Логические цепочки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cademy Italic"/>
              </a:rPr>
              <a:t>План фонетического разбора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исать слово буквами и указать их количе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транскрибировать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изнести данное слово. Подсчитать количество слогов и обозначить уда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оизнося слово вслух, последовательно охарактеризовать каждый зв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CD37-ADC1-40C7-8326-03DF15DE88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Технологические этапы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1484280"/>
          <a:ext cx="7772400" cy="508968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я стадия     ВЫЗ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я стадия    ОСМЫС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я стадия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2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уализация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уждение интереса к получению новой 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учеником собственных целей обу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новой 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ктировка поставленных учеником целей обу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ждение нового зн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учеником новых целей обу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C406-4A29-4FA4-816F-7CA75782289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Мысль в подарок…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000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меющие мыслить умею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давать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. К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j0293936"/>
          <p:cNvPicPr/>
          <p:nvPr/>
        </p:nvPicPr>
        <p:blipFill>
          <a:blip r:embed="rId1"/>
          <a:stretch/>
        </p:blipFill>
        <p:spPr>
          <a:xfrm>
            <a:off x="1258920" y="3573360"/>
            <a:ext cx="280836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6B64-5EAD-473B-ACFC-3C143002C2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аблицы вопрос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826920" y="1844640"/>
          <a:ext cx="7859880" cy="4573800"/>
        </p:xfrm>
        <a:graphic>
          <a:graphicData uri="http://schemas.openxmlformats.org/drawingml/2006/table">
            <a:tbl>
              <a:tblPr/>
              <a:tblGrid>
                <a:gridCol w="3889440"/>
                <a:gridCol w="3970440"/>
              </a:tblGrid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онкие» 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олстые» 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9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ет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ет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звали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ли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ласны ли вы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но ли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йте три объяснения, почему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ясните, почему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му вы думаете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му вы считаете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чем различие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, если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a_CampusOtl3DShad"/>
              </a:rPr>
              <a:t>Да-нетка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cademy Italic"/>
              </a:rPr>
              <a:t>Всю ночь читает небылицы, и вот плоды от </a:t>
            </a:r>
            <a:r>
              <a:rPr b="0" lang="ru-RU" sz="4000" spc="-1" strike="noStrike">
                <a:solidFill>
                  <a:srgbClr val="c00000"/>
                </a:solidFill>
                <a:latin typeface="Academy Italic"/>
              </a:rPr>
              <a:t>этих</a:t>
            </a:r>
            <a:r>
              <a:rPr b="0" lang="ru-RU" sz="4000" spc="-1" strike="noStrike">
                <a:solidFill>
                  <a:srgbClr val="000000"/>
                </a:solidFill>
                <a:latin typeface="Academy Italic"/>
              </a:rPr>
              <a:t> книг!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cademy Italic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cademy Italic"/>
              </a:rPr>
              <a:t>(А.С.Грибоед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cademy Ital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cademy"/>
              </a:rPr>
              <a:t>Это служебная часть речи? (не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"/>
              </a:rPr>
              <a:t>Это слово спрягается?  (н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"/>
              </a:rPr>
              <a:t>Это слово употреблено во второй предикативной части? (да)        </a:t>
            </a:r>
            <a:r>
              <a:rPr b="0" i="1" lang="ru-RU" sz="2800" spc="-1" strike="noStrike">
                <a:solidFill>
                  <a:srgbClr val="000000"/>
                </a:solidFill>
                <a:latin typeface="Academy"/>
              </a:rPr>
              <a:t>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23D5-A1D3-4F4B-AEDA-2D1320EBE9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330033"/>
                </a:solidFill>
                <a:latin typeface="Times New Roman"/>
              </a:rPr>
              <a:t>«Плюс-минус-вопрос» 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AutoShape 5">
            <a:hlinkClick r:id="rId1" action="ppaction://hlinksldjump"/>
          </p:cNvPr>
          <p:cNvSpPr/>
          <p:nvPr/>
        </p:nvSpPr>
        <p:spPr>
          <a:xfrm>
            <a:off x="838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826920" y="1989000"/>
          <a:ext cx="7772400" cy="287028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+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-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?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2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8AA2-AC4C-41CA-9D1D-AF07260EDFC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Красивое многоточие… </a:t>
            </a:r>
            <a:br>
              <a:rPr sz="44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(5 мин.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628280"/>
            <a:ext cx="8055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ишем синквей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авила написания синквей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Arial"/>
              </a:rPr>
              <a:t>Одно слово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уществительное или местоимение, обозначающее предмет, о котором идет 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Arial"/>
              </a:rPr>
              <a:t>Два слов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Прилагательные или причастия, описывающие признаки и свойства выбранного предм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Arial"/>
              </a:rPr>
              <a:t>Три слов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лаголы, описывающие совершаемые предметом или объектом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Arial"/>
              </a:rPr>
              <a:t>Фраза из четырех слов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ыражает личное отношение автора к предмету или объек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c80"/>
                </a:solidFill>
                <a:latin typeface="Arial"/>
              </a:rPr>
              <a:t>Одно слово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Характеризует суть предмета или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108000" y="115920"/>
            <a:ext cx="592200" cy="673200"/>
            <a:chOff x="108000" y="115920"/>
            <a:chExt cx="592200" cy="673200"/>
          </a:xfrm>
        </p:grpSpPr>
        <p:sp>
          <p:nvSpPr>
            <p:cNvPr id="347" name="Puzzle3"/>
            <p:cNvSpPr/>
            <p:nvPr/>
          </p:nvSpPr>
          <p:spPr>
            <a:xfrm>
              <a:off x="396360" y="115920"/>
              <a:ext cx="232560" cy="3578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Puzzle2"/>
            <p:cNvSpPr/>
            <p:nvPr/>
          </p:nvSpPr>
          <p:spPr>
            <a:xfrm>
              <a:off x="328680" y="376560"/>
              <a:ext cx="371520" cy="3258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Puzzle4"/>
            <p:cNvSpPr/>
            <p:nvPr/>
          </p:nvSpPr>
          <p:spPr>
            <a:xfrm>
              <a:off x="184680" y="372600"/>
              <a:ext cx="223920" cy="41652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Puzzle1"/>
            <p:cNvSpPr/>
            <p:nvPr/>
          </p:nvSpPr>
          <p:spPr>
            <a:xfrm>
              <a:off x="108000" y="223920"/>
              <a:ext cx="376200" cy="2484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AutoShape 9">
            <a:hlinkClick r:id="rId1" action="ppaction://hlinksldjump"/>
          </p:cNvPr>
          <p:cNvSpPr/>
          <p:nvPr/>
        </p:nvSpPr>
        <p:spPr>
          <a:xfrm>
            <a:off x="838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C994-B902-4B45-AF93-A680AF7B0F2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нквей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, ярк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тит, греет, раду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це очень горячее те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333760" y="155700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каленное, газообраз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лучает,нагревает, обжиг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ое излучение несет энер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е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7"/>
          <p:cNvSpPr/>
          <p:nvPr/>
        </p:nvSpPr>
        <p:spPr>
          <a:xfrm>
            <a:off x="4932360" y="1484280"/>
            <a:ext cx="0" cy="537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Даймонд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это особая форма выполнения творческой работы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йм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остоит из 7 строк. Два существительных (первая и последняя строки) выражают два противоположных понятия. Вторая строка – два прилагательных или причастия, раскрывающих признаки первого существительного. Следующая строка – три глагола или деепричастия, которые выражают действие. Центральная четвертая строка состоит из четырех слов, причем два из них характеризуют первое существительное, а два – контрастное ему понятие, завершающее даймонд. Остальные строки являются зеркальным отражением третьей и второй строк, только эти характеристики уже раскрывают существительное в последней стро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иперб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громная, наибольш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еувеличивает, преумножает, расширя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улливера превращает в Мальчика с пальч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еуменьшает, умаляет, сужива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рохотная, наименьш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ит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Хребтищева Татьяна, 10а клас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Хайку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икам можно предложить написать хайку по такой схе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чка 1: «Я видел» кого-то или что-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чка 2:  Как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чка 3:  К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егир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 видел птиц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летевшую зим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расив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 видела  дерев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одним дом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осклив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Штанг Юлия, 6а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Диаманта -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это стихотворная форма из семи строк, первая и послед­няя из которых — понятия с противоположным значени­ем. Этот вид стиха составляется по следующей схеме:</a:t>
            </a:r>
            <a:br>
              <a:rPr sz="1900"/>
            </a:b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чка 1: тема (существительно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чка 2: определение (2 прилагательных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чка 3: действие (3 причаст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чка 4: ассоциации (4 существительных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чка 5: действие (3 причаст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чка 6: определение( 2 прилагательных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чка 7: тема  (существительно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ло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нивый, добр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жащий, мечтающий, умираю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ассивность, бездействие, угасание, обломовщ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ботающий, решающий, живущ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стойчивый, расчетли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тольц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оболова Галина, 10б кла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Штрих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трихи пишутся по следующим правил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я строка.         1 существите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я строка.          2 прилага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я строка.          3 причас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я строка.          4  глаго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я строка.           5 наречий (или деепричаст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я строка.           Сложносочинённое или сложноподчинённое предложения по те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FC80-99AA-481E-8EF6-6CAF8E225CB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Как организовать осмысленное чтение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авило «3-х П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3"/>
          <p:cNvGrpSpPr/>
          <p:nvPr/>
        </p:nvGrpSpPr>
        <p:grpSpPr>
          <a:xfrm>
            <a:off x="900000" y="3141720"/>
            <a:ext cx="6984720" cy="1800000"/>
            <a:chOff x="900000" y="3141720"/>
            <a:chExt cx="6984720" cy="1800000"/>
          </a:xfrm>
        </p:grpSpPr>
        <p:sp>
          <p:nvSpPr>
            <p:cNvPr id="115" name="Text Box 5"/>
            <p:cNvSpPr/>
            <p:nvPr/>
          </p:nvSpPr>
          <p:spPr>
            <a:xfrm>
              <a:off x="900000" y="3933720"/>
              <a:ext cx="137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Т К 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3261240" y="3284280"/>
              <a:ext cx="46234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ознакомитьс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онять   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рименя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1"/>
            <p:cNvSpPr/>
            <p:nvPr/>
          </p:nvSpPr>
          <p:spPr>
            <a:xfrm>
              <a:off x="2376720" y="3141720"/>
              <a:ext cx="600840" cy="1800000"/>
            </a:xfrm>
            <a:custGeom>
              <a:avLst/>
              <a:gdLst>
                <a:gd name="textAreaLeft" fmla="*/ 383760 w 600840"/>
                <a:gd name="textAreaRight" fmla="*/ 600840 w 60084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Работы учащихся по теме «Весна»:</a:t>
            </a:r>
            <a:br>
              <a:rPr sz="34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ув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кренние, противоречив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арующие, манящие, дурманящ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дуют, раскрывают, волнуют, будоража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вораживая, вдохновляя, перевоплощая, играя, обещ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сенние чувства переполняют человека, потому что они возвращают его в царство мечты и наде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асимова Елена, 6а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 предложенными «стихотворными» формами позволя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ширить словарный запас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ить знание часте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ить знание теории литературы и русского языка, текста художественного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Лингвистическая задача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914400" y="1600200"/>
          <a:ext cx="7772400" cy="4237200"/>
        </p:xfrm>
        <a:graphic>
          <a:graphicData uri="http://schemas.openxmlformats.org/drawingml/2006/table">
            <a:tbl>
              <a:tblPr/>
              <a:tblGrid>
                <a:gridCol w="4952880"/>
                <a:gridCol w="2819520"/>
              </a:tblGrid>
              <a:tr h="197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спец..алист,р..комендация,изб..ра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кр..терий, употр..бить,г..судар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т..рритория, оп..раться, предст..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мот..вировать, б..зироваться, произн..ш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ком ряду во всех словах пропущена безударная проверяемая гласная корн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0EF9-A4EC-4736-8598-4C6622E1166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6737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Эффективная лекция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826920" y="1844640"/>
          <a:ext cx="7705800" cy="3019320"/>
        </p:xfrm>
        <a:graphic>
          <a:graphicData uri="http://schemas.openxmlformats.org/drawingml/2006/table">
            <a:tbl>
              <a:tblPr/>
              <a:tblGrid>
                <a:gridCol w="4550040"/>
                <a:gridCol w="3155760"/>
              </a:tblGrid>
              <a:tr h="747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товой жур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стная информация и предполо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ая информ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2596-66BB-42A4-BFFC-32BCC5B6DE4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Приём  “Ассоциации”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Прямоугольник 7"/>
          <p:cNvSpPr/>
          <p:nvPr/>
        </p:nvSpPr>
        <p:spPr>
          <a:xfrm>
            <a:off x="611280" y="1413000"/>
            <a:ext cx="828180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740000"/>
                </a:solidFill>
                <a:latin typeface="Arial"/>
              </a:rPr>
              <a:t>Сегодня перед нами новый рассказ Александра Грина – “Зелёная лампа”. Какие ассоциации у вас вызывает это словосочета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ом, свет, уют, семья, чтение, книга, учение, ночь, зелёная трава, зелёный свет светофора, литературное общество А. Пушкина, весна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чему именно так называется произве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то может произойти в рассказе с таким названи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формулируйте свои догадки письменно, записав пять-шесть предложений о сюж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ссказ "Зеленая лампа" Александра Гри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F7B6-EF67-43C9-8C8E-1F9209C8101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826920" y="1884240"/>
            <a:ext cx="813780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50FC-FE01-4CB8-BB9A-D1F3BA3619B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Дерево предсказаний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во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в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ред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сть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основания пред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.П. Чехов «Тос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14"/>
          <p:cNvGraphicFramePr/>
          <p:nvPr/>
        </p:nvGraphicFramePr>
        <p:xfrm>
          <a:off x="4500720" y="3213000"/>
          <a:ext cx="4032000" cy="33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213000"/>
                    <a:ext cx="4032000" cy="33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Сравнительная характеристика героев</a:t>
            </a: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, литературных направлений и др.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Можно дать в виде таблицы с вопросами.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914400" y="1600200"/>
          <a:ext cx="7772400" cy="31291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Times New Roman"/>
                          <a:ea typeface="Calibri"/>
                        </a:rPr>
                        <a:t>Предмет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Times New Roman"/>
                          <a:ea typeface="Calibri"/>
                        </a:rPr>
                        <a:t>Татья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Times New Roman"/>
                          <a:ea typeface="Calibri"/>
                        </a:rPr>
                        <a:t>Оль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6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тр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ношения с окружающи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ношение к люб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ношение к народной культу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ское отношение к героин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</a:tbl>
          </a:graphicData>
        </a:graphic>
      </p:graphicFrame>
      <p:sp>
        <p:nvSpPr>
          <p:cNvPr id="386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9E75-AFA8-45F5-9E34-68C7E9EEEB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тение с остановкам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sp>
        <p:nvSpPr>
          <p:cNvPr id="389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641E-89E3-4544-82DC-F0D016A7F78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DF2A-BD75-446D-AEE9-0C5B3E5BF6E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Стратегия решения проблемы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900000" y="2349360"/>
          <a:ext cx="6696360" cy="2303640"/>
        </p:xfrm>
        <a:graphic>
          <a:graphicData uri="http://schemas.openxmlformats.org/drawingml/2006/table">
            <a:tbl>
              <a:tblPr/>
              <a:tblGrid>
                <a:gridCol w="792360"/>
                <a:gridCol w="647640"/>
                <a:gridCol w="5256360"/>
              </a:tblGrid>
              <a:tr h="23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нтифицируйте проблему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еритесь до ее сути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 варианты решения!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теперь - за работу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е вывод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0116-7DB1-407D-9A82-189DB2B1F9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Лист для решения проблемы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914400" y="1916280"/>
          <a:ext cx="7772400" cy="4491000"/>
        </p:xfrm>
        <a:graphic>
          <a:graphicData uri="http://schemas.openxmlformats.org/drawingml/2006/table">
            <a:tbl>
              <a:tblPr/>
              <a:tblGrid>
                <a:gridCol w="4881600"/>
                <a:gridCol w="2890800"/>
              </a:tblGrid>
              <a:tr h="8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Какую главную проблему должны решить геро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акой информацией снабдил вас автор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Что еще вы знаете, что помогло бы решить проблему? Что еще нужно знать героя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аковы три главных способа решения проблемы? Какой из выбранных способов наилучший и по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549000"/>
            <a:ext cx="86104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(начало урока)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1628640"/>
          <a:ext cx="7775640" cy="4537080"/>
        </p:xfrm>
        <a:graphic>
          <a:graphicData uri="http://schemas.openxmlformats.org/drawingml/2006/table">
            <a:tbl>
              <a:tblPr/>
              <a:tblGrid>
                <a:gridCol w="2592360"/>
                <a:gridCol w="2951280"/>
                <a:gridCol w="2232000"/>
              </a:tblGrid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борное полотно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борное полотно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борное полотно№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я существи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я прилаг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г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е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я числи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тоим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ю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восочет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стое пред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жное пред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жносочинё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жноподчинё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ссоюз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юз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ы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ённо-ли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определённо-ли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ли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ол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Прием «фишбоун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5CA8-6FAF-41CD-A4C1-0F61DA5B0B5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"/>
          <p:cNvSpPr/>
          <p:nvPr/>
        </p:nvSpPr>
        <p:spPr>
          <a:xfrm>
            <a:off x="611280" y="1514160"/>
            <a:ext cx="8353440" cy="46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хнология работы с приёмом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шбоун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ожет проводиться индивидуально, парно и по группам. Она подходит для работы в классе и может быть предложена в качестве домашнего задан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шбоун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это мини - исследовательская рабо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текстом художественного произведения, дающая возможность формировать такие учебные умения, к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элементов причинно-следственного и структурно-функционального ана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влечение необходимой информации из литературного произведения и перевод этой информации из одной знаковой системы в другую (из текста в диаграм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ие в проектной деятельности, в организации и проведении учебно-исследовательск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гласование и координация личной деятельности с другими  участниками при совместной рабо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Прием «фишбоун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C64A-A77D-49F5-82CD-1C429F3105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Таблица 4" descr="2"/>
          <p:cNvPicPr/>
          <p:nvPr/>
        </p:nvPicPr>
        <p:blipFill>
          <a:blip r:embed="rId1"/>
          <a:stretch/>
        </p:blipFill>
        <p:spPr>
          <a:xfrm>
            <a:off x="1116000" y="1773360"/>
            <a:ext cx="7201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40000"/>
                </a:solidFill>
                <a:latin typeface="Times New Roman"/>
              </a:rPr>
              <a:t>Учащиеся, овладевающие стратегией «Fishbone», приобретают такие метапредметные компетенции как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8CE6-08D6-4522-A781-4318FB2653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4"/>
          <p:cNvSpPr/>
          <p:nvPr/>
        </p:nvSpPr>
        <p:spPr>
          <a:xfrm>
            <a:off x="395280" y="1700280"/>
            <a:ext cx="83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ическое мышле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е в группа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ирование и осуществление исследовательской деятельн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лкование прочитанного и формулирование своей позиции, адекватное понимание текс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знанное чтение текстов вслух и про себя с извлечением необходимой информ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030a0"/>
                </a:solidFill>
                <a:latin typeface="a_CampusOtl3DShad"/>
              </a:rPr>
              <a:t>Триз - загадка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призна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лгорит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ыбрать 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Заполнить табл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? (объект)      что (кто) такое ж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оединив записанное в обеих колонках таблицы словам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о не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ть загад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6"/>
          <p:cNvSpPr/>
          <p:nvPr/>
        </p:nvSpPr>
        <p:spPr>
          <a:xfrm>
            <a:off x="1571760" y="4500720"/>
            <a:ext cx="6072120" cy="144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ая соединительная линия 10"/>
          <p:cNvSpPr/>
          <p:nvPr/>
        </p:nvSpPr>
        <p:spPr>
          <a:xfrm flipH="1">
            <a:off x="4570560" y="4287960"/>
            <a:ext cx="2880" cy="107136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030a0"/>
                </a:solidFill>
                <a:latin typeface="a_CampusOtl3DShad"/>
              </a:rPr>
              <a:t>Триз - загадки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призна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Сложная, но не за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Важная, но не перс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Нужная, но не м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Интересная, но не кни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(морфология)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030a0"/>
                </a:solidFill>
                <a:latin typeface="a_CampusOtl3DShad"/>
              </a:rPr>
              <a:t>Триз - загадка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42560" y="1571760"/>
            <a:ext cx="882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действ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ыбрать 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Заполнить табл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делает? (объект)   что (кто) делает такое ж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оединив записанное в обеих колонках таблицы словам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не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ть загад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4"/>
          <p:cNvSpPr/>
          <p:nvPr/>
        </p:nvSpPr>
        <p:spPr>
          <a:xfrm flipH="1">
            <a:off x="4070520" y="4145040"/>
            <a:ext cx="1440" cy="92844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ая соединительная линия 6"/>
          <p:cNvSpPr/>
          <p:nvPr/>
        </p:nvSpPr>
        <p:spPr>
          <a:xfrm>
            <a:off x="357120" y="4572000"/>
            <a:ext cx="8286840" cy="144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030a0"/>
                </a:solidFill>
                <a:latin typeface="a_CampusOtl3DShad"/>
              </a:rPr>
              <a:t>Триз - загадки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действ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Передаёт, а не однокласс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Сообщает, а не заву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Спрашивает, а не баб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Побуждает, а не гене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(предлож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a_CampusOtl3DShad"/>
              </a:rPr>
              <a:t>Найди соответствия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пишите предложения, соответствующие схем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. [   ], и [   ].       2. [   ]:[   ].      3. [… ,обр.,…  ].       4. [   ],(    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унщики переполошились жеребец был ценный донской породы привёзённый из далёкой Ро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.Айтматов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бственного спокойствия он решил не надевать тюбетейку и чаще носил её не на голове, а в кармане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Бессара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хочу знать от кого могу получить объективную информацию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Обухов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илось жаркое лето и желтизной вспыхивают леса по которым крадётся осень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.Осетров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зади напирала очередь и раздумывать было некогд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Гайда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барин по служебной надобности едешь?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.Добровольский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7030a0"/>
                </a:solidFill>
                <a:latin typeface="a_CampusOtl3DShad"/>
              </a:rPr>
              <a:t>Морфологический анали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42960" y="164268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57120" y="1643040"/>
          <a:ext cx="8358120" cy="1544760"/>
        </p:xfrm>
        <a:graphic>
          <a:graphicData uri="http://schemas.openxmlformats.org/drawingml/2006/table">
            <a:tbl>
              <a:tblPr/>
              <a:tblGrid>
                <a:gridCol w="309600"/>
                <a:gridCol w="365040"/>
                <a:gridCol w="943200"/>
                <a:gridCol w="903240"/>
                <a:gridCol w="923760"/>
                <a:gridCol w="649440"/>
                <a:gridCol w="663480"/>
                <a:gridCol w="1122480"/>
                <a:gridCol w="1120680"/>
                <a:gridCol w="1357200"/>
              </a:tblGrid>
              <a:tr h="274680"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едл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виг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рик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ех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ч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хорош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уг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клюж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л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ен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е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2" name="Group 6"/>
          <p:cNvGrpSpPr/>
          <p:nvPr/>
        </p:nvGrpSpPr>
        <p:grpSpPr>
          <a:xfrm>
            <a:off x="0" y="0"/>
            <a:ext cx="457200" cy="228600"/>
            <a:chOff x="0" y="0"/>
            <a:chExt cx="457200" cy="228600"/>
          </a:xfrm>
        </p:grpSpPr>
        <p:sp>
          <p:nvSpPr>
            <p:cNvPr id="423" name="AutoShape 7"/>
            <p:cNvSpPr/>
            <p:nvPr/>
          </p:nvSpPr>
          <p:spPr>
            <a:xfrm>
              <a:off x="0" y="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Arc 10"/>
          <p:cNvSpPr/>
          <p:nvPr/>
        </p:nvSpPr>
        <p:spPr>
          <a:xfrm flipV="1">
            <a:off x="-428760" y="0"/>
            <a:ext cx="220680" cy="101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-428760" y="142920"/>
            <a:ext cx="230400" cy="16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9"/>
          <p:cNvSpPr/>
          <p:nvPr/>
        </p:nvSpPr>
        <p:spPr>
          <a:xfrm>
            <a:off x="-428760" y="0"/>
            <a:ext cx="114480" cy="1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Дуга 15"/>
          <p:cNvSpPr/>
          <p:nvPr/>
        </p:nvSpPr>
        <p:spPr>
          <a:xfrm>
            <a:off x="714240" y="1928880"/>
            <a:ext cx="285840" cy="2858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16"/>
          <p:cNvSpPr/>
          <p:nvPr/>
        </p:nvSpPr>
        <p:spPr>
          <a:xfrm>
            <a:off x="714240" y="2928960"/>
            <a:ext cx="214560" cy="142920"/>
          </a:xfrm>
          <a:prstGeom prst="rect">
            <a:avLst/>
          </a:prstGeom>
          <a:solidFill>
            <a:srgbClr val="ffff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7"/>
          <p:cNvSpPr/>
          <p:nvPr/>
        </p:nvSpPr>
        <p:spPr>
          <a:xfrm>
            <a:off x="5572080" y="2928960"/>
            <a:ext cx="214200" cy="142920"/>
          </a:xfrm>
          <a:prstGeom prst="rect">
            <a:avLst/>
          </a:prstGeom>
          <a:solidFill>
            <a:srgbClr val="ffff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8"/>
          <p:cNvSpPr/>
          <p:nvPr/>
        </p:nvSpPr>
        <p:spPr>
          <a:xfrm>
            <a:off x="285840" y="4143240"/>
            <a:ext cx="85010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Соберите» словосочет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   Б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Б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вскрикнет испуганн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cademy Italic"/>
              </a:rPr>
              <a:t>Обозначьте и объясните известные вам орфограм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Не)медле(н,нн)о уех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скройте скобки, «зашифруйте» словосочет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(Б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Б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a_CampusOtl3DShad"/>
              </a:rPr>
              <a:t>Морфологический анализ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морфолог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" descr="морфолог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CCD2-9CF8-422F-A6B3-B9B7D83246D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Таблицы: </a:t>
            </a:r>
            <a:br>
              <a:rPr sz="4400"/>
            </a:b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«Знаю – Узнал – Хочу узнать –  (ЗУХ)»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4360" y="2060640"/>
          <a:ext cx="7848360" cy="2158920"/>
        </p:xfrm>
        <a:graphic>
          <a:graphicData uri="http://schemas.openxmlformats.org/drawingml/2006/table">
            <a:tbl>
              <a:tblPr/>
              <a:tblGrid>
                <a:gridCol w="2500200"/>
                <a:gridCol w="2235240"/>
                <a:gridCol w="3112920"/>
              </a:tblGrid>
              <a:tr h="21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зна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узнал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мы хотим узнат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55640" y="4797360"/>
          <a:ext cx="7704000" cy="1901880"/>
        </p:xfrm>
        <a:graphic>
          <a:graphicData uri="http://schemas.openxmlformats.org/drawingml/2006/table">
            <a:tbl>
              <a:tblPr/>
              <a:tblGrid>
                <a:gridCol w="3527280"/>
                <a:gridCol w="41767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и информации, которыми мы намерены пользов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и информации, из которых мы получили/намерены получить информац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лавные сло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куда узнал(ю)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a_CampusOtl3DShad"/>
              </a:rPr>
              <a:t>Реши пропорцию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(спит) как убит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=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     ?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= 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сломя голов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епко                  темно                   ?               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молодой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сух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       ?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ложе         ?         веселее     ?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4"/>
          <p:cNvSpPr/>
          <p:nvPr/>
        </p:nvSpPr>
        <p:spPr>
          <a:xfrm>
            <a:off x="2209680" y="1523880"/>
            <a:ext cx="4267440" cy="3962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3962520" y="236232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еди меня, вправо от дороги, виднелся какай-то кустик. Когда я подошел поближе, я узнал в кустике такого же «татарина», которого цветок я напрасно сорвал и брос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ст «татарина» состоял из трех отростков. Один был оторван, и, как отрубленная рука, торчал остаток ветки. На других двух было на каждом по цветку. Цветки эти когда-то были красные, теперь же были черные. Один стебель был сломан, и половина его, с грязным цветком на конце, висела книзу; другой, хотя и вымазанный черноземной грязью, все еще торчал кверху. Видно было, что весь кустик был переехан колесом и уже после поднялся и потому стоял боком, но все-таки стоял. Точно вырвали у него кусок тела, вывернули внутренности, оторвали руку, выкололи глаз. Но он все стоит и не сдается человеку, уничтожившему всех его братий кругом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838080" y="380880"/>
            <a:ext cx="7543800" cy="838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нгвистический анализ текс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В народном восприятии это колючее сорное растение, именуемое татарином (татарником), мордвином, муратом (В.И. Даль), соединяется с представлением о вредном, нечистом, злом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3"/>
          <p:cNvPicPr/>
          <p:nvPr/>
        </p:nvPicPr>
        <p:blipFill>
          <a:blip r:embed="rId1"/>
          <a:stretch/>
        </p:blipFill>
        <p:spPr>
          <a:xfrm>
            <a:off x="5334120" y="1676520"/>
            <a:ext cx="2286000" cy="20271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i2"/>
          <p:cNvPicPr/>
          <p:nvPr/>
        </p:nvPicPr>
        <p:blipFill>
          <a:blip r:embed="rId2"/>
          <a:stretch/>
        </p:blipFill>
        <p:spPr>
          <a:xfrm>
            <a:off x="914400" y="4495680"/>
            <a:ext cx="1592280" cy="21337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i"/>
          <p:cNvPicPr/>
          <p:nvPr/>
        </p:nvPicPr>
        <p:blipFill>
          <a:blip r:embed="rId3"/>
          <a:stretch/>
        </p:blipFill>
        <p:spPr>
          <a:xfrm>
            <a:off x="5105520" y="4114800"/>
            <a:ext cx="1517400" cy="19810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A130879"/>
          <p:cNvPicPr/>
          <p:nvPr/>
        </p:nvPicPr>
        <p:blipFill>
          <a:blip r:embed="rId4"/>
          <a:stretch/>
        </p:blipFill>
        <p:spPr>
          <a:xfrm>
            <a:off x="533520" y="1676520"/>
            <a:ext cx="4012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уществ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914400" y="2286000"/>
          <a:ext cx="7772400" cy="3844800"/>
        </p:xfrm>
        <a:graphic>
          <a:graphicData uri="http://schemas.openxmlformats.org/drawingml/2006/table">
            <a:tbl>
              <a:tblPr/>
              <a:tblGrid>
                <a:gridCol w="3581280"/>
                <a:gridCol w="4191120"/>
              </a:tblGrid>
              <a:tr h="38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ст, отросток, ветка, цветок, стебель, грязь, кусти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тарин, рука, грязь, колесо, кусок, тело, рука, глаз, человек, брат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Прилагательны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143000" y="2438280"/>
          <a:ext cx="7543800" cy="3692520"/>
        </p:xfrm>
        <a:graphic>
          <a:graphicData uri="http://schemas.openxmlformats.org/drawingml/2006/table">
            <a:tbl>
              <a:tblPr/>
              <a:tblGrid>
                <a:gridCol w="3581280"/>
                <a:gridCol w="3962520"/>
              </a:tblGrid>
              <a:tr h="369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тарин, рука, грязь, колесо, кусок, тело, рука, глаз, человек, брат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е, черные, грязные, чернозёмна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Глагол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914400" y="1600200"/>
          <a:ext cx="7772400" cy="4846680"/>
        </p:xfrm>
        <a:graphic>
          <a:graphicData uri="http://schemas.openxmlformats.org/drawingml/2006/table">
            <a:tbl>
              <a:tblPr/>
              <a:tblGrid>
                <a:gridCol w="2286000"/>
                <a:gridCol w="2438280"/>
                <a:gridCol w="3048120"/>
              </a:tblGrid>
              <a:tr h="48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тарин, рука, грязь, колесо, кусок, тело, рука, глаз, человек, брат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е, черные, грязные, чернозём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л, оторван, отрубленная, сломан, висела,  вымазанный, торчал, переехан, поднялся, стоял, вырвали, вывернули, оторвали, выкололи, не сдаётся, уничтожившему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Тема произведени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роблемы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.Н. Толстой «Хаджи-Мурат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он все стоит и не сдается человеку, уничтожившему всех его братий кругом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4" descr="A130879"/>
          <p:cNvPicPr/>
          <p:nvPr/>
        </p:nvPicPr>
        <p:blipFill>
          <a:blip r:embed="rId1"/>
          <a:stretch/>
        </p:blipFill>
        <p:spPr>
          <a:xfrm>
            <a:off x="2514600" y="3200400"/>
            <a:ext cx="4013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ингвистическая задач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а речь – важнейшая часть не только нашего поведения, но и нашей личности, нашей души, у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С.Сухору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е повторение, двукратное или многократное, обращает на себя особое внимание читающ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 Г. Милосла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ая культура речи заключается в умении найти не только точное средство для выражения своей мысли, но и наиболее доходчивое (т. е. наиболее выразительное), и наиболее уместное (т. е. самое подходящее для данного случая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), и, следовательно, стилистически оправда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И. Оже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4203-FD5B-46F4-80F9-6158B2C6F0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Сорбонки – </a:t>
            </a:r>
            <a:br>
              <a:rPr sz="38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карточки небольшого размера, предназначенные для активной тренировки памяти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ируя внимание только на тех элементах, которые еще не усвоены, ученики прочно и надолго усваивают и запоминают теоретические поня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тся время урока на проверку ранее изученно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сходит охват работой всех учеников кла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я индивидуально, в парах и группах ребята учатся давать оценку себе и своим товарищ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индивидуальный подход, можно корректно указать ученику на пробелы в его зн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806E-371A-46A5-BE42-87A47BF4DD7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539640" y="1700280"/>
            <a:ext cx="777744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0000"/>
                </a:solidFill>
                <a:latin typeface="Times New Roman"/>
                <a:ea typeface="Calibri"/>
              </a:rPr>
              <a:t>П </a:t>
            </a:r>
            <a:r>
              <a:rPr b="1" lang="ru-RU" sz="2000" spc="-1" strike="noStrike">
                <a:solidFill>
                  <a:srgbClr val="740000"/>
                </a:solidFill>
                <a:latin typeface="Arial"/>
                <a:ea typeface="Calibri"/>
              </a:rPr>
              <a:t>–</a:t>
            </a:r>
            <a:r>
              <a:rPr b="1" lang="ru-RU" sz="2000" spc="-1" strike="noStrike">
                <a:solidFill>
                  <a:srgbClr val="740000"/>
                </a:solidFill>
                <a:latin typeface="Times New Roman"/>
                <a:ea typeface="Calibri"/>
              </a:rPr>
              <a:t> пози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740000"/>
                </a:solidFill>
                <a:latin typeface="Times New Roman"/>
                <a:ea typeface="Calibri"/>
              </a:rPr>
              <a:t>О </a:t>
            </a:r>
            <a:r>
              <a:rPr b="1" lang="ru-RU" sz="2000" spc="-1" strike="noStrike">
                <a:solidFill>
                  <a:srgbClr val="740000"/>
                </a:solidFill>
                <a:latin typeface="Arial"/>
                <a:ea typeface="Calibri"/>
              </a:rPr>
              <a:t>–</a:t>
            </a:r>
            <a:r>
              <a:rPr b="1" lang="ru-RU" sz="2000" spc="-1" strike="noStrike">
                <a:solidFill>
                  <a:srgbClr val="740000"/>
                </a:solidFill>
                <a:latin typeface="Times New Roman"/>
                <a:ea typeface="Calibri"/>
              </a:rPr>
              <a:t> объяснение (или обосновани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740000"/>
                </a:solidFill>
                <a:latin typeface="Times New Roman"/>
                <a:ea typeface="Calibri"/>
              </a:rPr>
              <a:t>П </a:t>
            </a:r>
            <a:r>
              <a:rPr b="1" lang="ru-RU" sz="2000" spc="-1" strike="noStrike">
                <a:solidFill>
                  <a:srgbClr val="740000"/>
                </a:solidFill>
                <a:latin typeface="Arial"/>
                <a:ea typeface="Calibri"/>
              </a:rPr>
              <a:t>–</a:t>
            </a:r>
            <a:r>
              <a:rPr b="1" lang="ru-RU" sz="2000" spc="-1" strike="noStrike">
                <a:solidFill>
                  <a:srgbClr val="740000"/>
                </a:solidFill>
                <a:latin typeface="Times New Roman"/>
                <a:ea typeface="Calibri"/>
              </a:rPr>
              <a:t> прим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740000"/>
                </a:solidFill>
                <a:latin typeface="Times New Roman"/>
                <a:ea typeface="Calibri"/>
              </a:rPr>
              <a:t>С </a:t>
            </a:r>
            <a:r>
              <a:rPr b="1" lang="ru-RU" sz="2000" spc="-1" strike="noStrike">
                <a:solidFill>
                  <a:srgbClr val="740000"/>
                </a:solidFill>
                <a:latin typeface="Arial"/>
                <a:ea typeface="Calibri"/>
              </a:rPr>
              <a:t>–</a:t>
            </a:r>
            <a:r>
              <a:rPr b="1" lang="ru-RU" sz="2000" spc="-1" strike="noStrike">
                <a:solidFill>
                  <a:srgbClr val="740000"/>
                </a:solidFill>
                <a:latin typeface="Times New Roman"/>
                <a:ea typeface="Calibri"/>
              </a:rPr>
              <a:t> следствие (или суждени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этот приём не был бы технологичным, не обладал бы законченностью, если бы мы не предложили начало предло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ое из предложений (позиция) должно начинаться со с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740000"/>
                </a:solidFill>
                <a:latin typeface="Arial"/>
                <a:ea typeface="Calibri"/>
              </a:rPr>
              <a:t>«</a:t>
            </a:r>
            <a:r>
              <a:rPr b="1" lang="ru-RU" sz="1800" spc="-1" strike="noStrike">
                <a:solidFill>
                  <a:srgbClr val="740000"/>
                </a:solidFill>
                <a:latin typeface="Times New Roman"/>
                <a:ea typeface="Calibri"/>
              </a:rPr>
              <a:t>Я считаю, что</a:t>
            </a:r>
            <a:r>
              <a:rPr b="1" lang="ru-RU" sz="1800" spc="-1" strike="noStrike">
                <a:solidFill>
                  <a:srgbClr val="740000"/>
                </a:solidFill>
                <a:latin typeface="Arial"/>
                <a:ea typeface="Calibri"/>
              </a:rPr>
              <a:t>…»</a:t>
            </a:r>
            <a:r>
              <a:rPr b="1" lang="ru-RU" sz="1800" spc="-1" strike="noStrike">
                <a:solidFill>
                  <a:srgbClr val="74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ое предложение (объяснение, обоснование своей позиции) начинается со с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740000"/>
                </a:solidFill>
                <a:latin typeface="Arial"/>
                <a:ea typeface="Calibri"/>
              </a:rPr>
              <a:t>«</a:t>
            </a:r>
            <a:r>
              <a:rPr b="1" lang="ru-RU" sz="1800" spc="-1" strike="noStrike">
                <a:solidFill>
                  <a:srgbClr val="740000"/>
                </a:solidFill>
                <a:latin typeface="Times New Roman"/>
                <a:ea typeface="Calibri"/>
              </a:rPr>
              <a:t>Потому что </a:t>
            </a:r>
            <a:r>
              <a:rPr b="1" lang="ru-RU" sz="1800" spc="-1" strike="noStrike">
                <a:solidFill>
                  <a:srgbClr val="740000"/>
                </a:solidFill>
                <a:latin typeface="Arial"/>
                <a:ea typeface="Calibri"/>
              </a:rPr>
              <a:t>…»</a:t>
            </a:r>
            <a:r>
              <a:rPr b="1" lang="ru-RU" sz="1800" spc="-1" strike="noStrike">
                <a:solidFill>
                  <a:srgbClr val="74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тье предложение (ориентированное на умение доказать правоту своей позиции на практике) начинается со с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Я могу это доказать это на пример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…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, наконец, четвертое предложение (следствие, суждение, выводы) начинается со с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4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740000"/>
                </a:solidFill>
                <a:latin typeface="Arial"/>
                <a:ea typeface="Calibri"/>
              </a:rPr>
              <a:t>«</a:t>
            </a:r>
            <a:r>
              <a:rPr b="1" lang="ru-RU" sz="1800" spc="-1" strike="noStrike">
                <a:solidFill>
                  <a:srgbClr val="740000"/>
                </a:solidFill>
                <a:latin typeface="Times New Roman"/>
                <a:ea typeface="Calibri"/>
              </a:rPr>
              <a:t>Исходя из этого, я делаю вывод о том, что</a:t>
            </a:r>
            <a:r>
              <a:rPr b="1" lang="ru-RU" sz="1800" spc="-1" strike="noStrike">
                <a:solidFill>
                  <a:srgbClr val="740000"/>
                </a:solidFill>
                <a:latin typeface="Arial"/>
                <a:ea typeface="Calibri"/>
              </a:rPr>
              <a:t>…»</a:t>
            </a:r>
            <a:r>
              <a:rPr b="1" lang="ru-RU" sz="1800" spc="-1" strike="noStrike">
                <a:solidFill>
                  <a:srgbClr val="74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324000" y="2602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40000"/>
                </a:solidFill>
                <a:latin typeface="Times New Roman"/>
                <a:ea typeface="Calibri"/>
              </a:rPr>
              <a:t>Формула ПОПС - учащимся предлагается написать четыре предложения,  отражающие следующие четыре момента ПОПС </a:t>
            </a:r>
            <a:r>
              <a:rPr b="1" lang="ru-RU" sz="2400" spc="-1" strike="noStrike">
                <a:solidFill>
                  <a:srgbClr val="740000"/>
                </a:solidFill>
                <a:latin typeface="Arial"/>
                <a:ea typeface="Calibri"/>
              </a:rPr>
              <a:t>–</a:t>
            </a:r>
            <a:r>
              <a:rPr b="1" lang="ru-RU" sz="2400" spc="-1" strike="noStrike">
                <a:solidFill>
                  <a:srgbClr val="740000"/>
                </a:solidFill>
                <a:latin typeface="Times New Roman"/>
                <a:ea typeface="Calibri"/>
              </a:rPr>
              <a:t> форму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_CampusOtl3DShad"/>
              </a:rPr>
              <a:t>Верные – неверные утвержде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1341360"/>
          <a:ext cx="8147160" cy="5256360"/>
        </p:xfrm>
        <a:graphic>
          <a:graphicData uri="http://schemas.openxmlformats.org/drawingml/2006/table">
            <a:tbl>
              <a:tblPr/>
              <a:tblGrid>
                <a:gridCol w="395280"/>
                <a:gridCol w="6294600"/>
                <a:gridCol w="708120"/>
                <a:gridCol w="74916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утвер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д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чтения тек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после чтения тек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47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ют два основных типа словарей: энциклопедические и развлекательны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энциклопедических словарях даётся описание какого-либо явления, события, биографические сведения известных исторических деятелей, деятелей науки, искусства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е развлекательные словари – толкователи незнакомых слов – появились в древности и были приложением к книга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толковый словарь вышел 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ек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ым большим словарём русского языка 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IX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еке был «Толковый словарь живого великорусского языка» М.В.Ломоносов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ектные словари – это словари синонимов, омонимов, антонимов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13:48:03Z</dcterms:created>
  <dc:creator>Shill</dc:creator>
  <dc:description/>
  <dc:language>en-US</dc:language>
  <cp:lastModifiedBy>Admin</cp:lastModifiedBy>
  <dcterms:modified xsi:type="dcterms:W3CDTF">2013-09-28T15:04:18Z</dcterms:modified>
  <cp:revision>117</cp:revision>
  <dc:subject/>
  <dc:title>Использование технологии развития критического мышления (ТРКМ) в дистанционном обучении</dc:title>
</cp:coreProperties>
</file>