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7B7A-E0D1-4B50-BA82-357BD5CB81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E077-3EA3-4872-BDA7-0B71F2E72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B964-A0FB-4A29-B932-4D50EF346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ыводы на эту тему только на основе тестов не сделаеш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931-FF0C-4A7E-B8FF-722C5419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A00-3A06-41DD-A3E8-DA93E0BE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F90-C622-4869-B66A-096205E2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1D9-F0B2-4610-B292-D5E0D7B9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FA8-2FB4-46CB-903C-DDFA6E29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9800-E3D0-4940-8A11-1965E5C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48D6-CD12-4B95-93BD-029A00E7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728D-1444-4B56-B3AB-47B904DF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AD7F-98B6-46DD-9D37-A84FFF9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9BD1-FD6B-45A8-B4F6-3E9A5B7B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BCDD-6234-40C2-A41F-F636B2B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F0A-2A9F-4F65-AE75-D4B2FF9B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D46E-8D00-4D5B-A56B-4F6CB6A2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A6FC-DF58-4A77-BD0C-9B3E4245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19AA-3A90-4D9C-9B58-01223E87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CC3F-3DCB-4B67-B6A1-4051B5F6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DA8D-435E-4C82-A609-30D29A81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B42-BC63-4FD0-84FE-9ADEB808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DCA-122E-40CD-BEFF-06DD390E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0A4-B42A-45F3-B7AE-97DE4965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F13-ACAE-4CCD-91AA-2DD42EE3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AB2-76ED-4728-A80E-AF10426D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CCD-47DA-4617-8AC8-38560B6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8D6-B5A2-4E4B-8F2C-5075E84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3898-BF47-495B-9642-1A651381EA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0D37-06FC-4028-95EB-CE6B890805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1152000"/>
            <a:ext cx="68403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Использование технологии развития критического мышления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РИЗ-технолог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E8C5-3C29-4F9F-8E51-8F67C4D65D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Стратегия «Инсерт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(«Условные значки») (1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55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916280"/>
          <a:ext cx="8532720" cy="2952720"/>
        </p:xfrm>
        <a:graphic>
          <a:graphicData uri="http://schemas.openxmlformats.org/drawingml/2006/table">
            <a:tbl>
              <a:tblPr/>
              <a:tblGrid>
                <a:gridCol w="2114280"/>
                <a:gridCol w="3397320"/>
                <a:gridCol w="3021120"/>
              </a:tblGrid>
              <a:tr h="29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t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ys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ffe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ad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thinking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амоактивизирующая (диалоговая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истемная разметк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для эффективног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чтения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размыш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уже 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думал инач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есть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63B7-D12C-4A55-98C5-110BDE4646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Стратегия «Инсерт»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(«Условные значки») (1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11280" y="1484280"/>
          <a:ext cx="8064360" cy="3379680"/>
        </p:xfrm>
        <a:graphic>
          <a:graphicData uri="http://schemas.openxmlformats.org/drawingml/2006/table">
            <a:tbl>
              <a:tblPr/>
              <a:tblGrid>
                <a:gridCol w="2178000"/>
                <a:gridCol w="588636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AutoShape 47"/>
          <p:cNvSpPr/>
          <p:nvPr/>
        </p:nvSpPr>
        <p:spPr>
          <a:xfrm>
            <a:off x="8389800" y="404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A18-7A0A-41C4-8ABB-C4F60305AD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Графические организаторы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«Кластеры» (1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8305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ение смысловых единиц текста и их графическое оформление в определенном порядке в виде гро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Важно в тексте, с которым работаеш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ь главную смысловую единицу в виде ключевого слова или словосочетания (те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ь связанные с ключевым словом смысловые единицы (категорий информ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ретизировать категории мнениями и фактами, которые содержаться в осваиваем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7457-217A-477C-AF29-6B6296E518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1476360" y="1557360"/>
            <a:ext cx="6348600" cy="4393800"/>
            <a:chOff x="1476360" y="1557360"/>
            <a:chExt cx="6348600" cy="4393800"/>
          </a:xfrm>
        </p:grpSpPr>
        <p:sp>
          <p:nvSpPr>
            <p:cNvPr id="144" name="Oval 6"/>
            <p:cNvSpPr/>
            <p:nvPr/>
          </p:nvSpPr>
          <p:spPr>
            <a:xfrm>
              <a:off x="3838680" y="3327480"/>
              <a:ext cx="1476360" cy="7574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лючевое сло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1919160" y="2266920"/>
              <a:ext cx="1771560" cy="454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1919160" y="4691520"/>
              <a:ext cx="1771560" cy="454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5462640" y="4691520"/>
              <a:ext cx="1771560" cy="454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5167080" y="2266920"/>
              <a:ext cx="1771560" cy="454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1771560" y="29210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2"/>
            <p:cNvSpPr/>
            <p:nvPr/>
          </p:nvSpPr>
          <p:spPr>
            <a:xfrm>
              <a:off x="1476360" y="352692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3"/>
            <p:cNvSpPr/>
            <p:nvPr/>
          </p:nvSpPr>
          <p:spPr>
            <a:xfrm>
              <a:off x="3235680" y="54212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4"/>
            <p:cNvSpPr/>
            <p:nvPr/>
          </p:nvSpPr>
          <p:spPr>
            <a:xfrm>
              <a:off x="1919160" y="534528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"/>
            <p:cNvSpPr/>
            <p:nvPr/>
          </p:nvSpPr>
          <p:spPr>
            <a:xfrm>
              <a:off x="4576680" y="54968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4871880" y="489096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6348240" y="54968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7382160" y="261792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9"/>
            <p:cNvSpPr/>
            <p:nvPr/>
          </p:nvSpPr>
          <p:spPr>
            <a:xfrm>
              <a:off x="4133880" y="246636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0"/>
            <p:cNvSpPr/>
            <p:nvPr/>
          </p:nvSpPr>
          <p:spPr>
            <a:xfrm>
              <a:off x="4576680" y="186048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1"/>
            <p:cNvSpPr/>
            <p:nvPr/>
          </p:nvSpPr>
          <p:spPr>
            <a:xfrm>
              <a:off x="6643800" y="1557360"/>
              <a:ext cx="442800" cy="45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2"/>
            <p:cNvSpPr/>
            <p:nvPr/>
          </p:nvSpPr>
          <p:spPr>
            <a:xfrm>
              <a:off x="3838680" y="20120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3"/>
            <p:cNvSpPr/>
            <p:nvPr/>
          </p:nvSpPr>
          <p:spPr>
            <a:xfrm>
              <a:off x="3543120" y="2617920"/>
              <a:ext cx="73800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4"/>
            <p:cNvSpPr/>
            <p:nvPr/>
          </p:nvSpPr>
          <p:spPr>
            <a:xfrm flipH="1">
              <a:off x="4871880" y="2617920"/>
              <a:ext cx="44280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5167080" y="3981600"/>
              <a:ext cx="88596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H="1">
              <a:off x="3247920" y="3981600"/>
              <a:ext cx="88560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066400" y="2617920"/>
              <a:ext cx="14724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H="1">
              <a:off x="1771560" y="3375360"/>
              <a:ext cx="1476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 flipV="1">
              <a:off x="3543120" y="2162880"/>
              <a:ext cx="2952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3690720" y="2466360"/>
              <a:ext cx="4428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5019840" y="2163240"/>
              <a:ext cx="2952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 flipH="1">
              <a:off x="6643800" y="2012040"/>
              <a:ext cx="14760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H="1" flipV="1">
              <a:off x="6939000" y="2617920"/>
              <a:ext cx="442800" cy="1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H="1">
              <a:off x="2041920" y="5067720"/>
              <a:ext cx="1476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 flipV="1">
              <a:off x="5315040" y="4890600"/>
              <a:ext cx="1476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 flipV="1">
              <a:off x="4871880" y="5344920"/>
              <a:ext cx="1476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>
              <a:off x="6570000" y="51811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3247920" y="5136840"/>
              <a:ext cx="14724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Графические организаторы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«Кластеры»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AutoShape 44"/>
          <p:cNvSpPr/>
          <p:nvPr/>
        </p:nvSpPr>
        <p:spPr>
          <a:xfrm>
            <a:off x="8389800" y="404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5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1E60-E857-4B63-8FBF-6C9F17CB21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900000" y="1700280"/>
            <a:ext cx="7487640" cy="4320720"/>
            <a:chOff x="900000" y="1700280"/>
            <a:chExt cx="7487640" cy="4320720"/>
          </a:xfrm>
        </p:grpSpPr>
        <p:sp>
          <p:nvSpPr>
            <p:cNvPr id="182" name="Oval 3"/>
            <p:cNvSpPr/>
            <p:nvPr/>
          </p:nvSpPr>
          <p:spPr>
            <a:xfrm>
              <a:off x="3107520" y="3440880"/>
              <a:ext cx="3057480" cy="1120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разовательный проц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"/>
            <p:cNvSpPr/>
            <p:nvPr/>
          </p:nvSpPr>
          <p:spPr>
            <a:xfrm>
              <a:off x="1422360" y="2397960"/>
              <a:ext cx="2089440" cy="81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част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1422360" y="4419720"/>
              <a:ext cx="2089440" cy="809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5601600" y="4489560"/>
              <a:ext cx="2177640" cy="739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едметные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5253480" y="2397960"/>
              <a:ext cx="2089440" cy="81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держ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1248120" y="3041280"/>
              <a:ext cx="52236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9"/>
            <p:cNvSpPr/>
            <p:nvPr/>
          </p:nvSpPr>
          <p:spPr>
            <a:xfrm>
              <a:off x="900000" y="3637440"/>
              <a:ext cx="522360" cy="446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"/>
            <p:cNvSpPr/>
            <p:nvPr/>
          </p:nvSpPr>
          <p:spPr>
            <a:xfrm>
              <a:off x="2974680" y="549972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"/>
            <p:cNvSpPr/>
            <p:nvPr/>
          </p:nvSpPr>
          <p:spPr>
            <a:xfrm>
              <a:off x="1422360" y="5424840"/>
              <a:ext cx="522000" cy="447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2"/>
            <p:cNvSpPr/>
            <p:nvPr/>
          </p:nvSpPr>
          <p:spPr>
            <a:xfrm>
              <a:off x="4556880" y="5574600"/>
              <a:ext cx="52236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3"/>
            <p:cNvSpPr/>
            <p:nvPr/>
          </p:nvSpPr>
          <p:spPr>
            <a:xfrm>
              <a:off x="4905360" y="497844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4"/>
            <p:cNvSpPr/>
            <p:nvPr/>
          </p:nvSpPr>
          <p:spPr>
            <a:xfrm>
              <a:off x="6646680" y="557460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7865280" y="2743200"/>
              <a:ext cx="52236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6"/>
            <p:cNvSpPr/>
            <p:nvPr/>
          </p:nvSpPr>
          <p:spPr>
            <a:xfrm>
              <a:off x="4034520" y="259452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7"/>
            <p:cNvSpPr/>
            <p:nvPr/>
          </p:nvSpPr>
          <p:spPr>
            <a:xfrm>
              <a:off x="4556880" y="1998000"/>
              <a:ext cx="52236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6994800" y="170028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9"/>
            <p:cNvSpPr/>
            <p:nvPr/>
          </p:nvSpPr>
          <p:spPr>
            <a:xfrm>
              <a:off x="3686400" y="2146680"/>
              <a:ext cx="522000" cy="447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0"/>
            <p:cNvSpPr/>
            <p:nvPr/>
          </p:nvSpPr>
          <p:spPr>
            <a:xfrm>
              <a:off x="3337920" y="2743200"/>
              <a:ext cx="87048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1"/>
            <p:cNvSpPr/>
            <p:nvPr/>
          </p:nvSpPr>
          <p:spPr>
            <a:xfrm flipH="1">
              <a:off x="4905360" y="2743200"/>
              <a:ext cx="52200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2"/>
            <p:cNvSpPr/>
            <p:nvPr/>
          </p:nvSpPr>
          <p:spPr>
            <a:xfrm>
              <a:off x="5253480" y="4084200"/>
              <a:ext cx="104436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3"/>
            <p:cNvSpPr/>
            <p:nvPr/>
          </p:nvSpPr>
          <p:spPr>
            <a:xfrm flipH="1">
              <a:off x="2989440" y="4084200"/>
              <a:ext cx="104472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4"/>
            <p:cNvSpPr/>
            <p:nvPr/>
          </p:nvSpPr>
          <p:spPr>
            <a:xfrm flipH="1">
              <a:off x="1596240" y="2743200"/>
              <a:ext cx="17388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5"/>
            <p:cNvSpPr/>
            <p:nvPr/>
          </p:nvSpPr>
          <p:spPr>
            <a:xfrm flipH="1">
              <a:off x="1248120" y="3487680"/>
              <a:ext cx="17424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6"/>
            <p:cNvSpPr/>
            <p:nvPr/>
          </p:nvSpPr>
          <p:spPr>
            <a:xfrm flipV="1">
              <a:off x="3337920" y="2296080"/>
              <a:ext cx="34812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3512160" y="2594520"/>
              <a:ext cx="52200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5079600" y="2296080"/>
              <a:ext cx="34812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9"/>
            <p:cNvSpPr/>
            <p:nvPr/>
          </p:nvSpPr>
          <p:spPr>
            <a:xfrm flipH="1">
              <a:off x="6994440" y="2146680"/>
              <a:ext cx="17388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 flipH="1" flipV="1">
              <a:off x="7343280" y="2742840"/>
              <a:ext cx="52200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H="1">
              <a:off x="1568160" y="5151600"/>
              <a:ext cx="17424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 flipV="1">
              <a:off x="5427720" y="4978440"/>
              <a:ext cx="17388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 flipV="1">
              <a:off x="4905360" y="5424840"/>
              <a:ext cx="17388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>
              <a:off x="6908760" y="526392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5"/>
            <p:cNvSpPr/>
            <p:nvPr/>
          </p:nvSpPr>
          <p:spPr>
            <a:xfrm>
              <a:off x="2989440" y="5220360"/>
              <a:ext cx="17424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AutoShape 40"/>
          <p:cNvSpPr/>
          <p:nvPr/>
        </p:nvSpPr>
        <p:spPr>
          <a:xfrm>
            <a:off x="8389800" y="404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2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Кластеры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3"/>
          <p:cNvSpPr/>
          <p:nvPr/>
        </p:nvSpPr>
        <p:spPr>
          <a:xfrm>
            <a:off x="3429000" y="1643040"/>
            <a:ext cx="1700280" cy="8571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4"/>
          <p:cNvSpPr/>
          <p:nvPr/>
        </p:nvSpPr>
        <p:spPr>
          <a:xfrm>
            <a:off x="1357200" y="2286000"/>
            <a:ext cx="1843200" cy="914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5"/>
          <p:cNvSpPr/>
          <p:nvPr/>
        </p:nvSpPr>
        <p:spPr>
          <a:xfrm>
            <a:off x="5357880" y="3357720"/>
            <a:ext cx="1785960" cy="8571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гл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6"/>
          <p:cNvSpPr/>
          <p:nvPr/>
        </p:nvSpPr>
        <p:spPr>
          <a:xfrm>
            <a:off x="214200" y="3643200"/>
            <a:ext cx="1571760" cy="4287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7"/>
          <p:cNvSpPr/>
          <p:nvPr/>
        </p:nvSpPr>
        <p:spPr>
          <a:xfrm>
            <a:off x="1928880" y="3643200"/>
            <a:ext cx="2000160" cy="500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без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8"/>
          <p:cNvSpPr/>
          <p:nvPr/>
        </p:nvSpPr>
        <p:spPr>
          <a:xfrm>
            <a:off x="4214880" y="4572000"/>
            <a:ext cx="1714320" cy="428760"/>
          </a:xfrm>
          <a:prstGeom prst="ellipse">
            <a:avLst/>
          </a:prstGeom>
          <a:solidFill>
            <a:srgbClr val="ad0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сон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9"/>
          <p:cNvSpPr/>
          <p:nvPr/>
        </p:nvSpPr>
        <p:spPr>
          <a:xfrm>
            <a:off x="6572160" y="4572000"/>
            <a:ext cx="1486080" cy="428760"/>
          </a:xfrm>
          <a:prstGeom prst="ellipse">
            <a:avLst/>
          </a:prstGeom>
          <a:solidFill>
            <a:srgbClr val="ad0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шу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0"/>
          <p:cNvSpPr/>
          <p:nvPr/>
        </p:nvSpPr>
        <p:spPr>
          <a:xfrm>
            <a:off x="5715000" y="2643120"/>
            <a:ext cx="142884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твёр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1"/>
          <p:cNvSpPr/>
          <p:nvPr/>
        </p:nvSpPr>
        <p:spPr>
          <a:xfrm>
            <a:off x="7358040" y="2643120"/>
            <a:ext cx="141444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мя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12"/>
          <p:cNvSpPr/>
          <p:nvPr/>
        </p:nvSpPr>
        <p:spPr>
          <a:xfrm>
            <a:off x="5000760" y="5572080"/>
            <a:ext cx="1571400" cy="3571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звон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3"/>
          <p:cNvSpPr/>
          <p:nvPr/>
        </p:nvSpPr>
        <p:spPr>
          <a:xfrm>
            <a:off x="7072200" y="5500800"/>
            <a:ext cx="1414440" cy="3571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гл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15"/>
          <p:cNvCxnSpPr>
            <a:stCxn id="220" idx="2"/>
            <a:endCxn id="221" idx="7"/>
          </p:cNvCxnSpPr>
          <p:nvPr/>
        </p:nvCxnSpPr>
        <p:spPr>
          <a:xfrm flipH="1">
            <a:off x="2929680" y="2070720"/>
            <a:ext cx="499320" cy="3477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2" name="Прямая со стрелкой 17"/>
          <p:cNvCxnSpPr>
            <a:stCxn id="220" idx="5"/>
            <a:endCxn id="222" idx="1"/>
          </p:cNvCxnSpPr>
          <p:nvPr/>
        </p:nvCxnSpPr>
        <p:spPr>
          <a:xfrm>
            <a:off x="4878720" y="2374920"/>
            <a:ext cx="740520" cy="11088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3" name="Прямая со стрелкой 21"/>
          <p:cNvCxnSpPr>
            <a:stCxn id="221" idx="3"/>
            <a:endCxn id="223" idx="0"/>
          </p:cNvCxnSpPr>
          <p:nvPr/>
        </p:nvCxnSpPr>
        <p:spPr>
          <a:xfrm flipH="1">
            <a:off x="999720" y="3067200"/>
            <a:ext cx="627840" cy="5763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4" name="Прямая со стрелкой 23"/>
          <p:cNvCxnSpPr>
            <a:stCxn id="221" idx="5"/>
            <a:endCxn id="224" idx="7"/>
          </p:cNvCxnSpPr>
          <p:nvPr/>
        </p:nvCxnSpPr>
        <p:spPr>
          <a:xfrm>
            <a:off x="2930400" y="3066840"/>
            <a:ext cx="705240" cy="6498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5" name="Прямая со стрелкой 26"/>
          <p:cNvCxnSpPr>
            <a:stCxn id="222" idx="7"/>
            <a:endCxn id="227" idx="4"/>
          </p:cNvCxnSpPr>
          <p:nvPr/>
        </p:nvCxnSpPr>
        <p:spPr>
          <a:xfrm flipH="1" flipV="1">
            <a:off x="6428520" y="2999520"/>
            <a:ext cx="453240" cy="483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6" name="Прямая со стрелкой 29"/>
          <p:cNvCxnSpPr>
            <a:stCxn id="222" idx="7"/>
            <a:endCxn id="228" idx="3"/>
          </p:cNvCxnSpPr>
          <p:nvPr/>
        </p:nvCxnSpPr>
        <p:spPr>
          <a:xfrm flipV="1">
            <a:off x="6881760" y="2947680"/>
            <a:ext cx="682920" cy="5356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7" name="Прямая со стрелкой 31"/>
          <p:cNvCxnSpPr>
            <a:stCxn id="222" idx="3"/>
            <a:endCxn id="225" idx="0"/>
          </p:cNvCxnSpPr>
          <p:nvPr/>
        </p:nvCxnSpPr>
        <p:spPr>
          <a:xfrm flipH="1">
            <a:off x="5071320" y="4088880"/>
            <a:ext cx="548280" cy="483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8" name="Прямая со стрелкой 33"/>
          <p:cNvCxnSpPr>
            <a:stCxn id="222" idx="5"/>
            <a:endCxn id="226" idx="0"/>
          </p:cNvCxnSpPr>
          <p:nvPr/>
        </p:nvCxnSpPr>
        <p:spPr>
          <a:xfrm>
            <a:off x="6881760" y="4088880"/>
            <a:ext cx="434160" cy="483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9" name="Прямая со стрелкой 35"/>
          <p:cNvCxnSpPr>
            <a:stCxn id="226" idx="3"/>
            <a:endCxn id="229" idx="0"/>
          </p:cNvCxnSpPr>
          <p:nvPr/>
        </p:nvCxnSpPr>
        <p:spPr>
          <a:xfrm flipH="1">
            <a:off x="5785920" y="4937040"/>
            <a:ext cx="1003680" cy="6357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40" name="Прямая со стрелкой 37"/>
          <p:cNvCxnSpPr>
            <a:stCxn id="226" idx="5"/>
            <a:endCxn id="230" idx="7"/>
          </p:cNvCxnSpPr>
          <p:nvPr/>
        </p:nvCxnSpPr>
        <p:spPr>
          <a:xfrm>
            <a:off x="7839720" y="4936680"/>
            <a:ext cx="440280" cy="6166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sp>
        <p:nvSpPr>
          <p:cNvPr id="241" name="Содержимое 2"/>
          <p:cNvSpPr/>
          <p:nvPr/>
        </p:nvSpPr>
        <p:spPr>
          <a:xfrm>
            <a:off x="214200" y="1500120"/>
            <a:ext cx="865836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2"/>
          <p:cNvSpPr/>
          <p:nvPr/>
        </p:nvSpPr>
        <p:spPr>
          <a:xfrm>
            <a:off x="366840" y="1652760"/>
            <a:ext cx="86580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2"/>
          <p:cNvSpPr/>
          <p:nvPr/>
        </p:nvSpPr>
        <p:spPr>
          <a:xfrm>
            <a:off x="142920" y="1643040"/>
            <a:ext cx="878688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652320" y="1724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одержимое 2"/>
          <p:cNvSpPr/>
          <p:nvPr/>
        </p:nvSpPr>
        <p:spPr>
          <a:xfrm>
            <a:off x="6429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A6DD-FC93-4853-9577-C5C9DD8635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1628640"/>
            <a:ext cx="8055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noto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обозначаю и греч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apho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пишу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 выделения из текста существенных признаков понят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ru-RU" sz="2500" spc="-1" strike="noStrike" u="sng">
                <a:solidFill>
                  <a:srgbClr val="330033"/>
                </a:solidFill>
                <a:uFillTx/>
                <a:latin typeface="Arial"/>
              </a:rPr>
              <a:t>Методика построения денотатного графа</a:t>
            </a:r>
            <a:r>
              <a:rPr b="1" lang="ru-RU" sz="2500" spc="-1" strike="noStrike">
                <a:solidFill>
                  <a:srgbClr val="330033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деление ключевого слова или словосочета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ередование имени и глагола в графе (именем может быть одно существительное или группа существительных в сочетании с другими именными частями речи; глагол выражает динамику мысли, движение от понятия к его существенному признаку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Графические организаторы: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Денотатный граф»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100F-1C3F-4526-8A47-E84CD9B4DE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ый выбор глагола, связывающего ключевое понятие и его существенный признак (глаголы, обозначающие цель – направлять, предполагать, приводить, давать и т.д.: глаголы, обозначающие процесс достижения результата – достигать, осуществляться; глаголы, обозначающие предпосылки достижения результата – основываться, опираться, базироваться; глаголы-связки, с помощью которых осуществляется выход на определение значения понят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ление ключевого слова по мере построения графа на слова – "веточк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есение каждого слова "веточки" с ключевым словом с целью исключения каких-либо несоответствий, противореч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Графические организаторы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«Денотатный граф»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389800" y="404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3322-72DE-4ABD-B40B-0B684A3580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611280" y="1484280"/>
            <a:ext cx="8253000" cy="5329440"/>
            <a:chOff x="611280" y="1484280"/>
            <a:chExt cx="8253000" cy="5329440"/>
          </a:xfrm>
        </p:grpSpPr>
        <p:sp>
          <p:nvSpPr>
            <p:cNvPr id="257" name="Text Box 5"/>
            <p:cNvSpPr/>
            <p:nvPr/>
          </p:nvSpPr>
          <p:spPr>
            <a:xfrm>
              <a:off x="3043800" y="1484280"/>
              <a:ext cx="3475080" cy="56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дагогическая информационная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61128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ормир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234864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ключа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08636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азвива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573696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являе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38756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собств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11280" y="3073680"/>
              <a:ext cx="147672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формационно-образовательную сред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611280" y="4943520"/>
              <a:ext cx="147672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формационно-образовательное и культурное простран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4086360" y="3073680"/>
              <a:ext cx="147672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формационную компетентность и культур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5736960" y="3073680"/>
              <a:ext cx="147672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истемным методом работы с образовательной информаци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7387560" y="3073680"/>
              <a:ext cx="1476720" cy="11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птимизации информационного обеспечения образовательного процес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6"/>
            <p:cNvSpPr/>
            <p:nvPr/>
          </p:nvSpPr>
          <p:spPr>
            <a:xfrm>
              <a:off x="611280" y="438264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асширя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7"/>
            <p:cNvSpPr/>
            <p:nvPr/>
          </p:nvSpPr>
          <p:spPr>
            <a:xfrm>
              <a:off x="2522520" y="5037120"/>
              <a:ext cx="147672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хранит, распространяет, представляет, преобраз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2522520" y="6252840"/>
              <a:ext cx="1476720" cy="56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бразовательную информаци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7387560" y="4476240"/>
              <a:ext cx="1476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дивидуализир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0"/>
            <p:cNvSpPr/>
            <p:nvPr/>
          </p:nvSpPr>
          <p:spPr>
            <a:xfrm>
              <a:off x="7387560" y="5130720"/>
              <a:ext cx="1476720" cy="56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осприятие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1"/>
            <p:cNvSpPr/>
            <p:nvPr/>
          </p:nvSpPr>
          <p:spPr>
            <a:xfrm>
              <a:off x="2522520" y="3073680"/>
              <a:ext cx="347400" cy="15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удио 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2"/>
            <p:cNvSpPr/>
            <p:nvPr/>
          </p:nvSpPr>
          <p:spPr>
            <a:xfrm>
              <a:off x="2956680" y="3073680"/>
              <a:ext cx="347400" cy="15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изуальные 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3"/>
            <p:cNvSpPr/>
            <p:nvPr/>
          </p:nvSpPr>
          <p:spPr>
            <a:xfrm>
              <a:off x="3477960" y="3073680"/>
              <a:ext cx="347400" cy="15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>
              <a:off x="1479960" y="1917720"/>
              <a:ext cx="15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>
              <a:off x="6518880" y="1902960"/>
              <a:ext cx="15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6"/>
            <p:cNvSpPr/>
            <p:nvPr/>
          </p:nvSpPr>
          <p:spPr>
            <a:xfrm>
              <a:off x="1479960" y="1951560"/>
              <a:ext cx="0" cy="4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>
              <a:off x="3130560" y="204516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8"/>
            <p:cNvSpPr/>
            <p:nvPr/>
          </p:nvSpPr>
          <p:spPr>
            <a:xfrm>
              <a:off x="4781160" y="204516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9"/>
            <p:cNvSpPr/>
            <p:nvPr/>
          </p:nvSpPr>
          <p:spPr>
            <a:xfrm>
              <a:off x="6345000" y="204516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0"/>
            <p:cNvSpPr/>
            <p:nvPr/>
          </p:nvSpPr>
          <p:spPr>
            <a:xfrm flipH="1">
              <a:off x="8082360" y="1906920"/>
              <a:ext cx="4680" cy="5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1"/>
            <p:cNvSpPr/>
            <p:nvPr/>
          </p:nvSpPr>
          <p:spPr>
            <a:xfrm>
              <a:off x="147996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2"/>
            <p:cNvSpPr/>
            <p:nvPr/>
          </p:nvSpPr>
          <p:spPr>
            <a:xfrm>
              <a:off x="1479960" y="3821760"/>
              <a:ext cx="0" cy="56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3"/>
            <p:cNvSpPr/>
            <p:nvPr/>
          </p:nvSpPr>
          <p:spPr>
            <a:xfrm>
              <a:off x="1479960" y="4663080"/>
              <a:ext cx="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4"/>
            <p:cNvSpPr/>
            <p:nvPr/>
          </p:nvSpPr>
          <p:spPr>
            <a:xfrm flipH="1">
              <a:off x="2695680" y="2699640"/>
              <a:ext cx="26028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5"/>
            <p:cNvSpPr/>
            <p:nvPr/>
          </p:nvSpPr>
          <p:spPr>
            <a:xfrm>
              <a:off x="313056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6"/>
            <p:cNvSpPr/>
            <p:nvPr/>
          </p:nvSpPr>
          <p:spPr>
            <a:xfrm>
              <a:off x="3477960" y="2699640"/>
              <a:ext cx="17352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7"/>
            <p:cNvSpPr/>
            <p:nvPr/>
          </p:nvSpPr>
          <p:spPr>
            <a:xfrm>
              <a:off x="2696040" y="4663080"/>
              <a:ext cx="34740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8"/>
            <p:cNvSpPr/>
            <p:nvPr/>
          </p:nvSpPr>
          <p:spPr>
            <a:xfrm>
              <a:off x="3130560" y="466308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9"/>
            <p:cNvSpPr/>
            <p:nvPr/>
          </p:nvSpPr>
          <p:spPr>
            <a:xfrm flipH="1">
              <a:off x="3304080" y="4663080"/>
              <a:ext cx="34740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0"/>
            <p:cNvSpPr/>
            <p:nvPr/>
          </p:nvSpPr>
          <p:spPr>
            <a:xfrm>
              <a:off x="3217320" y="5972400"/>
              <a:ext cx="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1"/>
            <p:cNvSpPr/>
            <p:nvPr/>
          </p:nvSpPr>
          <p:spPr>
            <a:xfrm>
              <a:off x="478116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2"/>
            <p:cNvSpPr/>
            <p:nvPr/>
          </p:nvSpPr>
          <p:spPr>
            <a:xfrm>
              <a:off x="634500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3"/>
            <p:cNvSpPr/>
            <p:nvPr/>
          </p:nvSpPr>
          <p:spPr>
            <a:xfrm>
              <a:off x="808272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>
              <a:off x="8082720" y="4195800"/>
              <a:ext cx="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8082720" y="4850280"/>
              <a:ext cx="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46"/>
          <p:cNvSpPr/>
          <p:nvPr/>
        </p:nvSpPr>
        <p:spPr>
          <a:xfrm>
            <a:off x="684360" y="333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7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Documents and Settings\Admin\Рабочий стол\к тексту\slide-12-102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A753-6B3C-41D9-87A5-7AD34D50AE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О чем это мы?... </a:t>
            </a:r>
            <a:r>
              <a:rPr b="1" lang="ru-RU" sz="44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ическое мыш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ность ставить новые, полные смысла </a:t>
            </a:r>
            <a:r>
              <a:rPr b="1" i="1" lang="ru-RU" sz="2800" spc="-1" strike="noStrike">
                <a:solidFill>
                  <a:srgbClr val="ff7c80"/>
                </a:solidFill>
                <a:latin typeface="Arial"/>
              </a:rPr>
              <a:t>вопрос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атывать разнообразные, подкрепляющие </a:t>
            </a:r>
            <a:r>
              <a:rPr b="1" i="1" lang="ru-RU" sz="2800" spc="-1" strike="noStrike">
                <a:solidFill>
                  <a:srgbClr val="ff7c80"/>
                </a:solidFill>
                <a:latin typeface="Arial"/>
              </a:rPr>
              <a:t>аргумен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имать независимые продуманные </a:t>
            </a:r>
            <a:r>
              <a:rPr b="1" i="1" lang="ru-RU" sz="2800" spc="-1" strike="noStrike">
                <a:solidFill>
                  <a:srgbClr val="ff7c80"/>
                </a:solidFill>
                <a:latin typeface="Arial"/>
              </a:rPr>
              <a:t>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Admin\Рабочий стол\к тексту\slide-13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Admin\Рабочий стол\к тексту\slide-14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Documents and Settings\Admin\Рабочий стол\к тексту\slide-15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Documents and Settings\Admin\Рабочий стол\к тексту\slide-16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Documents and Settings\Admin\Рабочий стол\к тексту\slide-16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Admin\Рабочий стол\к тексту\slide-17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C:\Documents and Settings\Admin\Рабочий стол\к тексту\slide-18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a_CampusOtl3DShad"/>
              </a:rPr>
              <a:t>Ромашка блума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Простой вопрос: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астие – это самостоятельная часть речи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Уточняющий вопрос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я правильно понял, то причастие сочетает в себе признаки глагола с признаками прилагательного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Интерпретационный (объясняющий) вопрос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причастия не имеют формы будущего времени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Творческий вопрос: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вы думаете, возможно ли наше общение без употребления причастий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Оценочный вопрос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нужно знать нормы употребления причастий в речи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Практический вопрос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речались ли вы с неправильным написанием причастий в телевизионных рекламах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_CampusOtl3DShad"/>
              </a:rPr>
              <a:t>Письмо с дырками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Восстановите 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вязанное … на определённую … . В большинстве случаев текст состоит из нескольких …, связанных между собой … и посвящённых одной …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знаки тек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динство … тек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личие … мысли тек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носительная … тек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ределённый … пред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… связь предложений в тек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_CampusOtl3DShad"/>
              </a:rPr>
              <a:t>Логические цепочки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cademy Italic"/>
              </a:rPr>
              <a:t>План фонетического разбора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ать слово буквами и указать их коли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транскрибиров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изнести данное слово. Подсчитать количество слогов и обозначить уда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износя слово вслух, последовательно охарактеризовать каждый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C2A-16BA-43D6-96E2-57D9B1B72F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ехнологические этап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484280"/>
          <a:ext cx="7772400" cy="50896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стадия     ВЫ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я стадия    ОСМЫС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я стадия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2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уждение интереса к получению нов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ником собственных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нов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ктировка поставленных учеником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е нового з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ником новых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D74-7D5F-4A3C-84C3-0C8F92D053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Мысль в подарок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00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еющие мыслить умею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давать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. К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j0293936"/>
          <p:cNvPicPr/>
          <p:nvPr/>
        </p:nvPicPr>
        <p:blipFill>
          <a:blip r:embed="rId1"/>
          <a:stretch/>
        </p:blipFill>
        <p:spPr>
          <a:xfrm>
            <a:off x="1258920" y="3573360"/>
            <a:ext cx="280836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9898-993A-4DE7-88CC-C27BEF90DF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аблицы вопро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826920" y="1844640"/>
          <a:ext cx="7859880" cy="4573800"/>
        </p:xfrm>
        <a:graphic>
          <a:graphicData uri="http://schemas.openxmlformats.org/drawingml/2006/table">
            <a:tbl>
              <a:tblPr/>
              <a:tblGrid>
                <a:gridCol w="3889440"/>
                <a:gridCol w="3970440"/>
              </a:tblGrid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онкие»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олстые»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ет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зва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ны ли вы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йте три объяснения, почему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е, почему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вы думает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вы считает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ем различи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_CampusOtl3DShad"/>
              </a:rPr>
              <a:t>Да-нет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Всю ночь читает небылицы, и вот плоды от </a:t>
            </a:r>
            <a:r>
              <a:rPr b="0" lang="ru-RU" sz="4000" spc="-1" strike="noStrike">
                <a:solidFill>
                  <a:srgbClr val="c00000"/>
                </a:solidFill>
                <a:latin typeface="Academy Italic"/>
              </a:rPr>
              <a:t>этих</a:t>
            </a: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 книг!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ademy Italic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cademy Italic"/>
              </a:rPr>
              <a:t>(А.С.Грибое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cademy Ital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cademy"/>
              </a:rPr>
              <a:t>Это служебная часть речи? (н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"/>
              </a:rPr>
              <a:t>Это слово спрягается?  (н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"/>
              </a:rPr>
              <a:t>Это слово употреблено во второй предикативной части? (да)        </a:t>
            </a:r>
            <a:r>
              <a:rPr b="0" i="1" lang="ru-RU" sz="2800" spc="-1" strike="noStrike">
                <a:solidFill>
                  <a:srgbClr val="000000"/>
                </a:solidFill>
                <a:latin typeface="Academy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BE01-E474-4052-9A23-EC80B153E2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30033"/>
                </a:solidFill>
                <a:latin typeface="Times New Roman"/>
              </a:rPr>
              <a:t>«Плюс-минус-вопрос» 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AutoShape 5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826920" y="1989000"/>
          <a:ext cx="7772400" cy="28702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+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-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6A55-E33F-4C80-B996-2B9AC83D52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Красивое многоточие… </a:t>
            </a:r>
            <a:br>
              <a:rPr sz="44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5 мин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55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шем синкве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Одно слов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уществительное или местоимение, обозначающее предмет, о котором идет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Два слов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Прилагательные или причастия, описывающие признаки и свойства выбранного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Три слов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лаголы, описывающие совершаемые предметом или объектом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Фраза из четырех сло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ыражает личное отношение автора к предмету или объе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Одно слов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Характеризует суть предмета или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108000" y="115920"/>
            <a:ext cx="592200" cy="673200"/>
            <a:chOff x="108000" y="115920"/>
            <a:chExt cx="592200" cy="673200"/>
          </a:xfrm>
        </p:grpSpPr>
        <p:sp>
          <p:nvSpPr>
            <p:cNvPr id="347" name="Puzzle3"/>
            <p:cNvSpPr/>
            <p:nvPr/>
          </p:nvSpPr>
          <p:spPr>
            <a:xfrm>
              <a:off x="396360" y="115920"/>
              <a:ext cx="232560" cy="3578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Puzzle2"/>
            <p:cNvSpPr/>
            <p:nvPr/>
          </p:nvSpPr>
          <p:spPr>
            <a:xfrm>
              <a:off x="328680" y="376560"/>
              <a:ext cx="371520" cy="3258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Puzzle4"/>
            <p:cNvSpPr/>
            <p:nvPr/>
          </p:nvSpPr>
          <p:spPr>
            <a:xfrm>
              <a:off x="184680" y="372600"/>
              <a:ext cx="223920" cy="4165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Puzzle1"/>
            <p:cNvSpPr/>
            <p:nvPr/>
          </p:nvSpPr>
          <p:spPr>
            <a:xfrm>
              <a:off x="108000" y="223920"/>
              <a:ext cx="376200" cy="2484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9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876-82FF-4245-9326-108D6EA342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нквей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, ярк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ит, греет, раду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це очень горячее т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33376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аленное, газообраз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лучает,нагревает, обжиг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ое излучение несет энер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493236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Даймонд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это особая форма выполнения творческой работы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йм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стоит из 7 строк. Два существительных (первая и последняя строки) выражают два противоположных понятия. Вторая строка – два прилагательных или причастия, раскрывающих признаки первого существительного. Следующая строка – три глагола или деепричастия, которые выражают действие. Центральная четвертая строка состоит из четырех слов, причем два из них характеризуют первое существительное, а два – контрастное ему понятие, завершающее даймонд. Остальные строки являются зеркальным отражением третьей и второй строк, только эти характеристики уже раскрывают существительное в последней стро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перб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громная, наибольш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увеличивает, преумножает, расширя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улливера превращает в Мальчика с пальч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уменьшает, умаляет, сужива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охотная, наименьш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ит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Хребтищева Татьяна, 10а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Хайку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ам можно предложить написать хайку по такой сх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чка 1: «Я видел» кого-то или что-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чка 2:  Как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чка 3:  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ги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 видел птиц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летевшую зи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асив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 видела  дерев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одним дом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склив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танг Юлия, 6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аманта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то стихотворная форма из семи строк, первая и послед­няя из которых — понятия с противоположным значени­ем. Этот вид стиха составляется по следующей схеме:</a:t>
            </a:r>
            <a:br>
              <a:rPr sz="1900"/>
            </a:b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1: тема (существительно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2: определение (2 прилагательных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3: действие (3 причаст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4: ассоциации (4 существительных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5: действие (3 причаст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6: определение( 2 прилагательных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7: тема  (существительно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ло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нивый, добр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жащий, мечтающий, умираю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ссивность, бездействие, угасание, обломовщ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ющий, решающий, живущ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стойчивый, расчетли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тольц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болова Галина, 10б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Штрих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рихи пишутся по следующим правил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я строка.         1 существ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я строка.          2 прилага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я строка.          3 причас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я строка.          4  глаг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я строка.           5 наречий (или деепричаст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я строка.           Сложносочинённое или сложноподчинённое предложения по т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C892-6669-4A14-AC2C-4766706443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Как организовать осмысленное чтени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о «3-х 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900000" y="3141720"/>
            <a:ext cx="6984720" cy="1800000"/>
            <a:chOff x="900000" y="3141720"/>
            <a:chExt cx="6984720" cy="1800000"/>
          </a:xfrm>
        </p:grpSpPr>
        <p:sp>
          <p:nvSpPr>
            <p:cNvPr id="115" name="Text Box 5"/>
            <p:cNvSpPr/>
            <p:nvPr/>
          </p:nvSpPr>
          <p:spPr>
            <a:xfrm>
              <a:off x="900000" y="3933720"/>
              <a:ext cx="137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Т К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261240" y="3284280"/>
              <a:ext cx="4623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знакомить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нять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именя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1"/>
            <p:cNvSpPr/>
            <p:nvPr/>
          </p:nvSpPr>
          <p:spPr>
            <a:xfrm>
              <a:off x="2376720" y="3141720"/>
              <a:ext cx="600840" cy="1800000"/>
            </a:xfrm>
            <a:custGeom>
              <a:avLst/>
              <a:gdLst>
                <a:gd name="textAreaLeft" fmla="*/ 383760 w 600840"/>
                <a:gd name="textAreaRight" fmla="*/ 600840 w 60084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Работы учащихся по теме «Весна»: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ув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кренние, противоречи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арующие, манящие, дурманящ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уют, раскрывают, волнуют, будораж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вораживая, вдохновляя, перевоплощая, играя, обе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сенние чувства переполняют человека, потому что они возвращают его в царство мечты и на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симова Елена, 6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предложенными «стихотворными» формами позвол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ить словарный запас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ть знание часте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ть знание теории литературы и русского языка, текста художественн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Лингвистическая задач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14400" y="1600200"/>
          <a:ext cx="7772400" cy="4237200"/>
        </p:xfrm>
        <a:graphic>
          <a:graphicData uri="http://schemas.openxmlformats.org/drawingml/2006/table">
            <a:tbl>
              <a:tblPr/>
              <a:tblGrid>
                <a:gridCol w="4952880"/>
                <a:gridCol w="2819520"/>
              </a:tblGrid>
              <a:tr h="19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спец..алист,р..комендация,изб..ра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кр..терий, употр..бить,г..судар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т..рритория, оп..раться, предст..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мот..вировать, б..зироваться, произн..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 ряду во всех словах пропущена безударная проверяемая гласная корн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FF9-6D14-474E-A72E-FBB47AB43F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6737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Эффективная лекция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826920" y="1844640"/>
          <a:ext cx="7705800" cy="3019320"/>
        </p:xfrm>
        <a:graphic>
          <a:graphicData uri="http://schemas.openxmlformats.org/drawingml/2006/table">
            <a:tbl>
              <a:tblPr/>
              <a:tblGrid>
                <a:gridCol w="4550040"/>
                <a:gridCol w="3155760"/>
              </a:tblGrid>
              <a:tr h="747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ой жур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ая информация и предпо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информ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FCA3-062B-470A-B3AF-C7C2F5E0D6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риём  “Ассоциации”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Прямоугольник 7"/>
          <p:cNvSpPr/>
          <p:nvPr/>
        </p:nvSpPr>
        <p:spPr>
          <a:xfrm>
            <a:off x="611280" y="1413000"/>
            <a:ext cx="82818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740000"/>
                </a:solidFill>
                <a:latin typeface="Arial"/>
              </a:rPr>
              <a:t>Сегодня перед нами новый рассказ Александра Грина – “Зелёная лампа”. Какие ассоциации у вас вызывает это словосочета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ом, свет, уют, семья, чтение, книга, учение, ночь, зелёная трава, зелёный свет светофора, литературное общество А. Пушкина, весна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чему именно так назыв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то может произойти в рассказе с таким названи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формулируйте свои догадки письменно, записав пять-шесть предложений о сюж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сказ "Зеленая лампа" Александра Гри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585F-0198-4E59-A259-34E232158C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826920" y="1884240"/>
            <a:ext cx="81378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DE89-9710-4023-8B69-10E6847851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Дерево предсказан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во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ед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ь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снования пред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П. Чехов «То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4"/>
          <p:cNvGraphicFramePr/>
          <p:nvPr/>
        </p:nvGraphicFramePr>
        <p:xfrm>
          <a:off x="4500720" y="3213000"/>
          <a:ext cx="4032000" cy="33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13000"/>
                    <a:ext cx="403200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Сравнительная характеристика героев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, литературных направлений и др.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Можно дать в виде таблицы с вопросами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4400" y="1600200"/>
          <a:ext cx="7772400" cy="31291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Calibri"/>
                        </a:rPr>
                        <a:t>Предмет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Calibri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Calibri"/>
                        </a:rPr>
                        <a:t>Ол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р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я с окружающ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к люб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к народной куль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ское отношение к героин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  <p:sp>
        <p:nvSpPr>
          <p:cNvPr id="386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8056-33E3-4916-AA12-A3640095CB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ение с остановкам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sp>
        <p:nvSpPr>
          <p:cNvPr id="389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F30-6EAF-4D5D-944B-6C2E6F8B15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EDDF-6392-4C43-8DEB-6C9B485023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тратегия решения проблемы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900000" y="2349360"/>
          <a:ext cx="6696360" cy="2303640"/>
        </p:xfrm>
        <a:graphic>
          <a:graphicData uri="http://schemas.openxmlformats.org/drawingml/2006/table">
            <a:tbl>
              <a:tblPr/>
              <a:tblGrid>
                <a:gridCol w="792360"/>
                <a:gridCol w="647640"/>
                <a:gridCol w="5256360"/>
              </a:tblGrid>
              <a:tr h="23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цируйте проблем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еритесь до ее сут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варианты решения!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теперь - за работу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выво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59A2-C90F-42F9-9AC1-0FBB060643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Лист для решения проблем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1916280"/>
          <a:ext cx="7772400" cy="4491000"/>
        </p:xfrm>
        <a:graphic>
          <a:graphicData uri="http://schemas.openxmlformats.org/drawingml/2006/table">
            <a:tbl>
              <a:tblPr/>
              <a:tblGrid>
                <a:gridCol w="4881600"/>
                <a:gridCol w="2890800"/>
              </a:tblGrid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акую главную проблему должны решить геро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кой информацией снабдил вас автор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Что еще вы знаете, что помогло бы решить проблему? Что еще нужно знать героя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аковы три главных способа решения проблемы? Какой из выбранных способов наилучший и по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49000"/>
            <a:ext cx="86104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(начало урока)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628640"/>
          <a:ext cx="7775640" cy="4537080"/>
        </p:xfrm>
        <a:graphic>
          <a:graphicData uri="http://schemas.openxmlformats.org/drawingml/2006/table">
            <a:tbl>
              <a:tblPr/>
              <a:tblGrid>
                <a:gridCol w="2592360"/>
                <a:gridCol w="2951280"/>
                <a:gridCol w="2232000"/>
              </a:tblGrid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борное полотно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борное полотно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борное полотно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я сущест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я 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е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я числ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тои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ю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восоче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стое пред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е пред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сочинё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подчинё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ссою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ю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ы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ённо-ли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пределённо-ли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ли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л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рием «фишбоун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E4D7-4D73-4FBA-81AB-57AF120677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611280" y="1514160"/>
            <a:ext cx="835344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ия работы с приём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шбоун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жет проводиться индивидуально, парно и по группам. Она подходит для работы в классе и может быть предложена в качестве домашнего зада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шбоун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это мини - исследовательская рабо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текстом художественного произведения, дающая возможность формировать такие учебные умения,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элементов причинно-следственного и структурно-функционального ан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влечение необходимой информации из литературного произведения и перевод этой информации из одной знаковой системы в другую (из текста в диаграм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в проектной деятельности, в организации и проведении учебно-исследовательск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ование и координация личной деятельности с другими  участниками при совместн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рием «фишбоун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DCBE-E14A-4E5C-B17A-17793BA12A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Таблица 4" descr="2"/>
          <p:cNvPicPr/>
          <p:nvPr/>
        </p:nvPicPr>
        <p:blipFill>
          <a:blip r:embed="rId1"/>
          <a:stretch/>
        </p:blipFill>
        <p:spPr>
          <a:xfrm>
            <a:off x="1116000" y="177336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40000"/>
                </a:solidFill>
                <a:latin typeface="Times New Roman"/>
              </a:rPr>
              <a:t>Учащиеся, овладевающие стратегией «Fishbone», приобретают такие метапредметные компетенции как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D6F9-7B3D-49F3-8FCC-59493C842F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395280" y="170028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ое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 в групп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и осуществление исследовательской деятель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лкование прочитанного и формулирование своей позиции, адекватное понимание тек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чтение текстов вслух и про себя с извлечением необходимой информ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Триз - загадка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призна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брать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аполнить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? (объект)      что (кто) такое ж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единив записанное в обеих колонках таблицы словам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 не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за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6"/>
          <p:cNvSpPr/>
          <p:nvPr/>
        </p:nvSpPr>
        <p:spPr>
          <a:xfrm>
            <a:off x="1571760" y="4500720"/>
            <a:ext cx="6072120" cy="1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10"/>
          <p:cNvSpPr/>
          <p:nvPr/>
        </p:nvSpPr>
        <p:spPr>
          <a:xfrm flipH="1">
            <a:off x="4570560" y="4287960"/>
            <a:ext cx="2880" cy="107136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Триз - загадки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призна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Сложная, но не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Важная, но не перс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Нужная, но не 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Интересная, но не кн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(морфология)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Триз - загадка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2560" y="1571760"/>
            <a:ext cx="88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действ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брать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аполнить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делает? (объект)   что (кто) делает такое ж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единив записанное в обеих колонках таблицы словам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не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за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4"/>
          <p:cNvSpPr/>
          <p:nvPr/>
        </p:nvSpPr>
        <p:spPr>
          <a:xfrm flipH="1">
            <a:off x="4070520" y="4145040"/>
            <a:ext cx="1440" cy="928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6"/>
          <p:cNvSpPr/>
          <p:nvPr/>
        </p:nvSpPr>
        <p:spPr>
          <a:xfrm>
            <a:off x="357120" y="4572000"/>
            <a:ext cx="8286840" cy="1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Триз - загадки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действ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Передаёт, а не однокласс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Сообщает, а не заву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Спрашивает, а не 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Побуждает, а не гене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(предло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_CampusOtl3DShad"/>
              </a:rPr>
              <a:t>Найди соответствия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пишите предложения, соответствующие схем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[   ], и [   ].       2. [   ]:[   ].      3. [… ,обр.,…  ].       4. [   ],(   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унщики переполошились жеребец был ценный донской породы привёзённый из далёкой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Айтмато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бственного спокойствия он решил не надевать тюбетейку и чаще носил её не на голове, а в карман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Бессара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знать от кого могу получить объективную информацию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Обухов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ось жаркое лето и желтизной вспыхивают леса по которым крадётся осень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.Осетро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ади напирала очередь и раздумывать было некогд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Гайда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арин по служебной надобности едешь?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.Добровольский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030a0"/>
                </a:solidFill>
                <a:latin typeface="a_CampusOtl3DShad"/>
              </a:rPr>
              <a:t>Морфологический анали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42960" y="16426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57120" y="1643040"/>
          <a:ext cx="8358120" cy="1544760"/>
        </p:xfrm>
        <a:graphic>
          <a:graphicData uri="http://schemas.openxmlformats.org/drawingml/2006/table">
            <a:tbl>
              <a:tblPr/>
              <a:tblGrid>
                <a:gridCol w="309600"/>
                <a:gridCol w="365040"/>
                <a:gridCol w="943200"/>
                <a:gridCol w="903240"/>
                <a:gridCol w="923760"/>
                <a:gridCol w="649440"/>
                <a:gridCol w="663480"/>
                <a:gridCol w="1122480"/>
                <a:gridCol w="1120680"/>
                <a:gridCol w="1357200"/>
              </a:tblGrid>
              <a:tr h="2746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дл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ви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рик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х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орош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у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клюж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л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н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2" name="Group 6"/>
          <p:cNvGrpSpPr/>
          <p:nvPr/>
        </p:nvGrpSpPr>
        <p:grpSpPr>
          <a:xfrm>
            <a:off x="0" y="0"/>
            <a:ext cx="457200" cy="228600"/>
            <a:chOff x="0" y="0"/>
            <a:chExt cx="457200" cy="228600"/>
          </a:xfrm>
        </p:grpSpPr>
        <p:sp>
          <p:nvSpPr>
            <p:cNvPr id="423" name="AutoShape 7"/>
            <p:cNvSpPr/>
            <p:nvPr/>
          </p:nvSpPr>
          <p:spPr>
            <a:xfrm>
              <a:off x="0" y="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Arc 10"/>
          <p:cNvSpPr/>
          <p:nvPr/>
        </p:nvSpPr>
        <p:spPr>
          <a:xfrm flipV="1">
            <a:off x="-428760" y="0"/>
            <a:ext cx="220680" cy="10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-428760" y="142920"/>
            <a:ext cx="230400" cy="16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-428760" y="0"/>
            <a:ext cx="11448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Дуга 15"/>
          <p:cNvSpPr/>
          <p:nvPr/>
        </p:nvSpPr>
        <p:spPr>
          <a:xfrm>
            <a:off x="714240" y="1928880"/>
            <a:ext cx="285840" cy="2858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6"/>
          <p:cNvSpPr/>
          <p:nvPr/>
        </p:nvSpPr>
        <p:spPr>
          <a:xfrm>
            <a:off x="714240" y="2928960"/>
            <a:ext cx="214560" cy="142920"/>
          </a:xfrm>
          <a:prstGeom prst="rect">
            <a:avLst/>
          </a:prstGeom>
          <a:solidFill>
            <a:srgbClr val="ffff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7"/>
          <p:cNvSpPr/>
          <p:nvPr/>
        </p:nvSpPr>
        <p:spPr>
          <a:xfrm>
            <a:off x="5572080" y="2928960"/>
            <a:ext cx="214200" cy="142920"/>
          </a:xfrm>
          <a:prstGeom prst="rect">
            <a:avLst/>
          </a:prstGeom>
          <a:solidFill>
            <a:srgbClr val="ffff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285840" y="4143240"/>
            <a:ext cx="85010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оберите» словосочет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   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вскрикнет испуган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cademy Italic"/>
              </a:rPr>
              <a:t>Обозначьте и объясните известные вам орф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е)медле(н,нн)о уех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скройте скобки, «зашифруйте» словосочет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(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_CampusOtl3DShad"/>
              </a:rPr>
              <a:t>Морфологический анализ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морфолог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морфолог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36EE-331B-48E5-A520-9E5D36E5A7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аблицы: </a:t>
            </a:r>
            <a:br>
              <a:rPr sz="44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«Знаю – Узнал – Хочу узнать –  (ЗУХ)»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4360" y="2060640"/>
          <a:ext cx="7848360" cy="2158920"/>
        </p:xfrm>
        <a:graphic>
          <a:graphicData uri="http://schemas.openxmlformats.org/drawingml/2006/table">
            <a:tbl>
              <a:tblPr/>
              <a:tblGrid>
                <a:gridCol w="2500200"/>
                <a:gridCol w="2235240"/>
                <a:gridCol w="311292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зна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узна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хотим узн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55640" y="4797360"/>
          <a:ext cx="7704000" cy="1901880"/>
        </p:xfrm>
        <a:graphic>
          <a:graphicData uri="http://schemas.openxmlformats.org/drawingml/2006/table">
            <a:tbl>
              <a:tblPr/>
              <a:tblGrid>
                <a:gridCol w="3527280"/>
                <a:gridCol w="4176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информации, которыми мы намерены пользо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информации, из которых мы получили/намерены получить информ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лавные сло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куда узнал(ю)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a_CampusOtl3DShad"/>
              </a:rPr>
              <a:t>Реши пропорцию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(спит) как убит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    ?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ломя голов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епко                  темно                   ?               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молодо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ух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      ?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ложе         ?         веселее     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4"/>
          <p:cNvSpPr/>
          <p:nvPr/>
        </p:nvSpPr>
        <p:spPr>
          <a:xfrm>
            <a:off x="2209680" y="1523880"/>
            <a:ext cx="4267440" cy="3962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3962520" y="2362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и меня, вправо от дороги, виднелся какай-то кустик. Когда я подошел поближе, я узнал в кустике такого же «татарина», которого цветок я напрасно сорвал и бро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ст «татарина» состоял из трех отростков. Один был оторван, и, как отрубленная рука, торчал остаток ветки. На других двух было на каждом по цветку. Цветки эти когда-то были красные, теперь же были черные. Один стебель был сломан, и половина его, с грязным цветком на конце, висела книзу; другой, хотя и вымазанный черноземной грязью, все еще торчал кверху. Видно было, что весь кустик был переехан колесом и уже после поднялся и потому стоял боком, но все-таки стоял. Точно вырвали у него кусок тела, вывернули внутренности, оторвали руку, выкололи глаз. Но он все стоит и не сдается человеку, уничтожившему всех его братий кругом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38080" y="380880"/>
            <a:ext cx="7543800" cy="83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нгвистический анализ тек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 народном восприятии это колючее сорное растение, именуемое татарином (татарником), мордвином, муратом (В.И. Даль), соединяется с представлением о вредном, нечистом, злом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3"/>
          <p:cNvPicPr/>
          <p:nvPr/>
        </p:nvPicPr>
        <p:blipFill>
          <a:blip r:embed="rId1"/>
          <a:stretch/>
        </p:blipFill>
        <p:spPr>
          <a:xfrm>
            <a:off x="5334120" y="1676520"/>
            <a:ext cx="2286000" cy="2027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i2"/>
          <p:cNvPicPr/>
          <p:nvPr/>
        </p:nvPicPr>
        <p:blipFill>
          <a:blip r:embed="rId2"/>
          <a:stretch/>
        </p:blipFill>
        <p:spPr>
          <a:xfrm>
            <a:off x="914400" y="4495680"/>
            <a:ext cx="1592280" cy="2133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i"/>
          <p:cNvPicPr/>
          <p:nvPr/>
        </p:nvPicPr>
        <p:blipFill>
          <a:blip r:embed="rId3"/>
          <a:stretch/>
        </p:blipFill>
        <p:spPr>
          <a:xfrm>
            <a:off x="5105520" y="4114800"/>
            <a:ext cx="1517400" cy="1981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A130879"/>
          <p:cNvPicPr/>
          <p:nvPr/>
        </p:nvPicPr>
        <p:blipFill>
          <a:blip r:embed="rId4"/>
          <a:stretch/>
        </p:blipFill>
        <p:spPr>
          <a:xfrm>
            <a:off x="533520" y="1676520"/>
            <a:ext cx="4012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ществ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914400" y="2286000"/>
          <a:ext cx="7772400" cy="384480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38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ст, отросток, ветка, цветок, стебель, грязь, кусти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ин, рука, грязь, колесо, кусок, тело, рука, глаз, человек, брат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Прилагатель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143000" y="2438280"/>
          <a:ext cx="7543800" cy="3692520"/>
        </p:xfrm>
        <a:graphic>
          <a:graphicData uri="http://schemas.openxmlformats.org/drawingml/2006/table">
            <a:tbl>
              <a:tblPr/>
              <a:tblGrid>
                <a:gridCol w="3581280"/>
                <a:gridCol w="3962520"/>
              </a:tblGrid>
              <a:tr h="36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ин, рука, грязь, колесо, кусок, тело, рука, глаз, человек, брат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е, черные, грязные, чернозём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лагол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914400" y="1600200"/>
          <a:ext cx="7772400" cy="4846680"/>
        </p:xfrm>
        <a:graphic>
          <a:graphicData uri="http://schemas.openxmlformats.org/drawingml/2006/table">
            <a:tbl>
              <a:tblPr/>
              <a:tblGrid>
                <a:gridCol w="2286000"/>
                <a:gridCol w="2438280"/>
                <a:gridCol w="3048120"/>
              </a:tblGrid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ин, рука, грязь, колесо, кусок, тело, рука, глаз, человек, брат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е, черные, грязные, чернозём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л, оторван, отрубленная, сломан, висела,  вымазанный, торчал, переехан, поднялся, стоял, вырвали, вывернули, оторвали, выкололи, не сдаётся, уничтожившему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ема произвед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облем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.Н. Толстой «Хаджи-Мурат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он все стоит и не сдается человеку, уничтожившему всех его братий круго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A130879"/>
          <p:cNvPicPr/>
          <p:nvPr/>
        </p:nvPicPr>
        <p:blipFill>
          <a:blip r:embed="rId1"/>
          <a:stretch/>
        </p:blipFill>
        <p:spPr>
          <a:xfrm>
            <a:off x="2514600" y="320040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нгвистическая задач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речь – важнейшая часть не только нашего поведения, но и нашей личности, нашей души, у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Сухору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повторение, двукратное или многократное, обращает на себя особое внимание читающ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 Г. Милосла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ая культура речи заключается в умении найти не только точное средство для выражения своей мысли, но и наиболее доходчивое (т. е. наиболее выразительное), и наиболее уместное (т. е. самое подходящее для данного случа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), и, следовательно, стилистически оправд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И. Оже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2D88-4EE9-4C44-8504-58D1CA7F3B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Сорбонки – </a:t>
            </a:r>
            <a:br>
              <a:rPr sz="38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арточки небольшого размера, предназначенные для активной тренировки памяти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ируя внимание только на тех элементах, которые еще не усвоены, ученики прочно и надолго усваивают и запоминают теоретические пон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тся время урока на проверку ранее изученн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ит охват работой всех учеников кл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я индивидуально, в парах и группах ребята учатся давать оценку себе и своим товарищ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ндивидуальный подход, можно корректно указать ученику на пробелы в его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79D1-16E0-42FC-AA51-19761FA3A2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39640" y="1700280"/>
            <a:ext cx="777744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П </a:t>
            </a:r>
            <a:r>
              <a:rPr b="1" lang="ru-RU" sz="20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пози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О </a:t>
            </a:r>
            <a:r>
              <a:rPr b="1" lang="ru-RU" sz="20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объяснение (или обоснован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П </a:t>
            </a:r>
            <a:r>
              <a:rPr b="1" lang="ru-RU" sz="20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при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С </a:t>
            </a:r>
            <a:r>
              <a:rPr b="1" lang="ru-RU" sz="20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следствие (или сужден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этот приём не был бы технологичным, не обладал бы законченностью, если бы мы не предложили начало предло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е из предложений (позиция) должно начинаться со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«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Я считаю, что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…»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е предложение (объяснение, обоснование своей позиции) начинается со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«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Потому что 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…»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ье предложение (ориентированное на умение доказать правоту своей позиции на практике) начинается со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могу это доказать это на пример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…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, наконец, четвертое предложение (следствие, суждение, выводы) начинается со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«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Исходя из этого, я делаю вывод о том, что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…»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24000" y="26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0000"/>
                </a:solidFill>
                <a:latin typeface="Times New Roman"/>
                <a:ea typeface="Calibri"/>
              </a:rPr>
              <a:t>Формула ПОПС - учащимся предлагается написать четыре предложения,  отражающие следующие четыре момента ПОПС </a:t>
            </a:r>
            <a:r>
              <a:rPr b="1" lang="ru-RU" sz="24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400" spc="-1" strike="noStrike">
                <a:solidFill>
                  <a:srgbClr val="740000"/>
                </a:solidFill>
                <a:latin typeface="Times New Roman"/>
                <a:ea typeface="Calibri"/>
              </a:rPr>
              <a:t> форму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_CampusOtl3DShad"/>
              </a:rPr>
              <a:t>Верные – неверные утвержд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341360"/>
          <a:ext cx="8147160" cy="5256360"/>
        </p:xfrm>
        <a:graphic>
          <a:graphicData uri="http://schemas.openxmlformats.org/drawingml/2006/table">
            <a:tbl>
              <a:tblPr/>
              <a:tblGrid>
                <a:gridCol w="395280"/>
                <a:gridCol w="6294600"/>
                <a:gridCol w="708120"/>
                <a:gridCol w="74916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у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д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чтения тек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сле чтения тек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7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два основных типа словарей: энциклопедические и развлекательн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нциклопедических словарях даётся описание какого-либо явления, события, биографические сведения известных исторических деятелей, деятелей науки, искусства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е развлекательные словари – толкователи незнакомых слов – появились в древности и были приложением к книг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толковый словарь вышел 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ым большим словарём русского языка 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ке был «Толковый словарь живого великорусского языка» М.В.Ломоносо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ектные словари – это словари синонимов, омонимов, антонимов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3:48:03Z</dcterms:created>
  <dc:creator>Shill</dc:creator>
  <dc:description/>
  <dc:language>en-US</dc:language>
  <cp:lastModifiedBy>Admin</cp:lastModifiedBy>
  <dcterms:modified xsi:type="dcterms:W3CDTF">2013-09-28T15:04:18Z</dcterms:modified>
  <cp:revision>117</cp:revision>
  <dc:subject/>
  <dc:title>Использование технологии развития критического мышления (ТРКМ) в дистанционном обучении</dc:title>
</cp:coreProperties>
</file>