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F1734AE9-803C-4CB7-BC7A-2419FABD1C3E}" type="doc">
      <dgm:prSet loTypeId="urn:microsoft.com/office/officeart/2005/8/layout/process4" loCatId="list" qsTypeId="urn:microsoft.com/office/officeart/2005/8/quickstyle/simple1" qsCatId="simple" csTypeId="urn:microsoft.com/office/officeart/2005/8/colors/colorful2" csCatId="colorful" phldr="1"/>
      <dgm:spPr/>
      <dgm:t>
        <a:bodyPr/>
        <a:lstStyle/>
        <a:p>
          <a:endParaRPr lang="ru-RU"/>
        </a:p>
      </dgm:t>
    </dgm:pt>
    <dgm:pt modelId="{3A4B0B9B-7123-4025-850C-8CF109C36C2B}">
      <dgm:prSet phldrT="[Текст]" custT="1">
        <dgm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>
            <a:schemeClr val="lt1"/>
          </a:fontRef>
        </dgm:style>
      </dgm:prSet>
      <dgm:spPr/>
      <dgm:t>
        <a:bodyPr/>
        <a:lstStyle/>
        <a:p>
          <a:r>
            <a:rPr lang="ru-RU" sz="2400" dirty="0" smtClean="0">
              <a:solidFill>
                <a:schemeClr val="tx2">
                  <a:lumMod val="50000"/>
                </a:schemeClr>
              </a:solidFill>
            </a:rPr>
            <a:t>Холодные обирания</a:t>
          </a:r>
          <a:endParaRPr lang="ru-RU" sz="2400" dirty="0">
            <a:solidFill>
              <a:schemeClr val="tx2">
                <a:lumMod val="50000"/>
              </a:schemeClr>
            </a:solidFill>
          </a:endParaRPr>
        </a:p>
      </dgm:t>
    </dgm:pt>
    <dgm:pt modelId="{C60A7842-DD37-464A-8E70-CB9C0F745219}" type="parTrans" cxnId="{B983847F-C165-4D74-BD92-EA68104110FA}">
      <dgm:prSet/>
      <dgm:spPr/>
      <dgm:t>
        <a:bodyPr/>
        <a:lstStyle/>
        <a:p>
          <a:endParaRPr lang="ru-RU"/>
        </a:p>
      </dgm:t>
    </dgm:pt>
    <dgm:pt modelId="{BA1588AB-BA40-408D-A219-D55EE06A365F}" type="sibTrans" cxnId="{B983847F-C165-4D74-BD92-EA68104110FA}">
      <dgm:prSet/>
      <dgm:spPr/>
      <dgm:t>
        <a:bodyPr/>
        <a:lstStyle/>
        <a:p>
          <a:endParaRPr lang="ru-RU"/>
        </a:p>
      </dgm:t>
    </dgm:pt>
    <dgm:pt modelId="{0E12E708-D2F1-4954-83B2-34E2E990E04C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ru-RU" sz="3600" dirty="0" smtClean="0"/>
            <a:t>Правильная подборка мебели</a:t>
          </a:r>
          <a:endParaRPr lang="ru-RU" sz="3600" dirty="0"/>
        </a:p>
      </dgm:t>
    </dgm:pt>
    <dgm:pt modelId="{9DF108AD-EDF4-4930-AE61-14B2C8D500C7}" type="parTrans" cxnId="{08D622B1-C60F-43F6-B1B4-17B145A38C5F}">
      <dgm:prSet/>
      <dgm:spPr/>
      <dgm:t>
        <a:bodyPr/>
        <a:lstStyle/>
        <a:p>
          <a:endParaRPr lang="ru-RU"/>
        </a:p>
      </dgm:t>
    </dgm:pt>
    <dgm:pt modelId="{05FDB2D8-180A-4DC6-B965-ED835656BFC9}" type="sibTrans" cxnId="{08D622B1-C60F-43F6-B1B4-17B145A38C5F}">
      <dgm:prSet/>
      <dgm:spPr/>
      <dgm:t>
        <a:bodyPr/>
        <a:lstStyle/>
        <a:p>
          <a:endParaRPr lang="ru-RU"/>
        </a:p>
      </dgm:t>
    </dgm:pt>
    <dgm:pt modelId="{59FDF46A-401A-4968-8C61-F18A2E07B837}">
      <dgm:prSet phldrT="[Текст]" custT="1"/>
      <dgm:spPr/>
      <dgm:t>
        <a:bodyPr/>
        <a:lstStyle/>
        <a:p>
          <a:r>
            <a:rPr lang="ru-RU" sz="1600" dirty="0" smtClean="0"/>
            <a:t>не только закаляют , но и способствуют повышению тонуса мышц</a:t>
          </a:r>
          <a:endParaRPr lang="ru-RU" sz="1600" dirty="0"/>
        </a:p>
      </dgm:t>
    </dgm:pt>
    <dgm:pt modelId="{A95EA7D1-B493-40F4-BF55-FCEB9957739A}" type="sibTrans" cxnId="{B6F75C9A-CFF0-431E-807B-2838BAA7A342}">
      <dgm:prSet/>
      <dgm:spPr/>
      <dgm:t>
        <a:bodyPr/>
        <a:lstStyle/>
        <a:p>
          <a:endParaRPr lang="ru-RU"/>
        </a:p>
      </dgm:t>
    </dgm:pt>
    <dgm:pt modelId="{CEE2B568-CC72-49EF-8705-6D2F37FF7BF2}" type="parTrans" cxnId="{B6F75C9A-CFF0-431E-807B-2838BAA7A342}">
      <dgm:prSet/>
      <dgm:spPr/>
      <dgm:t>
        <a:bodyPr/>
        <a:lstStyle/>
        <a:p>
          <a:endParaRPr lang="ru-RU"/>
        </a:p>
      </dgm:t>
    </dgm:pt>
    <dgm:pt modelId="{3EC8CE29-A714-4AFC-8B29-8A4D944B3B86}">
      <dgm:prSet/>
      <dgm:spPr/>
      <dgm:t>
        <a:bodyPr/>
        <a:lstStyle/>
        <a:p>
          <a:endParaRPr lang="ru-RU" dirty="0"/>
        </a:p>
      </dgm:t>
    </dgm:pt>
    <dgm:pt modelId="{C9411A9E-E66C-478F-A665-467B6EF10855}" type="parTrans" cxnId="{A684960B-5DB2-4DF2-B7D8-339A34AA686D}">
      <dgm:prSet/>
      <dgm:spPr/>
      <dgm:t>
        <a:bodyPr/>
        <a:lstStyle/>
        <a:p>
          <a:endParaRPr lang="ru-RU"/>
        </a:p>
      </dgm:t>
    </dgm:pt>
    <dgm:pt modelId="{A5204435-A1BD-415C-A313-9ED2AE77F6FC}" type="sibTrans" cxnId="{A684960B-5DB2-4DF2-B7D8-339A34AA686D}">
      <dgm:prSet/>
      <dgm:spPr/>
      <dgm:t>
        <a:bodyPr/>
        <a:lstStyle/>
        <a:p>
          <a:endParaRPr lang="ru-RU"/>
        </a:p>
      </dgm:t>
    </dgm:pt>
    <dgm:pt modelId="{ED8D9B25-D255-4660-8030-8693F7A52780}">
      <dgm:prSet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ru-RU" dirty="0" smtClean="0"/>
            <a:t>Правильное питание </a:t>
          </a:r>
          <a:endParaRPr lang="ru-RU" dirty="0"/>
        </a:p>
      </dgm:t>
    </dgm:pt>
    <dgm:pt modelId="{6EA745D9-8FBC-4FE9-87A4-7E6F36A39162}" type="parTrans" cxnId="{13C0201E-46FD-4CA0-BBED-A023DF13A4A7}">
      <dgm:prSet/>
      <dgm:spPr/>
      <dgm:t>
        <a:bodyPr/>
        <a:lstStyle/>
        <a:p>
          <a:endParaRPr lang="ru-RU"/>
        </a:p>
      </dgm:t>
    </dgm:pt>
    <dgm:pt modelId="{A9AA9065-6E24-4F15-B76B-0E6C0C716EFB}" type="sibTrans" cxnId="{13C0201E-46FD-4CA0-BBED-A023DF13A4A7}">
      <dgm:prSet/>
      <dgm:spPr/>
      <dgm:t>
        <a:bodyPr/>
        <a:lstStyle/>
        <a:p>
          <a:endParaRPr lang="ru-RU"/>
        </a:p>
      </dgm:t>
    </dgm:pt>
    <dgm:pt modelId="{F6D7B3CF-52D5-418F-864C-FDEDFDC1D968}">
      <dgm:prSet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ru-RU" dirty="0" smtClean="0"/>
            <a:t>Систематические физические упражнения </a:t>
          </a:r>
          <a:endParaRPr lang="ru-RU" dirty="0"/>
        </a:p>
      </dgm:t>
    </dgm:pt>
    <dgm:pt modelId="{C82D2C60-6FC6-49E9-A854-DB684209BA46}" type="sibTrans" cxnId="{F8334D40-7D74-4FFB-9317-47FD1941587A}">
      <dgm:prSet/>
      <dgm:spPr/>
      <dgm:t>
        <a:bodyPr/>
        <a:lstStyle/>
        <a:p>
          <a:endParaRPr lang="ru-RU"/>
        </a:p>
      </dgm:t>
    </dgm:pt>
    <dgm:pt modelId="{9571A147-275D-4349-830C-C5A4B7FDBB31}" type="parTrans" cxnId="{F8334D40-7D74-4FFB-9317-47FD1941587A}">
      <dgm:prSet/>
      <dgm:spPr/>
      <dgm:t>
        <a:bodyPr/>
        <a:lstStyle/>
        <a:p>
          <a:endParaRPr lang="ru-RU"/>
        </a:p>
      </dgm:t>
    </dgm:pt>
    <dgm:pt modelId="{0523D9A0-D888-47C9-B602-1E7EF80FD38D}" type="pres">
      <dgm:prSet presAssocID="{F1734AE9-803C-4CB7-BC7A-2419FABD1C3E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2C14DC54-049F-4432-8150-C8CA8140723D}" type="pres">
      <dgm:prSet presAssocID="{0E12E708-D2F1-4954-83B2-34E2E990E04C}" presName="boxAndChildren" presStyleCnt="0"/>
      <dgm:spPr/>
    </dgm:pt>
    <dgm:pt modelId="{184DB294-9AFE-4EEF-B457-869C2CC15AE6}" type="pres">
      <dgm:prSet presAssocID="{0E12E708-D2F1-4954-83B2-34E2E990E04C}" presName="parentTextBox" presStyleLbl="node1" presStyleIdx="0" presStyleCnt="4"/>
      <dgm:spPr/>
      <dgm:t>
        <a:bodyPr/>
        <a:lstStyle/>
        <a:p>
          <a:endParaRPr lang="ru-RU"/>
        </a:p>
      </dgm:t>
    </dgm:pt>
    <dgm:pt modelId="{8D9B8A96-ED69-4C99-B9F2-052575E739D6}" type="pres">
      <dgm:prSet presAssocID="{C82D2C60-6FC6-49E9-A854-DB684209BA46}" presName="sp" presStyleCnt="0"/>
      <dgm:spPr/>
    </dgm:pt>
    <dgm:pt modelId="{9C5D0AFE-E69E-49F0-B1E7-9B538090B275}" type="pres">
      <dgm:prSet presAssocID="{F6D7B3CF-52D5-418F-864C-FDEDFDC1D968}" presName="arrowAndChildren" presStyleCnt="0"/>
      <dgm:spPr/>
    </dgm:pt>
    <dgm:pt modelId="{3C345F9B-33B2-4565-802D-4B6B3A2B0C7C}" type="pres">
      <dgm:prSet presAssocID="{F6D7B3CF-52D5-418F-864C-FDEDFDC1D968}" presName="parentTextArrow" presStyleLbl="node1" presStyleIdx="1" presStyleCnt="4" custLinFactNeighborY="-2457"/>
      <dgm:spPr/>
      <dgm:t>
        <a:bodyPr/>
        <a:lstStyle/>
        <a:p>
          <a:endParaRPr lang="ru-RU"/>
        </a:p>
      </dgm:t>
    </dgm:pt>
    <dgm:pt modelId="{D5B4DBAA-0A9A-42C4-AB28-82EE1357F885}" type="pres">
      <dgm:prSet presAssocID="{A9AA9065-6E24-4F15-B76B-0E6C0C716EFB}" presName="sp" presStyleCnt="0"/>
      <dgm:spPr/>
    </dgm:pt>
    <dgm:pt modelId="{A13351BE-46AE-474F-9E12-62011B40AB27}" type="pres">
      <dgm:prSet presAssocID="{ED8D9B25-D255-4660-8030-8693F7A52780}" presName="arrowAndChildren" presStyleCnt="0"/>
      <dgm:spPr/>
    </dgm:pt>
    <dgm:pt modelId="{660B01A0-398D-47F7-9B9C-297252F7CD6B}" type="pres">
      <dgm:prSet presAssocID="{ED8D9B25-D255-4660-8030-8693F7A52780}" presName="parentTextArrow" presStyleLbl="node1" presStyleIdx="2" presStyleCnt="4"/>
      <dgm:spPr/>
      <dgm:t>
        <a:bodyPr/>
        <a:lstStyle/>
        <a:p>
          <a:endParaRPr lang="ru-RU"/>
        </a:p>
      </dgm:t>
    </dgm:pt>
    <dgm:pt modelId="{308DD0A3-7665-46EF-9D3F-DAD8A3C24152}" type="pres">
      <dgm:prSet presAssocID="{BA1588AB-BA40-408D-A219-D55EE06A365F}" presName="sp" presStyleCnt="0"/>
      <dgm:spPr/>
    </dgm:pt>
    <dgm:pt modelId="{085CDABF-58C9-4BE3-8E60-962CACA999DC}" type="pres">
      <dgm:prSet presAssocID="{3A4B0B9B-7123-4025-850C-8CF109C36C2B}" presName="arrowAndChildren" presStyleCnt="0"/>
      <dgm:spPr/>
    </dgm:pt>
    <dgm:pt modelId="{B2A065C5-11D0-4FA3-88BA-C391D62FE60B}" type="pres">
      <dgm:prSet presAssocID="{3A4B0B9B-7123-4025-850C-8CF109C36C2B}" presName="parentTextArrow" presStyleLbl="node1" presStyleIdx="2" presStyleCnt="4"/>
      <dgm:spPr/>
      <dgm:t>
        <a:bodyPr/>
        <a:lstStyle/>
        <a:p>
          <a:endParaRPr lang="ru-RU"/>
        </a:p>
      </dgm:t>
    </dgm:pt>
    <dgm:pt modelId="{6B2FDB2C-9801-430F-9A0E-7CC70B94AB1D}" type="pres">
      <dgm:prSet presAssocID="{3A4B0B9B-7123-4025-850C-8CF109C36C2B}" presName="arrow" presStyleLbl="node1" presStyleIdx="3" presStyleCnt="4" custLinFactNeighborX="579" custLinFactNeighborY="5159"/>
      <dgm:spPr/>
      <dgm:t>
        <a:bodyPr/>
        <a:lstStyle/>
        <a:p>
          <a:endParaRPr lang="ru-RU"/>
        </a:p>
      </dgm:t>
    </dgm:pt>
    <dgm:pt modelId="{2A23433C-6BC9-4E13-92C7-72FAC45273E3}" type="pres">
      <dgm:prSet presAssocID="{3A4B0B9B-7123-4025-850C-8CF109C36C2B}" presName="descendantArrow" presStyleCnt="0"/>
      <dgm:spPr/>
    </dgm:pt>
    <dgm:pt modelId="{2FB44BEF-D765-4A4F-8144-D61B6B25E34F}" type="pres">
      <dgm:prSet presAssocID="{59FDF46A-401A-4968-8C61-F18A2E07B837}" presName="childTextArrow" presStyleLbl="fgAccFollowNode1" presStyleIdx="0" presStyleCnt="2" custScaleX="891746" custScaleY="112833" custLinFactNeighborX="-11" custLinFactNeighborY="2652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2B772BD-E878-41AE-A7D6-FBC9466B8C81}" type="pres">
      <dgm:prSet presAssocID="{3EC8CE29-A714-4AFC-8B29-8A4D944B3B86}" presName="childTextArrow" presStyleLbl="fgAccFollowNode1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983847F-C165-4D74-BD92-EA68104110FA}" srcId="{F1734AE9-803C-4CB7-BC7A-2419FABD1C3E}" destId="{3A4B0B9B-7123-4025-850C-8CF109C36C2B}" srcOrd="0" destOrd="0" parTransId="{C60A7842-DD37-464A-8E70-CB9C0F745219}" sibTransId="{BA1588AB-BA40-408D-A219-D55EE06A365F}"/>
    <dgm:cxn modelId="{92B46448-629D-43D0-8179-037B2BBB4E7E}" type="presOf" srcId="{3A4B0B9B-7123-4025-850C-8CF109C36C2B}" destId="{B2A065C5-11D0-4FA3-88BA-C391D62FE60B}" srcOrd="0" destOrd="0" presId="urn:microsoft.com/office/officeart/2005/8/layout/process4"/>
    <dgm:cxn modelId="{13C0201E-46FD-4CA0-BBED-A023DF13A4A7}" srcId="{F1734AE9-803C-4CB7-BC7A-2419FABD1C3E}" destId="{ED8D9B25-D255-4660-8030-8693F7A52780}" srcOrd="1" destOrd="0" parTransId="{6EA745D9-8FBC-4FE9-87A4-7E6F36A39162}" sibTransId="{A9AA9065-6E24-4F15-B76B-0E6C0C716EFB}"/>
    <dgm:cxn modelId="{DDBC90DC-4962-46D6-B1A4-E0BD812DA904}" type="presOf" srcId="{ED8D9B25-D255-4660-8030-8693F7A52780}" destId="{660B01A0-398D-47F7-9B9C-297252F7CD6B}" srcOrd="0" destOrd="0" presId="urn:microsoft.com/office/officeart/2005/8/layout/process4"/>
    <dgm:cxn modelId="{DC8DF297-4377-481C-876E-4C2AA1DC5599}" type="presOf" srcId="{3EC8CE29-A714-4AFC-8B29-8A4D944B3B86}" destId="{52B772BD-E878-41AE-A7D6-FBC9466B8C81}" srcOrd="0" destOrd="0" presId="urn:microsoft.com/office/officeart/2005/8/layout/process4"/>
    <dgm:cxn modelId="{F8334D40-7D74-4FFB-9317-47FD1941587A}" srcId="{F1734AE9-803C-4CB7-BC7A-2419FABD1C3E}" destId="{F6D7B3CF-52D5-418F-864C-FDEDFDC1D968}" srcOrd="2" destOrd="0" parTransId="{9571A147-275D-4349-830C-C5A4B7FDBB31}" sibTransId="{C82D2C60-6FC6-49E9-A854-DB684209BA46}"/>
    <dgm:cxn modelId="{1CF5A2E4-73C9-43DA-8236-CCB11EAC7F80}" type="presOf" srcId="{F6D7B3CF-52D5-418F-864C-FDEDFDC1D968}" destId="{3C345F9B-33B2-4565-802D-4B6B3A2B0C7C}" srcOrd="0" destOrd="0" presId="urn:microsoft.com/office/officeart/2005/8/layout/process4"/>
    <dgm:cxn modelId="{A684960B-5DB2-4DF2-B7D8-339A34AA686D}" srcId="{3A4B0B9B-7123-4025-850C-8CF109C36C2B}" destId="{3EC8CE29-A714-4AFC-8B29-8A4D944B3B86}" srcOrd="1" destOrd="0" parTransId="{C9411A9E-E66C-478F-A665-467B6EF10855}" sibTransId="{A5204435-A1BD-415C-A313-9ED2AE77F6FC}"/>
    <dgm:cxn modelId="{E4D2B62B-3962-4ADD-88A9-DCC81649B094}" type="presOf" srcId="{3A4B0B9B-7123-4025-850C-8CF109C36C2B}" destId="{6B2FDB2C-9801-430F-9A0E-7CC70B94AB1D}" srcOrd="1" destOrd="0" presId="urn:microsoft.com/office/officeart/2005/8/layout/process4"/>
    <dgm:cxn modelId="{B6F75C9A-CFF0-431E-807B-2838BAA7A342}" srcId="{3A4B0B9B-7123-4025-850C-8CF109C36C2B}" destId="{59FDF46A-401A-4968-8C61-F18A2E07B837}" srcOrd="0" destOrd="0" parTransId="{CEE2B568-CC72-49EF-8705-6D2F37FF7BF2}" sibTransId="{A95EA7D1-B493-40F4-BF55-FCEB9957739A}"/>
    <dgm:cxn modelId="{08D622B1-C60F-43F6-B1B4-17B145A38C5F}" srcId="{F1734AE9-803C-4CB7-BC7A-2419FABD1C3E}" destId="{0E12E708-D2F1-4954-83B2-34E2E990E04C}" srcOrd="3" destOrd="0" parTransId="{9DF108AD-EDF4-4930-AE61-14B2C8D500C7}" sibTransId="{05FDB2D8-180A-4DC6-B965-ED835656BFC9}"/>
    <dgm:cxn modelId="{CA80DFDE-30C7-4F93-BC57-CA24C432C156}" type="presOf" srcId="{F1734AE9-803C-4CB7-BC7A-2419FABD1C3E}" destId="{0523D9A0-D888-47C9-B602-1E7EF80FD38D}" srcOrd="0" destOrd="0" presId="urn:microsoft.com/office/officeart/2005/8/layout/process4"/>
    <dgm:cxn modelId="{A5EB01A6-746C-495B-8114-14CA09561DA9}" type="presOf" srcId="{0E12E708-D2F1-4954-83B2-34E2E990E04C}" destId="{184DB294-9AFE-4EEF-B457-869C2CC15AE6}" srcOrd="0" destOrd="0" presId="urn:microsoft.com/office/officeart/2005/8/layout/process4"/>
    <dgm:cxn modelId="{5FEA3D5D-DF4A-4EE3-B61B-F789039C2F6D}" type="presOf" srcId="{59FDF46A-401A-4968-8C61-F18A2E07B837}" destId="{2FB44BEF-D765-4A4F-8144-D61B6B25E34F}" srcOrd="0" destOrd="0" presId="urn:microsoft.com/office/officeart/2005/8/layout/process4"/>
    <dgm:cxn modelId="{9E36251B-7C86-40B9-950A-DB6DC2DBE6E6}" type="presParOf" srcId="{0523D9A0-D888-47C9-B602-1E7EF80FD38D}" destId="{2C14DC54-049F-4432-8150-C8CA8140723D}" srcOrd="0" destOrd="0" presId="urn:microsoft.com/office/officeart/2005/8/layout/process4"/>
    <dgm:cxn modelId="{E5A18C42-075C-4F75-9FBC-A0D423EE4617}" type="presParOf" srcId="{2C14DC54-049F-4432-8150-C8CA8140723D}" destId="{184DB294-9AFE-4EEF-B457-869C2CC15AE6}" srcOrd="0" destOrd="0" presId="urn:microsoft.com/office/officeart/2005/8/layout/process4"/>
    <dgm:cxn modelId="{E6BB0205-DFB8-4D37-AF2A-5AAE3F6724C0}" type="presParOf" srcId="{0523D9A0-D888-47C9-B602-1E7EF80FD38D}" destId="{8D9B8A96-ED69-4C99-B9F2-052575E739D6}" srcOrd="1" destOrd="0" presId="urn:microsoft.com/office/officeart/2005/8/layout/process4"/>
    <dgm:cxn modelId="{FC0D74C3-8A84-4F49-ACE2-315BD3A73220}" type="presParOf" srcId="{0523D9A0-D888-47C9-B602-1E7EF80FD38D}" destId="{9C5D0AFE-E69E-49F0-B1E7-9B538090B275}" srcOrd="2" destOrd="0" presId="urn:microsoft.com/office/officeart/2005/8/layout/process4"/>
    <dgm:cxn modelId="{3F52B96A-3C3B-452C-A6CD-1910A7298371}" type="presParOf" srcId="{9C5D0AFE-E69E-49F0-B1E7-9B538090B275}" destId="{3C345F9B-33B2-4565-802D-4B6B3A2B0C7C}" srcOrd="0" destOrd="0" presId="urn:microsoft.com/office/officeart/2005/8/layout/process4"/>
    <dgm:cxn modelId="{C0850524-3A69-49FF-8E70-43C775581771}" type="presParOf" srcId="{0523D9A0-D888-47C9-B602-1E7EF80FD38D}" destId="{D5B4DBAA-0A9A-42C4-AB28-82EE1357F885}" srcOrd="3" destOrd="0" presId="urn:microsoft.com/office/officeart/2005/8/layout/process4"/>
    <dgm:cxn modelId="{ED9041D9-B1D0-4436-A637-C2A74CB6CD71}" type="presParOf" srcId="{0523D9A0-D888-47C9-B602-1E7EF80FD38D}" destId="{A13351BE-46AE-474F-9E12-62011B40AB27}" srcOrd="4" destOrd="0" presId="urn:microsoft.com/office/officeart/2005/8/layout/process4"/>
    <dgm:cxn modelId="{302099A1-CE6A-4944-940D-113FC1EF5C21}" type="presParOf" srcId="{A13351BE-46AE-474F-9E12-62011B40AB27}" destId="{660B01A0-398D-47F7-9B9C-297252F7CD6B}" srcOrd="0" destOrd="0" presId="urn:microsoft.com/office/officeart/2005/8/layout/process4"/>
    <dgm:cxn modelId="{BEFB4F15-88CE-4371-AFCA-46B16D9B8CBC}" type="presParOf" srcId="{0523D9A0-D888-47C9-B602-1E7EF80FD38D}" destId="{308DD0A3-7665-46EF-9D3F-DAD8A3C24152}" srcOrd="5" destOrd="0" presId="urn:microsoft.com/office/officeart/2005/8/layout/process4"/>
    <dgm:cxn modelId="{418E691A-93D9-48F8-9BE8-BC1400FEBC8F}" type="presParOf" srcId="{0523D9A0-D888-47C9-B602-1E7EF80FD38D}" destId="{085CDABF-58C9-4BE3-8E60-962CACA999DC}" srcOrd="6" destOrd="0" presId="urn:microsoft.com/office/officeart/2005/8/layout/process4"/>
    <dgm:cxn modelId="{239EE31D-95A0-4ACA-8F0B-C0205C862BD2}" type="presParOf" srcId="{085CDABF-58C9-4BE3-8E60-962CACA999DC}" destId="{B2A065C5-11D0-4FA3-88BA-C391D62FE60B}" srcOrd="0" destOrd="0" presId="urn:microsoft.com/office/officeart/2005/8/layout/process4"/>
    <dgm:cxn modelId="{DF9ABCA1-1AEB-425A-AB82-35F225A49C4E}" type="presParOf" srcId="{085CDABF-58C9-4BE3-8E60-962CACA999DC}" destId="{6B2FDB2C-9801-430F-9A0E-7CC70B94AB1D}" srcOrd="1" destOrd="0" presId="urn:microsoft.com/office/officeart/2005/8/layout/process4"/>
    <dgm:cxn modelId="{9A398572-D28B-4163-B9CF-0C5C4111537E}" type="presParOf" srcId="{085CDABF-58C9-4BE3-8E60-962CACA999DC}" destId="{2A23433C-6BC9-4E13-92C7-72FAC45273E3}" srcOrd="2" destOrd="0" presId="urn:microsoft.com/office/officeart/2005/8/layout/process4"/>
    <dgm:cxn modelId="{F62DB193-88E1-4D9F-90F9-1B8FE0B68A2C}" type="presParOf" srcId="{2A23433C-6BC9-4E13-92C7-72FAC45273E3}" destId="{2FB44BEF-D765-4A4F-8144-D61B6B25E34F}" srcOrd="0" destOrd="0" presId="urn:microsoft.com/office/officeart/2005/8/layout/process4"/>
    <dgm:cxn modelId="{138D57C6-BF80-4C91-9329-6C545735FF07}" type="presParOf" srcId="{2A23433C-6BC9-4E13-92C7-72FAC45273E3}" destId="{52B772BD-E878-41AE-A7D6-FBC9466B8C81}" srcOrd="1" destOrd="0" presId="urn:microsoft.com/office/officeart/2005/8/layout/process4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rocess4">
  <dgm:title val=""/>
  <dgm:desc val=""/>
  <dgm:catLst>
    <dgm:cat type="process" pri="16000"/>
    <dgm:cat type="list" pri="20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lin">
      <dgm:param type="linDir" val="fromB"/>
    </dgm:alg>
    <dgm:shape xmlns:r="http://schemas.openxmlformats.org/officeDocument/2006/relationships" r:blip="">
      <dgm:adjLst/>
    </dgm:shape>
    <dgm:presOf/>
    <dgm:constrLst>
      <dgm:constr type="h" for="ch" forName="boxAndChildren" refType="h"/>
      <dgm:constr type="h" for="ch" forName="arrowAndChildren" refType="h" refFor="ch" refForName="boxAndChildren" op="equ" fact="1.538"/>
      <dgm:constr type="w" for="ch" forName="arrowAndChildren" refType="w"/>
      <dgm:constr type="w" for="ch" forName="boxAndChildren" refType="w"/>
      <dgm:constr type="h" for="ch" forName="sp" refType="h" fact="-0.015"/>
      <dgm:constr type="primFontSz" for="des" forName="parentTextBox" val="65"/>
      <dgm:constr type="primFontSz" for="des" forName="parentTextArrow" refType="primFontSz" refFor="des" refForName="parentTextBox" op="equ"/>
      <dgm:constr type="primFontSz" for="des" forName="childTextArrow" val="65"/>
      <dgm:constr type="primFontSz" for="des" forName="childTextBox" refType="primFontSz" refFor="des" refForName="childTextArrow" op="equ"/>
    </dgm:constrLst>
    <dgm:ruleLst/>
    <dgm:forEach name="Name1" axis="ch" ptType="node" st="-1" step="-1">
      <dgm:choose name="Name2">
        <dgm:if name="Name3" axis="self" ptType="node" func="revPos" op="equ" val="1">
          <dgm:layoutNode name="boxAndChildren">
            <dgm:alg type="composite"/>
            <dgm:shape xmlns:r="http://schemas.openxmlformats.org/officeDocument/2006/relationships" r:blip="">
              <dgm:adjLst/>
            </dgm:shape>
            <dgm:presOf/>
            <dgm:choose name="Name4">
              <dgm:if name="Name5" axis="ch" ptType="node" func="cnt" op="gte" val="1">
                <dgm:constrLst>
                  <dgm:constr type="w" for="ch" forName="parentTextBox" refType="w"/>
                  <dgm:constr type="h" for="ch" forName="parentTextBox" refType="h" fact="0.54"/>
                  <dgm:constr type="t" for="ch" forName="parentTextBox"/>
                  <dgm:constr type="w" for="ch" forName="entireBox" refType="w"/>
                  <dgm:constr type="h" for="ch" forName="entireBox" refType="h"/>
                  <dgm:constr type="w" for="ch" forName="descendantBox" refType="w"/>
                  <dgm:constr type="b" for="ch" forName="descendantBox" refType="h" fact="0.98"/>
                  <dgm:constr type="h" for="ch" forName="descendantBox" refType="h" fact="0.46"/>
                </dgm:constrLst>
              </dgm:if>
              <dgm:else name="Name6">
                <dgm:constrLst>
                  <dgm:constr type="w" for="ch" forName="parentTextBox" refType="w"/>
                  <dgm:constr type="h" for="ch" forName="parentTextBox" refType="h"/>
                </dgm:constrLst>
              </dgm:else>
            </dgm:choose>
            <dgm:ruleLst/>
            <dgm:layoutNode name="parentTextBox">
              <dgm:alg type="tx"/>
              <dgm:choose name="Name7">
                <dgm:if name="Name8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9">
                  <dgm:shape xmlns:r="http://schemas.openxmlformats.org/officeDocument/2006/relationships" type="rec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10">
              <dgm:if name="Name11" axis="ch" ptType="node" func="cnt" op="gte" val="1">
                <dgm:layoutNode name="entireBox">
                  <dgm:alg type="sp"/>
                  <dgm:shape xmlns:r="http://schemas.openxmlformats.org/officeDocument/2006/relationships" type="rect" r:blip="">
                    <dgm:adjLst/>
                  </dgm:shape>
                  <dgm:presOf axis="self"/>
                  <dgm:constrLst/>
                  <dgm:ruleLst/>
                </dgm:layoutNode>
                <dgm:layoutNode name="descendantBox" styleLbl="fgAccFollowNode1">
                  <dgm:choose name="Name12">
                    <dgm:if name="Name13" func="var" arg="dir" op="equ" val="norm">
                      <dgm:alg type="lin"/>
                    </dgm:if>
                    <dgm:else name="Name14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Box" refType="w"/>
                    <dgm:constr type="h" for="ch" forName="childTextBox" refType="h"/>
                  </dgm:constrLst>
                  <dgm:ruleLst/>
                  <dgm:forEach name="Name15" axis="ch" ptType="node">
                    <dgm:layoutNode name="childTextBox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16"/>
            </dgm:choose>
          </dgm:layoutNode>
        </dgm:if>
        <dgm:else name="Name17">
          <dgm:layoutNode name="arrowAndChildren">
            <dgm:alg type="composite"/>
            <dgm:shape xmlns:r="http://schemas.openxmlformats.org/officeDocument/2006/relationships" r:blip="">
              <dgm:adjLst/>
            </dgm:shape>
            <dgm:presOf/>
            <dgm:choose name="Name18">
              <dgm:if name="Name19" axis="ch" ptType="node" func="cnt" op="gte" val="1">
                <dgm:constrLst>
                  <dgm:constr type="w" for="ch" forName="parentTextArrow" refType="w"/>
                  <dgm:constr type="t" for="ch" forName="parentTextArrow"/>
                  <dgm:constr type="h" for="ch" forName="parentTextArrow" refType="h" fact="0.351"/>
                  <dgm:constr type="w" for="ch" forName="arrow" refType="w"/>
                  <dgm:constr type="h" for="ch" forName="arrow" refType="h"/>
                  <dgm:constr type="w" for="ch" forName="descendantArrow" refType="w"/>
                  <dgm:constr type="b" for="ch" forName="descendantArrow" refType="h" fact="0.65"/>
                  <dgm:constr type="h" for="ch" forName="descendantArrow" refType="h" fact="0.299"/>
                </dgm:constrLst>
              </dgm:if>
              <dgm:else name="Name20">
                <dgm:constrLst>
                  <dgm:constr type="w" for="ch" forName="parentTextArrow" refType="w"/>
                  <dgm:constr type="h" for="ch" forName="parentTextArrow" refType="h"/>
                </dgm:constrLst>
              </dgm:else>
            </dgm:choose>
            <dgm:ruleLst/>
            <dgm:layoutNode name="parentTextArrow">
              <dgm:alg type="tx"/>
              <dgm:choose name="Name21">
                <dgm:if name="Name22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23">
                  <dgm:shape xmlns:r="http://schemas.openxmlformats.org/officeDocument/2006/relationships" rot="180" type="upArrowCallou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24">
              <dgm:if name="Name25" axis="ch" ptType="node" func="cnt" op="gte" val="1">
                <dgm:layoutNode name="arrow">
                  <dgm:alg type="sp"/>
                  <dgm:shape xmlns:r="http://schemas.openxmlformats.org/officeDocument/2006/relationships" rot="180" type="upArrowCallout" r:blip="">
                    <dgm:adjLst/>
                  </dgm:shape>
                  <dgm:presOf axis="self"/>
                  <dgm:constrLst/>
                  <dgm:ruleLst/>
                </dgm:layoutNode>
                <dgm:layoutNode name="descendantArrow">
                  <dgm:choose name="Name26">
                    <dgm:if name="Name27" func="var" arg="dir" op="equ" val="norm">
                      <dgm:alg type="lin"/>
                    </dgm:if>
                    <dgm:else name="Name28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Arrow" refType="w"/>
                    <dgm:constr type="h" for="ch" forName="childTextArrow" refType="h"/>
                  </dgm:constrLst>
                  <dgm:ruleLst/>
                  <dgm:forEach name="Name29" axis="ch" ptType="node">
                    <dgm:layoutNode name="childTextArrow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30"/>
            </dgm:choose>
          </dgm:layoutNode>
        </dgm:else>
      </dgm:choose>
      <dgm:forEach name="Name31" axis="precedSib" ptType="sibTrans" st="-1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308F-689B-423F-AE7C-33CE1907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6DF-E66C-4F90-BE56-11238353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06FF-54F0-405F-AE64-DA0000599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B4C8-DA4A-481F-B837-77FE31CF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263A-EFCD-43F2-B169-B6A8B107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7E08-9E42-490E-BB07-435BC8A8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5277-D403-4926-822D-4B6C058D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7FF6-6596-4DB8-B067-FA356F0E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6E8B-1C7F-4303-ACCF-A66B495E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CEF0-7A1D-4575-9924-C5A9F823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B90F-E2D2-47B8-884B-A431AD94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0973-9C2B-4E8B-88CD-E63A7D26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27C2-DC64-4CB7-B4D2-CB43A58A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BF2D-CE5F-454C-8DB1-992E2F11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1BE5-1EBD-4589-AC43-0A856A32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AF00-67B3-4CF4-A0B8-06565825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9AC8-F00E-4CDB-B667-F82F55B4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B00C-9D78-460B-9240-62AA8BFF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B2D7-0302-445F-AC49-14F291A0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CF52-F0CB-4B2A-811D-CA997102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E7E0-EA0A-4AD2-A9A4-8AA7541F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4D50-C7D2-4C7B-9A66-E6C02A20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00AD-E661-4CCA-9C28-17AD607F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A41B-778A-4592-8F71-B8E69C06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2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6E7268D-A0AB-40C4-A5CF-1034F7CBC3E9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76800" y="2679120"/>
            <a:ext cx="3821760" cy="344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4320">
              <a:lnSpc>
                <a:spcPct val="100000"/>
              </a:lnSpc>
              <a:spcBef>
                <a:spcPts val="43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торой уровень</a:t>
            </a:r>
            <a:endParaRPr b="0" lang="ru-RU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ретий уровен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Четвертый уровень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я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" name="PlaceHolder 6"/>
          <p:cNvSpPr>
            <a:spLocks noGrp="1"/>
          </p:cNvSpPr>
          <p:nvPr>
            <p:ph type="body"/>
          </p:nvPr>
        </p:nvSpPr>
        <p:spPr>
          <a:xfrm>
            <a:off x="4645080" y="2679120"/>
            <a:ext cx="3821760" cy="344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4320">
              <a:lnSpc>
                <a:spcPct val="100000"/>
              </a:lnSpc>
              <a:spcBef>
                <a:spcPts val="43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торой уровень</a:t>
            </a:r>
            <a:endParaRPr b="0" lang="ru-RU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ретий уровен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Четвертый уровень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я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50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51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55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4320">
              <a:lnSpc>
                <a:spcPct val="100000"/>
              </a:lnSpc>
              <a:spcBef>
                <a:spcPts val="43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торой уровень</a:t>
            </a:r>
            <a:endParaRPr b="0" lang="ru-RU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ретий уровен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Четвертый уровень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я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46487F5-768C-4F1D-AE3A-4BA081E3C992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5" descr=""/>
          <p:cNvPicPr/>
          <p:nvPr/>
        </p:nvPicPr>
        <p:blipFill>
          <a:blip r:embed="rId1"/>
          <a:stretch/>
        </p:blipFill>
        <p:spPr>
          <a:xfrm>
            <a:off x="0" y="1752480"/>
            <a:ext cx="4540320" cy="45403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равильная осанка – залог здоровь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4724280"/>
            <a:ext cx="411444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</a:rPr>
              <a:t>Сафарова Юлия Владимировна.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</a:rPr>
              <a:t>Педагог дошкольного воспитания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</a:rPr>
              <a:t>г.Ялуторовск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828800" y="1828800"/>
            <a:ext cx="731484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Candara"/>
              </a:rPr>
              <a:t>«Формирование навыков правильной осанки 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marL="274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Candara"/>
              </a:rPr>
              <a:t>по технологии Н.М. Красникова» </a:t>
            </a:r>
            <a:br>
              <a:rPr sz="2800"/>
            </a:b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63400" cy="54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2278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278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cap="all">
                <a:solidFill>
                  <a:srgbClr val="073e87"/>
                </a:solidFill>
                <a:latin typeface="Candara"/>
              </a:rPr>
              <a:t>игровые упражнения для укрепления мышц спины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278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278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епросто уговорить непоседу делать что-то специально. А вы поиграйте!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27880" indent="-227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„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амолетик" — ноги вместе, руки в стороны на высоте плеч. Наклоняем руки-крылья то в одну, то в другую сторону. Можно погудеть!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27880" indent="-227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„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етряная мельница". Одну руку кладем на пояс, другую поднимаем вверх и описываем круги, постепенно ускоряя движения. Рука ра­ботает вперед или назад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27880" indent="-227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„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осим воду". Положите ребенку на плечи гимнастическую палку, как коромысло. Повесь­те два ведерка с водой и предложите пронести, не разливая (спинку держим прямо!)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27880" indent="-227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„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убим дрова". Ноги слегка расставим. В руки малышу можно дать короткую палочку. Кроха делает большой взмах назад, а затем резко опускает руки, наклоняясь вперед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27880" indent="-227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„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Щенок". Ребенок ходит на четвереньках, при каждом шаге подтягивая вперед колено. Затем останавливается, чтобы повернуться направо и налево. Следите, чтобы во время поворотов кроха не прогибал спинку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27880" indent="-227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„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ошка, которая ловит мышей". Ребенок ло­жится на пол и ползет вперед, вытягивая в том же направлении сначала руку, потом ногу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27880" indent="-227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„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ыбка". Малыш лежит на полу, вытянув ру­ки вперед, ноги прямые. Крохе нужно поднять  руки и грудь вверх и вернуться в исходное по­ложение. Затем — взмахнуть ногами, как рыба хвостом, и сделать перекат от головы к ногам,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ак рыбка, выпрыгивающая из воды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27880" indent="-227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„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обираем фрукты". Поднимая яблоко или грушу на разную высоту, позвольте ребенку до­тянуться до них, встав на цыпочки или под­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ыгнув. Потом на кухне вы вместе сможете полакомиться собранным урожаем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27880" indent="-227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27880" indent="-227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Чтобы такая веселая игра приносила пользу, каждое упражнение повторяем 8-10 раз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10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 здоровом теле – здоровый дух!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457840" cy="51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рофилактика нарушений осанки</a:t>
            </a:r>
            <a:br>
              <a:rPr sz="2400"/>
            </a:b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Физкультминутка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«У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меня спина пря­мая»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И.п. —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зкая стойка, руки за спину, сцеплены в замок.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 меня спина прямая, я наклонов не бо­юсь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(наклон вперед):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ыпрямляюсь, прогибаюсь, поворачива­юсь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(действия в соответствии с текстом).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аз, два, три, четыре, три, четыре, раз, два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(повороты туловища)!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Я хожу с осанкой гордой, прямо голову держу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(ходьба на месте).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аз, два, три, четыре, три, четыре, раз, Два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(повороты туловища)!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Я могу присесть и встать, снова сесть и снова встать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(действия в соответствии с текстом).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клонюсь туда-сюда! Ох, прямешень­ка спина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(наклоны туловища)!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аз, два, три, четыре, три, четыре, раз, Два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(повороты туловища)!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Поза «зародыш»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.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И.п.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лежа на спине. Согнуть в колене правую ногу и прижать ее руками к животу. Позу удержи­вать 5-6 секунд и вернуться в и.п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овто­рить движение левой ногой, потом двумя ногами. Дыхание ровное. спокойное, мышцы расслаблены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ижимая колени к живо­ту, подтянуть голову к коленям и задержать­ся в этом положении, после чего опустить голову, выпрямить ноги и расслабиться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овторить упражнение несколько раз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 здоровом теле – здоровый дух!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60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31f43"/>
                </a:solidFill>
                <a:latin typeface="Candara"/>
              </a:rPr>
              <a:t>Берегите свое здоровье!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3640" y="2362320"/>
            <a:ext cx="523872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анка – это привычное положение тела, когда человек сидит, стоит или передвигается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ловек с правильной осанкой прямо держит голову, спина у него прямая, плечи на одном уровне и слегка отведены назад, живот втянут, а грудь немного выдвинута вперед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 здоровом теле – здоровый дых!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6012000" y="2709000"/>
            <a:ext cx="2952000" cy="3749400"/>
          </a:xfrm>
          <a:prstGeom prst="rect">
            <a:avLst/>
          </a:prstGeom>
          <a:ln w="0">
            <a:noFill/>
          </a:ln>
        </p:spPr>
      </p:pic>
      <p:sp>
        <p:nvSpPr>
          <p:cNvPr id="104" name="Объект 1"/>
          <p:cNvSpPr/>
          <p:nvPr/>
        </p:nvSpPr>
        <p:spPr>
          <a:xfrm>
            <a:off x="3276720" y="914400"/>
            <a:ext cx="55623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68000"/>
          </a:bodyPr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 Осанка – внешность, манера держать себ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варь русского языка С.И. Ожиг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600" y="2895480"/>
            <a:ext cx="8762760" cy="36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31f43"/>
                </a:solidFill>
                <a:latin typeface="Times New Roman"/>
              </a:rPr>
              <a:t>Правильная  осанка – это не только красота, но и наше здоровье.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marL="274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31f43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marL="274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31f43"/>
                </a:solidFill>
                <a:latin typeface="Times New Roman"/>
              </a:rPr>
              <a:t>Плохая осанка служит причиной многих заболеваний. 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 здоровом теле – здоровый дух!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28600" y="2819520"/>
            <a:ext cx="87627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31f43"/>
                </a:solidFill>
                <a:latin typeface="Candara"/>
              </a:rPr>
              <a:t>Главный принцип сохранения здоровья – профилактика, 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marL="274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31f43"/>
                </a:solidFill>
                <a:latin typeface="Candara"/>
              </a:rPr>
              <a:t>именно поэтому так важно  в дошкольном возрасте формировать навыки правильной осанки. </a:t>
            </a:r>
            <a:r>
              <a:rPr b="0" lang="ru-RU" sz="2800" spc="-1" strike="noStrike">
                <a:solidFill>
                  <a:srgbClr val="031f43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 здоровом теле – здоровый дух!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387269395"/>
              </p:ext>
            </p:extLst>
          </p:nvPr>
        </p:nvGraphicFramePr>
        <p:xfrm>
          <a:off x="228600" y="1752480"/>
          <a:ext cx="8686440" cy="49525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 здоровом теле – здоровый дух!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0" y="2637000"/>
            <a:ext cx="4059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ь простой способ проверить свою осанку – встать спиной к стене в привычной позе. Если почувствуешь, что стены касаются затылок, лопатки, ягодицы и пятки, осанка правильная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 здоровом теле – здоровый дух!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12" name="Рисунок 4" descr=""/>
          <p:cNvPicPr/>
          <p:nvPr/>
        </p:nvPicPr>
        <p:blipFill>
          <a:blip r:embed="rId1"/>
          <a:stretch/>
        </p:blipFill>
        <p:spPr>
          <a:xfrm>
            <a:off x="179640" y="2061000"/>
            <a:ext cx="3809520" cy="42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1640" y="2205000"/>
            <a:ext cx="4752000" cy="39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неправильной осанки характерны следующие признаки: опущенная или излишне запрокинутая назад голова, сведенные вперед плечи, сутулая спина, запавшая грудная клетка, выпяченный живот, несимметричное положение правой и левой сторон тела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 здоровом теле – здоровый дух!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15" name="Рисунок 3" descr=""/>
          <p:cNvPicPr/>
          <p:nvPr/>
        </p:nvPicPr>
        <p:blipFill>
          <a:blip r:embed="rId1"/>
          <a:stretch/>
        </p:blipFill>
        <p:spPr>
          <a:xfrm>
            <a:off x="4932000" y="2637000"/>
            <a:ext cx="3799440" cy="377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2280" y="1752480"/>
            <a:ext cx="6324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404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048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ndara"/>
              </a:rPr>
              <a:t>Самый простой способ сохранения правильной осанки – это постоянный контроль положения тела: стоя, сидя, при ходьбе, а также выполнение специальных упражнений:</a:t>
            </a:r>
            <a:endParaRPr b="0" lang="ru-RU" sz="2900" spc="-1" strike="noStrike">
              <a:solidFill>
                <a:srgbClr val="073e87"/>
              </a:solidFill>
              <a:latin typeface="Candara"/>
            </a:endParaRPr>
          </a:p>
          <a:p>
            <a:pPr marL="240480" indent="-240480">
              <a:lnSpc>
                <a:spcPct val="100000"/>
              </a:lnSpc>
              <a:spcBef>
                <a:spcPts val="581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ndara"/>
              </a:rPr>
              <a:t>Встать спиной к стене, касаясь ее пятками, ягодицами и головой, коснувшись стены, приподняться на носках (5 раз);</a:t>
            </a:r>
            <a:endParaRPr b="0" lang="ru-RU" sz="2900" spc="-1" strike="noStrike">
              <a:solidFill>
                <a:srgbClr val="073e87"/>
              </a:solidFill>
              <a:latin typeface="Candara"/>
            </a:endParaRPr>
          </a:p>
          <a:p>
            <a:pPr marL="240480" indent="-240480">
              <a:lnSpc>
                <a:spcPct val="100000"/>
              </a:lnSpc>
              <a:spcBef>
                <a:spcPts val="581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ndara"/>
              </a:rPr>
              <a:t>Сидя ровно на стуле, держать прямо голову и плечи; при наклоне вперед из этого положения необходимо вытянуть руки вперед, слегка подвинуться в этом направлении всем корпусом; </a:t>
            </a:r>
            <a:endParaRPr b="0" lang="ru-RU" sz="2900" spc="-1" strike="noStrike">
              <a:solidFill>
                <a:srgbClr val="073e87"/>
              </a:solidFill>
              <a:latin typeface="Candara"/>
            </a:endParaRPr>
          </a:p>
          <a:p>
            <a:pPr marL="240480" indent="-240480">
              <a:lnSpc>
                <a:spcPct val="100000"/>
              </a:lnSpc>
              <a:spcBef>
                <a:spcPts val="581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ndara"/>
              </a:rPr>
              <a:t>Сохранять правильное положение центра тяжести при ходьбе.</a:t>
            </a:r>
            <a:endParaRPr b="0" lang="ru-RU" sz="2900" spc="-1" strike="noStrike">
              <a:solidFill>
                <a:srgbClr val="073e87"/>
              </a:solidFill>
              <a:latin typeface="Candara"/>
            </a:endParaRPr>
          </a:p>
          <a:p>
            <a:pPr marL="24048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ndara"/>
              </a:rPr>
              <a:t> </a:t>
            </a:r>
            <a:endParaRPr b="0" lang="ru-RU" sz="29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 здоровом теле – здоровый дух!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18" name="Рисунок 3" descr=""/>
          <p:cNvPicPr/>
          <p:nvPr/>
        </p:nvPicPr>
        <p:blipFill>
          <a:blip r:embed="rId1"/>
          <a:stretch/>
        </p:blipFill>
        <p:spPr>
          <a:xfrm>
            <a:off x="6012000" y="2709000"/>
            <a:ext cx="2952000" cy="37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15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сидите за столом прямо, опираясь о спинку стула, слегка наклонив голову вперёд;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спите на твёрдой постели и плоской подушке;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делайте зарядку, занимайтесь спортом, укрепляя мышцы шеи, спины, живота;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чтобы у вас была правильная осанка, надо не меньше двух раз в день вставать к стене и проверять свою осанку, можно походить с книжкой на голове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 здоровом теле – здоровый дух!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1" name="Заголовок 2"/>
          <p:cNvSpPr/>
          <p:nvPr/>
        </p:nvSpPr>
        <p:spPr>
          <a:xfrm>
            <a:off x="304920" y="1676520"/>
            <a:ext cx="853416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мятка для формирования правильной ос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aveform</Template>
  <TotalTime>534</TotalTime>
  <Application>LibreOffice/7.4.7.2$Linux_X86_64 LibreOffice_project/40$Build-2</Application>
  <AppVersion>15.0000</AppVersion>
  <Words>688</Words>
  <Paragraphs>6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4:38:24Z</dcterms:created>
  <dc:creator>Марина</dc:creator>
  <dc:description/>
  <dc:language>en-US</dc:language>
  <cp:lastModifiedBy>ДС</cp:lastModifiedBy>
  <dcterms:modified xsi:type="dcterms:W3CDTF">2015-01-13T08:06:52Z</dcterms:modified>
  <cp:revision>56</cp:revision>
  <dc:subject/>
  <dc:title>Правильная осанка – залог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