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84A-A00E-4684-96DE-0D600C96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FBF5-8793-4ABF-9EA0-D02FB876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C6E-5FB6-42E1-8892-C52202BB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AB58-EF66-4904-82E8-B7B0B3FF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D5EC-5C0D-4310-A8BA-91D579F2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8B59-8F60-484A-8E03-CF913B39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B830-D62D-4272-A395-783E6AC6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35A1-2692-48A4-BECD-D6A41A45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C49D-5383-43CA-A14C-75457D65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4E8B-5886-4F41-ADD9-B1886E3E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C552-26AF-49EA-B6A1-35A91849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3A4-0373-4169-AAB2-72273AF3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D237-9201-44C2-BA2D-60FF2F32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24EE-2A25-4116-8CDF-A94485A6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7F78-A4B0-4546-929D-A583D8AD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0838-C2EF-4088-B966-128462CB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198E-DE99-497F-A702-E4D69BB0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4D4-E3B3-4467-AA83-7D4E3477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BC6-DCD4-443C-BF68-77DD9015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C4F8-5B5C-4B18-AFC6-E35DE023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9D30-D9DB-4EA5-B251-3FF3A6EC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910-3416-4A5C-A68E-834316CE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998-4921-4A8A-8B43-CDF1DD0A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D73-F5D3-4706-9E23-6AA7038D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59A4-8B98-4181-8D7F-26AAF8B10C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ACC3-FCA0-4AA3-AF47-22E802212F0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31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Презентация</a:t>
            </a:r>
            <a:br>
              <a:rPr sz="5400"/>
            </a:b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«Перелетные птицы»</a:t>
            </a:r>
            <a:br>
              <a:rPr sz="54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ГР.»Колокольчик»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Воспитатель Бодрина А.В</a:t>
            </a:r>
            <a:br>
              <a:rPr sz="16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340000" y="5013360"/>
            <a:ext cx="576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5"/>
          <p:cNvSpPr/>
          <p:nvPr/>
        </p:nvSpPr>
        <p:spPr>
          <a:xfrm>
            <a:off x="5724360" y="1773360"/>
            <a:ext cx="2735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 дворе стоит дворец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м живёт один певец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чень ловкий молодец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зовут его скворе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6" descr="skvorec_2"/>
          <p:cNvPicPr/>
          <p:nvPr/>
        </p:nvPicPr>
        <p:blipFill>
          <a:blip r:embed="rId1"/>
          <a:stretch/>
        </p:blipFill>
        <p:spPr>
          <a:xfrm>
            <a:off x="539640" y="952560"/>
            <a:ext cx="525636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Спасибо за внимание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600" y="7138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120b00"/>
                </a:solidFill>
                <a:latin typeface="Times New Roman"/>
              </a:rPr>
              <a:t>Увидел грача – </a:t>
            </a:r>
            <a:br>
              <a:rPr sz="5000"/>
            </a:br>
            <a:r>
              <a:rPr b="1" lang="ru-RU" sz="5000" spc="-1" strike="noStrike">
                <a:solidFill>
                  <a:srgbClr val="120b00"/>
                </a:solidFill>
                <a:latin typeface="Times New Roman"/>
              </a:rPr>
              <a:t>весну  встречай</a:t>
            </a:r>
            <a:endParaRPr b="1" lang="en-US" sz="5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Picture 4" descr="D:\ИРИНА\Перелетные птицы\Рисунок3.jpg"/>
          <p:cNvPicPr/>
          <p:nvPr/>
        </p:nvPicPr>
        <p:blipFill>
          <a:blip r:embed="rId1"/>
          <a:stretch/>
        </p:blipFill>
        <p:spPr>
          <a:xfrm>
            <a:off x="1908000" y="2071800"/>
            <a:ext cx="5185080" cy="43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120b00"/>
                </a:solidFill>
                <a:latin typeface="Times New Roman"/>
              </a:rPr>
              <a:t>Увидал скворца – знай: весна у крыльца.</a:t>
            </a:r>
            <a:r>
              <a:rPr b="1" lang="ru-RU" sz="4000" spc="-1" strike="noStrike">
                <a:solidFill>
                  <a:srgbClr val="120b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Picture 4" descr="D:\ИРИНА\Перелетные птицы\Рисунок4.jpg"/>
          <p:cNvPicPr/>
          <p:nvPr/>
        </p:nvPicPr>
        <p:blipFill>
          <a:blip r:embed="rId1"/>
          <a:stretch/>
        </p:blipFill>
        <p:spPr>
          <a:xfrm>
            <a:off x="1619280" y="2000160"/>
            <a:ext cx="5473800" cy="466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6372360" y="350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280200" y="2370240"/>
            <a:ext cx="196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435640" y="1125360"/>
            <a:ext cx="3240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старый наш знакомый: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 живёт на крыше дома —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ноногий, длинноносый,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ношеий, безголосый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 летает на охоту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 лягушками к болоту. цап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8" descr="Аист-1271159640_88"/>
          <p:cNvPicPr/>
          <p:nvPr/>
        </p:nvPicPr>
        <p:blipFill>
          <a:blip r:embed="rId1"/>
          <a:stretch/>
        </p:blipFill>
        <p:spPr>
          <a:xfrm>
            <a:off x="324000" y="1133640"/>
            <a:ext cx="5387760" cy="409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2060"/>
                </a:solidFill>
                <a:latin typeface="Times New Roman"/>
              </a:rPr>
              <a:t>Иволга</a:t>
            </a:r>
            <a:endParaRPr b="1" lang="en-US" sz="5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4" descr="D:\ИРИНА\Перелетные птицы\Рисунок10.jpg"/>
          <p:cNvPicPr/>
          <p:nvPr/>
        </p:nvPicPr>
        <p:blipFill>
          <a:blip r:embed="rId1"/>
          <a:stretch/>
        </p:blipFill>
        <p:spPr>
          <a:xfrm>
            <a:off x="1908000" y="1557360"/>
            <a:ext cx="5904000" cy="475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2060"/>
                </a:solidFill>
                <a:latin typeface="Times New Roman"/>
              </a:rPr>
              <a:t>Зяблик</a:t>
            </a:r>
            <a:endParaRPr b="1" lang="en-US" sz="5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4" descr="D:\ИРИНА\Перелетные птицы\Рисунок6.jpg"/>
          <p:cNvPicPr/>
          <p:nvPr/>
        </p:nvPicPr>
        <p:blipFill>
          <a:blip r:embed="rId1"/>
          <a:stretch/>
        </p:blipFill>
        <p:spPr>
          <a:xfrm>
            <a:off x="1042920" y="1557360"/>
            <a:ext cx="6337440" cy="50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6"/>
          <p:cNvSpPr/>
          <p:nvPr/>
        </p:nvSpPr>
        <p:spPr>
          <a:xfrm>
            <a:off x="5508720" y="1413000"/>
            <a:ext cx="302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а летом мошек ловит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нёздышко из глины строит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ь летает высоко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чит дождик далеко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же летает низко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значит дождик близко.ласточ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7" descr="Bankoboev"/>
          <p:cNvPicPr/>
          <p:nvPr/>
        </p:nvPicPr>
        <p:blipFill>
          <a:blip r:embed="rId1"/>
          <a:stretch/>
        </p:blipFill>
        <p:spPr>
          <a:xfrm>
            <a:off x="468360" y="1484280"/>
            <a:ext cx="501480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5219640" y="2060640"/>
            <a:ext cx="324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 дождём она гуляет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Щипать травку обожает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я кричит, Всё это шутк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у конечно – это ут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6" descr="utka"/>
          <p:cNvPicPr/>
          <p:nvPr/>
        </p:nvPicPr>
        <p:blipFill>
          <a:blip r:embed="rId1"/>
          <a:stretch/>
        </p:blipFill>
        <p:spPr>
          <a:xfrm>
            <a:off x="468360" y="1413000"/>
            <a:ext cx="47196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5"/>
          <p:cNvSpPr/>
          <p:nvPr/>
        </p:nvSpPr>
        <p:spPr>
          <a:xfrm>
            <a:off x="5867280" y="342900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724360" y="1844640"/>
            <a:ext cx="2735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ношеяя та птица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ациозна, как царица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ладью водной проплывает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удно шею извивает. лебед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8" descr="RWPjo"/>
          <p:cNvPicPr/>
          <p:nvPr/>
        </p:nvPicPr>
        <p:blipFill>
          <a:blip r:embed="rId1"/>
          <a:stretch/>
        </p:blipFill>
        <p:spPr>
          <a:xfrm>
            <a:off x="324000" y="1244520"/>
            <a:ext cx="55432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4T16:41:34Z</dcterms:created>
  <dc:creator>Сергей</dc:creator>
  <dc:description/>
  <dc:language>en-US</dc:language>
  <cp:lastModifiedBy>Windows User</cp:lastModifiedBy>
  <dcterms:modified xsi:type="dcterms:W3CDTF">2019-12-01T10:18:28Z</dcterms:modified>
  <cp:revision>11</cp:revision>
  <dc:subject/>
  <dc:title>Слайд 1</dc:title>
</cp:coreProperties>
</file>