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1E5-7694-461A-9292-129D4FD5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442-C2D9-4FDF-AB1F-909833F8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B7B-DC6A-42D9-9BDD-2ED6EDD6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D6E-2232-4F36-821A-511CA458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400-A7F7-43A2-AFD2-41F5A4A6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27D-135E-4116-B7E2-B8B81EC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0B58-AFC7-4135-80AF-A09EA58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02E7-4CB8-4182-9703-8EFB589B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E654-25F7-4428-8B75-C15233D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449B-DAFB-44E5-AB96-572A8999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E997-77BB-4583-85DB-D5C07E0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CF4-C9C0-439C-8D25-8953FAE9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6237-AD4B-4F93-B2FC-9EC94CF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52D4-247A-4EBE-B440-A60EF66F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DAD8-71C6-4D62-AB2D-5DA0EC95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4CDC-F3A4-4622-ABDF-7BD6CF8B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306-1EDE-4D97-9DBB-505CE022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6E5-2407-45E5-87D1-3F8065A3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9DD-0B95-4D96-B2DB-F319254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31D-621F-4AAC-9F33-07465ADD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90F-EA31-4EB9-AB2D-1E6E2D0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632-A274-417B-8CC7-AA33713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A08-6AEF-4BE9-BC14-C04D8D2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D9D-E20E-4F52-B3A4-C924A20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A1E9-037C-480C-AD96-859DCFD015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616C-2FCF-41FD-8411-DA4135DDAF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31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«Перелетные птицы»</a:t>
            </a:r>
            <a:br>
              <a:rPr sz="54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ГР.»Колокольчик»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Воспитатель Бодрина А.В</a:t>
            </a:r>
            <a:br>
              <a:rPr sz="16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340000" y="501336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5724360" y="1773360"/>
            <a:ext cx="273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дворе стоит дворец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м живёт один певец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ловкий молодец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овут его скворе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skvorec_2"/>
          <p:cNvPicPr/>
          <p:nvPr/>
        </p:nvPicPr>
        <p:blipFill>
          <a:blip r:embed="rId1"/>
          <a:stretch/>
        </p:blipFill>
        <p:spPr>
          <a:xfrm>
            <a:off x="539640" y="952560"/>
            <a:ext cx="5256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600" y="713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20b00"/>
                </a:solidFill>
                <a:latin typeface="Times New Roman"/>
              </a:rPr>
              <a:t>Увидел грача – </a:t>
            </a:r>
            <a:br>
              <a:rPr sz="5000"/>
            </a:br>
            <a:r>
              <a:rPr b="1" lang="ru-RU" sz="5000" spc="-1" strike="noStrike">
                <a:solidFill>
                  <a:srgbClr val="120b00"/>
                </a:solidFill>
                <a:latin typeface="Times New Roman"/>
              </a:rPr>
              <a:t>весну  встречай</a:t>
            </a:r>
            <a:endParaRPr b="1" lang="en-US" sz="5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4" descr="D:\ИРИНА\Перелетные птицы\Рисунок3.jpg"/>
          <p:cNvPicPr/>
          <p:nvPr/>
        </p:nvPicPr>
        <p:blipFill>
          <a:blip r:embed="rId1"/>
          <a:stretch/>
        </p:blipFill>
        <p:spPr>
          <a:xfrm>
            <a:off x="1908000" y="2071800"/>
            <a:ext cx="5185080" cy="43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120b00"/>
                </a:solidFill>
                <a:latin typeface="Times New Roman"/>
              </a:rPr>
              <a:t>Увидал скворца – знай: весна у крыльца.</a:t>
            </a:r>
            <a:r>
              <a:rPr b="1" lang="ru-RU" sz="4000" spc="-1" strike="noStrike">
                <a:solidFill>
                  <a:srgbClr val="120b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4" descr="D:\ИРИНА\Перелетные птицы\Рисунок4.jpg"/>
          <p:cNvPicPr/>
          <p:nvPr/>
        </p:nvPicPr>
        <p:blipFill>
          <a:blip r:embed="rId1"/>
          <a:stretch/>
        </p:blipFill>
        <p:spPr>
          <a:xfrm>
            <a:off x="1619280" y="2000160"/>
            <a:ext cx="547380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372360" y="350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280200" y="237024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435640" y="1125360"/>
            <a:ext cx="324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старый наш знакомый: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живёт на крыше дома —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ноногий, длинноносый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ношеий, безголосый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летает на охоту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лягушками к болоту. цап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8" descr="Аист-1271159640_88"/>
          <p:cNvPicPr/>
          <p:nvPr/>
        </p:nvPicPr>
        <p:blipFill>
          <a:blip r:embed="rId1"/>
          <a:stretch/>
        </p:blipFill>
        <p:spPr>
          <a:xfrm>
            <a:off x="324000" y="1133640"/>
            <a:ext cx="538776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Times New Roman"/>
              </a:rPr>
              <a:t>Иволга</a:t>
            </a:r>
            <a:endParaRPr b="1" lang="en-US" sz="5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D:\ИРИНА\Перелетные птицы\Рисунок10.jpg"/>
          <p:cNvPicPr/>
          <p:nvPr/>
        </p:nvPicPr>
        <p:blipFill>
          <a:blip r:embed="rId1"/>
          <a:stretch/>
        </p:blipFill>
        <p:spPr>
          <a:xfrm>
            <a:off x="1908000" y="1557360"/>
            <a:ext cx="5904000" cy="47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2060"/>
                </a:solidFill>
                <a:latin typeface="Times New Roman"/>
              </a:rPr>
              <a:t>Зяблик</a:t>
            </a:r>
            <a:endParaRPr b="1" lang="en-US" sz="5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D:\ИРИНА\Перелетные птицы\Рисунок6.jpg"/>
          <p:cNvPicPr/>
          <p:nvPr/>
        </p:nvPicPr>
        <p:blipFill>
          <a:blip r:embed="rId1"/>
          <a:stretch/>
        </p:blipFill>
        <p:spPr>
          <a:xfrm>
            <a:off x="1042920" y="1557360"/>
            <a:ext cx="6337440" cy="50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5508720" y="1413000"/>
            <a:ext cx="302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а летом мошек лови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нёздышко из глины строи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ь летает высок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 дождик далек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же летает низк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значит дождик близко.ласточ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7" descr="Bankoboev"/>
          <p:cNvPicPr/>
          <p:nvPr/>
        </p:nvPicPr>
        <p:blipFill>
          <a:blip r:embed="rId1"/>
          <a:stretch/>
        </p:blipFill>
        <p:spPr>
          <a:xfrm>
            <a:off x="468360" y="1484280"/>
            <a:ext cx="501480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5219640" y="2060640"/>
            <a:ext cx="32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 дождём она гуляет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ипать травку обожает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я кричит, Всё это шут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 конечно – это ут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6" descr="utka"/>
          <p:cNvPicPr/>
          <p:nvPr/>
        </p:nvPicPr>
        <p:blipFill>
          <a:blip r:embed="rId1"/>
          <a:stretch/>
        </p:blipFill>
        <p:spPr>
          <a:xfrm>
            <a:off x="468360" y="1413000"/>
            <a:ext cx="4719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5867280" y="3429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724360" y="1844640"/>
            <a:ext cx="273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ношеяя та птиц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циозна, как цариц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дью водной проплыва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дно шею извивает. лебед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8" descr="RWPjo"/>
          <p:cNvPicPr/>
          <p:nvPr/>
        </p:nvPicPr>
        <p:blipFill>
          <a:blip r:embed="rId1"/>
          <a:stretch/>
        </p:blipFill>
        <p:spPr>
          <a:xfrm>
            <a:off x="324000" y="1244520"/>
            <a:ext cx="55432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6:41:34Z</dcterms:created>
  <dc:creator>Сергей</dc:creator>
  <dc:description/>
  <dc:language>en-US</dc:language>
  <cp:lastModifiedBy>Windows User</cp:lastModifiedBy>
  <dcterms:modified xsi:type="dcterms:W3CDTF">2019-12-01T10:18:28Z</dcterms:modified>
  <cp:revision>11</cp:revision>
  <dc:subject/>
  <dc:title>Слайд 1</dc:title>
</cp:coreProperties>
</file>