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ECC-ADCD-481E-99D7-136174A5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EA7-AE2E-484F-B7F6-B4FC2D4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8B2-2DD2-4BB0-A094-7C0FBD9C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B0B-1046-4AAF-AE07-B82729B3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835-4F1B-4AEE-8F11-9A5E209B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473-0EB1-411E-A613-74F597B6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082-0D56-497E-8ACB-E7896F9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9B7-E570-4AED-99B0-CBB8D82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5E8-AA6E-406F-8C01-C0318AD0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C35-660F-4C13-A035-94A47C45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718-D872-4F52-9E3B-FE4FB62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AA0-20B9-47D9-9B6F-8DB6291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7A4E-E78C-4393-AC46-1C4718BC6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69840" y="506520"/>
            <a:ext cx="7253280" cy="15969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2700360" y="5950080"/>
            <a:ext cx="6858000" cy="815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132000" y="285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та Рождения 22.02.1918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6284880" y="2637000"/>
            <a:ext cx="1952640" cy="243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1989000"/>
            <a:ext cx="5197320" cy="291168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WordArt 2"/>
          <p:cNvSpPr txBox="1"/>
          <p:nvPr/>
        </p:nvSpPr>
        <p:spPr>
          <a:xfrm>
            <a:off x="1058760" y="189000"/>
            <a:ext cx="682632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НИГА ПАМЯТ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2627280" y="2222640"/>
            <a:ext cx="484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ни разу свои ордена не наденем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в парадном строю вдоль трибун не пройдём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ы погибли, но мы и погибшие верим: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забудет история наших им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940800" cy="90468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: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Орден «Красная Звезда»,медали «За отвагу», «За взятие Праги», «За взятие Вены», «За взятие Будапешта», «За победу над Германией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5292720" y="2343240"/>
            <a:ext cx="1841400" cy="2612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1978200" y="4956120"/>
            <a:ext cx="697356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3"/>
          <a:stretch/>
        </p:blipFill>
        <p:spPr>
          <a:xfrm>
            <a:off x="2206800" y="2359080"/>
            <a:ext cx="3060360" cy="262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4"/>
          <a:stretch/>
        </p:blipFill>
        <p:spPr>
          <a:xfrm>
            <a:off x="5148360" y="2060640"/>
            <a:ext cx="3795480" cy="28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198360"/>
            <a:ext cx="6940800" cy="90504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аграждение ордено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717640" y="1197000"/>
            <a:ext cx="3708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1600" y="192240"/>
            <a:ext cx="6940800" cy="91728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lIns="96120" rIns="96120" tIns="52920" bIns="529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1763640" y="1103400"/>
            <a:ext cx="3708360" cy="2582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 rot="5146200">
            <a:off x="5890680" y="-252360"/>
            <a:ext cx="241128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3"/>
          <a:stretch/>
        </p:blipFill>
        <p:spPr>
          <a:xfrm>
            <a:off x="5442120" y="2708280"/>
            <a:ext cx="3630600" cy="2587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4"/>
          <a:stretch/>
        </p:blipFill>
        <p:spPr>
          <a:xfrm rot="5137800">
            <a:off x="2566440" y="3168360"/>
            <a:ext cx="24573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1600" y="198360"/>
            <a:ext cx="6940800" cy="905040"/>
          </a:xfrm>
          <a:prstGeom prst="rect">
            <a:avLst/>
          </a:prstGeom>
          <a:noFill/>
          <a:ln w="12600">
            <a:solidFill>
              <a:srgbClr val="507e3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достоверение лич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6" descr=""/>
          <p:cNvPicPr/>
          <p:nvPr/>
        </p:nvPicPr>
        <p:blipFill>
          <a:blip r:embed="rId1"/>
          <a:stretch/>
        </p:blipFill>
        <p:spPr>
          <a:xfrm>
            <a:off x="2050920" y="1093680"/>
            <a:ext cx="56898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8:10:08Z</dcterms:created>
  <dc:creator>User</dc:creator>
  <dc:description/>
  <dc:language>en-US</dc:language>
  <cp:lastModifiedBy>W81</cp:lastModifiedBy>
  <dcterms:modified xsi:type="dcterms:W3CDTF">2019-12-01T18:40:19Z</dcterms:modified>
  <cp:revision>27</cp:revision>
  <dc:subject/>
  <dc:title>Мы помним о войне.</dc:title>
</cp:coreProperties>
</file>