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9EB-5298-4FE2-88C4-724F9892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46E-3F89-4B0D-B148-16C04C46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8EA-C77B-42AC-8F70-F543C224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E69-0963-4A31-9312-83656D34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1DB-F650-4A7A-9B92-6D05109E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331-EF3B-4608-AF3E-ABBFD956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D25-A248-43E2-AEB3-C90AB848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A4E-902B-4F46-940F-7C1CFEBD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CE0-E4D0-4694-8D01-826C4E0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1B2-4036-414C-BA63-7AE522E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A2E-25F1-46DB-AF80-5C5315E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60D-A1A1-48D2-8D66-AC0B847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4427-4487-4ABF-9843-F825048E1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69840" y="506520"/>
            <a:ext cx="7253280" cy="15969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2700360" y="5950080"/>
            <a:ext cx="6858000" cy="815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132000" y="285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та Рождения 22.02.1918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6284880" y="2637000"/>
            <a:ext cx="1952640" cy="243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1989000"/>
            <a:ext cx="5197320" cy="291168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WordArt 2"/>
          <p:cNvSpPr txBox="1"/>
          <p:nvPr/>
        </p:nvSpPr>
        <p:spPr>
          <a:xfrm>
            <a:off x="1058760" y="189000"/>
            <a:ext cx="682632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НИГА ПАМЯТ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2627280" y="2222640"/>
            <a:ext cx="484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ни разу свои ордена не наденем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в парадном строю вдоль трибун не пройдём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погибли, но мы и погибшие верим: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забудет история наших им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940800" cy="90468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грады: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Орден «Красная Звезда»,медали «За отвагу», «За взятие Праги», «За взятие Вены», «За взятие Будапешта», «За победу над Германией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5292720" y="2343240"/>
            <a:ext cx="1841400" cy="2612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1978200" y="4956120"/>
            <a:ext cx="697356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3"/>
          <a:stretch/>
        </p:blipFill>
        <p:spPr>
          <a:xfrm>
            <a:off x="2206800" y="2359080"/>
            <a:ext cx="3060360" cy="262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4"/>
          <a:stretch/>
        </p:blipFill>
        <p:spPr>
          <a:xfrm>
            <a:off x="5148360" y="2060640"/>
            <a:ext cx="3795480" cy="28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198360"/>
            <a:ext cx="6940800" cy="90504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аграждение орден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717640" y="1197000"/>
            <a:ext cx="3708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1600" y="192240"/>
            <a:ext cx="6940800" cy="91728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763640" y="1103400"/>
            <a:ext cx="3708360" cy="2582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 rot="5146200">
            <a:off x="5890680" y="-252360"/>
            <a:ext cx="2411280" cy="3141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/>
          <p:cNvPicPr/>
          <p:nvPr/>
        </p:nvPicPr>
        <p:blipFill>
          <a:blip r:embed="rId3"/>
          <a:stretch/>
        </p:blipFill>
        <p:spPr>
          <a:xfrm>
            <a:off x="5442120" y="2708280"/>
            <a:ext cx="3630600" cy="2587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4"/>
          <a:stretch/>
        </p:blipFill>
        <p:spPr>
          <a:xfrm rot="5137800">
            <a:off x="2566440" y="3168360"/>
            <a:ext cx="2457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1600" y="198360"/>
            <a:ext cx="6940800" cy="90504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достоверение лич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6" descr=""/>
          <p:cNvPicPr/>
          <p:nvPr/>
        </p:nvPicPr>
        <p:blipFill>
          <a:blip r:embed="rId1"/>
          <a:stretch/>
        </p:blipFill>
        <p:spPr>
          <a:xfrm>
            <a:off x="2050920" y="1093680"/>
            <a:ext cx="56898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8:10:08Z</dcterms:created>
  <dc:creator>User</dc:creator>
  <dc:description/>
  <dc:language>en-US</dc:language>
  <cp:lastModifiedBy>W81</cp:lastModifiedBy>
  <dcterms:modified xsi:type="dcterms:W3CDTF">2019-12-01T18:40:19Z</dcterms:modified>
  <cp:revision>27</cp:revision>
  <dc:subject/>
  <dc:title>Мы помним о войне.</dc:title>
</cp:coreProperties>
</file>